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B99-0439-4A54-AEBB-0F7F19E4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6D0-8A1E-4E74-A2F3-890A5404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97B-A746-4B33-A6CA-5073F2AC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4C2-BC28-4A5B-8B5D-78878485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C40D-4697-4C10-B43D-6DF98AFE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AE7E-72F9-4835-94C9-F9E44CF7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D77D-1ACF-4150-9B0B-05B4CDD6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FB48-F9A5-423B-9AEB-65B8857E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3B94-9147-489B-BA1D-C071002B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B8D1-3B44-495F-9336-0D33FB17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068F-9D06-440C-88A4-B2700407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BD6-0541-4A65-90C9-7E36EFBC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CA21-B6E3-40DE-8DC6-9402BB65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C6DF-36B1-4352-8391-28C117E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AC61-DF26-44C5-9C03-66E55640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C9A0-C714-43BD-8A73-819D7446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A865-62BA-48E8-8814-0070D06E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88E-8AEA-4DB8-BE6C-4021A981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247-B49D-4596-AFCD-4B982EFE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574E-0A7A-4701-9918-5DB02938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7E2-93CC-4064-9337-81DF4C44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895-CF50-44E3-94F8-35D8DF85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B66-14B2-4F68-8E51-E83F5BF8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A35-4F0F-4714-8F4B-045FC786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1E5F-6760-4B1D-AA22-F3D79AE5ED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D58E-99C4-4085-91B8-6D28987C75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8E25-F431-45EB-9E9F-6C4F8227BF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首页-"/>
          <p:cNvPicPr/>
          <p:nvPr/>
        </p:nvPicPr>
        <p:blipFill>
          <a:blip r:embed="rId1"/>
          <a:stretch/>
        </p:blipFill>
        <p:spPr>
          <a:xfrm>
            <a:off x="-28440" y="0"/>
            <a:ext cx="876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目录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3过渡页"/>
          <p:cNvPicPr/>
          <p:nvPr/>
        </p:nvPicPr>
        <p:blipFill>
          <a:blip r:embed="rId1"/>
          <a:stretch/>
        </p:blipFill>
        <p:spPr>
          <a:xfrm>
            <a:off x="403200" y="-19080"/>
            <a:ext cx="87771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4内容页"/>
          <p:cNvPicPr/>
          <p:nvPr/>
        </p:nvPicPr>
        <p:blipFill>
          <a:blip r:embed="rId1"/>
          <a:stretch/>
        </p:blipFill>
        <p:spPr>
          <a:xfrm>
            <a:off x="-28440" y="0"/>
            <a:ext cx="876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结束页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2T02:57:29Z</dcterms:modified>
  <cp:revision>1</cp:revision>
  <dc:subject/>
  <dc:title>PowerPoint 演示文稿</dc:title>
</cp:coreProperties>
</file>