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C2B-5EB9-45C9-B17C-109FEBED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707-5D60-422D-98C5-694F6C71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ECC1-F706-4399-99A0-DF039C8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BD5FD-AD48-4E5C-B6B7-2FB9DAB1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C171C-46EF-497C-9F2F-B1A4F00C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AD158-9EA1-47AA-8303-9DA12624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58DDE-7D2D-4552-B4DE-4E408F6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25AA4-A9B8-4876-9765-2B528BF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A93C4-65CF-4CD1-96D7-63425AF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942A8-EB3D-4D65-A8B4-351A1C56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2B99E-01F8-4C88-9D86-00F8260D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FF790-2C39-4107-BA66-5C675F11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424-BC10-479D-A98E-0066E6D8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B8721-0BF4-49A9-A52B-706C9C4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63D2D-F53C-4B39-A37D-5A7B3C3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6E2E7-B755-42D3-AA80-58A2AC1A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8058B-7D1F-437C-9016-97905E08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E62D3-2698-4772-99D7-7DEFBC1F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56EF0-7392-4454-89FB-0F06AD08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1489A-B63C-48FE-B849-F356336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23616-4F1F-4B16-90EE-C681095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B2D8A-1AA3-46A6-B84B-148E1DF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0A68C-70D9-468B-980F-1DDD2C22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12A-F74F-4E98-9803-3AD6AAB1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846AA-072F-4740-AFB1-BDCFF673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9E488-0CCD-4F58-9EB3-7F104D2F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947D7-5AE7-407A-A29E-E29B8B79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F5491-FA18-4606-B862-24FD31DE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07BB9-2BB8-465A-9D73-D7A22BEA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C6037-411B-469F-92EC-5202BBC3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DC18F-2226-416C-B833-330CDB36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56403-329E-4EC6-A75E-60A4EA3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D3753-6688-43C2-9C8D-3400BC7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F73C3-249F-4B82-97AE-821E68E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FE41-9715-45EE-B643-E296422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B82F3-6525-468C-9751-21FFE8FB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33409-5250-4714-9BC2-11B076CE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711DD-D3A2-48EC-B3F9-BF88C561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F14E4-8941-4A38-BEA1-9D3D4523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9EC9A-5FD9-453A-8320-9FBEB126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1A5CA-65EC-4797-9FF7-29CE8704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94ED4-55EE-4BB6-B0A1-CF1CFC5B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C8C59-2F86-478C-A57E-54C3DCC6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9B7F2-D712-4EDD-8174-6B78336D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57BF5-2286-4B9E-806F-03DF226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0506-B27F-4B5D-B56B-67B83F1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B55FE-52F3-485E-BCEC-7FE88F72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44472-3C2A-4C30-B635-091D7C9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CA524-0D66-49A9-B9B8-C5BB1BDC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62910-8648-4CAE-8FB1-29EF5B21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7F349-44AC-41C4-BFB4-F051289B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F0914-CC97-4816-81F5-2560C10A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EB26A-E17E-4DE3-99E4-C738E6AB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FB026-6A0D-4CB5-A129-E653156B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7A9B6-D96E-432A-8397-E6E9B6D3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BAB0A-06E6-4C59-B0DE-B46C5544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98BC-162A-4F51-9D1D-E7F4594A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9E194-1258-4E50-96F4-8C2C5282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4C919-7B62-40CA-A550-1891195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74DD8-86DE-43FC-9640-2F7819E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8D628-BE17-4D2F-B5F0-0B10C13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AD32F-2A0E-4675-BD44-74D0C860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EBC11-A837-4876-BF70-0C7C0035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8479E-75B0-4AE9-978A-AE09B3F7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0B955-8E25-425F-9295-44B1B736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F6DC0-3C0B-4E88-B71F-7DED5B1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C7BBD-93FB-45CC-B8BB-BE047091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34FF-012B-4992-BFD0-1EFDAB4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38A42-6595-45BB-85E1-B8C8B18E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79AC9-624E-4EE4-A9A3-567C9341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E449C-8AA4-4DE2-B079-A1E81C7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E335D-E850-45ED-BCEE-7DE65E3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EFC66-94A2-40A5-9EB7-87B91DF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2EB98-3D55-4F88-82FB-0FC472F7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F98FC-6006-482D-90F4-2204D426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4F698-BAC3-4350-AD32-F6A20D43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4F257-94E7-48E3-A600-D7A67FB7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8B65-405C-4198-A13E-0AED237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C758-8EED-460D-9AAC-CB0545C5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89BB-22A0-4B08-9255-40CB896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0DE-4440-40EE-AA3A-9A27BBF4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79BE-8D5F-480D-B561-23D6A81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C7B5-2795-45AC-B71C-1C98CF5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7272-257A-4E78-A274-10B18F43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4A9E-3BA1-4F23-AFDA-A56D0D00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F8EC-86ED-4827-A762-ADAD40CF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74DC-0963-4237-ACCD-2E0E2A69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EFBB-80F9-4E32-8B6C-4FED8F39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E144-F335-4FB7-B432-B486559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E8B2-DFE5-4393-A8CE-E1A24440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C76E-780E-4778-8BA6-1F17975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7DC-B4B1-4F39-94B8-652F1A3A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FD25-48A4-4036-90A3-F27DF35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1AE7-3CB3-4080-9D17-82401F4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C6C6-96F5-4876-9112-18CE81A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158A-05AE-43C7-8A90-659A4946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23CC-3AAF-4380-BD1F-C1C4895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4B57-6C53-4455-8BDE-E1238162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94D4-C419-4FC4-9A4A-16B77361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FC229-AE47-4C6A-9090-422A3302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1EF5-EEBF-4831-AE5D-5498B76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7032-CA4D-460B-9474-0D9E8957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31F-3BDF-4B6C-A8A9-DAB61E93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5D15-35AA-467D-9CB5-7E47F464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6ACE-30E4-4694-BEAA-FDFADAF9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9727-47CD-43CF-9A1C-A9B78F2E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8239-C73E-4900-8DE9-0CA264C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BEA2-8254-4141-83A0-03FB610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EE50-6DE2-4DE2-8189-4244646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80AD3-8E65-4553-AC6B-3E9F6344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8B9BA-2BD7-4855-A7A7-D70EA3A9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26C77-94DB-408C-9396-A5ADC5F2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1A15-5CAF-4FDF-ABD2-F2CAFDB9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B0C-7340-4E55-B975-498ECA30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7DB5-97F8-4BD8-ABF4-22BD2405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6A17-51CE-44C7-8D99-2A30CD4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F9373-8E31-4D37-96A6-02C21D3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FC070-80C9-42CE-A584-CB407B72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E584-B246-40B9-A39D-F094027E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E29D-7666-4CA0-B1FD-4EFF493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A77D-AD2F-434A-A74B-FAA47FD3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6EDB-C0EB-4057-A1C7-5162783A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E945-B1AE-4813-8D08-6210A760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6D214-A3EE-412D-A51E-36E34982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7D8-646F-4E3F-BCE6-EE769F1D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ACC7-FB57-47A3-999E-8ED6486E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3AEE-A823-4060-A2CC-88110CB3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6109D-9C6A-485D-8E8C-2E3AE3C1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DA81-63E5-4E0C-B1FC-77C4E47D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C6B07-75DA-435C-8559-2FEF50CF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DD6B-CE73-418D-8114-35D9A2E5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3318-65E9-4294-B092-4130269D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23C7E-74C1-4893-B6A4-D0B6CF2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C17A9-E3E7-4878-8338-50FCEC2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BE4B-4B1A-4351-A236-33E1285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9B2-6A93-40C1-99BF-F3A7840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9F34-D758-4FF3-B512-1D16FDB8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18B16-BD4E-4544-B9AE-DB9C5887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55DA-4054-4598-A259-6E7FD7DA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7E41-9D14-499B-A8C6-7A3E8624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989BE-8D63-4448-8580-58D44B4D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6959-FEF7-4021-995D-4BC500A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61960-DCEC-413C-ACA2-BC95AB9C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A06A0-6003-46F0-8E86-7FB3E951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618E-F855-42CC-9975-1FBA4253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AF87-B4B1-4F6A-9634-CB6B307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3A0-0BF1-4432-B718-C801F433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07299-B8B0-4F8F-BCB7-2DF81300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E788D-1970-41A0-9E24-5779502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0A612-56C4-4EFE-A963-B79FC8A0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280FA-2BED-48C3-B77C-55148C04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7D42-42AA-4075-9C9E-9DCB4935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11D24-45BB-4023-8D6D-74DF18D7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59F30-583E-400C-9872-7D9B8E8F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3C4B-F23A-4C03-B72F-6D870027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7B17C-B7E3-4C05-96B5-CED99E95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2D5C-BD19-4985-97D8-D76F514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692-2756-4248-93F9-79EFE13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8E526-C762-4B9B-BE7F-0B4A675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B2940-7287-4F2D-8A46-0ACBD57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289AB-2593-4C28-894E-A8A0E04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A3562-98D7-4319-890B-23A0CD5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F7B0-32CD-48AF-84F1-1DA0D37C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96051-CF5A-455A-AD2F-FA500C6B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39019-39A4-4FBB-8FB6-7CDC1BB7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A314F-9633-44C7-A60D-F88C0A4E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4DEBE-575A-4FA0-B003-4558AA2E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A7FEF-CE8C-4B17-A730-EA030F26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ch03修改圖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6D8-C051-4046-882A-00605CCAC7B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8747-88ED-42C0-9AD6-8DED0D7D7F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BFB2-4CD2-42F3-A265-0B24E1EF6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C4D7-E1E5-4E52-A5B7-ABD8F64523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056F-27EC-4273-9547-EE129C5208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84E9-0FEA-40DB-90E7-CB42A8FFCD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1608-EFF4-4661-B533-1D53F59E6B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D1D2-CE94-4FBA-8217-C9938629A6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3621-AA9B-4CF8-84FD-AFEEDB0B05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5C2-F8C3-44FB-BFE0-847240CD474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1B4D-2D18-4113-B109-34A4EA2810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215F-AEAD-4B27-B1DF-270CF2F2AA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F944-0554-4120-87C8-3FB08FAFF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E36-68EF-4D3A-B551-0C619A1ADAD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FF47-93DA-401C-89F5-E29BD3FD87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BDD3-2222-4725-A6FD-C2981DFEA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F9C7-1342-466C-9933-2D4D5EABD2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1C5-6373-4CC5-9839-5A3ADF8439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C88-3220-4A0C-8ACA-2A29EDB1BD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6E4-8362-4B72-904C-93E9AD9F44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7F90-0A54-42B1-8EAF-5950DD0203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C800-6186-47A6-8B50-A225B5966D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F1F0-C3D0-4A18-963F-241FA6141C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ADB5-DA95-4620-A4F4-6C2481E144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3CBA-EB07-48E9-B42B-4AABD939CE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21D1-F930-43CC-A3DF-9CEB6F2F1A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  <a:ea typeface="宋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ff33cc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ff33cc"/>
                </a:solidFill>
                <a:latin typeface="Times New Roman"/>
              </a:rPr>
              <a:t>：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02:14Z</dcterms:created>
  <dc:creator>echo</dc:creator>
  <dc:description/>
  <dc:language>en-US</dc:language>
  <cp:lastModifiedBy>a</cp:lastModifiedBy>
  <dcterms:modified xsi:type="dcterms:W3CDTF">2015-01-14T13:04:0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0596932052</vt:lpwstr>
  </property>
</Properties>
</file>