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8BA-BC3C-4806-9B06-B9DAB2D8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8D1-D1F6-4E4F-9137-2CD0AF6B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2A200-E429-4195-908C-A35CA24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E2BAD-952D-4145-A10C-70EC2C3E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308CF-3BFD-40CB-9B86-D2D491AD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B597E-7331-4880-AB1A-7DA0F74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099C0-C746-4DD2-9E70-A262218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3DCEB-8F33-4B54-AC06-BED0B5B8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63CB2-AEB2-4631-A9EB-6ECD9E80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B6BFE-FB22-4930-82BC-8E80541B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F5A42-8F5D-41A0-A773-9AE82116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4AB93-277B-4C15-AE6F-488F2B67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8C5-6B07-43AA-AA07-C63AEB2C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0205E-36F4-45A5-9BC4-456EC61B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BB707-6139-4ECE-B6B8-006EF3E1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FCA7C-DC17-4B4C-B9AF-67E249F8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9AC5A-1CE1-4CF2-8E73-8DD74863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070A7-D509-4BEF-A8B1-7AB72627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794E9-BC24-4EB9-AF8A-69940080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C86AB-B125-478E-ADE2-E853C060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E7202-C904-4C40-9922-32CB614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9B680-39A0-4291-8287-48C31310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DB708-63FE-44F0-8127-A62856EE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2D1-79D2-42D7-AEB0-C7A98659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0DDB1-C044-49FF-9B57-B965E2D0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710D0-2D6C-47C4-9927-0AD2412F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3E2FB-A495-4715-AF1C-EDBFE32B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E59CC-6201-4EB6-9D4D-AF789D9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F2EFD-035D-46B8-BAD7-DDCABA8E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78DED-F177-4AE1-92E2-E07A49D3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34060-47CF-4F93-8D0B-52CC8832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50AC7-088E-461A-B8F5-B1DDA608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D7F1F-2FA1-4BA2-9291-25EBC291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E85DB-467C-46F9-AE3D-9528A31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166-4AA7-4220-9C6E-C799A9D2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CC3AE-8169-4B52-8817-5B9F1B88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5DC20-1A24-4017-9FEE-32E360F7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5B000-5770-40E9-A2CC-32A1BDFF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E36E0-15F3-4CE4-ABA0-3227E53E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8187B-81FE-4C04-ACF9-222177AF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DAA5B-E121-442B-8D58-BC819383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CD3A5-8AA9-4333-A058-906C3429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30C7B-E6A6-4592-9633-C585EED7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F73E6-4AC7-4F35-A7E7-6075D3F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241D3-8649-49F9-A082-A7A842A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E886-24F2-4BB7-BACC-E9D67888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0AC0D-4C4A-4003-BFC8-B0C3082F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9E477-4D97-4916-B848-0315EC62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6633A-F48F-4367-B96A-B52F6BAC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1C12C-05CD-4F7A-8C62-9CCB405B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F5372-0A39-47AF-B2BE-41231C67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ED8AF-A4F9-46E6-899E-DD811637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246F8-5445-40D4-BB82-010C4BB6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14335-1BF4-4D10-9844-8051E044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0FC5D-AB90-4E30-9AA3-ACA2DE5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3D801-A5C3-419F-B300-A64744D5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C049-BA2C-4741-9C2F-78CCEDF4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A41E1-6013-4E9C-ACA1-6830F91F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32416-6193-489D-90A3-9D79D653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2BBE1-C5D3-4C94-B9F2-B24CE768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ED408-4C5E-41F9-8AD7-1B2BE65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E4C17-3B16-4D27-AFD4-A2735935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EAD86-B879-415F-BC32-2A9F9F2D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51C71-54E0-4D54-8CB3-A2590BEB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96CBD-BDEC-4061-B7D0-6666AF43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19F12B-E8DD-4252-B70C-658A0C13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C6B12-F531-4674-BDB3-7C36FE52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67F9-A822-4797-ACF0-7BFB284F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B86C7-5ED8-4C2E-9F8E-B7F23091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C5C6E-C3A3-4CC9-96C9-B639FD0C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676DE-B547-443C-83A5-A5BD44FA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BEE66-E65E-4FC4-83BD-B21B4DA3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D878D-C81B-40D6-875C-F5AB2B9F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CE9A3-C554-4FD5-964C-CBD8BEEF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B6D35-0D5B-49A0-A63E-A93B5B7C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A9A6F-9D83-4801-97A9-A6B3ED9B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368C0-3229-41A8-94B8-0510F978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44261-6A3D-4740-9299-32FC8058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DD7D-F164-407D-9143-9124265E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5B4BE-7B0F-4F35-9B88-197A02D1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64AF9-C43B-4CC1-A538-D17CCB79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9963A-B156-4958-814F-176713FD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456B9-9D79-4AF0-9668-768B6435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2E21B-E37B-4ECA-908F-BC11FDBD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BD8F5-9CFC-441C-97EF-179D6BF5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2FE3DF-7440-4DF1-A8D4-9D6BE511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63C2C-F82A-4516-859E-0D9E75C5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E7D7C-4F56-4FA8-AB3D-461F921D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E2105-9C3D-43A4-A05E-43F3FA65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194C-83A4-4FF1-A63E-B24C47C0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894D5-4968-4F66-B4A7-B3D579BD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0BB60-BCE1-4276-A027-1E5A69C2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99E7E-415C-4397-B4D4-6C248679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9F4AF-55FD-435C-8671-5977051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57163-9BD6-438D-851A-FCFB1D4B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5EDA5-D250-4B2D-BDA5-44DB9185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71699-9997-468F-855B-E0F44CB4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F6854-68E9-4F8D-856B-5A85598B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CF4BC-B38A-4D3C-81FE-847B0D42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FC0FA8-4CA0-4201-87CB-4F709476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D99D-B894-4992-9FF1-E6DC93B0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C6EAC-FE3F-43FE-851D-835A7CB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2DE81-B7F0-42B2-B4E8-0091C232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F84A7-75EA-4EB0-B393-20ED78F5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D87-BF2F-4BCB-AED7-7CFDBD50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9C8F-A879-45A5-91D9-44ADD519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8595-5CE6-4C34-990D-3D48FBB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6C8C-9C14-40A0-B98F-EDDE11BC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A930-9391-4B3B-98CE-023725CE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1536-2355-40ED-8F69-739CB2D6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B143-653C-41C0-81D7-7A29C0D0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9243-C400-4E45-9934-446DFFBB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7682-2A81-4F82-A1E0-8205C547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CDED-5D4F-4659-B357-2BB92D33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D721B-D553-431E-9A53-A43CF683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995-763F-459F-8F44-376B09E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0F2C-1F44-4386-A395-151E503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CB0A-7172-4F95-AFCF-AE2F631E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7271-959A-4D04-AA24-00D8124D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F395-3132-4D8B-9B69-5A1E670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8CB7-070C-4AFD-A5F2-C0FEC815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A017-766A-491F-89B3-7AD6D752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5F64-99D5-4417-84FB-5DA754D4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08FD5-3CE8-4379-BB5F-B3B9C9F7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A3CC8-6E70-4EBF-B219-BA4855BC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1031-7AA6-4B97-9FFF-9FB4302E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3E9-9F22-45D9-9E21-5EB1D50A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5EE3-0AB4-4E9A-8FFA-A6F9420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DCDA-15B1-41D2-8A1F-2B059EE8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5060E-9BC4-4FB5-9306-4D219C1C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B7E56-E991-42FB-9C80-4881EE0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A402-2E7C-4246-853D-63538947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2C0E8-A9E1-4552-8EBF-00AD7FD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E17D6-F3AA-442A-B429-246CD251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2249E-60AD-4BCB-BDC7-A245D3D7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4E095-839C-401F-9D4F-8B91EC09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3D7CF-8DAB-40C4-8A33-AAAB19C2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580-2FD2-4841-8ECF-0D368C02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EB1D2-8983-4D71-BDEB-9B046F00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72F7-4474-45F8-8D40-44433E5C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719E4-E4EC-49B2-A0F0-163B6366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C2E58-DED0-4E23-AF4A-FA6DD1B6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B844B-9BBF-42B7-A909-A3F79B72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19C3-0EDD-4BBD-8E8A-B28FC98E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A81CF-D397-4C75-8001-3FAE033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9D63-62D2-4BE3-B0B8-B8B4BDE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317E4-C11C-46AA-A2A2-C92E37A0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9858E-FC96-43B6-B96D-8E7CFC86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347-A7EE-4A7F-98CB-1F3E7C4C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3907-FFAB-4C02-96F4-AD300E45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FB75B-1F13-4F2B-9A1A-E3334A40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19B4-48EF-4266-9C42-45AEAE68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763C4-B190-4F5D-893C-14701F4B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90C7C-EEBF-4227-B28E-101EF1F2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BD4DB-199C-483D-951D-17D022B9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FA8B-6987-428A-B825-FB623DA3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503D5-E482-4FF9-8047-B51195C0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B9F1F-79D1-4BE2-985D-3AE7D64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87309-C18D-4001-BE7F-FBAABF5B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054-2461-42DF-8D0F-51ACF82A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97BC4-55C4-4379-A8C3-0AC1E6A2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AE556-2C58-4870-B39C-36F8DF55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6002-0C20-4792-806A-A8080758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0B721-803F-4407-8C71-F8B39226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73DA2-7744-4C23-9D48-3F6536FB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BE6CD-E704-4524-8519-08AB38F0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2937-9345-496D-9D6A-79754DE7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99D0C-DC73-41C8-B71F-7E9A0E74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7859A-F337-4CFB-8B54-B6DB8C48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92DD3-ACC8-47C2-83AB-E03D1306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6D3-0AB4-48F0-8A9A-A7D5ED4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B1298-D171-45BF-9E06-0502BF1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810B-3799-4A86-952E-45F22A2F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00D7C-0074-41CE-A5AE-6A52B289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5A9E-E22D-468E-93FB-8F407406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933DD-A13E-4247-9591-DD65425D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D41B7-5F2B-455E-8F97-EEBF0D87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41B07-F748-49A8-870A-520BBF0B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10368-D2BD-4475-9B89-71701CCA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896BE-B8CE-453F-8456-9A869A3A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601A-6580-42EB-B36A-DC169E5B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33A-88A2-4962-8F41-08C0E9D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C2D97-7200-4673-823F-396F0A9E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39B1-EE13-41D5-884C-8C1E97DD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F341B-A4A6-4572-906F-18F0CB7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5FC2A-EA4F-470B-AEFC-1D75DB75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F64BC-A292-4E09-8930-2524CBE3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DA5C4-63E4-48A4-8560-60D925E2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C28E7-BE59-41B1-BDA6-E794A95D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B0B19-606E-4715-B1D0-0C139D6C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EF715-6EA0-489D-8A5C-3A603798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7D69A-B572-4830-A562-89DBF22E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2"/>
          <p:cNvSpPr/>
          <p:nvPr/>
        </p:nvSpPr>
        <p:spPr>
          <a:xfrm>
            <a:off x="5657760" y="4910040"/>
            <a:ext cx="289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青衣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011.08.29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4FD2-81E3-48F1-A168-1964CE28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68400"/>
            <a:ext cx="1332000" cy="271440"/>
            <a:chOff x="0" y="68400"/>
            <a:chExt cx="1332000" cy="271440"/>
          </a:xfrm>
        </p:grpSpPr>
        <p:sp>
          <p:nvSpPr>
            <p:cNvPr id="7" name="Line 24"/>
            <p:cNvSpPr/>
            <p:nvPr/>
          </p:nvSpPr>
          <p:spPr>
            <a:xfrm flipV="1">
              <a:off x="0" y="300240"/>
              <a:ext cx="1332000" cy="9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5"/>
            <p:cNvSpPr/>
            <p:nvPr/>
          </p:nvSpPr>
          <p:spPr>
            <a:xfrm>
              <a:off x="0" y="270000"/>
              <a:ext cx="210960" cy="6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" name="Picture 26" descr=""/>
            <p:cNvPicPr/>
            <p:nvPr/>
          </p:nvPicPr>
          <p:blipFill>
            <a:blip r:embed="rId2"/>
            <a:stretch/>
          </p:blipFill>
          <p:spPr>
            <a:xfrm>
              <a:off x="324000" y="68400"/>
              <a:ext cx="576000" cy="2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" name="Picture 28" descr=""/>
          <p:cNvPicPr/>
          <p:nvPr/>
        </p:nvPicPr>
        <p:blipFill>
          <a:blip r:embed="rId3"/>
          <a:stretch/>
        </p:blipFill>
        <p:spPr>
          <a:xfrm>
            <a:off x="1440" y="0"/>
            <a:ext cx="9141120" cy="515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7F7D-74C6-45A3-B48B-16A5EEFD8CDE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1E27-B1F4-4078-AE74-AED28F3733EB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E405-1513-4DEF-9231-3FE8249C43F6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D3F1-D718-4102-A757-C849713D8B68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212E-6373-471B-9E8B-39539827D3F7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07E2-5DE3-4DDA-9120-ACF8B7A051DF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342-7C63-4C29-99D4-724DFE3B5EFC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1E94-54C4-46B9-A7E5-49EA23143DE1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B0FC-3426-47F6-8E7A-CA2E5270C9A3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F62E-4E2A-4922-8D05-8E9F92A359AF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16C4-179A-4ECD-9E14-F73C38993FB8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572B-7DB8-4428-8492-8A014BE8482C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E658-A51C-41B2-92A5-9DB2D603CBE9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A475-F640-4E1F-BD3A-F3283650A6D6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8"/>
          <p:cNvSpPr/>
          <p:nvPr/>
        </p:nvSpPr>
        <p:spPr>
          <a:xfrm>
            <a:off x="5657760" y="4910040"/>
            <a:ext cx="289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青衣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011.08.29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F2C9-6D63-4477-8508-625D8DAA0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5657760" y="4910040"/>
            <a:ext cx="289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青衣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011.08.29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BB12-63F7-41CD-A821-BC4696C9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>
            <a:off x="5657760" y="4910040"/>
            <a:ext cx="2890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青衣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011.08.29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0B75-B44D-463F-A01C-2A5614C8B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8096-DDE0-4E85-BB61-301FE773B37D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73CE-5179-4174-8591-9DF472EEE0B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4EDE-AACC-4891-9ED9-7A443967A813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ACB1-4694-47CF-98C0-25EE560BB595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1E61-FFCD-4631-8250-C6376D20C041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E74-56EE-4EFF-8B51-E90567055260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EB96-23EC-411A-B2A6-EEFF7F90FB7A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991-3AA6-4526-99DB-B18027AE124A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7966-CA89-4FFD-B434-B937A6B7912C}" type="datetime">
              <a:rPr b="1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F99-046F-4FF5-A1E5-AA1959EACA6D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2176560" y="839880"/>
            <a:ext cx="1655640" cy="1585800"/>
            <a:chOff x="2176560" y="839880"/>
            <a:chExt cx="1655640" cy="1585800"/>
          </a:xfrm>
        </p:grpSpPr>
        <p:sp>
          <p:nvSpPr>
            <p:cNvPr id="669" name="Oval 37"/>
            <p:cNvSpPr/>
            <p:nvPr/>
          </p:nvSpPr>
          <p:spPr>
            <a:xfrm>
              <a:off x="2176560" y="839880"/>
              <a:ext cx="1514520" cy="1514520"/>
            </a:xfrm>
            <a:prstGeom prst="ellipse">
              <a:avLst/>
            </a:prstGeom>
            <a:solidFill>
              <a:srgbClr val="00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38"/>
            <p:cNvSpPr/>
            <p:nvPr/>
          </p:nvSpPr>
          <p:spPr>
            <a:xfrm>
              <a:off x="3256200" y="1849680"/>
              <a:ext cx="576000" cy="576000"/>
            </a:xfrm>
            <a:prstGeom prst="ellipse">
              <a:avLst/>
            </a:prstGeom>
            <a:solidFill>
              <a:srgbClr val="000000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5"/>
          <p:cNvGrpSpPr/>
          <p:nvPr/>
        </p:nvGrpSpPr>
        <p:grpSpPr>
          <a:xfrm>
            <a:off x="1979640" y="360360"/>
            <a:ext cx="2160720" cy="2624040"/>
            <a:chOff x="1979640" y="360360"/>
            <a:chExt cx="2160720" cy="2624040"/>
          </a:xfrm>
        </p:grpSpPr>
        <p:pic>
          <p:nvPicPr>
            <p:cNvPr id="672" name="Picture 40" descr=""/>
            <p:cNvPicPr/>
            <p:nvPr/>
          </p:nvPicPr>
          <p:blipFill>
            <a:blip r:embed="rId1"/>
            <a:srcRect l="50393" t="14347" r="23269" b="14347"/>
            <a:stretch/>
          </p:blipFill>
          <p:spPr>
            <a:xfrm>
              <a:off x="3113280" y="1744560"/>
              <a:ext cx="1027080" cy="12398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673" name="Picture 41" descr=""/>
            <p:cNvPicPr/>
            <p:nvPr/>
          </p:nvPicPr>
          <p:blipFill>
            <a:blip r:embed="rId2"/>
            <a:srcRect l="23266" t="14347" r="50963" b="14347"/>
            <a:stretch/>
          </p:blipFill>
          <p:spPr>
            <a:xfrm>
              <a:off x="1979640" y="360360"/>
              <a:ext cx="1765440" cy="217656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674" name="Rectangle 42"/>
          <p:cNvSpPr/>
          <p:nvPr/>
        </p:nvSpPr>
        <p:spPr>
          <a:xfrm rot="2053800">
            <a:off x="5747760" y="29383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标题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3"/>
          <p:cNvSpPr/>
          <p:nvPr/>
        </p:nvSpPr>
        <p:spPr>
          <a:xfrm rot="1975200">
            <a:off x="5986080" y="3207960"/>
            <a:ext cx="38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副标题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2340000" y="1204560"/>
            <a:ext cx="4248000" cy="445320"/>
            <a:chOff x="2340000" y="1204560"/>
            <a:chExt cx="4248000" cy="445320"/>
          </a:xfrm>
        </p:grpSpPr>
        <p:grpSp>
          <p:nvGrpSpPr>
            <p:cNvPr id="677" name="Group 3"/>
            <p:cNvGrpSpPr/>
            <p:nvPr/>
          </p:nvGrpSpPr>
          <p:grpSpPr>
            <a:xfrm>
              <a:off x="2340000" y="1204560"/>
              <a:ext cx="4248000" cy="445320"/>
              <a:chOff x="2340000" y="1204560"/>
              <a:chExt cx="4248000" cy="445320"/>
            </a:xfrm>
          </p:grpSpPr>
          <p:sp>
            <p:nvSpPr>
              <p:cNvPr id="678" name="AutoShape 34"/>
              <p:cNvSpPr/>
              <p:nvPr/>
            </p:nvSpPr>
            <p:spPr>
              <a:xfrm rot="10800000">
                <a:off x="2340000" y="120420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35"/>
              <p:cNvSpPr/>
              <p:nvPr/>
            </p:nvSpPr>
            <p:spPr>
              <a:xfrm flipH="1" rot="10800000">
                <a:off x="2724840" y="122364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Group 6"/>
              <p:cNvGrpSpPr/>
              <p:nvPr/>
            </p:nvGrpSpPr>
            <p:grpSpPr>
              <a:xfrm>
                <a:off x="2354040" y="1216080"/>
                <a:ext cx="401400" cy="131760"/>
                <a:chOff x="2354040" y="1216080"/>
                <a:chExt cx="401400" cy="131760"/>
              </a:xfrm>
            </p:grpSpPr>
            <p:sp>
              <p:nvSpPr>
                <p:cNvPr id="681" name="AutoShape 38"/>
                <p:cNvSpPr/>
                <p:nvPr/>
              </p:nvSpPr>
              <p:spPr>
                <a:xfrm rot="5400000">
                  <a:off x="2488680" y="108108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AutoShape 39"/>
                <p:cNvSpPr/>
                <p:nvPr/>
              </p:nvSpPr>
              <p:spPr>
                <a:xfrm rot="5400000">
                  <a:off x="2459880" y="111276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Text Box 42"/>
              <p:cNvSpPr/>
              <p:nvPr/>
            </p:nvSpPr>
            <p:spPr>
              <a:xfrm>
                <a:off x="2346480" y="125100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Text Box 6"/>
            <p:cNvSpPr/>
            <p:nvPr/>
          </p:nvSpPr>
          <p:spPr>
            <a:xfrm>
              <a:off x="2989440" y="125892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11"/>
          <p:cNvGrpSpPr/>
          <p:nvPr/>
        </p:nvGrpSpPr>
        <p:grpSpPr>
          <a:xfrm>
            <a:off x="2340000" y="1780920"/>
            <a:ext cx="4248000" cy="445320"/>
            <a:chOff x="2340000" y="1780920"/>
            <a:chExt cx="4248000" cy="445320"/>
          </a:xfrm>
        </p:grpSpPr>
        <p:grpSp>
          <p:nvGrpSpPr>
            <p:cNvPr id="686" name="Group 12"/>
            <p:cNvGrpSpPr/>
            <p:nvPr/>
          </p:nvGrpSpPr>
          <p:grpSpPr>
            <a:xfrm>
              <a:off x="2340000" y="1780920"/>
              <a:ext cx="4248000" cy="445320"/>
              <a:chOff x="2340000" y="1780920"/>
              <a:chExt cx="4248000" cy="445320"/>
            </a:xfrm>
          </p:grpSpPr>
          <p:sp>
            <p:nvSpPr>
              <p:cNvPr id="687" name="AutoShape 74"/>
              <p:cNvSpPr/>
              <p:nvPr/>
            </p:nvSpPr>
            <p:spPr>
              <a:xfrm rot="10800000">
                <a:off x="2340000" y="178056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75"/>
              <p:cNvSpPr/>
              <p:nvPr/>
            </p:nvSpPr>
            <p:spPr>
              <a:xfrm flipH="1" rot="10800000">
                <a:off x="2724840" y="180000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9" name="Group 15"/>
              <p:cNvGrpSpPr/>
              <p:nvPr/>
            </p:nvGrpSpPr>
            <p:grpSpPr>
              <a:xfrm>
                <a:off x="2354040" y="1792440"/>
                <a:ext cx="401400" cy="131760"/>
                <a:chOff x="2354040" y="1792440"/>
                <a:chExt cx="401400" cy="131760"/>
              </a:xfrm>
            </p:grpSpPr>
            <p:sp>
              <p:nvSpPr>
                <p:cNvPr id="690" name="AutoShape 77"/>
                <p:cNvSpPr/>
                <p:nvPr/>
              </p:nvSpPr>
              <p:spPr>
                <a:xfrm rot="5400000">
                  <a:off x="2488680" y="165744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AutoShape 78"/>
                <p:cNvSpPr/>
                <p:nvPr/>
              </p:nvSpPr>
              <p:spPr>
                <a:xfrm rot="5400000">
                  <a:off x="2459880" y="168912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Text Box 79"/>
              <p:cNvSpPr/>
              <p:nvPr/>
            </p:nvSpPr>
            <p:spPr>
              <a:xfrm>
                <a:off x="2346480" y="182736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Text Box 80"/>
            <p:cNvSpPr/>
            <p:nvPr/>
          </p:nvSpPr>
          <p:spPr>
            <a:xfrm>
              <a:off x="2989440" y="183528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20"/>
          <p:cNvGrpSpPr/>
          <p:nvPr/>
        </p:nvGrpSpPr>
        <p:grpSpPr>
          <a:xfrm>
            <a:off x="2340000" y="2349000"/>
            <a:ext cx="4248000" cy="445320"/>
            <a:chOff x="2340000" y="2349000"/>
            <a:chExt cx="4248000" cy="445320"/>
          </a:xfrm>
        </p:grpSpPr>
        <p:grpSp>
          <p:nvGrpSpPr>
            <p:cNvPr id="695" name="Group 21"/>
            <p:cNvGrpSpPr/>
            <p:nvPr/>
          </p:nvGrpSpPr>
          <p:grpSpPr>
            <a:xfrm>
              <a:off x="2340000" y="2349000"/>
              <a:ext cx="4248000" cy="445320"/>
              <a:chOff x="2340000" y="2349000"/>
              <a:chExt cx="4248000" cy="445320"/>
            </a:xfrm>
          </p:grpSpPr>
          <p:sp>
            <p:nvSpPr>
              <p:cNvPr id="696" name="AutoShape 83"/>
              <p:cNvSpPr/>
              <p:nvPr/>
            </p:nvSpPr>
            <p:spPr>
              <a:xfrm rot="10800000">
                <a:off x="2340000" y="234864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84"/>
              <p:cNvSpPr/>
              <p:nvPr/>
            </p:nvSpPr>
            <p:spPr>
              <a:xfrm flipH="1" rot="10800000">
                <a:off x="2724840" y="236808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8" name="Group 24"/>
              <p:cNvGrpSpPr/>
              <p:nvPr/>
            </p:nvGrpSpPr>
            <p:grpSpPr>
              <a:xfrm>
                <a:off x="2354040" y="2360520"/>
                <a:ext cx="401400" cy="131760"/>
                <a:chOff x="2354040" y="2360520"/>
                <a:chExt cx="401400" cy="131760"/>
              </a:xfrm>
            </p:grpSpPr>
            <p:sp>
              <p:nvSpPr>
                <p:cNvPr id="699" name="AutoShape 86"/>
                <p:cNvSpPr/>
                <p:nvPr/>
              </p:nvSpPr>
              <p:spPr>
                <a:xfrm rot="5400000">
                  <a:off x="2488680" y="222552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87"/>
                <p:cNvSpPr/>
                <p:nvPr/>
              </p:nvSpPr>
              <p:spPr>
                <a:xfrm rot="5400000">
                  <a:off x="2459880" y="225720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Text Box 88"/>
              <p:cNvSpPr/>
              <p:nvPr/>
            </p:nvSpPr>
            <p:spPr>
              <a:xfrm>
                <a:off x="2346480" y="239544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Text Box 89"/>
            <p:cNvSpPr/>
            <p:nvPr/>
          </p:nvSpPr>
          <p:spPr>
            <a:xfrm>
              <a:off x="2989440" y="240336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29"/>
          <p:cNvGrpSpPr/>
          <p:nvPr/>
        </p:nvGrpSpPr>
        <p:grpSpPr>
          <a:xfrm>
            <a:off x="2340000" y="2931840"/>
            <a:ext cx="4248000" cy="445320"/>
            <a:chOff x="2340000" y="2931840"/>
            <a:chExt cx="4248000" cy="445320"/>
          </a:xfrm>
        </p:grpSpPr>
        <p:grpSp>
          <p:nvGrpSpPr>
            <p:cNvPr id="704" name="Group 30"/>
            <p:cNvGrpSpPr/>
            <p:nvPr/>
          </p:nvGrpSpPr>
          <p:grpSpPr>
            <a:xfrm>
              <a:off x="2340000" y="2931840"/>
              <a:ext cx="4248000" cy="445320"/>
              <a:chOff x="2340000" y="2931840"/>
              <a:chExt cx="4248000" cy="445320"/>
            </a:xfrm>
          </p:grpSpPr>
          <p:sp>
            <p:nvSpPr>
              <p:cNvPr id="705" name="AutoShape 92"/>
              <p:cNvSpPr/>
              <p:nvPr/>
            </p:nvSpPr>
            <p:spPr>
              <a:xfrm rot="10800000">
                <a:off x="2340000" y="293148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utoShape 93"/>
              <p:cNvSpPr/>
              <p:nvPr/>
            </p:nvSpPr>
            <p:spPr>
              <a:xfrm flipH="1" rot="10800000">
                <a:off x="2724840" y="295092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7" name="Group 33"/>
              <p:cNvGrpSpPr/>
              <p:nvPr/>
            </p:nvGrpSpPr>
            <p:grpSpPr>
              <a:xfrm>
                <a:off x="2354040" y="2943360"/>
                <a:ext cx="401400" cy="131760"/>
                <a:chOff x="2354040" y="2943360"/>
                <a:chExt cx="401400" cy="131760"/>
              </a:xfrm>
            </p:grpSpPr>
            <p:sp>
              <p:nvSpPr>
                <p:cNvPr id="708" name="AutoShape 95"/>
                <p:cNvSpPr/>
                <p:nvPr/>
              </p:nvSpPr>
              <p:spPr>
                <a:xfrm rot="5400000">
                  <a:off x="2488680" y="280836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utoShape 96"/>
                <p:cNvSpPr/>
                <p:nvPr/>
              </p:nvSpPr>
              <p:spPr>
                <a:xfrm rot="5400000">
                  <a:off x="2459880" y="284004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Text Box 97"/>
              <p:cNvSpPr/>
              <p:nvPr/>
            </p:nvSpPr>
            <p:spPr>
              <a:xfrm>
                <a:off x="2346480" y="297828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Text Box 98"/>
            <p:cNvSpPr/>
            <p:nvPr/>
          </p:nvSpPr>
          <p:spPr>
            <a:xfrm>
              <a:off x="2989440" y="298620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38"/>
          <p:cNvGrpSpPr/>
          <p:nvPr/>
        </p:nvGrpSpPr>
        <p:grpSpPr>
          <a:xfrm>
            <a:off x="8845560" y="1203480"/>
            <a:ext cx="363240" cy="2160360"/>
            <a:chOff x="8845560" y="1203480"/>
            <a:chExt cx="363240" cy="2160360"/>
          </a:xfrm>
        </p:grpSpPr>
        <p:sp>
          <p:nvSpPr>
            <p:cNvPr id="713" name="AutoShape 104"/>
            <p:cNvSpPr/>
            <p:nvPr/>
          </p:nvSpPr>
          <p:spPr>
            <a:xfrm>
              <a:off x="8845560" y="1203480"/>
              <a:ext cx="298440" cy="21603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21600" h="156197">
                  <a:moveTo>
                    <a:pt x="0" y="0"/>
                  </a:moveTo>
                  <a:arcTo wR="0" hR="0" stAng="16200000" swAng="-5400000"/>
                  <a:lnTo>
                    <a:pt x="0" y="156197"/>
                  </a:lnTo>
                  <a:arcTo wR="0" hR="0" stAng="10800000" swAng="-5400000"/>
                  <a:lnTo>
                    <a:pt x="21600" y="15619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Group 40"/>
            <p:cNvGrpSpPr/>
            <p:nvPr/>
          </p:nvGrpSpPr>
          <p:grpSpPr>
            <a:xfrm>
              <a:off x="8889480" y="1203480"/>
              <a:ext cx="319320" cy="198000"/>
              <a:chOff x="8889480" y="1203480"/>
              <a:chExt cx="319320" cy="198000"/>
            </a:xfrm>
          </p:grpSpPr>
          <p:sp>
            <p:nvSpPr>
              <p:cNvPr id="715" name="AutoShape 102"/>
              <p:cNvSpPr/>
              <p:nvPr/>
            </p:nvSpPr>
            <p:spPr>
              <a:xfrm rot="5400000">
                <a:off x="8949960" y="1142640"/>
                <a:ext cx="198000" cy="31932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103"/>
              <p:cNvSpPr/>
              <p:nvPr/>
            </p:nvSpPr>
            <p:spPr>
              <a:xfrm rot="5400000">
                <a:off x="8927640" y="1167120"/>
                <a:ext cx="195120" cy="2674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Line 106"/>
            <p:cNvSpPr/>
            <p:nvPr/>
          </p:nvSpPr>
          <p:spPr>
            <a:xfrm>
              <a:off x="8893080" y="1347480"/>
              <a:ext cx="0" cy="20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8" name="Picture 108" descr=""/>
            <p:cNvPicPr/>
            <p:nvPr/>
          </p:nvPicPr>
          <p:blipFill>
            <a:blip r:embed="rId1"/>
            <a:stretch/>
          </p:blipFill>
          <p:spPr>
            <a:xfrm>
              <a:off x="8935920" y="1942920"/>
              <a:ext cx="233640" cy="56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4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4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2340000" y="2201400"/>
            <a:ext cx="4248000" cy="445320"/>
            <a:chOff x="2340000" y="2201400"/>
            <a:chExt cx="4248000" cy="445320"/>
          </a:xfrm>
        </p:grpSpPr>
        <p:grpSp>
          <p:nvGrpSpPr>
            <p:cNvPr id="720" name="Group 3"/>
            <p:cNvGrpSpPr/>
            <p:nvPr/>
          </p:nvGrpSpPr>
          <p:grpSpPr>
            <a:xfrm>
              <a:off x="2340000" y="2201400"/>
              <a:ext cx="4248000" cy="445320"/>
              <a:chOff x="2340000" y="2201400"/>
              <a:chExt cx="4248000" cy="445320"/>
            </a:xfrm>
          </p:grpSpPr>
          <p:sp>
            <p:nvSpPr>
              <p:cNvPr id="721" name="AutoShape 13"/>
              <p:cNvSpPr/>
              <p:nvPr/>
            </p:nvSpPr>
            <p:spPr>
              <a:xfrm rot="10800000">
                <a:off x="2340000" y="220104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14"/>
              <p:cNvSpPr/>
              <p:nvPr/>
            </p:nvSpPr>
            <p:spPr>
              <a:xfrm flipH="1" rot="10800000">
                <a:off x="2724840" y="222048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" name="Group 6"/>
              <p:cNvGrpSpPr/>
              <p:nvPr/>
            </p:nvGrpSpPr>
            <p:grpSpPr>
              <a:xfrm>
                <a:off x="2354040" y="2212920"/>
                <a:ext cx="401400" cy="131760"/>
                <a:chOff x="2354040" y="2212920"/>
                <a:chExt cx="401400" cy="131760"/>
              </a:xfrm>
            </p:grpSpPr>
            <p:sp>
              <p:nvSpPr>
                <p:cNvPr id="724" name="AutoShape 16"/>
                <p:cNvSpPr/>
                <p:nvPr/>
              </p:nvSpPr>
              <p:spPr>
                <a:xfrm rot="5400000">
                  <a:off x="2488680" y="207792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17"/>
                <p:cNvSpPr/>
                <p:nvPr/>
              </p:nvSpPr>
              <p:spPr>
                <a:xfrm rot="5400000">
                  <a:off x="2459880" y="210960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Text Box 18"/>
              <p:cNvSpPr/>
              <p:nvPr/>
            </p:nvSpPr>
            <p:spPr>
              <a:xfrm>
                <a:off x="2346480" y="224784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Text Box 19"/>
            <p:cNvSpPr/>
            <p:nvPr/>
          </p:nvSpPr>
          <p:spPr>
            <a:xfrm>
              <a:off x="2989440" y="225576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11"/>
          <p:cNvGrpSpPr/>
          <p:nvPr/>
        </p:nvGrpSpPr>
        <p:grpSpPr>
          <a:xfrm>
            <a:off x="8845560" y="1203480"/>
            <a:ext cx="363240" cy="2160360"/>
            <a:chOff x="8845560" y="1203480"/>
            <a:chExt cx="363240" cy="2160360"/>
          </a:xfrm>
        </p:grpSpPr>
        <p:sp>
          <p:nvSpPr>
            <p:cNvPr id="729" name="AutoShape 48"/>
            <p:cNvSpPr/>
            <p:nvPr/>
          </p:nvSpPr>
          <p:spPr>
            <a:xfrm>
              <a:off x="8845560" y="1203480"/>
              <a:ext cx="298440" cy="21603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21600" h="156197">
                  <a:moveTo>
                    <a:pt x="0" y="0"/>
                  </a:moveTo>
                  <a:arcTo wR="0" hR="0" stAng="16200000" swAng="-5400000"/>
                  <a:lnTo>
                    <a:pt x="0" y="156197"/>
                  </a:lnTo>
                  <a:arcTo wR="0" hR="0" stAng="10800000" swAng="-5400000"/>
                  <a:lnTo>
                    <a:pt x="21600" y="15619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13"/>
            <p:cNvGrpSpPr/>
            <p:nvPr/>
          </p:nvGrpSpPr>
          <p:grpSpPr>
            <a:xfrm>
              <a:off x="8889480" y="1203480"/>
              <a:ext cx="319320" cy="198000"/>
              <a:chOff x="8889480" y="1203480"/>
              <a:chExt cx="319320" cy="198000"/>
            </a:xfrm>
          </p:grpSpPr>
          <p:sp>
            <p:nvSpPr>
              <p:cNvPr id="731" name="AutoShape 50"/>
              <p:cNvSpPr/>
              <p:nvPr/>
            </p:nvSpPr>
            <p:spPr>
              <a:xfrm rot="5400000">
                <a:off x="8949960" y="1142640"/>
                <a:ext cx="198000" cy="31932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51"/>
              <p:cNvSpPr/>
              <p:nvPr/>
            </p:nvSpPr>
            <p:spPr>
              <a:xfrm rot="5400000">
                <a:off x="8927640" y="1167120"/>
                <a:ext cx="195120" cy="2674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Line 52"/>
            <p:cNvSpPr/>
            <p:nvPr/>
          </p:nvSpPr>
          <p:spPr>
            <a:xfrm>
              <a:off x="8893080" y="1347480"/>
              <a:ext cx="0" cy="20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53" descr=""/>
            <p:cNvPicPr/>
            <p:nvPr/>
          </p:nvPicPr>
          <p:blipFill>
            <a:blip r:embed="rId1"/>
            <a:stretch/>
          </p:blipFill>
          <p:spPr>
            <a:xfrm>
              <a:off x="8935920" y="1942920"/>
              <a:ext cx="233640" cy="56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1625760" y="765000"/>
            <a:ext cx="7205040" cy="3745080"/>
            <a:chOff x="1625760" y="765000"/>
            <a:chExt cx="7205040" cy="3745080"/>
          </a:xfrm>
        </p:grpSpPr>
        <p:sp>
          <p:nvSpPr>
            <p:cNvPr id="736" name="AutoShape 3"/>
            <p:cNvSpPr/>
            <p:nvPr/>
          </p:nvSpPr>
          <p:spPr>
            <a:xfrm>
              <a:off x="3281040" y="765000"/>
              <a:ext cx="5549760" cy="37450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0c0c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4"/>
            <p:cNvSpPr/>
            <p:nvPr/>
          </p:nvSpPr>
          <p:spPr>
            <a:xfrm flipH="1">
              <a:off x="1625760" y="785520"/>
              <a:ext cx="7164000" cy="3683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5"/>
          <p:cNvGrpSpPr/>
          <p:nvPr/>
        </p:nvGrpSpPr>
        <p:grpSpPr>
          <a:xfrm>
            <a:off x="8789040" y="766800"/>
            <a:ext cx="454680" cy="3733920"/>
            <a:chOff x="8789040" y="766800"/>
            <a:chExt cx="454680" cy="3733920"/>
          </a:xfrm>
        </p:grpSpPr>
        <p:sp>
          <p:nvSpPr>
            <p:cNvPr id="739" name="Rectangle 13"/>
            <p:cNvSpPr/>
            <p:nvPr/>
          </p:nvSpPr>
          <p:spPr>
            <a:xfrm>
              <a:off x="8807400" y="766800"/>
              <a:ext cx="331560" cy="3733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14"/>
            <p:cNvSpPr/>
            <p:nvPr/>
          </p:nvSpPr>
          <p:spPr>
            <a:xfrm>
              <a:off x="8789040" y="900000"/>
              <a:ext cx="45468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时尚中黑简体"/>
                </a:rPr>
                <a:t>单击添加标题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8"/>
            <p:cNvGrpSpPr/>
            <p:nvPr/>
          </p:nvGrpSpPr>
          <p:grpSpPr>
            <a:xfrm>
              <a:off x="8812080" y="777960"/>
              <a:ext cx="387360" cy="436680"/>
              <a:chOff x="8812080" y="777960"/>
              <a:chExt cx="387360" cy="436680"/>
            </a:xfrm>
          </p:grpSpPr>
          <p:sp>
            <p:nvSpPr>
              <p:cNvPr id="742" name="AutoShape 16"/>
              <p:cNvSpPr/>
              <p:nvPr/>
            </p:nvSpPr>
            <p:spPr>
              <a:xfrm rot="5400000">
                <a:off x="8787240" y="802440"/>
                <a:ext cx="436680" cy="38736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17"/>
              <p:cNvSpPr/>
              <p:nvPr/>
            </p:nvSpPr>
            <p:spPr>
              <a:xfrm rot="5400000">
                <a:off x="8761320" y="830880"/>
                <a:ext cx="430200" cy="32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Text Box 18"/>
          <p:cNvSpPr/>
          <p:nvPr/>
        </p:nvSpPr>
        <p:spPr>
          <a:xfrm>
            <a:off x="3713040" y="1258920"/>
            <a:ext cx="4753080" cy="30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文本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…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………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……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……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………………………………...…….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……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5" name="AutoShape 29"/>
          <p:cNvCxnSpPr/>
          <p:nvPr/>
        </p:nvCxnSpPr>
        <p:spPr>
          <a:xfrm flipH="1" rot="16200000">
            <a:off x="6598080" y="711000"/>
            <a:ext cx="540360" cy="1315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6" name="AutoShape 30"/>
          <p:cNvCxnSpPr>
            <a:stCxn id="747" idx="1"/>
            <a:endCxn id="748" idx="0"/>
          </p:cNvCxnSpPr>
          <p:nvPr/>
        </p:nvCxnSpPr>
        <p:spPr>
          <a:xfrm>
            <a:off x="6132240" y="1098720"/>
            <a:ext cx="396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AutoShape 31"/>
          <p:cNvCxnSpPr/>
          <p:nvPr/>
        </p:nvCxnSpPr>
        <p:spPr>
          <a:xfrm rot="5400000">
            <a:off x="5092920" y="668880"/>
            <a:ext cx="540360" cy="13993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50" name="Group 5"/>
          <p:cNvGrpSpPr/>
          <p:nvPr/>
        </p:nvGrpSpPr>
        <p:grpSpPr>
          <a:xfrm>
            <a:off x="4871880" y="628560"/>
            <a:ext cx="2519280" cy="504720"/>
            <a:chOff x="4871880" y="628560"/>
            <a:chExt cx="2519280" cy="504720"/>
          </a:xfrm>
        </p:grpSpPr>
        <p:grpSp>
          <p:nvGrpSpPr>
            <p:cNvPr id="751" name="Group 6"/>
            <p:cNvGrpSpPr/>
            <p:nvPr/>
          </p:nvGrpSpPr>
          <p:grpSpPr>
            <a:xfrm>
              <a:off x="4871880" y="628560"/>
              <a:ext cx="2519280" cy="504720"/>
              <a:chOff x="4871880" y="628560"/>
              <a:chExt cx="2519280" cy="504720"/>
            </a:xfrm>
          </p:grpSpPr>
          <p:sp>
            <p:nvSpPr>
              <p:cNvPr id="752" name="AutoShape 26"/>
              <p:cNvSpPr/>
              <p:nvPr/>
            </p:nvSpPr>
            <p:spPr>
              <a:xfrm rot="16200000">
                <a:off x="5879160" y="-378720"/>
                <a:ext cx="504720" cy="2519280"/>
              </a:xfrm>
              <a:custGeom>
                <a:avLst/>
                <a:gdLst>
                  <a:gd name="textAreaLeft" fmla="*/ 17280 w 504720"/>
                  <a:gd name="textAreaRight" fmla="*/ 487440 w 504720"/>
                  <a:gd name="textAreaTop" fmla="*/ 17280 h 2519280"/>
                  <a:gd name="textAreaBottom" fmla="*/ 2502000 h 2519280"/>
                </a:gdLst>
                <a:ahLst/>
                <a:rect l="textAreaLeft" t="textAreaTop" r="textAreaRight" b="textAreaBottom"/>
                <a:pathLst>
                  <a:path w="21600" h="107754">
                    <a:moveTo>
                      <a:pt x="2541" y="0"/>
                    </a:moveTo>
                    <a:arcTo wR="2541" hR="2541" stAng="16200000" swAng="-5400000"/>
                    <a:lnTo>
                      <a:pt x="0" y="105213"/>
                    </a:lnTo>
                    <a:arcTo wR="2541" hR="2541" stAng="10800000" swAng="-5400000"/>
                    <a:lnTo>
                      <a:pt x="19059" y="107754"/>
                    </a:lnTo>
                    <a:arcTo wR="2541" hR="2541" stAng="5400000" swAng="-5400000"/>
                    <a:lnTo>
                      <a:pt x="21600" y="2541"/>
                    </a:lnTo>
                    <a:arcTo wR="2541" hR="2541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27"/>
              <p:cNvSpPr/>
              <p:nvPr/>
            </p:nvSpPr>
            <p:spPr>
              <a:xfrm rot="16200000">
                <a:off x="5913000" y="-378720"/>
                <a:ext cx="437040" cy="2519280"/>
              </a:xfrm>
              <a:custGeom>
                <a:avLst/>
                <a:gdLst>
                  <a:gd name="textAreaLeft" fmla="*/ 3960 w 437040"/>
                  <a:gd name="textAreaRight" fmla="*/ 433080 w 437040"/>
                  <a:gd name="textAreaTop" fmla="*/ 3960 h 2519280"/>
                  <a:gd name="textAreaBottom" fmla="*/ 2515320 h 2519280"/>
                </a:gdLst>
                <a:ahLst/>
                <a:rect l="textAreaLeft" t="textAreaTop" r="textAreaRight" b="textAreaBottom"/>
                <a:pathLst>
                  <a:path w="21600" h="124427">
                    <a:moveTo>
                      <a:pt x="718" y="0"/>
                    </a:moveTo>
                    <a:arcTo wR="718" hR="718" stAng="16200000" swAng="-5400000"/>
                    <a:lnTo>
                      <a:pt x="0" y="123709"/>
                    </a:lnTo>
                    <a:arcTo wR="718" hR="718" stAng="10800000" swAng="-5400000"/>
                    <a:lnTo>
                      <a:pt x="20882" y="124427"/>
                    </a:lnTo>
                    <a:arcTo wR="718" hR="718" stAng="5400000" swAng="-5400000"/>
                    <a:lnTo>
                      <a:pt x="21600" y="718"/>
                    </a:lnTo>
                    <a:arcTo wR="718" hR="71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Rectangle 34"/>
            <p:cNvSpPr/>
            <p:nvPr/>
          </p:nvSpPr>
          <p:spPr>
            <a:xfrm>
              <a:off x="5726160" y="695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时尚中黑简体"/>
                </a:rPr>
                <a:t>添加标题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3957480" y="1636560"/>
            <a:ext cx="1261800" cy="2953080"/>
            <a:chOff x="3957480" y="1636560"/>
            <a:chExt cx="1261800" cy="2953080"/>
          </a:xfrm>
        </p:grpSpPr>
        <p:grpSp>
          <p:nvGrpSpPr>
            <p:cNvPr id="755" name="Group 11"/>
            <p:cNvGrpSpPr/>
            <p:nvPr/>
          </p:nvGrpSpPr>
          <p:grpSpPr>
            <a:xfrm>
              <a:off x="3957480" y="1636560"/>
              <a:ext cx="1261800" cy="2953080"/>
              <a:chOff x="3957480" y="1636560"/>
              <a:chExt cx="1261800" cy="2953080"/>
            </a:xfrm>
          </p:grpSpPr>
          <p:sp>
            <p:nvSpPr>
              <p:cNvPr id="756" name="AutoShape 16"/>
              <p:cNvSpPr/>
              <p:nvPr/>
            </p:nvSpPr>
            <p:spPr>
              <a:xfrm>
                <a:off x="3957480" y="1636560"/>
                <a:ext cx="1261800" cy="2953080"/>
              </a:xfrm>
              <a:custGeom>
                <a:avLst/>
                <a:gdLst>
                  <a:gd name="textAreaLeft" fmla="*/ 43200 w 1261800"/>
                  <a:gd name="textAreaRight" fmla="*/ 1218600 w 1261800"/>
                  <a:gd name="textAreaTop" fmla="*/ 43200 h 2953080"/>
                  <a:gd name="textAreaBottom" fmla="*/ 2909880 h 2953080"/>
                </a:gdLst>
                <a:ahLst/>
                <a:rect l="textAreaLeft" t="textAreaTop" r="textAreaRight" b="textAreaBottom"/>
                <a:pathLst>
                  <a:path w="21600" h="50544">
                    <a:moveTo>
                      <a:pt x="2541" y="0"/>
                    </a:moveTo>
                    <a:arcTo wR="2541" hR="2541" stAng="16200000" swAng="-5400000"/>
                    <a:lnTo>
                      <a:pt x="0" y="48003"/>
                    </a:lnTo>
                    <a:arcTo wR="2541" hR="2541" stAng="10800000" swAng="-5400000"/>
                    <a:lnTo>
                      <a:pt x="19059" y="50544"/>
                    </a:lnTo>
                    <a:arcTo wR="2541" hR="2541" stAng="5400000" swAng="-5400000"/>
                    <a:lnTo>
                      <a:pt x="21600" y="2541"/>
                    </a:lnTo>
                    <a:arcTo wR="2541" hR="2541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AutoShape 17"/>
              <p:cNvSpPr/>
              <p:nvPr/>
            </p:nvSpPr>
            <p:spPr>
              <a:xfrm>
                <a:off x="4042800" y="1636560"/>
                <a:ext cx="1092600" cy="2953080"/>
              </a:xfrm>
              <a:custGeom>
                <a:avLst/>
                <a:gdLst>
                  <a:gd name="textAreaLeft" fmla="*/ 10440 w 1092600"/>
                  <a:gd name="textAreaRight" fmla="*/ 1082160 w 1092600"/>
                  <a:gd name="textAreaTop" fmla="*/ 10440 h 2953080"/>
                  <a:gd name="textAreaBottom" fmla="*/ 2942640 h 2953080"/>
                </a:gdLst>
                <a:ahLst/>
                <a:rect l="textAreaLeft" t="textAreaTop" r="textAreaRight" b="textAreaBottom"/>
                <a:pathLst>
                  <a:path w="21600" h="58368">
                    <a:moveTo>
                      <a:pt x="718" y="0"/>
                    </a:moveTo>
                    <a:arcTo wR="718" hR="718" stAng="16200000" swAng="-5400000"/>
                    <a:lnTo>
                      <a:pt x="0" y="57650"/>
                    </a:lnTo>
                    <a:arcTo wR="718" hR="718" stAng="10800000" swAng="-5400000"/>
                    <a:lnTo>
                      <a:pt x="20882" y="58368"/>
                    </a:lnTo>
                    <a:arcTo wR="718" hR="718" stAng="5400000" swAng="-5400000"/>
                    <a:lnTo>
                      <a:pt x="21600" y="718"/>
                    </a:lnTo>
                    <a:arcTo wR="718" hR="71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Text Box 35"/>
            <p:cNvSpPr/>
            <p:nvPr/>
          </p:nvSpPr>
          <p:spPr>
            <a:xfrm>
              <a:off x="4100400" y="1766520"/>
              <a:ext cx="901800" cy="26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添加文本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…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......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..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15"/>
          <p:cNvGrpSpPr/>
          <p:nvPr/>
        </p:nvGrpSpPr>
        <p:grpSpPr>
          <a:xfrm>
            <a:off x="5504040" y="1649520"/>
            <a:ext cx="1261440" cy="2952720"/>
            <a:chOff x="5504040" y="1649520"/>
            <a:chExt cx="1261440" cy="2952720"/>
          </a:xfrm>
        </p:grpSpPr>
        <p:grpSp>
          <p:nvGrpSpPr>
            <p:cNvPr id="760" name="Group 16"/>
            <p:cNvGrpSpPr/>
            <p:nvPr/>
          </p:nvGrpSpPr>
          <p:grpSpPr>
            <a:xfrm>
              <a:off x="5504040" y="1649520"/>
              <a:ext cx="1261440" cy="2952720"/>
              <a:chOff x="5504040" y="1649520"/>
              <a:chExt cx="1261440" cy="2952720"/>
            </a:xfrm>
          </p:grpSpPr>
          <p:sp>
            <p:nvSpPr>
              <p:cNvPr id="748" name="AutoShape 20"/>
              <p:cNvSpPr/>
              <p:nvPr/>
            </p:nvSpPr>
            <p:spPr>
              <a:xfrm>
                <a:off x="5504040" y="1649520"/>
                <a:ext cx="1261440" cy="2952720"/>
              </a:xfrm>
              <a:custGeom>
                <a:avLst/>
                <a:gdLst>
                  <a:gd name="textAreaLeft" fmla="*/ 43200 w 1261440"/>
                  <a:gd name="textAreaRight" fmla="*/ 1218240 w 1261440"/>
                  <a:gd name="textAreaTop" fmla="*/ 43200 h 2952720"/>
                  <a:gd name="textAreaBottom" fmla="*/ 2909520 h 2952720"/>
                </a:gdLst>
                <a:ahLst/>
                <a:rect l="textAreaLeft" t="textAreaTop" r="textAreaRight" b="textAreaBottom"/>
                <a:pathLst>
                  <a:path w="21600" h="50552">
                    <a:moveTo>
                      <a:pt x="2541" y="0"/>
                    </a:moveTo>
                    <a:arcTo wR="2541" hR="2541" stAng="16200000" swAng="-5400000"/>
                    <a:lnTo>
                      <a:pt x="0" y="48011"/>
                    </a:lnTo>
                    <a:arcTo wR="2541" hR="2541" stAng="10800000" swAng="-5400000"/>
                    <a:lnTo>
                      <a:pt x="19059" y="50552"/>
                    </a:lnTo>
                    <a:arcTo wR="2541" hR="2541" stAng="5400000" swAng="-5400000"/>
                    <a:lnTo>
                      <a:pt x="21600" y="2541"/>
                    </a:lnTo>
                    <a:arcTo wR="2541" hR="2541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21"/>
              <p:cNvSpPr/>
              <p:nvPr/>
            </p:nvSpPr>
            <p:spPr>
              <a:xfrm>
                <a:off x="5589360" y="1649520"/>
                <a:ext cx="1092600" cy="2952720"/>
              </a:xfrm>
              <a:custGeom>
                <a:avLst/>
                <a:gdLst>
                  <a:gd name="textAreaLeft" fmla="*/ 10440 w 1092600"/>
                  <a:gd name="textAreaRight" fmla="*/ 1082160 w 1092600"/>
                  <a:gd name="textAreaTop" fmla="*/ 10440 h 2952720"/>
                  <a:gd name="textAreaBottom" fmla="*/ 2942280 h 2952720"/>
                </a:gdLst>
                <a:ahLst/>
                <a:rect l="textAreaLeft" t="textAreaTop" r="textAreaRight" b="textAreaBottom"/>
                <a:pathLst>
                  <a:path w="21600" h="58361">
                    <a:moveTo>
                      <a:pt x="718" y="0"/>
                    </a:moveTo>
                    <a:arcTo wR="718" hR="718" stAng="16200000" swAng="-5400000"/>
                    <a:lnTo>
                      <a:pt x="0" y="57643"/>
                    </a:lnTo>
                    <a:arcTo wR="718" hR="718" stAng="10800000" swAng="-5400000"/>
                    <a:lnTo>
                      <a:pt x="20882" y="58361"/>
                    </a:lnTo>
                    <a:arcTo wR="718" hR="718" stAng="5400000" swAng="-5400000"/>
                    <a:lnTo>
                      <a:pt x="21600" y="718"/>
                    </a:lnTo>
                    <a:arcTo wR="718" hR="71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Text Box 36"/>
            <p:cNvSpPr/>
            <p:nvPr/>
          </p:nvSpPr>
          <p:spPr>
            <a:xfrm>
              <a:off x="5717880" y="1763640"/>
              <a:ext cx="901440" cy="26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添加文本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20"/>
          <p:cNvGrpSpPr/>
          <p:nvPr/>
        </p:nvGrpSpPr>
        <p:grpSpPr>
          <a:xfrm>
            <a:off x="7054920" y="1636560"/>
            <a:ext cx="1261800" cy="2953080"/>
            <a:chOff x="7054920" y="1636560"/>
            <a:chExt cx="1261800" cy="2953080"/>
          </a:xfrm>
        </p:grpSpPr>
        <p:grpSp>
          <p:nvGrpSpPr>
            <p:cNvPr id="764" name="Group 21"/>
            <p:cNvGrpSpPr/>
            <p:nvPr/>
          </p:nvGrpSpPr>
          <p:grpSpPr>
            <a:xfrm>
              <a:off x="7054920" y="1636560"/>
              <a:ext cx="1261800" cy="2953080"/>
              <a:chOff x="7054920" y="1636560"/>
              <a:chExt cx="1261800" cy="2953080"/>
            </a:xfrm>
          </p:grpSpPr>
          <p:sp>
            <p:nvSpPr>
              <p:cNvPr id="765" name="AutoShape 23"/>
              <p:cNvSpPr/>
              <p:nvPr/>
            </p:nvSpPr>
            <p:spPr>
              <a:xfrm>
                <a:off x="7054920" y="1636560"/>
                <a:ext cx="1261800" cy="2953080"/>
              </a:xfrm>
              <a:custGeom>
                <a:avLst/>
                <a:gdLst>
                  <a:gd name="textAreaLeft" fmla="*/ 43200 w 1261800"/>
                  <a:gd name="textAreaRight" fmla="*/ 1218600 w 1261800"/>
                  <a:gd name="textAreaTop" fmla="*/ 43200 h 2953080"/>
                  <a:gd name="textAreaBottom" fmla="*/ 2909880 h 2953080"/>
                </a:gdLst>
                <a:ahLst/>
                <a:rect l="textAreaLeft" t="textAreaTop" r="textAreaRight" b="textAreaBottom"/>
                <a:pathLst>
                  <a:path w="21600" h="50544">
                    <a:moveTo>
                      <a:pt x="2541" y="0"/>
                    </a:moveTo>
                    <a:arcTo wR="2541" hR="2541" stAng="16200000" swAng="-5400000"/>
                    <a:lnTo>
                      <a:pt x="0" y="48003"/>
                    </a:lnTo>
                    <a:arcTo wR="2541" hR="2541" stAng="10800000" swAng="-5400000"/>
                    <a:lnTo>
                      <a:pt x="19059" y="50544"/>
                    </a:lnTo>
                    <a:arcTo wR="2541" hR="2541" stAng="5400000" swAng="-5400000"/>
                    <a:lnTo>
                      <a:pt x="21600" y="2541"/>
                    </a:lnTo>
                    <a:arcTo wR="2541" hR="2541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24"/>
              <p:cNvSpPr/>
              <p:nvPr/>
            </p:nvSpPr>
            <p:spPr>
              <a:xfrm>
                <a:off x="7140240" y="1636560"/>
                <a:ext cx="1092600" cy="2953080"/>
              </a:xfrm>
              <a:custGeom>
                <a:avLst/>
                <a:gdLst>
                  <a:gd name="textAreaLeft" fmla="*/ 10440 w 1092600"/>
                  <a:gd name="textAreaRight" fmla="*/ 1082160 w 1092600"/>
                  <a:gd name="textAreaTop" fmla="*/ 10440 h 2953080"/>
                  <a:gd name="textAreaBottom" fmla="*/ 2942640 h 2953080"/>
                </a:gdLst>
                <a:ahLst/>
                <a:rect l="textAreaLeft" t="textAreaTop" r="textAreaRight" b="textAreaBottom"/>
                <a:pathLst>
                  <a:path w="21600" h="58368">
                    <a:moveTo>
                      <a:pt x="718" y="0"/>
                    </a:moveTo>
                    <a:arcTo wR="718" hR="718" stAng="16200000" swAng="-5400000"/>
                    <a:lnTo>
                      <a:pt x="0" y="57650"/>
                    </a:lnTo>
                    <a:arcTo wR="718" hR="718" stAng="10800000" swAng="-5400000"/>
                    <a:lnTo>
                      <a:pt x="20882" y="58368"/>
                    </a:lnTo>
                    <a:arcTo wR="718" hR="718" stAng="5400000" swAng="-5400000"/>
                    <a:lnTo>
                      <a:pt x="21600" y="718"/>
                    </a:lnTo>
                    <a:arcTo wR="718" hR="71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Text Box 53"/>
            <p:cNvSpPr/>
            <p:nvPr/>
          </p:nvSpPr>
          <p:spPr>
            <a:xfrm>
              <a:off x="7248600" y="1760760"/>
              <a:ext cx="901800" cy="26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添加文本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.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2340000" y="2201400"/>
            <a:ext cx="4248000" cy="445320"/>
            <a:chOff x="2340000" y="2201400"/>
            <a:chExt cx="4248000" cy="445320"/>
          </a:xfrm>
        </p:grpSpPr>
        <p:grpSp>
          <p:nvGrpSpPr>
            <p:cNvPr id="769" name="Group 3"/>
            <p:cNvGrpSpPr/>
            <p:nvPr/>
          </p:nvGrpSpPr>
          <p:grpSpPr>
            <a:xfrm>
              <a:off x="2340000" y="2201400"/>
              <a:ext cx="4248000" cy="445320"/>
              <a:chOff x="2340000" y="2201400"/>
              <a:chExt cx="4248000" cy="445320"/>
            </a:xfrm>
          </p:grpSpPr>
          <p:sp>
            <p:nvSpPr>
              <p:cNvPr id="770" name="AutoShape 13"/>
              <p:cNvSpPr/>
              <p:nvPr/>
            </p:nvSpPr>
            <p:spPr>
              <a:xfrm rot="10800000">
                <a:off x="2340000" y="2201040"/>
                <a:ext cx="4248000" cy="3906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0c0c0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14"/>
              <p:cNvSpPr/>
              <p:nvPr/>
            </p:nvSpPr>
            <p:spPr>
              <a:xfrm flipH="1" rot="10800000">
                <a:off x="2724840" y="2220480"/>
                <a:ext cx="3825720" cy="3589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2" name="Group 6"/>
              <p:cNvGrpSpPr/>
              <p:nvPr/>
            </p:nvGrpSpPr>
            <p:grpSpPr>
              <a:xfrm>
                <a:off x="2354040" y="2212920"/>
                <a:ext cx="401400" cy="131760"/>
                <a:chOff x="2354040" y="2212920"/>
                <a:chExt cx="401400" cy="131760"/>
              </a:xfrm>
            </p:grpSpPr>
            <p:sp>
              <p:nvSpPr>
                <p:cNvPr id="773" name="AutoShape 16"/>
                <p:cNvSpPr/>
                <p:nvPr/>
              </p:nvSpPr>
              <p:spPr>
                <a:xfrm rot="5400000">
                  <a:off x="2488680" y="2077920"/>
                  <a:ext cx="131760" cy="401400"/>
                </a:xfrm>
                <a:prstGeom prst="rtTriangl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959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17"/>
                <p:cNvSpPr/>
                <p:nvPr/>
              </p:nvSpPr>
              <p:spPr>
                <a:xfrm rot="5400000">
                  <a:off x="2459880" y="2109600"/>
                  <a:ext cx="129960" cy="336240"/>
                </a:xfrm>
                <a:prstGeom prst="rtTriangl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Text Box 18"/>
              <p:cNvSpPr/>
              <p:nvPr/>
            </p:nvSpPr>
            <p:spPr>
              <a:xfrm>
                <a:off x="2346480" y="224784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Text Box 19"/>
            <p:cNvSpPr/>
            <p:nvPr/>
          </p:nvSpPr>
          <p:spPr>
            <a:xfrm>
              <a:off x="2989440" y="2255760"/>
              <a:ext cx="323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11"/>
          <p:cNvGrpSpPr/>
          <p:nvPr/>
        </p:nvGrpSpPr>
        <p:grpSpPr>
          <a:xfrm>
            <a:off x="8845560" y="1203480"/>
            <a:ext cx="363240" cy="2160360"/>
            <a:chOff x="8845560" y="1203480"/>
            <a:chExt cx="363240" cy="2160360"/>
          </a:xfrm>
        </p:grpSpPr>
        <p:sp>
          <p:nvSpPr>
            <p:cNvPr id="778" name="AutoShape 21"/>
            <p:cNvSpPr/>
            <p:nvPr/>
          </p:nvSpPr>
          <p:spPr>
            <a:xfrm>
              <a:off x="8845560" y="1203480"/>
              <a:ext cx="298440" cy="21603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21600" h="156197">
                  <a:moveTo>
                    <a:pt x="0" y="0"/>
                  </a:moveTo>
                  <a:arcTo wR="0" hR="0" stAng="16200000" swAng="-5400000"/>
                  <a:lnTo>
                    <a:pt x="0" y="156197"/>
                  </a:lnTo>
                  <a:arcTo wR="0" hR="0" stAng="10800000" swAng="-5400000"/>
                  <a:lnTo>
                    <a:pt x="21600" y="15619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13"/>
            <p:cNvGrpSpPr/>
            <p:nvPr/>
          </p:nvGrpSpPr>
          <p:grpSpPr>
            <a:xfrm>
              <a:off x="8889480" y="1203480"/>
              <a:ext cx="319320" cy="198000"/>
              <a:chOff x="8889480" y="1203480"/>
              <a:chExt cx="319320" cy="198000"/>
            </a:xfrm>
          </p:grpSpPr>
          <p:sp>
            <p:nvSpPr>
              <p:cNvPr id="780" name="AutoShape 23"/>
              <p:cNvSpPr/>
              <p:nvPr/>
            </p:nvSpPr>
            <p:spPr>
              <a:xfrm rot="5400000">
                <a:off x="8949960" y="1142640"/>
                <a:ext cx="198000" cy="31932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24"/>
              <p:cNvSpPr/>
              <p:nvPr/>
            </p:nvSpPr>
            <p:spPr>
              <a:xfrm rot="5400000">
                <a:off x="8927640" y="1167120"/>
                <a:ext cx="195120" cy="2674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" name="Line 25"/>
            <p:cNvSpPr/>
            <p:nvPr/>
          </p:nvSpPr>
          <p:spPr>
            <a:xfrm>
              <a:off x="8893080" y="1347480"/>
              <a:ext cx="0" cy="20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3" name="Picture 26" descr=""/>
            <p:cNvPicPr/>
            <p:nvPr/>
          </p:nvPicPr>
          <p:blipFill>
            <a:blip r:embed="rId1"/>
            <a:stretch/>
          </p:blipFill>
          <p:spPr>
            <a:xfrm>
              <a:off x="8935920" y="1942920"/>
              <a:ext cx="233640" cy="56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1618920" y="765000"/>
            <a:ext cx="7206120" cy="1590840"/>
            <a:chOff x="1618920" y="765000"/>
            <a:chExt cx="7206120" cy="1590840"/>
          </a:xfrm>
        </p:grpSpPr>
        <p:sp>
          <p:nvSpPr>
            <p:cNvPr id="785" name="AutoShape 18"/>
            <p:cNvSpPr/>
            <p:nvPr/>
          </p:nvSpPr>
          <p:spPr>
            <a:xfrm>
              <a:off x="3274920" y="765000"/>
              <a:ext cx="5550120" cy="15908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0c0c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19"/>
            <p:cNvSpPr/>
            <p:nvPr/>
          </p:nvSpPr>
          <p:spPr>
            <a:xfrm flipH="1">
              <a:off x="1618560" y="773640"/>
              <a:ext cx="7164360" cy="15645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5"/>
          <p:cNvGrpSpPr/>
          <p:nvPr/>
        </p:nvGrpSpPr>
        <p:grpSpPr>
          <a:xfrm>
            <a:off x="8782920" y="766800"/>
            <a:ext cx="454680" cy="1587600"/>
            <a:chOff x="8782920" y="766800"/>
            <a:chExt cx="454680" cy="1587600"/>
          </a:xfrm>
        </p:grpSpPr>
        <p:sp>
          <p:nvSpPr>
            <p:cNvPr id="788" name="Rectangle 21"/>
            <p:cNvSpPr/>
            <p:nvPr/>
          </p:nvSpPr>
          <p:spPr>
            <a:xfrm>
              <a:off x="8801280" y="766800"/>
              <a:ext cx="331560" cy="158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22"/>
            <p:cNvSpPr/>
            <p:nvPr/>
          </p:nvSpPr>
          <p:spPr>
            <a:xfrm>
              <a:off x="8782920" y="823320"/>
              <a:ext cx="45468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时尚中黑简体"/>
                </a:rPr>
                <a:t>标题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8"/>
            <p:cNvGrpSpPr/>
            <p:nvPr/>
          </p:nvGrpSpPr>
          <p:grpSpPr>
            <a:xfrm>
              <a:off x="8805960" y="771480"/>
              <a:ext cx="387360" cy="185400"/>
              <a:chOff x="8805960" y="771480"/>
              <a:chExt cx="387360" cy="185400"/>
            </a:xfrm>
          </p:grpSpPr>
          <p:sp>
            <p:nvSpPr>
              <p:cNvPr id="791" name="AutoShape 24"/>
              <p:cNvSpPr/>
              <p:nvPr/>
            </p:nvSpPr>
            <p:spPr>
              <a:xfrm rot="5400000">
                <a:off x="8906760" y="670320"/>
                <a:ext cx="185400" cy="38736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25"/>
              <p:cNvSpPr/>
              <p:nvPr/>
            </p:nvSpPr>
            <p:spPr>
              <a:xfrm rot="5400000">
                <a:off x="8879040" y="700560"/>
                <a:ext cx="182520" cy="32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6"/>
          <p:cNvSpPr/>
          <p:nvPr/>
        </p:nvSpPr>
        <p:spPr>
          <a:xfrm>
            <a:off x="3706920" y="988920"/>
            <a:ext cx="47527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文本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…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1618920" y="2532240"/>
            <a:ext cx="7206120" cy="1590480"/>
            <a:chOff x="1618920" y="2532240"/>
            <a:chExt cx="7206120" cy="1590480"/>
          </a:xfrm>
        </p:grpSpPr>
        <p:sp>
          <p:nvSpPr>
            <p:cNvPr id="795" name="AutoShape 28"/>
            <p:cNvSpPr/>
            <p:nvPr/>
          </p:nvSpPr>
          <p:spPr>
            <a:xfrm>
              <a:off x="3274920" y="2532240"/>
              <a:ext cx="5550120" cy="15904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0c0c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29"/>
            <p:cNvSpPr/>
            <p:nvPr/>
          </p:nvSpPr>
          <p:spPr>
            <a:xfrm flipH="1">
              <a:off x="1618560" y="2540880"/>
              <a:ext cx="7164360" cy="15642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aeaea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15"/>
          <p:cNvGrpSpPr/>
          <p:nvPr/>
        </p:nvGrpSpPr>
        <p:grpSpPr>
          <a:xfrm>
            <a:off x="8782920" y="2533680"/>
            <a:ext cx="454680" cy="1587600"/>
            <a:chOff x="8782920" y="2533680"/>
            <a:chExt cx="454680" cy="1587600"/>
          </a:xfrm>
        </p:grpSpPr>
        <p:sp>
          <p:nvSpPr>
            <p:cNvPr id="798" name="Rectangle 31"/>
            <p:cNvSpPr/>
            <p:nvPr/>
          </p:nvSpPr>
          <p:spPr>
            <a:xfrm>
              <a:off x="8801280" y="2533680"/>
              <a:ext cx="331560" cy="1587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32"/>
            <p:cNvSpPr/>
            <p:nvPr/>
          </p:nvSpPr>
          <p:spPr>
            <a:xfrm>
              <a:off x="8782920" y="2590200"/>
              <a:ext cx="45468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时尚中黑简体"/>
                </a:rPr>
                <a:t>标题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18"/>
            <p:cNvGrpSpPr/>
            <p:nvPr/>
          </p:nvGrpSpPr>
          <p:grpSpPr>
            <a:xfrm>
              <a:off x="8805960" y="2538360"/>
              <a:ext cx="387360" cy="185400"/>
              <a:chOff x="8805960" y="2538360"/>
              <a:chExt cx="387360" cy="185400"/>
            </a:xfrm>
          </p:grpSpPr>
          <p:sp>
            <p:nvSpPr>
              <p:cNvPr id="801" name="AutoShape 34"/>
              <p:cNvSpPr/>
              <p:nvPr/>
            </p:nvSpPr>
            <p:spPr>
              <a:xfrm rot="5400000">
                <a:off x="8906760" y="2437200"/>
                <a:ext cx="185400" cy="387360"/>
              </a:xfrm>
              <a:prstGeom prst="rtTriangl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5959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AutoShape 35"/>
              <p:cNvSpPr/>
              <p:nvPr/>
            </p:nvSpPr>
            <p:spPr>
              <a:xfrm rot="5400000">
                <a:off x="8879040" y="2467440"/>
                <a:ext cx="182520" cy="3243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Text Box 36"/>
          <p:cNvSpPr/>
          <p:nvPr/>
        </p:nvSpPr>
        <p:spPr>
          <a:xfrm>
            <a:off x="3564000" y="2811600"/>
            <a:ext cx="47530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文本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…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88000" y="444492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4"/>
          <p:cNvSpPr/>
          <p:nvPr/>
        </p:nvSpPr>
        <p:spPr>
          <a:xfrm rot="18299400">
            <a:off x="5980320" y="26982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3"/>
          <p:cNvGrpSpPr/>
          <p:nvPr/>
        </p:nvGrpSpPr>
        <p:grpSpPr>
          <a:xfrm>
            <a:off x="2176560" y="839880"/>
            <a:ext cx="1655640" cy="1585800"/>
            <a:chOff x="2176560" y="839880"/>
            <a:chExt cx="1655640" cy="1585800"/>
          </a:xfrm>
        </p:grpSpPr>
        <p:sp>
          <p:nvSpPr>
            <p:cNvPr id="807" name="Oval 7"/>
            <p:cNvSpPr/>
            <p:nvPr/>
          </p:nvSpPr>
          <p:spPr>
            <a:xfrm>
              <a:off x="2176560" y="839880"/>
              <a:ext cx="1514520" cy="1514520"/>
            </a:xfrm>
            <a:prstGeom prst="ellipse">
              <a:avLst/>
            </a:prstGeom>
            <a:solidFill>
              <a:srgbClr val="000000">
                <a:alpha val="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8"/>
            <p:cNvSpPr/>
            <p:nvPr/>
          </p:nvSpPr>
          <p:spPr>
            <a:xfrm>
              <a:off x="3256200" y="1849680"/>
              <a:ext cx="576000" cy="576000"/>
            </a:xfrm>
            <a:prstGeom prst="ellipse">
              <a:avLst/>
            </a:prstGeom>
            <a:solidFill>
              <a:srgbClr val="000000">
                <a:alpha val="1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6"/>
          <p:cNvGrpSpPr/>
          <p:nvPr/>
        </p:nvGrpSpPr>
        <p:grpSpPr>
          <a:xfrm>
            <a:off x="1979640" y="360360"/>
            <a:ext cx="2160720" cy="2624040"/>
            <a:chOff x="1979640" y="360360"/>
            <a:chExt cx="2160720" cy="2624040"/>
          </a:xfrm>
        </p:grpSpPr>
        <p:pic>
          <p:nvPicPr>
            <p:cNvPr id="810" name="Picture 10" descr=""/>
            <p:cNvPicPr/>
            <p:nvPr/>
          </p:nvPicPr>
          <p:blipFill>
            <a:blip r:embed="rId1"/>
            <a:srcRect l="50393" t="14347" r="23269" b="14347"/>
            <a:stretch/>
          </p:blipFill>
          <p:spPr>
            <a:xfrm>
              <a:off x="3113280" y="1744560"/>
              <a:ext cx="1027080" cy="12398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811" name="Picture 11" descr=""/>
            <p:cNvPicPr/>
            <p:nvPr/>
          </p:nvPicPr>
          <p:blipFill>
            <a:blip r:embed="rId2"/>
            <a:srcRect l="23266" t="14347" r="50963" b="14347"/>
            <a:stretch/>
          </p:blipFill>
          <p:spPr>
            <a:xfrm>
              <a:off x="1979640" y="360360"/>
              <a:ext cx="1765440" cy="217656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1141560" y="0"/>
            <a:ext cx="6352920" cy="5145120"/>
            <a:chOff x="1141560" y="0"/>
            <a:chExt cx="6352920" cy="5145120"/>
          </a:xfrm>
        </p:grpSpPr>
        <p:sp>
          <p:nvSpPr>
            <p:cNvPr id="813" name="矩形 4"/>
            <p:cNvSpPr/>
            <p:nvPr/>
          </p:nvSpPr>
          <p:spPr>
            <a:xfrm>
              <a:off x="160632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1560" y="1286280"/>
              <a:ext cx="6352920" cy="38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Box 7"/>
            <p:cNvSpPr/>
            <p:nvPr/>
          </p:nvSpPr>
          <p:spPr>
            <a:xfrm rot="20926800">
              <a:off x="2582280" y="2664000"/>
              <a:ext cx="3502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6:09:32Z</dcterms:created>
  <dc:creator>王茹薇</dc:creator>
  <dc:description/>
  <dc:language>en-US</dc:language>
  <cp:lastModifiedBy>a</cp:lastModifiedBy>
  <dcterms:modified xsi:type="dcterms:W3CDTF">2015-01-14T13:08:19Z</dcterms:modified>
  <cp:revision>78</cp:revision>
  <dc:subject/>
  <dc:title>武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