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74B-F232-4EFB-B919-E1A10266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CF8-4E28-4A73-991F-7DAF5E1A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431-1493-4657-A7A2-1A85B131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0A9-0454-476E-BE3E-A507F85C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5D77-67C0-4DC2-8EAA-705323CC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D140-8C78-43D7-B38A-EBCA944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939-49FE-4080-A65D-C669028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8003-9E6A-466F-8A5F-06C68D0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DF9-3E8F-4119-82AE-0D56222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FA01-CA12-4BDD-8E4C-8AE4333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107-2FAA-4DC8-8504-24C5F84A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C5C-DC14-4AB8-9AB4-9CB671E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0199-2F1D-415E-AB6A-31C50F6C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B0A0-CCF4-4A7D-9D31-B2186F9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453-2A29-4AF8-8711-52E4FE8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D9DE-EF52-46EF-B0CD-ABB583F1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0B0-119D-4552-9A21-4D937D24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BC3-9731-47F0-B3C8-2ADA0E1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C84-8C1C-4E45-A042-13445E26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A08-02A5-406D-B949-30A84DB3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45E-E5E7-4E03-8B0C-88514EB9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5C5-2DFC-42B1-BA85-8DA8EFF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CCA-033B-46EC-8E7B-CFC046C5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5AE-336D-4563-8F97-031E274B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B24-CE3C-4449-8998-9A321B8F59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A5E1-A230-4FB2-8DA7-FAE3B92A80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Users\SlideIdea-6\Desktop\8480sss\8480\1.jpg"/>
          <p:cNvPicPr/>
          <p:nvPr/>
        </p:nvPicPr>
        <p:blipFill>
          <a:blip r:embed="rId2"/>
          <a:srcRect l="-63" t="0" r="0" b="0"/>
          <a:stretch/>
        </p:blipFill>
        <p:spPr>
          <a:xfrm>
            <a:off x="-14400" y="0"/>
            <a:ext cx="915192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7"/>
          <p:cNvSpPr/>
          <p:nvPr/>
        </p:nvSpPr>
        <p:spPr>
          <a:xfrm>
            <a:off x="1116000" y="0"/>
            <a:ext cx="6767640" cy="5143680"/>
          </a:xfrm>
          <a:prstGeom prst="rect">
            <a:avLst/>
          </a:prstGeom>
          <a:solidFill>
            <a:srgbClr val="eaf1dd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6480" y="0"/>
            <a:ext cx="1109520" cy="51418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7883640" y="1440"/>
            <a:ext cx="1253880" cy="51436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3B0E-E0B8-4532-9332-632394F0253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C5E-AAB7-4429-9143-3D613ACD183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SlideIdea-6\Desktop\8480sss\8480\1.jpg"/>
          <p:cNvPicPr/>
          <p:nvPr/>
        </p:nvPicPr>
        <p:blipFill>
          <a:blip r:embed="rId1"/>
          <a:srcRect l="-63" t="0" r="0" b="0"/>
          <a:stretch/>
        </p:blipFill>
        <p:spPr>
          <a:xfrm>
            <a:off x="-14400" y="0"/>
            <a:ext cx="915192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1187280" y="0"/>
            <a:ext cx="3800520" cy="5143680"/>
          </a:xfrm>
          <a:prstGeom prst="rect">
            <a:avLst/>
          </a:prstGeom>
          <a:solidFill>
            <a:srgbClr val="eaf1dd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020240" y="18320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923c"/>
                </a:solidFill>
                <a:latin typeface="Script MT Bold"/>
                <a:ea typeface="微软雅黑"/>
              </a:rPr>
              <a:t>Beautiful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021040" y="252108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923c"/>
                </a:solidFill>
                <a:latin typeface="Script MT Bold"/>
                <a:ea typeface="Arial Unicode MS"/>
              </a:rPr>
              <a:t>Slideidea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1389240" y="22003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7560" y="445788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2022480" y="14889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446120" y="4096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8"/>
          <p:cNvSpPr/>
          <p:nvPr/>
        </p:nvSpPr>
        <p:spPr>
          <a:xfrm>
            <a:off x="1547640" y="155736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2022480" y="2205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0"/>
          <p:cNvSpPr/>
          <p:nvPr/>
        </p:nvSpPr>
        <p:spPr>
          <a:xfrm>
            <a:off x="1547640" y="227160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2022480" y="292572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1547640" y="2992320"/>
            <a:ext cx="216000" cy="21600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58880" y="1995480"/>
            <a:ext cx="1987560" cy="1735200"/>
          </a:xfrm>
          <a:prstGeom prst="rect">
            <a:avLst/>
          </a:prstGeom>
          <a:ln cap="sq" w="38160">
            <a:solidFill>
              <a:srgbClr val="76923c"/>
            </a:solidFill>
            <a:miter/>
          </a:ln>
        </p:spPr>
      </p:pic>
      <p:sp>
        <p:nvSpPr>
          <p:cNvPr id="100" name="矩形 3"/>
          <p:cNvSpPr/>
          <p:nvPr/>
        </p:nvSpPr>
        <p:spPr>
          <a:xfrm>
            <a:off x="1579680" y="127620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6128"/>
                </a:solidFill>
                <a:latin typeface="微软雅黑 Light"/>
                <a:ea typeface="微软雅黑 Light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0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7T23:02:00Z</dcterms:created>
  <dc:creator>SlideIdea-6</dc:creator>
  <dc:description/>
  <dc:language>en-US</dc:language>
  <cp:lastModifiedBy>a</cp:lastModifiedBy>
  <dcterms:modified xsi:type="dcterms:W3CDTF">2015-01-14T13:05:20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