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789-775E-434D-B006-095F9E13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DF7-47CA-49D4-BC76-F8C5F586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08A-392F-4E75-B94A-06FB2690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289-BB82-4A91-9465-DE8CCAF3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AA2F-5F3B-437A-9EED-7BE0D3DC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462F-D6A4-48C1-B925-B39FABAF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D720-80F6-4106-8D92-D31BBA24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CEC5-3EF6-462E-AAC2-8F1FAA25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EFE9-B7CD-4577-B968-FF59E18B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48DA-381A-4720-B49B-F895E596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0C0D-C70C-4D36-A554-E7F6ABF6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5C1-F8B2-4274-B181-B258C9CE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F7A4-B442-4597-BADC-2BEE1F94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4043-F7F7-4E74-BE31-7A0C77D0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E42E-63AF-4ECE-8FF5-E6916BDC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76D2-EE25-40C0-83D7-7816D884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0D74-ACB8-49CC-A949-10235ED1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7C32D-61AA-4E08-B978-36388AC4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9245-16AF-4EEC-BFDD-97B11D47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AEBF3-D53E-4248-AE78-033FB5C9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ED6CA-0C48-4A01-8457-2E1D35F0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9141A-0FC9-410B-BE23-F53A086C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990-673B-431E-AB13-1E1691F5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A7B79-DAD2-41E8-9EAC-1848CEB4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E11C9-60D6-4B1D-854A-25F9C169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FB6F6-512C-47C0-8545-A5CFBB72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FF042-32EE-4BDA-BDF4-5251EEAB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55E1-2AC9-45F7-A51B-E6368D02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A8DD-48FB-4845-AF2F-3B8E33C2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0DE64-9993-4845-9DED-D8069C3A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E25-9601-41EC-AC53-52C462CD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A6E-9B2F-4FCF-B401-A83C072A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CC8-07DB-4235-AF96-859918F7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FBA-7895-462F-B376-E5B63602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7EB-BA18-4A60-AA36-6915A0B6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5A2-3ACC-493C-9B60-47F01C02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E646-156B-4984-B34A-62B1CDC481E8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2773-1F74-4882-8329-4D92D8767E4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0CE6-92A4-4DB6-AD8B-27461D96A9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77E0-0E89-425A-B54A-F3EA19D00129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Use Arial  Fo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6237360"/>
            <a:ext cx="208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4:27:07Z</dcterms:created>
  <dc:creator>Nan Shastry</dc:creator>
  <dc:description/>
  <dc:language>en-US</dc:language>
  <cp:lastModifiedBy>a</cp:lastModifiedBy>
  <dcterms:modified xsi:type="dcterms:W3CDTF">2015-01-14T06:16:40Z</dcterms:modified>
  <cp:revision>6</cp:revision>
  <dc:subject/>
  <dc:title>Beach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