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558-21A2-4A8F-AF50-F5BEDD98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04F-61C3-43CD-8E06-5656424F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1E540-DABE-4336-A5D2-B8BF00AA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D8395-34FF-4C9A-92BD-96517AD0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50428-E448-4760-B198-E0D7716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6DE44-A235-4E83-B4E0-099C3C2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5187-D2BC-4583-AF60-50C814C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C31D2-B41E-46E1-A31B-CAFA08A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18E2C-0712-4F5C-95F3-DF7B4246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B98E9-A804-408E-8C00-B1FCA66E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8BD1D-A48E-4D08-941D-771F1702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E7A75-8519-49FC-ACBF-BF0CB911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32C-8EE6-4C0E-95C6-6D94C159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8367-1AAF-4033-B51D-4D49759C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3EF74-0E51-4E97-BCAB-41C94C85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6E8CF-319F-4FB4-B23D-7DFE38E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BEFA6-67AF-495C-A789-5EFFA10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1838E-8243-4536-AD71-A9E15FBF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85BBA-323A-4E65-8756-8FFE998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988E7-C272-4ECE-BB29-5905486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1095E-0336-4D74-AFC6-D328751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072E6-11DB-4B60-B7FB-F1F912D3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552D4-C814-41BE-A033-D38CA587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97E-8B1B-4815-B22B-B25ADC38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37E82-B98E-4AF6-AEFD-BC684327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1950A-6AE1-4197-9AAF-32484B78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AD20B-E2C7-44F3-AA16-2CFEBD9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0F962-5269-44FD-B4F5-8F60A7F4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0509-18CA-4B1C-8349-E67B2950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83353-7C35-4B18-A9A3-8E482A0D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DD7F2-E163-4235-9BEE-3525DF74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FD83C-6FB8-49AE-BE32-0FBA6B9B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F1B05-C352-4F59-B3C5-61E6DC4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AA4C9-CCA6-442A-B45C-9B022D9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633-BA1C-440F-9493-3FFA7B5A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808E5-33DC-4EF1-AE50-17CA1AE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06B15-5757-404F-B559-252CED64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1E9CD-0D9E-4659-A6EC-3EF51DA2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13838-E15F-4BC9-95E3-EC11E348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F7C5A-1AE3-465D-AFD7-75BFC84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8C296-34F0-4A63-A81B-72A5188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7FD5D-52BA-43E9-BDEE-344CF59D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6B581-CFA4-4A81-82AC-A5973A2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FBDCD-F690-477C-A407-A864635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53C19-AEB3-4EE5-861B-39042444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A8DF-A682-483C-AF35-1BB4635A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E21AD-CE20-41BB-85D5-A11318F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7A6FE-D1A6-424D-8448-4CACA5A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45D9F-90DD-45AF-914C-64EA205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75479-39AD-43D0-8963-6FE5FC96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B13AC-2ACD-4C6A-A412-E46A4EE7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C45E1-1FA6-44BA-9520-ABB9B3B9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87CF0-65D7-459E-AC3E-324CF3B9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88D5E-25F5-403B-901A-DC9628F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5E4EE-A3F3-4F46-BACD-9F4EEF0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B1FB3-CD0A-4553-9DA2-5CE5BF9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753D-8237-49E8-9825-A52DE3FA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5D173-6E6D-4ABF-9CD6-92415AD5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04718-7C85-458B-B1ED-37BFADC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7D34C-D938-455F-979C-36A05DF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995DF-0026-4ED8-8792-2ACB116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C5B8D-D820-4C26-A37C-55A493F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58C27-FAC0-49FF-AA33-EA58CD3C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1E46C-6CC8-4572-AAA6-1559BFCA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771D-66CA-43CE-8D8F-2B9B3C1F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7E37-12F7-4D5B-A8F5-1B3C9BDE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42E6-381D-4B05-9932-4771C8D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C124-6E53-4370-BABC-972B740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2DE-6A00-4433-B934-6B8B5788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DD3-A508-4D15-9E05-522D837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2356-D2B2-49D4-93CF-DA7DE98D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833E-387A-4770-8438-DA3D34E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647C-7A78-471E-A5E6-45692F80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53B3-6B0D-41BC-9CF5-77C2FF6C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A2BF-7038-4FD6-9F09-43FE181B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C78B-B236-4E93-AC1E-DDEDDDE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1638-FF16-4690-9BCE-44701F7F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5216-AF7E-4C68-B57E-DD1B887E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AE3B-51BC-4ADF-8978-C2DC5C6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654-BBB0-4734-9E70-55ED09E1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BC77-A4AC-400C-86FC-BF628AAE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2897-9708-4CDA-9047-349C882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AD1D-96D5-4B6D-A5FF-98445A7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21B8-4982-48EE-8AE7-02E6E7C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E6C0-98C8-4236-B847-1AC20473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D5D2-A2D4-4A2B-B732-38424BB3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5BBA-6850-4D99-800C-4D303BB9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C7FD-9E3F-470E-83EF-48328D96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A730-97A3-49BF-B859-917C15F3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E57E-AC5F-4C5C-B4E0-9D4DB611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858-879D-4F34-9867-8FF48223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2163-7CF5-475F-8E5B-2E69E14F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8398-7B5B-46A6-A44A-9574564E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07B5-032A-49B5-8B06-BC10277C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4ED7-EC38-4AD0-8956-97FF186D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7E51-7C00-41C8-B873-2982D0C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EB61-BCEF-4A13-A7CC-1154228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9C3C-4814-43E0-9A4E-B373F384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70D3-A5A7-494C-9F5F-11F65421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83FD-B891-47D5-AC91-2EFE248B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F29A-834D-40BA-AC86-DF0F2DDF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746-1B02-4D09-B497-68225249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4797-1211-4D50-9E7D-CDB616A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A94A-C9B6-4DFB-8C9D-5CB87AC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7618-90EA-4142-9C46-8B7026A2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019EC-4D03-443D-92C1-58F3ED8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B799-0BAC-4CD9-A906-B8A2E46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8CED-520A-4C60-9D2F-19445A4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A40D-4163-4C4C-A1CF-8F83943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B6F1-DCA5-492D-88B1-A05F782B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23210-9D96-4D2F-B2DD-A143177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A221-C1A8-4D00-AF73-90DAC643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9B0-ACA3-4911-B902-3AF659C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0687-8E5A-4E7A-A466-F2ECB1F8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17FF-F3ED-47E5-AC98-B0C48D48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AB642-95DA-40D4-B4B6-1148FEBA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D0F5-62C2-45AB-B2D8-CEBBDDF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5E8F-7EDF-4DD3-B036-707AD888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D9DC-7A41-4CF7-A207-EFABAB3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8EDDC-31D7-413C-A90D-47EB9A30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3D15-F1EC-4DD4-82F5-8C4C42D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A667-2A79-4E8C-9EB8-F6001B8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70FD4-19E5-4680-8DA4-C1C5A49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04F-91A3-434B-A1BA-F6C0218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9272-83E1-4A7C-A7E5-EEEEC57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2F02-630B-447B-AF01-AB672417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FE443-C253-4B3B-A5A9-81BBBDE1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EBA54-59B7-4A40-98FA-4D3FE4F2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78101-5A05-4B16-9A0B-B16932D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A9BE-6311-437E-8732-15D3046C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CA1D-6406-473D-90BE-31D97711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B750-704B-45B1-BD7D-AD8EBAE5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F449D-ADAC-4F52-BB6F-B7E8B1D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8418-3AB5-4E17-AD37-A1E3397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2C2-32F9-442B-BD4B-73AA0FF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F935-402A-4C8A-9F77-94AD7EF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9900-6B96-4369-B29E-DC60E89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7B5BC-AEA4-46D2-83E5-77EE3AF8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4F427-0B3E-4A94-BBCD-F0C932CB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59D2A-8172-4140-A596-588643D7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E488-4592-4517-AF0C-AE5894FA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2A52-0188-4CF8-A405-37F1BA5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141AA-314C-4AE8-A233-2182407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B5803-7F3B-4491-B4D3-BEA460CF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27DD-36EF-4820-B972-6F24468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441-C10D-4D48-A343-963BA0B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5C518-EA20-40E4-B9F9-5530B45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4937-37D3-4379-82CE-B9C9598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05DD-E9CD-4067-AB5D-1ADDF41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0CB16-6EA4-461A-B3B6-BA13064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140F9-B246-4607-9E3C-932A5C9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FEBF2-9E04-460F-B865-DAEB28F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06B2-E6BA-41D2-BA53-B37C9889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1BA2C-9A07-426E-9ECC-79BB2088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03B11-15BB-46A7-BA54-CD6E930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D97B-141B-44B2-ACA5-5080118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4526-C3B3-4224-85DA-1325ECA92A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54B-1C4F-4ABC-8588-8FA697A5733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E555-879F-4AE5-A3B2-7CEB6C373EF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5117-280F-41D4-8E78-494BF3FD3A2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011-CB18-4D79-B525-E6C552204A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D0FC-8489-4104-8D0D-0AE612FCF88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758-E10E-4AFE-8AAD-7B82D806C01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552-2C93-491E-9E56-721DFD68019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C97B-B002-47C0-A4EE-D87AFA65B52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4B6-B018-46E5-8A6D-4D07E156E8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08D-98DD-495D-B004-52D9B5162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3951-1D20-4AD6-ADBC-7DD520424E3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1BE-DCDF-47FC-9B3D-0E1E3984172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14C-820A-49BD-847B-FDA8EB943DF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A6F-61A6-4FF8-9670-B8F288C44A2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394B-8430-43F2-8860-CC54CDA98E2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02E0-CD23-4981-BD28-102E2C10131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FC15-0E3D-4CDA-A820-F513F1DC3BF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0A9-3CA7-44A4-9ED9-B51958335F9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1791-E637-4ADF-8C62-4AC32F9C618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1D1F-D8E7-4AAB-B88F-BA6D9ADFC6B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AA5-F8C5-4782-9602-2E90A8218A6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909-AEF9-4212-B989-BD5B67BE4F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436-26DB-4764-B722-439D823BF14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AA2E-8C5A-4437-8351-686CFF26E13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68520" y="127476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58800" y="30700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联系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574640" y="2470320"/>
            <a:ext cx="18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自我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573200" y="18543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AutoShape 6"/>
          <p:cNvSpPr/>
          <p:nvPr/>
        </p:nvSpPr>
        <p:spPr>
          <a:xfrm flipH="1">
            <a:off x="1219320" y="1438200"/>
            <a:ext cx="241200" cy="2541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AutoShape 7"/>
          <p:cNvSpPr/>
          <p:nvPr/>
        </p:nvSpPr>
        <p:spPr>
          <a:xfrm flipH="1">
            <a:off x="1216080" y="2003400"/>
            <a:ext cx="239760" cy="2541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8"/>
          <p:cNvSpPr/>
          <p:nvPr/>
        </p:nvSpPr>
        <p:spPr>
          <a:xfrm flipH="1">
            <a:off x="1216080" y="2587680"/>
            <a:ext cx="239760" cy="25380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AutoShape 9"/>
          <p:cNvSpPr/>
          <p:nvPr/>
        </p:nvSpPr>
        <p:spPr>
          <a:xfrm flipH="1">
            <a:off x="1216080" y="3171960"/>
            <a:ext cx="239760" cy="25380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1555920" y="3649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获奖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565280" y="424512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性特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12"/>
          <p:cNvSpPr/>
          <p:nvPr/>
        </p:nvSpPr>
        <p:spPr>
          <a:xfrm flipH="1">
            <a:off x="1210680" y="3824280"/>
            <a:ext cx="239400" cy="25560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13"/>
          <p:cNvSpPr/>
          <p:nvPr/>
        </p:nvSpPr>
        <p:spPr>
          <a:xfrm flipH="1">
            <a:off x="1225440" y="4394160"/>
            <a:ext cx="239760" cy="25416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543240" y="88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过渡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563c1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563c1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563c1"/>
                </a:solidFill>
                <a:latin typeface="Calibri"/>
              </a:rPr>
              <a:t>：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917280" y="390600"/>
            <a:ext cx="911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127240" y="1409760"/>
            <a:ext cx="4572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355840" y="261144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019320" y="1486080"/>
            <a:ext cx="804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我性格活泼开朗，微笑是我的招牌。我爱唱歌、弹吉他、跳舞。幼年时曾作过许多色彩斑斓的梦，当个播音员、或者当一名电视节目主持人是我最大的梦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43:58Z</dcterms:created>
  <dc:creator>sg</dc:creator>
  <dc:description/>
  <dc:language>en-US</dc:language>
  <cp:lastModifiedBy>a</cp:lastModifiedBy>
  <dcterms:modified xsi:type="dcterms:W3CDTF">2015-01-14T05:44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