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AED6-B3EB-40B7-8DF4-8317C3A49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F0AE-D32C-4743-BF81-475AB4EC62E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9F1E0A-03E4-48B0-AB28-38D7EBF1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38D654-26EA-4DFE-A363-5AE66704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54E1F0-BD57-424F-8D59-A06C49D6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4C3179-E479-4C62-8C76-C7C489D7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513745-0D05-43A3-97D1-2927A016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0B9A4E-1215-4434-BC82-4D0E5BA4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9469F8-83D2-41CF-9D99-023A848C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EB1F7F-503C-4C4C-AE5E-978FB8A7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E5809A-EFB3-48A1-87DE-A42AAACF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F3BBA-521C-4BD1-85F4-40B672F4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7A52-4279-49FC-A610-D264F190BCF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F58DE-B926-4D97-B389-C58399EC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C1390-9B0D-495C-A199-E659E824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735DD-F3A7-4E86-8D82-DD634C45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B4077-2E32-4E79-A2A3-4ABB67D5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9C57B-29DD-4DB3-8EE9-F29EF0E6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8EBCE-0FD9-4A84-B528-3A3040F6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29E3A-E8D0-4D61-8673-FD7F0307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6EEB1-2244-4EE9-B7D3-79E9FFF0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19536-DFFE-4D86-B63D-EA8D2A95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86904-87A2-4C06-B8A0-6B266801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668D-E393-4DEE-A4AF-0A9B103A7E5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E9AEF-FF78-4F24-A2B8-9736D946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A4F65-1DD4-4BF3-BE76-BD0B9B38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C6F06-FCD3-4884-B4BF-70974B7F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F473E-1BEB-4178-AFE2-8BD860D5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A91C3-9DBE-4926-8465-AD6E88CC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C30B8-82CA-4972-8DB7-FD75943B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FCD67-546C-4017-BE25-9590A81E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1C177-4800-49DB-B86C-23E04A9F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E2A0B-4AAA-4DD6-BF0B-2CF0B99A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CF94F-D870-42A3-B848-D2930B05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C958F-B6D9-4B2C-8C4A-250E0F0D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52D04-8118-4F42-B646-35A45F2D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03E0D-B4F4-43F3-B1ED-18D8A422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C21B42-B0AD-4131-8F5B-EEA3A544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627367-1E9B-490B-8D71-D9A47923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18ED10-9D61-4143-A8D8-C60BC5CE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85BF1F-252A-4A21-BBC0-7E5F47A9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CDF102-D26E-453D-B614-0D2A8BD1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5942A3-A74B-4F67-AA4E-7C4C6B02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7BEB90-F8D2-4CB5-9A9B-23D52B51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9F451F-46A0-4848-A2BF-F0B94331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33BA3E-A604-471A-925A-7B4D9394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62F7D8-CD03-44CC-9BED-991C51F3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72B3FC-DC54-48AC-B6D9-DEE9F747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E7D747-C45C-4805-A9EB-1EEA53A7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29416-2721-461E-A584-35A0E118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27716-F19F-4920-95F8-BEC4404D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AB807-B1F2-4B90-B875-7DE89D40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3FCA4-6F3B-43FA-92E8-3457F43F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C54EC2-A3F8-4F49-993F-1AF1333C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54FEF-9B2E-4481-AADE-531383DC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AC1D3-3BF7-4DA3-BE9D-2EDFC14F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B3572-AEB0-4A27-B2C3-3B6B5871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985C1-659C-4466-91AE-9DBC2044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B229F-4223-4E3A-B86F-FB7FF212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AFA62-3C57-4958-9894-DE94ABE1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BDE12-44BE-4589-AD38-77AE1C17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12ECF2-06B4-4494-9A9F-0AF87A7F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8DA9D7-D808-40BE-9BD2-0F7D1548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918395-58EF-42F2-96DB-E0A6FA04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A02DFC-0A0D-4256-B479-92A5D5BC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522745-2086-4D60-8EED-CAFC6715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3A45D2-6367-49B6-AE0B-1ABC3F4C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C02DF5-EA37-4C6D-9D1D-2478D672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BD4CC2-C99E-47B4-B26B-53F33D69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0C7769-36B0-453C-9C6B-26DDA2BB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9435C6-58FF-42B1-994D-EE3AA6AA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645E78-8F54-4A21-8D49-C04D78BF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AAF167-D5F4-40D9-90B3-989A2AEA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45D0-76F0-4E4E-BDB7-17C0A31F3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E18F3-3C81-4BE3-9EBA-278E49A6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3945B-A48A-4086-98C0-4AA2FE02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5A3A3-D894-4153-8AE2-D4E0919B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0F961-C2DD-4700-818B-95CBD8E0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2F25A-E82E-4AB5-8CC2-BC5083CE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0778-3C20-4D49-AE20-E49A9352B5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632D4-8682-4FB8-8C48-93D3A3F0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5F537-B6F3-4E6C-9B37-B2494C1A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B579E-1A02-487D-B6A1-31B6B86B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F0E23-E364-4912-9705-03A033E5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A62BF-0A79-4B7E-BB60-F7B3F91D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DB7E7-39F8-4A93-BA86-67B862CB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EEE9D-DE38-4A3B-8653-12E10852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C8B232-48B3-4C23-BC4C-D270AC6D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6CB89-96DF-4F9D-A1E5-EAFD2114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2CE965-78D8-4438-BF88-58B43490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F967-20F9-4A86-9831-1736D11E1B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678871-CA56-4A03-A952-F9C068DC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341862-C423-4BB6-A896-16889761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4444B-A8CE-4880-A84D-22B20348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9CB9D-B40A-4702-992B-82BFA840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95D69A-5AFF-4FCF-A73A-722BE8D4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ADE208-9D26-4158-8D7B-D4DB83A6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40DE4-A974-4351-A3E0-98A1E9D3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C09BD-601C-40E9-8782-C771CBFC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06BA0-530E-49EB-9EEE-0F90F4DD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A4BF0-AAF1-4EF4-8E84-92DB89B6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6F58-00C7-44D6-8747-E6127374BD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07B499-DC7A-4FBC-9180-3C91F0BF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DDD9E-C5A9-4831-AB1F-BFFD8DBF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880C3-35E7-4EF5-A6BD-D859551D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28018-CED0-4E5A-B1D2-3AA24189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AD16E-8A66-4B06-BE98-B5441A12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21B8AA-8767-4E35-B1A9-BC768AF8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BA9904-6849-415C-8B32-1A913CB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B2F7D-9F79-411E-AC1D-499273E7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B6BA39-4D9B-4C11-938E-0B305E87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17C8D-3E23-45F4-B050-0D592945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B543-8B83-4ED1-9E06-4A0602F8588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FC3D9B-65F7-49FC-B0A8-870F6095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17BC50-6C98-4661-A606-8C7A3193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38DE79-E7F6-4013-B10C-7173EECD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548556-CF81-4C0A-888A-484B383D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CBE5D2-F80B-4FDB-9BF6-922077B9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B343E1-1030-4C75-97EE-1D5BF0B7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A518F5-A634-4F51-A849-1DE8D958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D20D1C-5C1E-4D11-B59B-466C7CAC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5E5C55-B61B-45D3-A761-6C04A781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B2772E-50A1-4D10-A213-0896E17B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FB69-F08A-4E2B-8B04-35145E3CB4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227987-A395-4918-B7E4-F1347C89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3D31E7-1A84-42D2-A992-0FA8E8E0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84D4BC-78A0-4527-96E4-4FE4E360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407FD9-4808-49F1-957E-2CDD479F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30DDE1-2BA0-4039-A6AB-017AC3EF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501A56-73D7-4CC4-95A2-4D79DFF7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0DFDA1-9AA8-4EF4-83BF-AED708A8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82695D-F064-4667-8CE4-DFAAD5D3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EF8386-68BA-4FE6-8174-A3A721F3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4B070C-864B-4422-86FE-7B3FCFC0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275C-86CC-4940-805A-814DDEB1576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C687DB-94EE-45B1-A32E-EAF34A3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A19CE8-8F1C-4838-A8FF-E8A4CC2B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D68FD7-7314-47D8-8137-A2ACE798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0EEDB3-7C3C-43C7-8748-F6C1F5D1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4D53BD-5C58-4C5C-A49A-0305E7C9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C1EAB4-2AE2-41CE-8B87-B75B1BF2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27B79A-AB18-4EB2-BEA8-B1CF74FC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FAED35-14B5-4D10-9471-040B2BF3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E2FBD1-0B03-440C-8400-BB4C5A10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71234D-B055-4D79-9105-6AFDD4E0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6D20-3713-4D1A-BA1A-CE5ACCE6F98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DB70E2-9116-4C5E-B33B-3F3FA362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75D1BF-1478-42C6-A99E-03608E4E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3E5B08-5B09-4EF5-99E3-F6EE94F5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782D52-1919-4153-AFCE-EF442060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090A60-71C5-435A-8E38-15C25396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90097D-C450-4A70-9140-9F157EB6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4917B8-F000-4B74-B0E3-74468A39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ABD19E-6E13-45B8-8CE7-ED54107A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EE9D46-F829-4CC8-82C6-E3267946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E78DED-EDA4-4F2B-BA47-903B6BB9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3" descr="3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4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ff">
                  <a:alpha val="3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000" y="1091880"/>
            <a:ext cx="7738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945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c945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274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f2c1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3564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CC94B25-03C2-496C-8E7D-789C6A4DE8B2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324000"/>
            <a:ext cx="58323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4" descr="投影2"/>
          <p:cNvPicPr/>
          <p:nvPr/>
        </p:nvPicPr>
        <p:blipFill>
          <a:blip r:embed="rId3"/>
          <a:stretch/>
        </p:blipFill>
        <p:spPr>
          <a:xfrm>
            <a:off x="0" y="619200"/>
            <a:ext cx="9144000" cy="399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4" descr="66"/>
          <p:cNvPicPr/>
          <p:nvPr/>
        </p:nvPicPr>
        <p:blipFill>
          <a:blip r:embed="rId4"/>
          <a:stretch/>
        </p:blipFill>
        <p:spPr>
          <a:xfrm>
            <a:off x="0" y="5415120"/>
            <a:ext cx="3244680" cy="14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6968-58ED-481F-BE05-CFAF181E41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3CEE-380D-4400-BFCB-22EB201B29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BB84-80FC-4E2C-AB1D-26178099E2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5659-7626-44AB-9B83-24D2D8B053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C6F4-F5A0-4C73-9112-BD6A6E2192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36C8-3479-468E-86D1-934B2B0D3F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F4FC-95B6-4098-A9D4-73343ACCE6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D2C6-AF30-4379-BD5A-EA0ED822D1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2B41-6EE2-494F-ADFE-80B75EA2BF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89C1-6B18-4A05-AFCF-D3D0C3FD5A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6" descr="33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7" descr="2"/>
          <p:cNvPicPr/>
          <p:nvPr/>
        </p:nvPicPr>
        <p:blipFill>
          <a:blip r:embed="rId3"/>
          <a:stretch/>
        </p:blipFill>
        <p:spPr>
          <a:xfrm>
            <a:off x="0" y="3908520"/>
            <a:ext cx="6203880" cy="2949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68000" y="1091880"/>
            <a:ext cx="7738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945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c945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274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f2c1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333080" y="464760"/>
            <a:ext cx="58323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E08F-B1F5-483B-9B65-A80EA0A3CF8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C9BB-B97E-45DB-8102-321E3AB047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1F7C-BC5D-46A4-9316-AC2A7D5596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EFE1-FB76-4978-BE86-C21AF49CA5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D821-C4B2-47C5-850F-448B8B4BA3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3CF0-BCF4-4598-B9D8-961662D870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8514-09BB-45C0-BEAD-92C58309BC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F01E-20D5-4D83-A770-D9C00DC0CD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6AD9-F438-4635-B242-7B4E75AB3E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63CA-AC12-4483-B76E-032F6856CF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00C3-AEAF-4274-A864-11102D75231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5C03-7754-4269-9490-721B28FEDD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849D-6537-46D1-B0BD-F0B2A94B55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DD5B-D95A-4172-8A20-9E6A2EEE18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406680" y="1258560"/>
            <a:ext cx="52689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3424320" y="2338560"/>
            <a:ext cx="5270400" cy="5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0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7948298-345F-4376-B57B-FAE807522DF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000" y="324000"/>
            <a:ext cx="58323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8000" y="1091880"/>
            <a:ext cx="7738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</cp:lastModifiedBy>
  <dcterms:modified xsi:type="dcterms:W3CDTF">2014-05-30T05:09:21Z</dcterms:modified>
  <cp:revision>196</cp:revision>
  <dc:subject/>
  <dc:title>单击此处添加标题文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