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FBE-132E-4743-9281-32F2DFA7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238-1DBE-461F-A380-6200E7C3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29E-8D72-4ADC-94B2-495AE829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7C1-1ED3-4F66-927E-1D130887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1424-9827-49BE-9A55-DA359CB0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2603-4F11-4181-AAA0-6D034F2A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4376-595B-4FED-9FF9-E875D5CF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482B-778A-4411-902C-F568BE27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5C80-13ED-492D-B64D-CF120D83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423C-9428-4F4A-8637-1CEDD30C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F9EA-E8B5-41C4-A667-13723EF5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184-E673-4241-A57F-3E869C13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76DD-148B-40DB-98D5-924ECFC0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EE04-68F3-44EA-889C-C07EEA1C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81B9-B500-416B-8F1D-9F3CCEA5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1A98-4C9F-4102-836A-B1F1B60E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B19B-A1CA-4AE3-B4E3-6598ACBF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342-C6EA-4260-AA9D-2D3AA3DB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F73-30EC-49FA-B0F5-C6DBC4E7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4BE-EC03-42C6-8E0C-3C7FBCC4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A33-44BE-40C3-9272-A719B2B0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979-D6CA-4A3D-919C-DD8D268F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F75-1453-4674-AB93-A8C8C442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C3F-D4D9-469D-B67C-924B00EA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BE27-FAB1-44CB-8169-816BCB443C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B375-E46F-47A4-AD21-1CBA67F2A1A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5696-B4FF-4800-8400-420FA258D7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未标题-1"/>
          <p:cNvPicPr/>
          <p:nvPr/>
        </p:nvPicPr>
        <p:blipFill>
          <a:blip r:embed="rId1"/>
          <a:srcRect l="4110" t="45693" r="1910" b="0"/>
          <a:stretch/>
        </p:blipFill>
        <p:spPr>
          <a:xfrm>
            <a:off x="-326880" y="4405320"/>
            <a:ext cx="9599400" cy="2787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2"/>
          <p:cNvPicPr/>
          <p:nvPr/>
        </p:nvPicPr>
        <p:blipFill>
          <a:blip r:embed="rId2"/>
          <a:srcRect l="3340" t="23966" r="4370" b="25125"/>
          <a:stretch/>
        </p:blipFill>
        <p:spPr>
          <a:xfrm>
            <a:off x="-28440" y="981000"/>
            <a:ext cx="9134280" cy="3743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未标题-1"/>
          <p:cNvPicPr/>
          <p:nvPr/>
        </p:nvPicPr>
        <p:blipFill>
          <a:blip r:embed="rId3"/>
          <a:srcRect l="10081" t="0" r="41994" b="24865"/>
          <a:stretch/>
        </p:blipFill>
        <p:spPr>
          <a:xfrm>
            <a:off x="1116000" y="1579680"/>
            <a:ext cx="3317760" cy="260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未标题-3"/>
          <p:cNvPicPr/>
          <p:nvPr/>
        </p:nvPicPr>
        <p:blipFill>
          <a:blip r:embed="rId4"/>
          <a:srcRect l="16482" t="6516" r="13871" b="0"/>
          <a:stretch/>
        </p:blipFill>
        <p:spPr>
          <a:xfrm>
            <a:off x="6599160" y="1197000"/>
            <a:ext cx="2506680" cy="168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3"/>
          <p:cNvPicPr/>
          <p:nvPr/>
        </p:nvPicPr>
        <p:blipFill>
          <a:blip r:embed="rId5"/>
          <a:stretch/>
        </p:blipFill>
        <p:spPr>
          <a:xfrm>
            <a:off x="4067280" y="2421000"/>
            <a:ext cx="3600360" cy="1801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622680" y="4878360"/>
            <a:ext cx="18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福       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92" name="Picture 5" descr="未标题-3"/>
          <p:cNvPicPr/>
          <p:nvPr/>
        </p:nvPicPr>
        <p:blipFill>
          <a:blip r:embed="rId1"/>
          <a:srcRect l="16482" t="6516" r="13871" b="0"/>
          <a:stretch/>
        </p:blipFill>
        <p:spPr>
          <a:xfrm>
            <a:off x="6635880" y="4870440"/>
            <a:ext cx="25081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-20520"/>
            <a:ext cx="9144000" cy="68515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未标题-3"/>
          <p:cNvPicPr/>
          <p:nvPr/>
        </p:nvPicPr>
        <p:blipFill>
          <a:blip r:embed="rId1"/>
          <a:srcRect l="16482" t="6516" r="13871" b="0"/>
          <a:stretch/>
        </p:blipFill>
        <p:spPr>
          <a:xfrm>
            <a:off x="6372360" y="4870440"/>
            <a:ext cx="2508120" cy="1682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995640" y="254952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聆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997440" y="2549520"/>
            <a:ext cx="1152360" cy="1189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623736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10:04:21Z</dcterms:created>
  <dc:creator>ks13434</dc:creator>
  <dc:description/>
  <dc:language>en-US</dc:language>
  <cp:lastModifiedBy>a</cp:lastModifiedBy>
  <dcterms:modified xsi:type="dcterms:W3CDTF">2015-01-14T06:16:5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