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21.png" ContentType="image/png"/>
  <Override PartName="/ppt/media/image18.gif" ContentType="image/gif"/>
  <Override PartName="/ppt/media/image4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6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E48-1A65-4DC9-B571-F02D50C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F2D-C9AA-4CAB-B2C0-B227CB14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F7648-1792-40E1-B029-2519DC4541F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FDC0-C769-4303-8C8C-9F93A79FC8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375D-308D-4EF1-99A2-0EC601E7E8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E9E3-BE08-4A98-B82E-A89ADDE985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DD596-4B96-44C0-8A73-F2CDD9EC4C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9B21-6EA2-4591-A2F8-037F1A5A4C8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AEA52-1A79-49DD-9B30-F7CCC04CD0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B05F-0117-48DE-8F2D-2C82604BC6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CFCA2-288F-4429-93F4-FDF12A7D3CA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ECE99-C42F-41B9-83CA-A900E8C68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1A9-5EE5-4732-BB0E-1D7A111B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67E86-CE99-4405-BC28-ECDC3C8F260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59835-48D4-40E8-840F-7F232317160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22B0A-EE36-4489-8C12-5ACA70BFBC6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922E1-3B74-4F46-837E-0711623E72B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FB6C6-F7A6-4729-B51F-4C3E8385F5B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41187-BE78-4D94-A0D9-7441B3C94E5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DEE55-3BC9-49B3-BC33-45F44F0D09D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4C110-44A7-4A39-8F74-02E2373731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A8CFF-70CB-41A6-9584-326E1D67451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7962D-A4A3-43C4-8906-42A5238D1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F3C-81D1-4672-8748-4ED55BA2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19709-D9F4-4101-9993-6F748FD18B2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20510F-7D38-495C-B80D-152AB05071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08B3DB-3601-4318-B8DB-2F3E5519FB9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B9676-D0C2-4A7D-B2C8-A404DCAB569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426CC-28F9-41EF-A301-45F3A08D1E3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436EEF-8C31-42CA-9CB4-71033772123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34B259-A82D-4045-87D0-BD890D75145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7FF1B5-60AD-479D-9118-62E4162CD88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0745F7-D255-4900-9775-CF979DFF7C1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905F5E-3E3A-44F0-9EFB-7A79F2CB5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D774A-725A-496B-9A40-A4CA66CDCD1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8CDF93-5A02-4E0C-A25B-2B64EDB10AA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EB72CC-DC69-4B9F-9354-36A1CC51D9D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704D4B-B4D1-4625-8B40-0193FFB1F28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682C-1DAB-4D1F-8445-45A6B4747C3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325B-C54E-4F57-AC45-A531884C1D8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E04F-6803-4071-999F-C2E1475E251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6236-FAFE-4711-A7F7-A2D78E0EE5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B7EFF-A8C2-407B-9E2B-EF38BBCBCD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9007-EA9E-49C2-B962-82AFDD5FA1C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28716-CA8E-4435-9BD4-C3E31AF10C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9C79-9701-4B4D-AA98-62A895CF4D2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1BC2-77E9-4B39-96AE-EE09875F95E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67A11-9C50-443B-B95E-B40C9C8AFBD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7520-6AD1-4D55-BB07-04C28EF22B7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C0A99-8120-497C-8341-2F28FC65207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9715B-B055-421A-A0FC-743EE485491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F0AE-3000-4F09-A0C9-5BB0A52B9FA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941D1-E15B-4E57-9145-395E490CF0C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64F29-3709-4649-9B6E-A293E324370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E33A2-61B9-47F7-AB54-8440AF7FD64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4E220-878D-4299-A3FF-98D851A2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1DA87-068F-4C0F-A5D0-066296D6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2831B-0BB7-4E35-A592-D24E99E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8740A-012B-4EC6-BC9E-15C1CB13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04026-EFE5-4F79-9DEE-885EE66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2EC7A-0734-41A6-B61A-B4BCB73E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D293-21C2-4249-BC80-C68DD41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982C-7910-470C-9E16-322DD019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E2B1F-19FB-46EA-8907-8A31674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C0BF3-AAE7-4E66-88AE-24697F2361A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5C81A-19A6-45CA-BDE1-D78EF3B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D3FCC-2E8A-4FD5-A4E9-A8F6B042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DA42C-2016-4E58-B530-1316B818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3BD-0380-4A9C-AAD1-A94D383E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DA30E-70A5-4139-A596-6E9D48CF5B5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F7B48-AEF5-477F-8E47-C82E92910AC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5EA6FF-5462-46FB-8968-F49D7BFEEF0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85223-8C71-42F1-B0EC-38AD8CFEEDE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314808-7C05-4CA6-B2FF-67E56552DC4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F0A63B-F9EE-4439-9EA4-216562D35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86989-3003-4A45-86DD-053113D1C1C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DB051-CBBF-418A-AE6F-717ED66A58F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399DB-8C59-4F6F-B2BB-04970333224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591A86-3B96-490F-921F-C433D39620C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92132A-7847-4677-8598-EA8ADA2B902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341FD-7F19-4EFE-8334-48C3A626102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A717C9-F126-45AE-91A5-000B5E81534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59EFEA-C1DD-4E07-A818-7B56F71C262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44ED8-A282-4252-8047-9D8A5516225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74C48-8275-4BD1-AE00-C685AD1AEB1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001D4-A045-4451-8FB9-8641AA3BEF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AC742-4D79-4CF0-9C2B-89AEDB0AA79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EF297-6B03-4518-9E45-2F371BE32C0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08746-CF34-4FAE-9B1D-DDD44476ADA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5B7A0-CD22-4CE5-B048-C3578036FC3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BE173-8B64-45A3-BDEF-6F2C90FF064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21EA4-A7BF-4FC0-B724-20E65ECCE9A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5CEA6-DE80-420A-A0EE-FEA3B394917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92E01-435B-43E7-91DE-C0C72E2DB04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17248-E7F4-48CC-BA56-27153E96300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DBCD5-2EAA-4B10-8ADB-02E8E9F0AF9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538AB-E7C4-40DD-B147-C83B8D3776F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98269-02EB-412F-8598-C7E9A7C68DD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778B8-84ED-40F4-8668-012A2A27EF1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93C10-1B14-4725-A403-F3A1057F391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F7881-50E4-4B8C-BA7A-D0176568AB1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2E10B-C99F-4A0E-9DF6-A749DB56DB3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4B3A6-2AD7-41CD-A015-7FC0F39FE9C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B8E5A-C3C6-4B82-A034-A9DAC04821B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E9ADA-2A8C-49D8-9712-AF9C4B573D9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4C44A-63D5-4973-948D-AC57E80E4EC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D6B4F-E125-40C4-B83E-2D193DA44C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2B9C8D-1EE3-4E5B-ABDE-E574994D9DB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1BEDE-BAD3-47E9-B87D-945F2537A2C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921D7-CB7E-48CD-8D5D-533A58E43D3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59B0B-1A5A-4611-A9D1-263B560B852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172109-1AFD-47A6-99A6-A766DCFF4A0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021435-2866-49EE-8094-1B404582891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08B111-4B3C-4CE5-868E-2CE14C2C76A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A0DEC7-E4F2-4745-84ED-9207C1939FD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F5FD81-51E1-43C6-A83A-D6D95CA3424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ED70D3-1207-4D82-9309-F2D15795DB2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FF609B-6895-4D21-A3A7-E0C50DC558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CB0A0-2FB6-4C31-8C49-498D4F9A5EB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73B381-5637-4BCF-BB85-B004A4C9626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A79DA2-6902-4E05-A9EA-E89446F374A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473DB9-3787-4206-AD2C-2FEA92A893F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9C386C-8C74-44D8-9E36-C17A4BCCB48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2FDD4C-1991-4535-B9DB-3DAE368B9ED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31924-DE65-4D92-BC9D-873B834C17B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97F89-370B-409B-9F6A-E01BB1A0738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B0749-604B-4B40-AA74-E10224FF0AF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656E8-605D-4489-BD73-D2AD64D897E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08FCD-AB59-44BB-A43E-4C13E57BC0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DDCBE-CC8A-48CB-9E07-80D6CA0EA25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F221B-35E9-4754-A175-4DC4390FE60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B2B80-1F92-4853-AF68-2C7C5EDCBC5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B038B-32AE-4712-8F4A-84B16723628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D05FC-4888-4A5C-84AC-A3E602A2659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6A958-155A-4A01-959D-8625AEAC71B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5C20B-03FE-4AC7-B171-A3B4C31C038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B1485-1D35-444B-BDF3-630982B2CF8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C203D-A1E5-462B-A0D0-02927D193D7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C0203-EEA3-4BCC-834D-EDA5C6461D4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62441-0E81-4683-B1EB-47ACAC3D7E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E3206-79AC-42A1-8429-9D60CC17F97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422C9-D2A5-4B23-94D3-6AC464F8B07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3B8C2-C2D9-4326-B26B-8CC6296C7F6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75E32-DE1C-411F-8BB7-6C40D4FC7EA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C7742-A188-4615-A309-6F12ABDFDC0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22AE2-9DC9-4BDD-BD2A-024FCC39AB3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2E6A9-DD87-45B9-8B10-A828A419A4B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DD860-AEDC-4815-864D-3114AC61AA8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C38EB-7F47-474F-A737-51F09DB0D5F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14170-390D-487D-A468-12DC4C0D68F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98FFDE-829A-4FE9-A8E4-F37501A745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687F27-9A89-4BA3-8D38-A6444C4708C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5125D8-48D6-4C18-B410-C4C430E4E4B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7BBF59-FE17-4DFB-A2B7-68BA34439AE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07F00F-F4A9-4457-977E-6DDED814198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B4F4A4-2FFC-481C-A55C-2C6D5768F8A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7DE42F-1287-452C-A8FF-2856417C651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D48580-AE79-4FDE-B162-3040A0943A0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2F68C6-3701-43E8-B986-D00106BBA43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AE68F7-64CB-454C-ADF7-1600288C8D9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0A99BE-C3AD-44D8-89C4-FF2AE1C751F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130AC0-AB1B-44F1-9D87-E9AFB2561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D11-685D-4529-873C-6828E31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98DBF-EF0E-429E-A872-EA6ACAE52D3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6B5E94-0ED0-4330-827F-E694C69ED99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F3F45-F02B-48E8-83E3-7989A1F0F89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59BC5-E3F2-4B06-8B46-55356D485FB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61982-77FB-4602-B79C-EF5F7816E03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55DBDD-B635-48BF-A7C8-25D456F3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306A77-50B4-42E6-A330-9DD594D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E85989-A88F-4A7F-B26E-F7DEA1D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D982F-8D2E-438B-8213-833EA5000DE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7B05A8-8264-4EC1-A44D-CFBC890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832AC7-AF91-408B-A59D-C7177208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4B6BB4-020A-4267-9384-57463F99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39B4FC-2B9B-43DC-BF63-3D675E27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989F76-E121-4163-A1C7-6B73163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6AC933-DBDE-4453-9328-BB1F2A7B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BD17C9-E385-4B57-BFCE-1894C10B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C2D3FD-484F-4E7E-B048-2A5EF0DA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B0DB3D-5C46-46DA-ACCA-A3B4FB7A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2C2607-48DA-443D-BD74-2A3463AA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F9E42-84B3-4375-B683-A3F2BF9CB40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B26DB5-95B6-4E07-9503-DA28AAA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F33CB1-56EB-4E93-A5FF-26B4B8E1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4C7993-AF24-4F81-AD22-F8A3E116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1B88E1-44BF-4D8E-BC2D-E96F29E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018B6A-3E37-4839-B5EF-5877CFD2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E53C74-1D65-4D36-9B3C-1151FC9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BEC750-F3C4-4A6D-9467-107AAA3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2BFE63-5019-4863-AB4D-F0057CF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C77687-8B21-452A-B6A6-5125D4D7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229BB7-2D35-4683-B694-E9385E4E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9B9AB-244C-4F74-8C5C-5AF492B79DA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36F771-15AD-4333-933F-DBC7263E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F61-34D4-4EE8-9986-CA4C994D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0AA4-105D-41B0-8CEB-67E33925E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D61-8A27-4F03-8734-0EFB57E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E1C3-FD45-4A9E-97A4-2644BD7F70D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307A-517B-40F8-AB13-6643054B51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E85B-B779-4417-9E2F-F2C735FE86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55EC-20C7-4327-930E-2536EE0E8B4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A90F-9EA9-4B4E-A790-DA8ACB80DE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C2DC-78CB-4579-9793-B79F2F14E4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BCD1-4C2F-497E-BE06-A5796C5E851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9AC1-83F0-46D8-8332-5A8631C1CB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A10D-8125-416B-9FDD-B2D8B875DD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DF80-FB3B-4E5B-84D0-7A49BD673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466-F2AB-4604-9FEC-B6AAB1DF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541F-3E32-4535-B6CC-132CEA5E06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6E8A9-4F2D-42C9-8656-76E35071C19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2CB35-2D78-4A33-AB3A-FA6527808A4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DDDBA-6121-4593-87D5-F2C2EC195E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32852-4742-45C5-96AF-0F1FC039AA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C56E0-09FF-45D3-BF9B-04A733C80A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3682F-34C9-4872-A419-6EC1477047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CA78F-6591-4EE1-BCAA-8D1FD4BBAF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7B205-B991-4D80-8121-36338F8C18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3C3A3-A0E8-4EDA-BD6F-28F4C4271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33C-7192-4925-AACD-1DDFFBB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F6964-2F8C-434E-9C95-11FD47F719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9CB9C-5A6F-4D7F-A2A2-D90BD6FB84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19F78-37A6-45C6-87D3-5BCF8089DC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4B3-A037-4B4E-8EB0-BF54AB4B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3B8B96-94ED-4BDA-9F6B-6112FB80F00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57023-AF53-4285-9ACE-B7FC4E55D13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69BD23-A4B5-42A6-9B93-BA8BEE7A6E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6B656-F6AA-482B-9802-403CD10B88F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ED6452-CC00-4EF0-91D2-C49A095FF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9AE-6F6D-467D-9E59-DB72561F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0DB76-BB1D-4C8A-A939-FA7E323099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A5D604-3C75-4C3C-9BB4-A26C795D2BD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9B4F6-15C0-421B-B317-7E7BC6F9B2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3BFF40-11C5-474C-8361-A902AD75214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43A4E-5A19-42EF-8AD4-3AC0E439EE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EF1997-7347-4C81-9442-7991BB9630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F10E32-6835-4A07-9E10-7ED934080E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9DE7-736F-4421-8557-87D9A3425F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59E3-A07B-4EFB-9781-A0731C3226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0879E-A3B8-4718-B5CD-0D27C4ED6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C6E-8C30-4CA9-BA0C-57E50616B5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143A-9366-4710-B7CA-111051ECE67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1176-85AC-4CA2-AA62-EE5C2CC222C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FF2D-5152-4070-9409-C48F2DA2371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6660-74DE-4B91-93E4-AC3360D305B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095E-52AC-4FB9-9630-4EA1093E75A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4B1-FED2-4E52-8A8E-1D9AB5590CA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5B77-FECD-4BEC-B839-DEC75069D5D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F70-C78D-4753-8461-CFED5DB464E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6935-B4E3-42AC-A264-1B1522DDACA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D767-8CC4-4A9F-8887-EF63186D663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FFD8-113E-4E80-BE16-CA6F43B11AC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66DF-94DA-42CD-A9D9-268A0FC7537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41BE-9BF3-4E62-A498-4CBD729EE1C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72E-44C9-44E7-858A-E680DD34044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3A9F-D128-4676-BF0A-4D25182155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97CF-C269-4E42-A8EB-8A8363FFDA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E83D-9EA7-4F22-97FE-CECF2B5D64E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9166-7B64-45BD-98A7-07B6550342A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BD9D-A35E-4FBD-BC12-99E19341699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3958-BA5B-4F78-A8A2-F1146F509F1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Box 12"/>
          <p:cNvSpPr/>
          <p:nvPr/>
        </p:nvSpPr>
        <p:spPr>
          <a:xfrm>
            <a:off x="6643800" y="6397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有解决的方案啦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5"/>
          <p:cNvSpPr/>
          <p:nvPr/>
        </p:nvSpPr>
        <p:spPr>
          <a:xfrm>
            <a:off x="357120" y="390600"/>
            <a:ext cx="6507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通安全不是问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是解决的方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TextBox 3"/>
          <p:cNvSpPr/>
          <p:nvPr/>
        </p:nvSpPr>
        <p:spPr>
          <a:xfrm>
            <a:off x="1594800" y="357120"/>
            <a:ext cx="3381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Box 4"/>
          <p:cNvSpPr/>
          <p:nvPr/>
        </p:nvSpPr>
        <p:spPr>
          <a:xfrm>
            <a:off x="1126440" y="25002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省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Box 1"/>
          <p:cNvSpPr/>
          <p:nvPr/>
        </p:nvSpPr>
        <p:spPr>
          <a:xfrm>
            <a:off x="1218600" y="344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卷首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​​ 4"/>
          <p:cNvSpPr/>
          <p:nvPr/>
        </p:nvSpPr>
        <p:spPr>
          <a:xfrm>
            <a:off x="969840" y="2138400"/>
            <a:ext cx="717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图片 5" descr="城市.png"/>
          <p:cNvPicPr/>
          <p:nvPr/>
        </p:nvPicPr>
        <p:blipFill>
          <a:blip r:embed="rId2"/>
          <a:stretch/>
        </p:blipFill>
        <p:spPr>
          <a:xfrm>
            <a:off x="6634080" y="81000"/>
            <a:ext cx="2652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Box 2"/>
          <p:cNvSpPr/>
          <p:nvPr/>
        </p:nvSpPr>
        <p:spPr>
          <a:xfrm>
            <a:off x="1510200" y="2262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Box 3"/>
          <p:cNvSpPr/>
          <p:nvPr/>
        </p:nvSpPr>
        <p:spPr>
          <a:xfrm>
            <a:off x="331164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Box 4"/>
          <p:cNvSpPr/>
          <p:nvPr/>
        </p:nvSpPr>
        <p:spPr>
          <a:xfrm>
            <a:off x="1071720" y="38671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Box 5"/>
          <p:cNvSpPr/>
          <p:nvPr/>
        </p:nvSpPr>
        <p:spPr>
          <a:xfrm>
            <a:off x="1135800" y="344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7"/>
          <p:cNvSpPr/>
          <p:nvPr/>
        </p:nvSpPr>
        <p:spPr>
          <a:xfrm>
            <a:off x="1073160" y="46814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6" descr="查询.png"/>
          <p:cNvPicPr/>
          <p:nvPr/>
        </p:nvPicPr>
        <p:blipFill>
          <a:blip r:embed="rId2"/>
          <a:stretch/>
        </p:blipFill>
        <p:spPr>
          <a:xfrm>
            <a:off x="4518000" y="2830680"/>
            <a:ext cx="434016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TextBox 23"/>
          <p:cNvSpPr/>
          <p:nvPr/>
        </p:nvSpPr>
        <p:spPr>
          <a:xfrm>
            <a:off x="2414880" y="619200"/>
            <a:ext cx="51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措施四： 在人民西路设置交通红绿灯，实现人车分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Box 24"/>
          <p:cNvSpPr/>
          <p:nvPr/>
        </p:nvSpPr>
        <p:spPr>
          <a:xfrm>
            <a:off x="2034360" y="190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4"/>
          <p:cNvGrpSpPr/>
          <p:nvPr/>
        </p:nvGrpSpPr>
        <p:grpSpPr>
          <a:xfrm>
            <a:off x="428760" y="5429160"/>
            <a:ext cx="1000080" cy="1000080"/>
            <a:chOff x="428760" y="5429160"/>
            <a:chExt cx="1000080" cy="1000080"/>
          </a:xfrm>
        </p:grpSpPr>
        <p:grpSp>
          <p:nvGrpSpPr>
            <p:cNvPr id="1235" name="Group 5"/>
            <p:cNvGrpSpPr/>
            <p:nvPr/>
          </p:nvGrpSpPr>
          <p:grpSpPr>
            <a:xfrm>
              <a:off x="428760" y="5429160"/>
              <a:ext cx="1000080" cy="1000080"/>
              <a:chOff x="428760" y="5429160"/>
              <a:chExt cx="1000080" cy="1000080"/>
            </a:xfrm>
          </p:grpSpPr>
          <p:pic>
            <p:nvPicPr>
              <p:cNvPr id="1236" name="环形箭头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760" y="5429160"/>
                <a:ext cx="10000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Text Box 7"/>
              <p:cNvSpPr/>
              <p:nvPr/>
            </p:nvSpPr>
            <p:spPr>
              <a:xfrm rot="11206800">
                <a:off x="659880" y="5594400"/>
                <a:ext cx="59364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TextBox 28" descr=""/>
            <p:cNvPicPr/>
            <p:nvPr/>
          </p:nvPicPr>
          <p:blipFill>
            <a:blip r:embed="rId2"/>
            <a:stretch/>
          </p:blipFill>
          <p:spPr>
            <a:xfrm>
              <a:off x="574920" y="5645160"/>
              <a:ext cx="8013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9" name="Group 9"/>
          <p:cNvGrpSpPr/>
          <p:nvPr/>
        </p:nvGrpSpPr>
        <p:grpSpPr>
          <a:xfrm>
            <a:off x="1714680" y="1386000"/>
            <a:ext cx="5572080" cy="5043240"/>
            <a:chOff x="1714680" y="1386000"/>
            <a:chExt cx="5572080" cy="5043240"/>
          </a:xfrm>
        </p:grpSpPr>
        <p:pic>
          <p:nvPicPr>
            <p:cNvPr id="1240" name="图片 9" descr="map3.png"/>
            <p:cNvPicPr/>
            <p:nvPr/>
          </p:nvPicPr>
          <p:blipFill>
            <a:blip r:embed="rId3"/>
            <a:stretch/>
          </p:blipFill>
          <p:spPr>
            <a:xfrm>
              <a:off x="1714680" y="1386000"/>
              <a:ext cx="5572080" cy="50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图片 2" descr="红绿灯"/>
            <p:cNvPicPr/>
            <p:nvPr/>
          </p:nvPicPr>
          <p:blipFill>
            <a:blip r:embed="rId4"/>
            <a:stretch/>
          </p:blipFill>
          <p:spPr>
            <a:xfrm rot="16200000">
              <a:off x="4490280" y="3093120"/>
              <a:ext cx="1854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图片 2" descr="红绿灯"/>
            <p:cNvPicPr/>
            <p:nvPr/>
          </p:nvPicPr>
          <p:blipFill>
            <a:blip r:embed="rId5"/>
            <a:stretch/>
          </p:blipFill>
          <p:spPr>
            <a:xfrm>
              <a:off x="5897520" y="3464280"/>
              <a:ext cx="185400" cy="52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428760" y="5429160"/>
            <a:ext cx="1000080" cy="1000080"/>
            <a:chOff x="428760" y="5429160"/>
            <a:chExt cx="1000080" cy="1000080"/>
          </a:xfrm>
        </p:grpSpPr>
        <p:grpSp>
          <p:nvGrpSpPr>
            <p:cNvPr id="1244" name="Group 3"/>
            <p:cNvGrpSpPr/>
            <p:nvPr/>
          </p:nvGrpSpPr>
          <p:grpSpPr>
            <a:xfrm>
              <a:off x="428760" y="5429160"/>
              <a:ext cx="1000080" cy="1000080"/>
              <a:chOff x="428760" y="5429160"/>
              <a:chExt cx="1000080" cy="1000080"/>
            </a:xfrm>
          </p:grpSpPr>
          <p:pic>
            <p:nvPicPr>
              <p:cNvPr id="1245" name="环形箭头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5429160"/>
                <a:ext cx="10000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 Box 5"/>
              <p:cNvSpPr/>
              <p:nvPr/>
            </p:nvSpPr>
            <p:spPr>
              <a:xfrm rot="11206800">
                <a:off x="659880" y="5594400"/>
                <a:ext cx="59364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TextBox 11" descr=""/>
            <p:cNvPicPr/>
            <p:nvPr/>
          </p:nvPicPr>
          <p:blipFill>
            <a:blip r:embed="rId3"/>
            <a:stretch/>
          </p:blipFill>
          <p:spPr>
            <a:xfrm>
              <a:off x="574920" y="5645160"/>
              <a:ext cx="80136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8" name="TextBox 2"/>
          <p:cNvSpPr/>
          <p:nvPr/>
        </p:nvSpPr>
        <p:spPr>
          <a:xfrm>
            <a:off x="1526760" y="619200"/>
            <a:ext cx="8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矩形​​ 1"/>
          <p:cNvSpPr/>
          <p:nvPr/>
        </p:nvSpPr>
        <p:spPr>
          <a:xfrm>
            <a:off x="944640" y="1549440"/>
            <a:ext cx="7143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门口的红绿灯交通指示灯的样式多样、分得细一点，比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，可以把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用的交通工具摩托车、电动车、自行车、货车等也出示出来。通过监控，及时控制车辆的通行，极大限度降低发生堵塞和交通事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一种可以监测各种车辆流量的感应器，可以监测到哪种车在什么时段，那条路最堵塞，方便交警指挥交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一种能在地面闪亮交通提示语。如，前方红灯，地面上就出现红色提示语：前方红灯，请减速慢行。这样对司机叔叔阿姨来说，比较吸引他们的眼球，违规的人会减少很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Box 6"/>
          <p:cNvSpPr/>
          <p:nvPr/>
        </p:nvSpPr>
        <p:spPr>
          <a:xfrm>
            <a:off x="2034360" y="190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extBox 7" descr=""/>
          <p:cNvPicPr/>
          <p:nvPr/>
        </p:nvPicPr>
        <p:blipFill>
          <a:blip r:embed="rId2"/>
          <a:stretch/>
        </p:blipFill>
        <p:spPr>
          <a:xfrm>
            <a:off x="128520" y="25671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2T03:06:14Z</dcterms:modified>
  <cp:revision>1</cp:revision>
  <dc:subject/>
  <dc:title>PowerPoint 演示文稿</dc:title>
</cp:coreProperties>
</file>