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39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81040" y="177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39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177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212760" y="781200"/>
            <a:ext cx="8712000" cy="5832360"/>
            <a:chOff x="212760" y="781200"/>
            <a:chExt cx="8712000" cy="5832360"/>
          </a:xfrm>
        </p:grpSpPr>
        <p:pic>
          <p:nvPicPr>
            <p:cNvPr id="4" name="矩形 10" descr=""/>
            <p:cNvPicPr/>
            <p:nvPr/>
          </p:nvPicPr>
          <p:blipFill>
            <a:blip r:embed="rId5"/>
            <a:stretch/>
          </p:blipFill>
          <p:spPr>
            <a:xfrm>
              <a:off x="212760" y="781200"/>
              <a:ext cx="871200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275760" y="819360"/>
              <a:ext cx="8591400" cy="57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01.png"/>
          <p:cNvPicPr/>
          <p:nvPr/>
        </p:nvPicPr>
        <p:blipFill>
          <a:blip r:embed="rId2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07.png"/>
          <p:cNvPicPr/>
          <p:nvPr/>
        </p:nvPicPr>
        <p:blipFill>
          <a:blip r:embed="rId3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2800" y="1972800"/>
            <a:ext cx="77724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E:\新模板\国粹\04.png"/>
          <p:cNvPicPr/>
          <p:nvPr/>
        </p:nvPicPr>
        <p:blipFill>
          <a:blip r:embed="rId4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" descr="02.png"/>
          <p:cNvPicPr/>
          <p:nvPr/>
        </p:nvPicPr>
        <p:blipFill>
          <a:blip r:embed="rId1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01.png"/>
          <p:cNvPicPr/>
          <p:nvPr/>
        </p:nvPicPr>
        <p:blipFill>
          <a:blip r:embed="rId2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" descr="MJ-081副本.png"/>
          <p:cNvPicPr/>
          <p:nvPr/>
        </p:nvPicPr>
        <p:blipFill>
          <a:blip r:embed="rId3"/>
          <a:stretch/>
        </p:blipFill>
        <p:spPr>
          <a:xfrm>
            <a:off x="-2346480" y="-2346480"/>
            <a:ext cx="9633240" cy="40388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" descr="MJ-081副本.png"/>
          <p:cNvPicPr/>
          <p:nvPr/>
        </p:nvPicPr>
        <p:blipFill>
          <a:blip r:embed="rId4"/>
          <a:stretch/>
        </p:blipFill>
        <p:spPr>
          <a:xfrm>
            <a:off x="-1774800" y="-1560600"/>
            <a:ext cx="9918720" cy="42894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1" descr="MJ-081副本.png"/>
          <p:cNvPicPr/>
          <p:nvPr/>
        </p:nvPicPr>
        <p:blipFill>
          <a:blip r:embed="rId5"/>
          <a:stretch/>
        </p:blipFill>
        <p:spPr>
          <a:xfrm>
            <a:off x="-1631880" y="-203040"/>
            <a:ext cx="9109080" cy="3789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2" descr="MJ-081副本.png"/>
          <p:cNvPicPr/>
          <p:nvPr/>
        </p:nvPicPr>
        <p:blipFill>
          <a:blip r:embed="rId6"/>
          <a:stretch/>
        </p:blipFill>
        <p:spPr>
          <a:xfrm>
            <a:off x="-1560600" y="700200"/>
            <a:ext cx="9109080" cy="38005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3" descr="MJ-081副本.png"/>
          <p:cNvPicPr/>
          <p:nvPr/>
        </p:nvPicPr>
        <p:blipFill>
          <a:blip r:embed="rId7"/>
          <a:stretch/>
        </p:blipFill>
        <p:spPr>
          <a:xfrm>
            <a:off x="-1488960" y="1857240"/>
            <a:ext cx="9109080" cy="3800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4" descr="MJ-081副本.png"/>
          <p:cNvPicPr/>
          <p:nvPr/>
        </p:nvPicPr>
        <p:blipFill>
          <a:blip r:embed="rId8"/>
          <a:stretch/>
        </p:blipFill>
        <p:spPr>
          <a:xfrm>
            <a:off x="-1417680" y="2843280"/>
            <a:ext cx="9109080" cy="3800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5" descr="MJ-081副本.png"/>
          <p:cNvPicPr/>
          <p:nvPr/>
        </p:nvPicPr>
        <p:blipFill>
          <a:blip r:embed="rId9"/>
          <a:stretch/>
        </p:blipFill>
        <p:spPr>
          <a:xfrm>
            <a:off x="-1417680" y="3843360"/>
            <a:ext cx="9109080" cy="3800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6" descr="MJ-081副本.png"/>
          <p:cNvPicPr/>
          <p:nvPr/>
        </p:nvPicPr>
        <p:blipFill>
          <a:blip r:embed="rId10"/>
          <a:stretch/>
        </p:blipFill>
        <p:spPr>
          <a:xfrm>
            <a:off x="-1131840" y="4714920"/>
            <a:ext cx="9109080" cy="3800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7" descr="MJ-081副本.png"/>
          <p:cNvPicPr/>
          <p:nvPr/>
        </p:nvPicPr>
        <p:blipFill>
          <a:blip r:embed="rId11"/>
          <a:stretch/>
        </p:blipFill>
        <p:spPr>
          <a:xfrm>
            <a:off x="1643040" y="45720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8" descr="MJ-081副本.png"/>
          <p:cNvPicPr/>
          <p:nvPr/>
        </p:nvPicPr>
        <p:blipFill>
          <a:blip r:embed="rId12"/>
          <a:stretch/>
        </p:blipFill>
        <p:spPr>
          <a:xfrm>
            <a:off x="5072040" y="4214880"/>
            <a:ext cx="9120240" cy="38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8">
                                  <p:stCondLst>
                                    <p:cond delay="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2" presetSubtype="8">
                                  <p:stCondLst>
                                    <p:cond delay="1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2">
                                  <p:stCondLst>
                                    <p:cond delay="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2" presetSubtype="2">
                                  <p:stCondLst>
                                    <p:cond delay="2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2" presetSubtype="8">
                                  <p:stCondLst>
                                    <p:cond delay="2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97240" y="2295360"/>
            <a:ext cx="62830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镇风光动态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57280" y="1488960"/>
            <a:ext cx="6229440" cy="719280"/>
            <a:chOff x="1457280" y="1488960"/>
            <a:chExt cx="6229440" cy="719280"/>
          </a:xfrm>
        </p:grpSpPr>
        <p:sp>
          <p:nvSpPr>
            <p:cNvPr id="104" name="AutoShape 3"/>
            <p:cNvSpPr/>
            <p:nvPr/>
          </p:nvSpPr>
          <p:spPr>
            <a:xfrm>
              <a:off x="1458720" y="148896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3"/>
            <p:cNvSpPr/>
            <p:nvPr/>
          </p:nvSpPr>
          <p:spPr>
            <a:xfrm>
              <a:off x="1457280" y="15778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13"/>
          <p:cNvSpPr/>
          <p:nvPr/>
        </p:nvSpPr>
        <p:spPr>
          <a:xfrm>
            <a:off x="3198960" y="1663560"/>
            <a:ext cx="2746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457280" y="2379600"/>
            <a:ext cx="6229440" cy="719280"/>
            <a:chOff x="1457280" y="2379600"/>
            <a:chExt cx="6229440" cy="719280"/>
          </a:xfrm>
        </p:grpSpPr>
        <p:sp>
          <p:nvSpPr>
            <p:cNvPr id="108" name="AutoShape 3"/>
            <p:cNvSpPr/>
            <p:nvPr/>
          </p:nvSpPr>
          <p:spPr>
            <a:xfrm>
              <a:off x="1457280" y="2379600"/>
              <a:ext cx="62294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"/>
            <p:cNvSpPr/>
            <p:nvPr/>
          </p:nvSpPr>
          <p:spPr>
            <a:xfrm>
              <a:off x="1457280" y="246888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59080" y="3271680"/>
            <a:ext cx="6225840" cy="719280"/>
            <a:chOff x="1459080" y="3271680"/>
            <a:chExt cx="6225840" cy="719280"/>
          </a:xfrm>
        </p:grpSpPr>
        <p:sp>
          <p:nvSpPr>
            <p:cNvPr id="111" name="AutoShape 3"/>
            <p:cNvSpPr/>
            <p:nvPr/>
          </p:nvSpPr>
          <p:spPr>
            <a:xfrm>
              <a:off x="1459080" y="3271680"/>
              <a:ext cx="62258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"/>
            <p:cNvSpPr/>
            <p:nvPr/>
          </p:nvSpPr>
          <p:spPr>
            <a:xfrm>
              <a:off x="1459080" y="336060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457280" y="4162320"/>
            <a:ext cx="6229440" cy="719280"/>
            <a:chOff x="1457280" y="4162320"/>
            <a:chExt cx="6229440" cy="719280"/>
          </a:xfrm>
        </p:grpSpPr>
        <p:sp>
          <p:nvSpPr>
            <p:cNvPr id="114" name="AutoShape 3"/>
            <p:cNvSpPr/>
            <p:nvPr/>
          </p:nvSpPr>
          <p:spPr>
            <a:xfrm>
              <a:off x="1457280" y="416232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3"/>
            <p:cNvSpPr/>
            <p:nvPr/>
          </p:nvSpPr>
          <p:spPr>
            <a:xfrm>
              <a:off x="1457280" y="425160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459080" y="5043600"/>
            <a:ext cx="6225840" cy="718920"/>
            <a:chOff x="1459080" y="5043600"/>
            <a:chExt cx="6225840" cy="718920"/>
          </a:xfrm>
        </p:grpSpPr>
        <p:sp>
          <p:nvSpPr>
            <p:cNvPr id="117" name="AutoShape 3"/>
            <p:cNvSpPr/>
            <p:nvPr/>
          </p:nvSpPr>
          <p:spPr>
            <a:xfrm>
              <a:off x="1459080" y="504360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"/>
            <p:cNvSpPr/>
            <p:nvPr/>
          </p:nvSpPr>
          <p:spPr>
            <a:xfrm>
              <a:off x="1459080" y="513216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880680" y="6137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96"/>
          <p:cNvSpPr/>
          <p:nvPr/>
        </p:nvSpPr>
        <p:spPr>
          <a:xfrm>
            <a:off x="3649680" y="3087720"/>
            <a:ext cx="1965240" cy="2395440"/>
          </a:xfrm>
          <a:custGeom>
            <a:avLst/>
            <a:gdLst>
              <a:gd name="textAreaLeft" fmla="*/ 21240 w 1965240"/>
              <a:gd name="textAreaRight" fmla="*/ 1944000 w 1965240"/>
              <a:gd name="textAreaTop" fmla="*/ 21240 h 2395440"/>
              <a:gd name="textAreaBottom" fmla="*/ 2374200 h 2395440"/>
            </a:gdLst>
            <a:ahLst/>
            <a:rect l="textAreaLeft" t="textAreaTop" r="textAreaRight" b="textAreaBottom"/>
            <a:pathLst>
              <a:path w="21600" h="26327">
                <a:moveTo>
                  <a:pt x="805" y="0"/>
                </a:moveTo>
                <a:arcTo wR="805" hR="805" stAng="16200000" swAng="-5400000"/>
                <a:lnTo>
                  <a:pt x="0" y="25522"/>
                </a:lnTo>
                <a:arcTo wR="805" hR="805" stAng="10800000" swAng="-5400000"/>
                <a:lnTo>
                  <a:pt x="20795" y="26327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7f7f7f">
              <a:alpha val="84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96"/>
          <p:cNvSpPr/>
          <p:nvPr/>
        </p:nvSpPr>
        <p:spPr>
          <a:xfrm>
            <a:off x="1106640" y="3038400"/>
            <a:ext cx="1969920" cy="2430360"/>
          </a:xfrm>
          <a:custGeom>
            <a:avLst/>
            <a:gdLst>
              <a:gd name="textAreaLeft" fmla="*/ 21240 w 1969920"/>
              <a:gd name="textAreaRight" fmla="*/ 1948680 w 1969920"/>
              <a:gd name="textAreaTop" fmla="*/ 21240 h 2430360"/>
              <a:gd name="textAreaBottom" fmla="*/ 2409120 h 2430360"/>
            </a:gdLst>
            <a:ahLst/>
            <a:rect l="textAreaLeft" t="textAreaTop" r="textAreaRight" b="textAreaBottom"/>
            <a:pathLst>
              <a:path w="21600" h="26648">
                <a:moveTo>
                  <a:pt x="805" y="0"/>
                </a:moveTo>
                <a:arcTo wR="805" hR="805" stAng="16200000" swAng="-5400000"/>
                <a:lnTo>
                  <a:pt x="0" y="25843"/>
                </a:lnTo>
                <a:arcTo wR="805" hR="805" stAng="10800000" swAng="-5400000"/>
                <a:lnTo>
                  <a:pt x="20795" y="2664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7f7f7f">
              <a:alpha val="84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7365600" y="23976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474920" y="2023920"/>
            <a:ext cx="6194160" cy="648000"/>
            <a:chOff x="1474920" y="2023920"/>
            <a:chExt cx="6194160" cy="648000"/>
          </a:xfrm>
        </p:grpSpPr>
        <p:sp>
          <p:nvSpPr>
            <p:cNvPr id="124" name="AutoShape 3"/>
            <p:cNvSpPr/>
            <p:nvPr/>
          </p:nvSpPr>
          <p:spPr>
            <a:xfrm>
              <a:off x="1474920" y="2023920"/>
              <a:ext cx="619416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3"/>
            <p:cNvSpPr/>
            <p:nvPr/>
          </p:nvSpPr>
          <p:spPr>
            <a:xfrm>
              <a:off x="1474920" y="211428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196"/>
          <p:cNvSpPr/>
          <p:nvPr/>
        </p:nvSpPr>
        <p:spPr>
          <a:xfrm>
            <a:off x="6226200" y="3141720"/>
            <a:ext cx="1941480" cy="2357280"/>
          </a:xfrm>
          <a:custGeom>
            <a:avLst/>
            <a:gdLst>
              <a:gd name="textAreaLeft" fmla="*/ 20880 w 1941480"/>
              <a:gd name="textAreaRight" fmla="*/ 1920600 w 1941480"/>
              <a:gd name="textAreaTop" fmla="*/ 20880 h 2357280"/>
              <a:gd name="textAreaBottom" fmla="*/ 2336400 h 2357280"/>
            </a:gdLst>
            <a:ahLst/>
            <a:rect l="textAreaLeft" t="textAreaTop" r="textAreaRight" b="textAreaBottom"/>
            <a:pathLst>
              <a:path w="21600" h="26225">
                <a:moveTo>
                  <a:pt x="805" y="0"/>
                </a:moveTo>
                <a:arcTo wR="805" hR="805" stAng="16200000" swAng="-5400000"/>
                <a:lnTo>
                  <a:pt x="0" y="25420"/>
                </a:lnTo>
                <a:arcTo wR="805" hR="805" stAng="10800000" swAng="-5400000"/>
                <a:lnTo>
                  <a:pt x="20795" y="26225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7f7f7f">
              <a:alpha val="84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164040" y="110484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0040" y="4094280"/>
            <a:ext cx="3911760" cy="365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108840" y="351324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718320" y="3368520"/>
            <a:ext cx="20048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60" y="640728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6:59:51Z</dcterms:created>
  <dc:creator/>
  <dc:description/>
  <dc:language>en-US</dc:language>
  <cp:lastModifiedBy>chenkui</cp:lastModifiedBy>
  <dcterms:modified xsi:type="dcterms:W3CDTF">2015-01-10T07:42:50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