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2E14-1772-42AC-BFFB-B17BAA96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947-63DE-4F82-BF14-63CEE0EE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ED73D-9DFD-4664-B416-31227AF7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3FCC-435D-4D27-B46B-EC88368E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1441A-9CBB-42C0-B4FA-9F35243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C77EB-F0A6-425B-9002-3248ADE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23B44-3683-4D99-84DA-467615C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1E5DB-D540-444E-B136-9AE935D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00374-080F-4918-8C0C-13E244E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E6320-F630-48B0-83EA-D5C98D51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FA6CE-180C-4B4F-832C-726302C8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251B8-509F-468F-8EFB-AC0395CE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095-CED6-4408-878A-D6C69471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2A73-A76F-4929-BB4A-7300AD4F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23CA-A3D7-4823-88AC-5DBCA08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3699C-3329-4354-B977-D0CB40E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36CD6-10E2-45F6-BBD9-581CBA8B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3A682-A2C5-424C-87D5-4E06640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C2D17-1954-4DD7-A964-2A6510A3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FE1F7-B747-431D-B22E-B593875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4D79B-8FB3-4986-848F-51747ED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E2D1-77CB-4189-8267-4CCF4D54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ABB2A-07F2-4BDD-B3F4-B1E0E9EE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9E8-D24F-4CF1-86D7-3AD884E0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C70C2-2287-414F-B8CB-240889BD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227A8-EF3A-491F-A50E-92840025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A1780-E7F8-418E-8885-FDB73CC6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F0974-56EB-4AE7-93C9-56AAF1D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AE5B4-0354-4A84-8405-02C848EE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4A198-B5B6-4A97-BA73-DFCC71D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B9054-F0F2-4085-BD93-B366D25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107F-C6F5-4358-89C7-F1956B55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978D4-6CC1-4CC9-ABCA-A1BF7C16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0DD9A-6E24-4AF7-ACA0-83DA5DF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DF1C-129A-4A8A-95E4-9084EA72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4355C-76E1-4E3C-B805-DF442F2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3B45A-4C0B-4354-B900-99AE87A7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4397F-4798-4663-B319-2C415094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78398-FB08-40C0-85A6-3FA9FA91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99A38-3660-4343-A2F6-E7E1BFFC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9688A-F8EC-4AFA-8B4E-55051FE4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E8348-E74B-4770-A9A3-0E657D6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0FB75-7530-4064-A1F4-ACE6CD30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32256-4B33-4D7F-9172-B95B6046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45C6B-1305-4C16-A0FD-BC3B29E1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32E5-7AD0-436E-9002-D12A747E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3F267-E389-4E43-9C15-90A22DC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7E052-40F2-4F84-B524-2E5C80D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62B19-9AB5-4B34-85B9-6B2A4B8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92BFE-4505-4978-A435-5CDC514D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9DC83-DFAD-4671-A864-11A0FB36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80307-4E7C-4F4B-AB43-AAD41A9F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F4BA8-4059-4744-B92F-1FCA8CAB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57E50-906F-4B32-8188-7F1DA185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38583-64F7-4A82-BFE8-7CF97A8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BE023-CFA8-4F30-BC2E-7BCBA08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E627-A764-42C5-A398-996CE7E9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A8AD9-9B0B-4828-B171-1CEA8EDC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0EEB73-E068-4C5B-906C-CFC8096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05D5D-2A6C-4EDE-93F0-F7F7FAF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BA41D-A267-4DCD-843C-C33A4FB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59433-C747-4167-9975-7A1649BC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2EE0B-BB16-4EE7-AD2A-1BEC2F37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FB7E3-BE9E-496B-A230-5EF79420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3770-347C-4B20-BE75-BFD676E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728D-1208-4CB4-BA5B-9CE71475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1F1D-9E9D-49F1-8D65-88CCBE4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AD64-0DB2-45C6-B8F7-2AD19AB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EAB-D768-446E-B148-1717CA5F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859-8AD0-4963-BBBF-EF4DD04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147-E83F-48EF-9345-CD98C78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425C-77E4-4E64-B59B-E3732EA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A20F-68A6-48EF-9696-39EB0D9B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D4B-7526-42E2-AEF7-E5B7C213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88E0-0A2D-4A34-9855-740A082B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DD29-3EA1-42F2-80E2-EE9A1FF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5B0B4-049C-4878-A02B-6B4BDC53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C4DE-B8A4-4C39-81FE-27F3B98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C995-77E0-4D61-B632-1128D64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AE1-7152-4BE7-996F-5F862D9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0712-F564-4172-9324-FCF47BC4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07999-1F7D-45B6-85EA-236F01F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1736-A8A9-499F-9F4C-21BA1E7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0C63-FDA4-4C59-A8C6-4BC1BA6F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4168-7109-4CB6-8A51-10FF832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F9AD-0EF0-40C5-A4E0-C50821B2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25039-5F1B-46D9-AC84-E2E40E2D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4FA6-B703-467C-9ED0-9CECD30D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0580-2FED-4504-BE1B-C585E4A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36F5-7B33-49EC-926D-E867707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529-0FB3-40D1-AA87-22BA6A9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BF54-4792-4CC6-9EDD-0204FBF1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38B5-C88E-47D1-9688-724C0945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3ECC-1848-42A0-8FA1-92812C5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3DFA-DE76-4D4E-91A7-79BFDCB2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24E0-4E7F-4BDA-B0A7-A53E338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B68C-81B8-4F04-9068-10FC3A7A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763F-9704-4A1C-81A1-22401CE0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DB41-0030-44CC-9A02-0C907DCB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7461-A026-4D06-8F8E-D8D75C59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D654-BAB3-420F-A59F-16EF1012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9B5-AFFA-45A6-A801-C880E76D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DD86-5423-484B-B935-3F1FD068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332C-C598-4D95-B0D3-6775B53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9E28-63C5-4C43-B814-62032FE1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37931-0A8F-4B3D-B12A-97EB7651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6E01B-31D1-4947-96AA-F3106FF5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DDA4-69C8-4AA6-B3F1-DAAAEF56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E83F-AFF7-4C9F-B8EB-B3991AAB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C8FF-9C6A-4631-B0F6-FBA591F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8204-9482-4DCC-B22E-F58E694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F7B2-F24F-4DD8-AC28-811E6C31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399-74C3-49E4-878C-58FBE96B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BCAC-E5EB-4231-BF77-93CC27FA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F9D8-EE2B-4B78-BCC2-D45F5B08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1A264-F8E1-4B89-9D6D-36AA2FC5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938B1-CC49-443B-80F9-6C03C253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E6EF-000B-4458-ABE5-420FD501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F324E-9D7D-47D6-B504-78B9DCC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552F-BC9C-4D42-9E2E-05CBE6EA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05F5-E180-4221-BBDC-987F7E6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7E21-0C47-431B-9D14-9E5C7A1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7364-8AB3-468A-857A-C64F7A8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FB4-D77C-4C0F-8023-7A2EFF7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7CE2-693F-4332-AF3C-6176653F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4932-E9E7-47F9-BAE1-00669FD5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B94BB-9D97-4C32-82BF-0E9F185A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9E0D-9E39-41E9-8ED9-AC0035EE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0048-38D8-419E-B384-D8E09C2A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EE66-ECAF-4A29-B81E-14C644B7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820CD-36E1-4D3B-AAF0-E6CAC5D4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91A06-1BD8-46BD-9CDA-78652EE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05E8-7B01-453B-A437-415335F3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972B-0450-46E1-86B7-680A901F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0C5-B853-4220-A270-E03FCA2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12D9D-7E19-4F58-A7DB-8AE31F2A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6306-EAEA-4DEE-A5E1-145E623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3AD32-8D29-4C03-82FE-A087A6E2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8D8F-BC46-4A03-8FF3-A0D6B6D2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F412D-5E8C-4F41-B451-0779D61B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7596F-5DC8-4BC8-B87A-3F9C04F7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C4EB-7F7C-418D-9BD8-23B757DE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3A09-5D40-4417-A5CC-B339A4D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2BD1-4652-41A5-A240-67982080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C0A5D-B942-486A-9E5B-B28F1585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EF1-DF91-497E-A6A9-6798677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AA22-E5F6-42A5-B5AA-7497DED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435F1-A9A7-4D26-B964-953C9AC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A159-EA9D-40A5-AD6B-449CEC8D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91396-414B-46F6-9B89-0C3B51E8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E41B0-FCA9-442A-B4DC-0E154E5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65BF-F71C-491E-8C6D-89AD6312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AE06C-94C0-47A6-9634-F5ACAC41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2C7C2-069B-444D-91A6-0FDEBDA1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47ECB-B576-4068-BC50-C202F72B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C2944-1052-4E23-BBD8-5CD22512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964-480C-4880-9487-07C56D1D95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2BE3-210E-46FC-9036-1C196065655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6808-1261-44CA-B6DB-C5C3CB46C50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C63-0056-48AC-AAAB-095364471D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7E7-48FB-4B20-946D-F555D6B27D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DEAE-F537-4CD4-8B8A-B2460A07466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E083-F09A-46DC-9F5E-6B9F3535FD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63E-9C0B-4B88-86D7-A8898CB23D4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35E-6099-4684-9C62-F7AC9B22BF9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AFF8-73D2-49E5-8B81-09D92AF5F5E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2DB6-DD13-4D28-BF9D-8A109180A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04C-55C6-4E78-8855-672597A92C6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D8FE-634C-419D-8C1C-CB2C2538B30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333-D691-43DE-A20F-3901ADDA604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CEBD-8094-4E4B-B849-42E7568B610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22A-E562-4E75-9E47-7CC33EAD84A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F339-E248-4306-89CE-918B59B3AC3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50B-680C-4348-8349-7D73C9434F1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E0C-AF0B-44D6-BA2C-F7E80B63810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87E-1FD8-4542-890E-FB9D85E94F6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B16A-27D1-48FA-A0DA-BCEAD7A723D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E30-3C76-4513-9F13-FAC8062936F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A896-2B4C-431F-A450-6C714038DC1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84E2-D893-4B9F-8F4F-DD082291CC1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ACA7-68EB-4D6E-B250-13C1786FD53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bebe"/>
            </a:gs>
            <a:gs pos="50000">
              <a:srgbClr val="dddddd"/>
            </a:gs>
            <a:gs pos="100000">
              <a:srgbClr val="be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99960" y="1003320"/>
            <a:ext cx="11804400" cy="4898520"/>
            <a:chOff x="399960" y="1003320"/>
            <a:chExt cx="11804400" cy="4898520"/>
          </a:xfrm>
        </p:grpSpPr>
        <p:sp>
          <p:nvSpPr>
            <p:cNvPr id="534" name="Line 3"/>
            <p:cNvSpPr/>
            <p:nvPr/>
          </p:nvSpPr>
          <p:spPr>
            <a:xfrm flipV="1">
              <a:off x="399960" y="1003680"/>
              <a:ext cx="4579920" cy="4898160"/>
            </a:xfrm>
            <a:prstGeom prst="line">
              <a:avLst/>
            </a:prstGeom>
            <a:ln w="9360">
              <a:solidFill>
                <a:srgbClr val="00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4"/>
            <p:cNvSpPr/>
            <p:nvPr/>
          </p:nvSpPr>
          <p:spPr>
            <a:xfrm>
              <a:off x="4979160" y="1003320"/>
              <a:ext cx="7225200" cy="360"/>
            </a:xfrm>
            <a:prstGeom prst="line">
              <a:avLst/>
            </a:prstGeom>
            <a:ln w="9360">
              <a:solidFill>
                <a:srgbClr val="00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6" name="Picture 5" descr="未命名"/>
          <p:cNvPicPr/>
          <p:nvPr/>
        </p:nvPicPr>
        <p:blipFill>
          <a:blip r:embed="rId1"/>
          <a:stretch/>
        </p:blipFill>
        <p:spPr>
          <a:xfrm>
            <a:off x="9360" y="-3240"/>
            <a:ext cx="12220920" cy="6848640"/>
          </a:xfrm>
          <a:prstGeom prst="rect">
            <a:avLst/>
          </a:prstGeom>
          <a:ln w="0">
            <a:noFill/>
          </a:ln>
        </p:spPr>
      </p:pic>
      <p:sp>
        <p:nvSpPr>
          <p:cNvPr id="537" name="Oval 6"/>
          <p:cNvSpPr/>
          <p:nvPr/>
        </p:nvSpPr>
        <p:spPr>
          <a:xfrm>
            <a:off x="706320" y="1225440"/>
            <a:ext cx="4238640" cy="4237200"/>
          </a:xfrm>
          <a:prstGeom prst="ellipse">
            <a:avLst/>
          </a:prstGeom>
          <a:noFill/>
          <a:ln w="12600">
            <a:solidFill>
              <a:srgbClr val="00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0" y="2989440"/>
            <a:ext cx="12212640" cy="1860480"/>
          </a:xfrm>
          <a:prstGeom prst="rect">
            <a:avLst/>
          </a:prstGeom>
          <a:gradFill rotWithShape="0">
            <a:gsLst>
              <a:gs pos="0">
                <a:srgbClr val="3e3e3e">
                  <a:alpha val="60000"/>
                </a:srgbClr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Oval 8"/>
          <p:cNvSpPr/>
          <p:nvPr/>
        </p:nvSpPr>
        <p:spPr>
          <a:xfrm>
            <a:off x="1587600" y="2106720"/>
            <a:ext cx="2489040" cy="2487600"/>
          </a:xfrm>
          <a:prstGeom prst="ellipse">
            <a:avLst/>
          </a:prstGeom>
          <a:noFill/>
          <a:ln w="1260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457200" y="2228760"/>
            <a:ext cx="54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方正综艺简体"/>
                <a:ea typeface="方正综艺简体"/>
              </a:rPr>
              <a:t>M</a:t>
            </a:r>
            <a:r>
              <a:rPr b="1" lang="zh-CN" sz="9600" spc="-1" strike="noStrike">
                <a:solidFill>
                  <a:srgbClr val="ff9b05"/>
                </a:solidFill>
                <a:latin typeface="方正综艺简体"/>
                <a:ea typeface="方正综艺简体"/>
              </a:rPr>
              <a:t>U</a:t>
            </a:r>
            <a:r>
              <a:rPr b="1" lang="zh-CN" sz="9600" spc="-1" strike="noStrike">
                <a:solidFill>
                  <a:srgbClr val="99cc00"/>
                </a:solidFill>
                <a:latin typeface="方正综艺简体"/>
                <a:ea typeface="方正综艺简体"/>
              </a:rPr>
              <a:t>S</a:t>
            </a:r>
            <a:r>
              <a:rPr b="1" lang="zh-CN" sz="9600" spc="-1" strike="noStrike">
                <a:solidFill>
                  <a:srgbClr val="0099ff"/>
                </a:solidFill>
                <a:latin typeface="方正综艺简体"/>
                <a:ea typeface="方正综艺简体"/>
              </a:rPr>
              <a:t>I</a:t>
            </a:r>
            <a:r>
              <a:rPr b="1" lang="zh-CN" sz="9600" spc="-1" strike="noStrike">
                <a:solidFill>
                  <a:srgbClr val="ff5050"/>
                </a:solidFill>
                <a:latin typeface="方正综艺简体"/>
                <a:ea typeface="方正综艺简体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506520" y="3213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方正综艺简体"/>
                <a:ea typeface="方正综艺简体"/>
              </a:rPr>
              <a:t>I</a:t>
            </a:r>
            <a:r>
              <a:rPr b="0" lang="zh-CN" sz="5400" spc="-1" strike="noStrike">
                <a:solidFill>
                  <a:srgbClr val="99cc00"/>
                </a:solidFill>
                <a:latin typeface="方正综艺简体"/>
                <a:ea typeface="方正综艺简体"/>
              </a:rPr>
              <a:t>N TH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471600" y="36147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方正综艺简体"/>
                <a:ea typeface="方正综艺简体"/>
              </a:rPr>
              <a:t>R</a:t>
            </a:r>
            <a:r>
              <a:rPr b="1" lang="zh-CN" sz="9600" spc="-1" strike="noStrike">
                <a:solidFill>
                  <a:srgbClr val="0099ff"/>
                </a:solidFill>
                <a:latin typeface="方正综艺简体"/>
                <a:ea typeface="方正综艺简体"/>
              </a:rPr>
              <a:t>UNN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耳机"/>
          <p:cNvPicPr/>
          <p:nvPr/>
        </p:nvPicPr>
        <p:blipFill>
          <a:blip r:embed="rId1"/>
          <a:stretch/>
        </p:blipFill>
        <p:spPr>
          <a:xfrm>
            <a:off x="-19080" y="-30240"/>
            <a:ext cx="1248732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未标1"/>
          <p:cNvPicPr/>
          <p:nvPr/>
        </p:nvPicPr>
        <p:blipFill>
          <a:blip r:embed="rId1"/>
          <a:stretch/>
        </p:blipFill>
        <p:spPr>
          <a:xfrm>
            <a:off x="-6480" y="0"/>
            <a:ext cx="12195360" cy="6861240"/>
          </a:xfrm>
          <a:prstGeom prst="rect">
            <a:avLst/>
          </a:prstGeom>
          <a:ln w="0">
            <a:noFill/>
          </a:ln>
        </p:spPr>
      </p:pic>
      <p:sp>
        <p:nvSpPr>
          <p:cNvPr id="545" name="Oval 3"/>
          <p:cNvSpPr/>
          <p:nvPr/>
        </p:nvSpPr>
        <p:spPr>
          <a:xfrm>
            <a:off x="8567640" y="2405160"/>
            <a:ext cx="554040" cy="554040"/>
          </a:xfrm>
          <a:prstGeom prst="ellipse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6454800"/>
            <a:ext cx="4824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更多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楷体"/>
                <a:ea typeface="楷体"/>
                <a:hlinkClick r:id="rId2"/>
              </a:rPr>
              <a:t>免费PPT模板</a:t>
            </a:r>
            <a:r>
              <a:rPr b="1" lang="zh-CN" sz="1400" spc="-1" strike="noStrike">
                <a:solidFill>
                  <a:srgbClr val="0563c1"/>
                </a:solidFill>
                <a:latin typeface="楷体"/>
                <a:ea typeface="楷体"/>
              </a:rPr>
              <a:t>尽在</a:t>
            </a:r>
            <a:r>
              <a:rPr b="1" lang="zh-CN" sz="1400" spc="-1" strike="noStrike">
                <a:solidFill>
                  <a:srgbClr val="0563c1"/>
                </a:solidFill>
                <a:latin typeface="Calibri"/>
              </a:rPr>
              <a:t>：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人群"/>
          <p:cNvPicPr/>
          <p:nvPr/>
        </p:nvPicPr>
        <p:blipFill>
          <a:blip r:embed="rId1"/>
          <a:stretch/>
        </p:blipFill>
        <p:spPr>
          <a:xfrm>
            <a:off x="0" y="0"/>
            <a:ext cx="122032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21170_143009631506_2"/>
          <p:cNvPicPr/>
          <p:nvPr/>
        </p:nvPicPr>
        <p:blipFill>
          <a:blip r:embed="rId1"/>
          <a:stretch/>
        </p:blipFill>
        <p:spPr>
          <a:xfrm>
            <a:off x="0" y="-23760"/>
            <a:ext cx="12254040" cy="6885000"/>
          </a:xfrm>
          <a:prstGeom prst="rect">
            <a:avLst/>
          </a:prstGeom>
          <a:ln w="0">
            <a:noFill/>
          </a:ln>
        </p:spPr>
      </p:pic>
      <p:sp>
        <p:nvSpPr>
          <p:cNvPr id="549" name="Oval 3"/>
          <p:cNvSpPr/>
          <p:nvPr/>
        </p:nvSpPr>
        <p:spPr>
          <a:xfrm>
            <a:off x="3809880" y="1509840"/>
            <a:ext cx="1876680" cy="1874880"/>
          </a:xfrm>
          <a:prstGeom prst="ellipse">
            <a:avLst/>
          </a:prstGeom>
          <a:noFill/>
          <a:ln w="936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6912000" y="2732040"/>
            <a:ext cx="807840" cy="808200"/>
          </a:xfrm>
          <a:prstGeom prst="ellipse">
            <a:avLst/>
          </a:prstGeom>
          <a:noFill/>
          <a:ln w="9360">
            <a:solidFill>
              <a:srgbClr val="00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4906800" y="2919240"/>
            <a:ext cx="1140120" cy="1141560"/>
          </a:xfrm>
          <a:prstGeom prst="ellipse">
            <a:avLst/>
          </a:prstGeom>
          <a:noFill/>
          <a:ln w="93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4898520" y="2692440"/>
            <a:ext cx="24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ff"/>
                </a:solidFill>
                <a:latin typeface="微软雅黑"/>
                <a:ea typeface="微软雅黑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ANK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6:10:10Z</dcterms:created>
  <dc:creator>sg</dc:creator>
  <dc:description/>
  <dc:language>en-US</dc:language>
  <cp:lastModifiedBy>a</cp:lastModifiedBy>
  <dcterms:modified xsi:type="dcterms:W3CDTF">2015-01-14T16:10:2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