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2562D-E54D-4942-AE3D-7BA3C65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C9A5-29EF-4E9F-81A5-C303281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2B84-2AD2-488B-9545-C2CA76E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A369F-3BC2-4956-941E-9931FF4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AFFD-EA9F-4D6C-B35F-BAC3AF7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45F9-5EB3-42A5-B09A-47965A3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1893-700F-47F4-B1DB-7E8FB92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A5D9-B4BB-4C3E-A9AF-93C655CB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F749-A9D3-4758-918D-B54C50B6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BCD19-3F49-460E-B7BF-CAF7D9F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8F8C-0825-4710-A766-79152B6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BBAB-5752-4976-A287-1609320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1793-BEFC-41B8-985C-F70D5F71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C0D4-DF67-4AF9-AA6F-E59805E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F5A2-CBF8-4CDB-8DF4-7A49431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3B292-787A-477E-A087-00923A4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81E85-3D32-43B1-A035-42D40945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D668-8399-4CE8-979D-1843EE5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26F0-3DCE-48D7-A39D-1BB0BC91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E37A-1D8C-48FA-BB48-82681FDA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78BF-AEA0-4EEC-8E4D-CF1A4B53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5419B-FA66-437F-B0B5-5124ABBC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B1C3C-7DE3-43CD-A22A-E7F14AF4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C8AB9-CDED-462C-889E-F2E374B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31032-966D-4E0C-BED2-00F4E87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592B-1A93-425D-821F-30F6E5D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4996-C66E-4EB0-AB67-B4B8E460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B16E2-DAB8-4837-A788-3025885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A06EA-B659-4F1F-A04A-9A6A317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0FA6-159F-4A2F-8D28-E6251CF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B8638-318D-4450-81EB-DF56257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22D87-F296-45C5-95F6-E1F6C2E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2B0DF-6506-4BD1-BEA0-3E8D4028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ECDBC-6220-4642-A07C-241CF1D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796B-124A-4EED-94EA-0F7AD69C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B08D0-60B0-4BEE-82C3-4AA854F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0F446-2E44-4409-AAE1-B3A403C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2EF53-37D4-4563-A9BF-AA2B16B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6513F-B9B2-4D6B-85D5-7A008EF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3595-357C-415D-AD0A-F5DE958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048A0-A52B-4C19-9409-C7658BA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E39B-9146-46AC-97E5-84AE881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39072-97AB-49DE-8A46-18ADEFF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99BC-D9A7-492A-87FB-37718D3F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193DF-D582-4B94-AABB-993CAE0F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A1106-0AAC-4448-A6D7-426F573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7D459-F2AC-48F0-9286-DAEA1264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847D8-9E9C-432F-8678-FC78164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5C2A-7726-487C-89F3-56BE7E3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EA768-22EA-40A2-A22D-CDADEC5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919B8-8AB9-4AF9-8619-B4CA47F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BBEF8-60FA-40B9-95F6-9C55F4B7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2610D-7A0C-4251-BB59-B84C0FF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667F-6A94-4CED-B746-A48BDB9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B21EA-BC0A-41DB-96C2-F437669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109E-CC56-40A2-9447-178906D9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DEC77-BA16-4B11-8CA8-778205B1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E413D-EC80-479C-9DFB-294847D9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2E960-295E-4D93-B190-2AAB38EE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0BE5-6760-4690-854C-A210F9D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6EE37-CD97-47CB-99CF-70D2F265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8AA75-C95A-47FD-8440-8E5EF6D5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6CEEE-DEA5-447D-A7D8-44A9404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2CAC6-3ED7-43D0-8E6C-BC1EC7F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7BACD-08E4-4763-89BB-592D5D1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3A01-13AF-46E4-82C1-A31BFAC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915CD-D254-4206-9411-E16FAD8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31675-3801-4A46-8354-958EFED5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84CA-5A83-4516-AC34-572F56C1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B3C-5870-4970-843E-D8ED526F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CC2-E703-48F4-A274-115D80D1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7C4-802A-478A-A67B-807E06A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117-D049-4AC0-887A-106091A3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36A-EFA3-47BA-8C58-93F14E15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2B0-77A3-4EB8-A320-E7CCE1A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BB5-D65E-46BF-A464-99E0EDD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359-1B90-4723-97F2-AB2FC85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817-43C8-4329-8ECB-8D140DBA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93A-ED3A-4401-9345-8E32621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DC6-4994-4266-B978-8B6148B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B93-4F08-4026-B89D-7287E90F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85D-D9F6-4420-A035-C026260A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12A2-18AA-4B4A-8CC9-69EAF51F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CEE3-B7EE-431F-B16D-06040A7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FEF-A60F-415C-8A77-A4A2FAC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12F-193B-4211-AEBF-C5315E3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0E2A-6328-401D-83C5-E530211E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0BA-0ADD-406F-952B-E5D0CC2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D87-C5E5-4A47-8947-354ABBA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646-7E23-4C4B-BB63-12C5B78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7D45-736C-47D6-BD7F-C293E9D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5220-F066-40B7-9A59-BA990136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FEB-5192-452D-8ED4-8708CD8A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5784-6851-4809-9FC3-D4D857B6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2A8E-D629-45DD-A20F-B36EE68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9A37-DBA4-40E3-8413-DA18F14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3A15-EDA9-4CB6-AA64-78015915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5B6F-B3CB-49E1-84D7-1B631C2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8A76-F100-4E5E-9A07-2DEA765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0FF3-622F-43A1-AC0B-B767DBE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0CFF-E10E-4E1F-8B26-C280272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0766-0AAA-4B85-8D73-4D8BDCC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9C4C-FC36-4BC4-9FB5-F501EAF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0FB9-AE1E-4391-81F2-6F0D3BC5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2A9C-13C2-4663-B8CF-31FCD602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63B9-1AE3-47E1-8841-91C9C70A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D111-4C5A-4514-97B5-9B057A3F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F2BF-B291-4509-934F-AAEC0B9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B21D-D360-4F50-A891-E0DABFF6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B83C-8C98-4880-A363-FF27C69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8912-4B4B-4970-9B7A-99069C4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2C28-89DB-4016-AB8C-9D1F223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567C-C178-4EAF-AEC7-082550FE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6DD0-6F08-4E91-B460-C5BA8FD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AFA6-0482-453F-9A26-7E2D2D9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A3B6-8A73-449D-A66F-E116100B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F32A-06EB-4B6F-8262-5B0031B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F84D-E61A-4BFC-A532-7AA8546B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8C23-B95A-4FB1-B5A0-92FFD95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5000-A458-44C6-A4D2-AB38B8F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DDD3-816F-4529-BB3E-A93C8C2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C15C-9A3C-4F0E-972A-4D9B138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EFC0-765D-4BA2-90D0-34CF77A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99D1-30CD-4B36-AD26-A69A401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12548-419F-4A00-BC23-CA8D59B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95A3-105E-4741-89F5-2C97100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8E6D-DFBF-42C5-918F-93616DF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AD46-9E76-4AEA-AA38-2483B564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B5DB4-8317-4367-BD83-7DF54DF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E519-1966-4EFE-B02C-0F90D02B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063E-82D8-4968-A854-6421DAA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F837-A317-44EA-95CD-EE4B405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8A9A-CFC1-4772-8B64-C99A4CCA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0A58-E182-4051-AF2D-A597428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742A-A205-47F3-8949-68522B7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2814-ABFC-4563-9D1C-BFECF8B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8DB57-5338-410A-BE21-C47DDED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2063-5693-42BF-98DB-9239252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6014-1A5A-4C6C-A223-8CD89FC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8E29-94DF-4FF1-A714-8CBCD687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6F35-351C-4AF3-B322-89D1F8F9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EA988-C7B2-45EE-9198-6A018576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07DC-36E7-43F9-8232-07411DA8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4D3A-1AF0-4C6B-9B00-AEAA187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0A3-94A6-4AD9-91BD-9FE4954118A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F2F-010E-43B3-A707-06910589EC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E0F-B7C8-408A-838A-28F0237ECED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C33-3A9A-4A8D-8701-C72A380E30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EBF-D831-4FEE-80D8-2D5BF629AE0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6236-BBF0-42CF-ADFA-1C3A65FA5F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D78-A0E6-43F6-AA8F-1F3BA30C4A7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A1C-FB65-4DC4-BBE4-BDA9CF0D2C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45C-2348-4911-8519-57EE055B9FC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3D0-93D2-41D8-B176-6BB64A99F5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37B6-4233-4250-AE28-21113574681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8D4-3CFF-4E5B-BB4F-75B0BFF04F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507-8E9C-4795-8330-4C2B4F6280F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441-A22A-4F44-90EA-30133EDA16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FB0E-555F-4F85-B889-A5BB201A864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DCD-E5F3-4621-AE4F-1E9C4D3BE4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951-22BA-4EEE-8EB9-7DBD6D9DB81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2B05-8D2F-4F13-8549-26AD658F3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F31-E423-4D85-936E-919B2BB6F09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D710-4E11-4549-92C9-5B20986257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5CA3-DBBC-49DE-98EE-3AE8B65A63E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2D6-CD11-467A-9366-96AD25A3B7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535-0CA6-4B58-AC44-8BF2DD34F93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DC1-2A53-4B20-A17C-97BD149991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18960" y="202680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51f"/>
                </a:solidFill>
                <a:latin typeface="Microsoft Sans Serif"/>
                <a:ea typeface="宋体"/>
              </a:rPr>
              <a:t>单击此处添加标题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42640" y="3271320"/>
            <a:ext cx="670572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51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文本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cp:keywords/>
  <dc:language>en-US</dc:language>
  <cp:lastModifiedBy>a</cp:lastModifiedBy>
  <dcterms:modified xsi:type="dcterms:W3CDTF">2014-07-19T09:06:01Z</dcterms:modified>
  <cp:revision>2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