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6043-C678-489D-9A4F-4C2536F1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E0D-DA79-4DF1-ACCE-3396E7A9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2D1-F522-413B-9EFE-7FE07738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D89-003A-4AFE-869F-55A66B9B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F4A8-9BE3-4CB3-8FF9-BF246088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13E-BF4F-4BB5-8931-DA26FF47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422F-229B-4492-8F45-2E8922B0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950-B6BA-4365-ADF5-FE899193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D1EE-2FE6-462E-8E79-2B6C3E18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AB5-D8AF-4058-B81E-79FC000C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FC5-DBF6-4E08-87EE-1D430A52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128-3111-4471-B8F3-0A784B74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1C64-8B76-45C5-9A35-ACC858FF1AB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CC24-8DC2-4FDF-8AD0-1384469155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098800" y="1341360"/>
            <a:ext cx="333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窗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01010106%20%287%29[1]"/>
          <p:cNvPicPr/>
          <p:nvPr/>
        </p:nvPicPr>
        <p:blipFill>
          <a:blip r:embed="rId1"/>
          <a:srcRect l="13722" t="0" r="9089" b="0"/>
          <a:stretch/>
        </p:blipFill>
        <p:spPr>
          <a:xfrm>
            <a:off x="0" y="0"/>
            <a:ext cx="176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izhi-1211-76602[1]"/>
          <p:cNvPicPr/>
          <p:nvPr/>
        </p:nvPicPr>
        <p:blipFill>
          <a:blip r:embed="rId1"/>
          <a:stretch/>
        </p:blipFill>
        <p:spPr>
          <a:xfrm>
            <a:off x="-30240" y="0"/>
            <a:ext cx="173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53944" t="0" r="26568" b="0"/>
          <a:stretch/>
        </p:blipFill>
        <p:spPr>
          <a:xfrm>
            <a:off x="-30240" y="0"/>
            <a:ext cx="177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7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ung_sam_park-022[1]"/>
          <p:cNvPicPr/>
          <p:nvPr/>
        </p:nvPicPr>
        <p:blipFill>
          <a:blip r:embed="rId1"/>
          <a:srcRect l="33249" t="0" r="46224" b="0"/>
          <a:stretch/>
        </p:blipFill>
        <p:spPr>
          <a:xfrm>
            <a:off x="-30240" y="1440"/>
            <a:ext cx="18702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叶菲</dc:creator>
  <dc:description/>
  <cp:keywords/>
  <dc:language>en-US</dc:language>
  <cp:lastModifiedBy>a</cp:lastModifiedBy>
  <dcterms:modified xsi:type="dcterms:W3CDTF">2014-07-19T09:05:46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