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F86-F37F-49DE-81BD-B538FAD3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A8D-BF84-4C6E-8AF2-A88735E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690-A8B8-46AB-8EFA-E948A2E0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50F-F465-40DB-ABCC-29C6C6F1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819-8DD8-4CB0-BA8E-B2A8C5F3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C7C-834A-49DD-9BF5-577513E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F9F8-F880-4B68-86E4-F4EDEB6D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A64C-78C0-4FA5-B58A-E3796087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347-8083-4755-9DC7-088A771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32AF-A0E7-47C7-B1CA-B2A40559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00A9-10F1-4D84-A246-09B76E87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767-EB30-41FF-9C0A-CC039EF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F422-7CE5-4227-A55D-14049FF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1F0-47F1-4BC9-A394-D905262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603C-A5F9-4570-9011-FA14DA45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088-B35A-497C-89FE-3727B423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E66-3BE0-4691-A52D-E935EF8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E027-B979-4AA6-AF45-48876F2C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FFB8-ED6B-4699-BFF4-00F02B8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7542-AEFA-4641-BDCE-574D606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8FCE-0C42-4A29-B4D3-7958411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ACE6-3A64-4F7B-B7BE-90B452C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F04-FA71-44CD-971B-3401F0E2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FCC5-7860-41C0-8323-AF9C096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FE2F-2DBB-4F2A-9100-3D71FB4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C207-E74A-400A-808D-7499968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E3FD-A53A-482D-9A48-0375765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9312-6505-4F75-844A-129546A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643A-95BA-4ED4-8BFE-3664AF12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0B04-C5DF-4F34-B704-CC95F6D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F87-0C10-4025-A158-D7FAB2C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999-EC38-44DA-9209-0CAC122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91E-2F0C-44DE-99B3-C083A24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746-C19C-44C8-B875-9AD282D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325-30B9-4339-8195-D5FCFF5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A5B-30B4-4CE1-AA76-9E63EDF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96F-C04A-4FAF-8AFF-DCFA8219AA6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0AB-E92B-4A40-9D10-4E105FA042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E54-025C-45F4-80C1-1FE3951A1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FEE6-AC6A-40A5-A3F1-FF658D9AC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1440" y="0"/>
            <a:ext cx="930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1440" y="0"/>
            <a:ext cx="930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84240" y="-17640"/>
            <a:ext cx="93362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8440" y="1440"/>
            <a:ext cx="9337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-28440" y="4680"/>
            <a:ext cx="9315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"/>
          <p:cNvPicPr/>
          <p:nvPr/>
        </p:nvPicPr>
        <p:blipFill>
          <a:blip r:embed="rId1"/>
          <a:stretch/>
        </p:blipFill>
        <p:spPr>
          <a:xfrm>
            <a:off x="1440" y="1440"/>
            <a:ext cx="93456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6:14:21Z</dcterms:created>
  <dc:creator>sg</dc:creator>
  <dc:description/>
  <dc:language>en-US</dc:language>
  <cp:lastModifiedBy>a</cp:lastModifiedBy>
  <dcterms:modified xsi:type="dcterms:W3CDTF">2015-01-14T16:14:3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