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3AA5-D8DB-4767-995C-5AC6706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69287-BE52-427D-AD98-8B8C81BC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EBA2-E414-4E04-8BB5-9E61B64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D8B0-14A3-41A8-B745-3FF3FBB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212E-0F35-4DDB-A905-A0FD9FCE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808C-C54A-4FE3-B47F-6C0A4E6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3EFA4-D902-486A-8FB2-B4B31D3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CC93-7740-48DF-B3F0-084435DF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AB40-76FB-44B5-8928-CEB7C12E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BD79A-E9B9-4C72-BB58-01EEA70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D9490-130C-4FD4-ADBD-FE3CDE3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3D6B5-0D5A-48E1-8E7F-D61C1BD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4D34-F4BE-4C94-BE5D-A62648A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A483-D86C-4FD3-8FDC-A4C8094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62CF9-65C4-41EB-998B-2DB7A64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5652-A49B-426C-AFB4-EA4EAD67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C07B-4E6E-444C-B736-8E66144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152A-BAE4-4F4A-AC19-3D07D2B1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1F86-5C85-47B2-9283-FF8C86B0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6902-B972-430B-9CFA-B33DF4DC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8398-B404-4B10-9F25-73E5C90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74E2A-E289-456F-94E0-D9244F35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888A-DF5D-4033-8542-76D4F74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4570B-ACFA-495F-AA23-635C029D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DDA2-0835-42C3-B1E5-B26B499B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66CE-1AA8-454D-8119-F335224E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E313-0369-4396-9CE0-FE5CE67F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C166-BE46-402F-ACFE-851CCFD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CE654-A46D-4E40-AB42-887087F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60D1-92DB-40C3-A8BE-888CE81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317A-156B-4224-BADB-5D56F1BB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673D-69EB-4A43-93A6-D6ED2DA9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B8F8-0633-4593-884E-5936B964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889E9-8004-47E8-BB84-08E0579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ED89-BC2D-4342-BBF1-C8D38E3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E0DF2-8590-4FC7-A8DF-BC9D2212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223C1-748C-410C-9C29-56CB4E62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613E8-99E5-4606-8F6C-ED80031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57F43-A59A-4098-B9A1-C6BF2497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CB5FD-5BAD-4684-955F-D62BA6F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4B80-EB54-4B16-A374-01AC1A14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96F6A-EB5E-4580-8631-4733098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8012-48E2-4A69-9C08-60285A3F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6DD25-F086-4F3D-89C0-315C7732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7B9D-EA7C-43BF-B587-5EEE72FD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76E4C-9D7D-451E-967C-75A5FB2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54759-16EC-4132-9719-350DF451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9278B-5E7A-4B5D-8545-5F2E7781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AB692-55CB-47FA-80B0-9EDF8E8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B7C88-1A22-47DB-BDA1-E80439F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3F152-1905-46AC-B2BA-55F6B85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C2D0F-5FA6-4D8B-BE34-E7C3973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07322-5419-419C-9EF4-FA9DCBC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55986-EBF2-4ACE-B25F-85DA039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6866-1A7C-47BF-80F9-C6910ED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51796-24F4-4B3C-8D09-03697CA1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B9E5D-80B2-47FE-A971-C09F1BA7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3EA3A-B86E-4051-A4D4-364934DB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12FA-1E89-482D-8DE2-DD810328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D936C-EEC3-46F5-83F0-28CD8C5B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64848-5C78-4914-89CD-E1D9FFF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E6714-7537-4B7E-98B0-68798F3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3DF2B-998B-4A5F-88F6-46664BA0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F5952-67F3-46DA-A31F-C3475DF5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2878-9D66-489A-871E-E533EAA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C8F86-1E7D-4142-A550-24795DE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9580-1C2C-4AD4-964A-756D5D4F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7CF1-C8B5-4384-92E0-0C3877DA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07395-1192-4686-B54C-6BEF5012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4FA92-674E-464C-8BCB-253FC3F9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5C38-20E4-447B-9A3B-24DA2C1F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4D68C-3A1F-41BB-91DF-13B7F5BD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712F7-C8E3-41E7-A4C8-FB4AF57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B09E-A136-47F5-914F-96767174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AE63F-1CCA-4F5B-B1B0-558A167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DBAE6-B6AC-4908-98A5-679F0A4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FFAD5-A281-4052-B314-D5066B0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0D50F-8819-4B7D-8778-5AA6747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A9507-7402-4002-8C94-F1F91CA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2AE7B-2175-426D-9B12-01795034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C1524-E41F-4ADF-9CD1-E1538B5B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7E7-314C-439D-8F35-7CE5D562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58B-AE48-4E01-9832-E328632C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398-543A-41CA-B96C-4A14C35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B92-B5B1-40B7-A0E1-0975B51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03C-E172-4F63-A258-ACC897BA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625-3186-4C9C-A448-B953651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17D-BF3D-418C-9EAE-268A99C4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213-3782-4C12-B8A6-771CF86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A36-90B0-4912-A6BD-70D9322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F66-EE34-4E4B-A6FB-3A84DD5A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C6D-B173-4156-B99F-556AAB5E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25E-F088-4C05-96E9-80F638A2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D8F5-ADC6-448D-BD75-D8AD5EBE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92A-6C68-46A6-B090-3706B07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35FD-F24A-41BA-8CF5-9E3550D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93B-A174-4892-BFF7-991B1EE5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352C-6E51-43AC-A32A-E8DA019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98F-F6EA-48D7-9C6D-9CAEFF8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894-BD9C-406C-B454-9C94DE3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223C-AE42-4FFE-8FD4-BA37385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719-3072-4B28-917E-4B3DBAF8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EEEA-77F8-4E68-9DE7-472A97C2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1DB2-9083-4EFD-B39B-3B471082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CA96-360C-4511-9FE5-91B4C429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96E3-5CC1-4190-99FE-2ABA2AD2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44EE-55BE-4185-B633-8179E35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AB63-FB8C-4FFA-B8E0-F3CDA50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D57B-2F49-4F00-8A92-1C86FCF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982F-6985-4EAD-BAC4-07CB99F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C35A-FCD8-46B1-9619-EBCB6ABE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4CB4-1F02-498E-A996-E131F0B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B3A4-9C1B-4266-A332-6DAA8BA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A122-411E-460B-9F5D-FACF840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FA25-EC65-4552-B59A-AA8DD41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F648-00DF-48F7-B8AF-9F16E195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C3FB-E78B-41D6-8963-9C1FD36F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5D90-5C56-4CD2-9FDB-B4896791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FDD7-6E85-4069-9C07-186D85D3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E0F5-6A6B-4D17-B30F-9FB49FB5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D2AB-E8A5-4ECF-8BCC-5C49C1E5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3D98-0807-4F48-B5C5-FBFBE6F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F296-B3C3-4A70-B94A-A596AD96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B664-4B60-4135-BCD1-8038AEF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77C9-C03E-43BE-89A3-CF0D0CC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7F8B-EEEF-42A4-8AEF-A7E9FA5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4219-B930-435A-8062-3D55D23D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4955-99D4-4E38-87D9-81E0929B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FFB8-7D46-4735-BBC9-11714460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1A379-C66B-4754-B97C-68837BBC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7C1E-E85B-416E-B9D2-E8A69E5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2A97-84DF-43E3-9D61-6A9EF80E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5E05-8897-4DC1-B0CC-1A335F5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851B-F97A-41B2-AD36-E597577B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46DA-136B-4EF5-9B57-48C6E0C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E93A-4675-4CB2-BD3D-905AE4E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7519-93DC-411F-B727-2413D7CE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D4FD-4776-4AD5-9AA2-88858A8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79D2-E468-47B8-A46F-120C66D5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7248-B4B2-406E-8506-5BB59469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5C2C-CB34-4A1E-B5EA-3DA47A85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5E9D-874B-4B8A-8FEC-00C61FA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F68B-AD18-4633-977A-7CA0AFF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FE6B-BF71-41A8-8E90-FB999170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2560" cy="3495600"/>
          </a:xfrm>
          <a:prstGeom prst="rect">
            <a:avLst/>
          </a:prstGeom>
          <a:ln w="0">
            <a:noFill/>
          </a:ln>
        </p:spPr>
      </p:pic>
      <p:pic>
        <p:nvPicPr>
          <p:cNvPr id="1" name="그림 4" descr="Untitled-4.png"/>
          <p:cNvPicPr/>
          <p:nvPr/>
        </p:nvPicPr>
        <p:blipFill>
          <a:blip r:embed="rId3"/>
          <a:stretch/>
        </p:blipFill>
        <p:spPr>
          <a:xfrm>
            <a:off x="539640" y="4076640"/>
            <a:ext cx="3219480" cy="1990800"/>
          </a:xfrm>
          <a:prstGeom prst="rect">
            <a:avLst/>
          </a:prstGeom>
          <a:ln w="0">
            <a:noFill/>
          </a:ln>
        </p:spPr>
      </p:pic>
      <p:pic>
        <p:nvPicPr>
          <p:cNvPr id="2" name="그림 5" descr="Untitled-5.png"/>
          <p:cNvPicPr/>
          <p:nvPr/>
        </p:nvPicPr>
        <p:blipFill>
          <a:blip r:embed="rId4"/>
          <a:stretch/>
        </p:blipFill>
        <p:spPr>
          <a:xfrm>
            <a:off x="5300640" y="1071720"/>
            <a:ext cx="3424320" cy="37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D7BB-3E47-4932-8B92-54854B585BEF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A1E-1106-4F03-91E6-7BD26E7AC49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060-44E3-427F-8E43-806E7FCAD04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2692-7038-4D0B-B1E1-3C773C3320F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71DF-E2BE-42C5-8405-68820DBCDE02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3FB8-D202-45C8-B970-946C6B91630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8A3-DA32-4C14-AF43-A56C4B06A6E9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D04-A610-4642-A042-5FCB7A706BF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D25-B1E6-4E7B-9E7D-4DE675A816A0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E5A3-2014-48B7-A952-294348DDB2E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423-8846-473A-BCF8-4271BA6A7F2A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A801-7B47-4CC4-8635-2AB549314D7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0" name="Group 3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41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3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4" name="그림 10" descr="Untitled-6.png"/>
          <p:cNvPicPr/>
          <p:nvPr/>
        </p:nvPicPr>
        <p:blipFill>
          <a:blip r:embed="rId3"/>
          <a:stretch/>
        </p:blipFill>
        <p:spPr>
          <a:xfrm>
            <a:off x="250920" y="4292640"/>
            <a:ext cx="1685880" cy="1562040"/>
          </a:xfrm>
          <a:prstGeom prst="rect">
            <a:avLst/>
          </a:prstGeom>
          <a:ln w="0">
            <a:noFill/>
          </a:ln>
        </p:spPr>
      </p:pic>
      <p:pic>
        <p:nvPicPr>
          <p:cNvPr id="45" name="그림 11" descr="Untitled-7.png"/>
          <p:cNvPicPr/>
          <p:nvPr/>
        </p:nvPicPr>
        <p:blipFill>
          <a:blip r:embed="rId4"/>
          <a:stretch/>
        </p:blipFill>
        <p:spPr>
          <a:xfrm>
            <a:off x="7162920" y="4724280"/>
            <a:ext cx="1981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7299360" y="6410160"/>
            <a:ext cx="1693800" cy="307080"/>
            <a:chOff x="7299360" y="6410160"/>
            <a:chExt cx="1693800" cy="307080"/>
          </a:xfrm>
        </p:grpSpPr>
        <p:sp>
          <p:nvSpPr>
            <p:cNvPr id="84" name="Text Box 80"/>
            <p:cNvSpPr/>
            <p:nvPr/>
          </p:nvSpPr>
          <p:spPr>
            <a:xfrm>
              <a:off x="8236080" y="6410160"/>
              <a:ext cx="7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Futura Md BT"/>
                </a:rPr>
                <a:t>LOGO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Text Box 81"/>
            <p:cNvSpPr/>
            <p:nvPr/>
          </p:nvSpPr>
          <p:spPr>
            <a:xfrm>
              <a:off x="7299360" y="6457680"/>
              <a:ext cx="122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Futura Md BT"/>
                </a:rPr>
                <a:t>Company Syste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6" name="Rectangle 82"/>
          <p:cNvSpPr/>
          <p:nvPr/>
        </p:nvSpPr>
        <p:spPr>
          <a:xfrm>
            <a:off x="29412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4d73"/>
                </a:solidFill>
                <a:latin typeface="HelveticaNeue LT 45 Light"/>
              </a:rPr>
              <a:t>ADD SUB TITLE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7" name="그림 37" descr="Untitled-8.png"/>
          <p:cNvPicPr/>
          <p:nvPr/>
        </p:nvPicPr>
        <p:blipFill>
          <a:blip r:embed="rId3"/>
          <a:stretch/>
        </p:blipFill>
        <p:spPr>
          <a:xfrm>
            <a:off x="0" y="4124160"/>
            <a:ext cx="1095480" cy="1752840"/>
          </a:xfrm>
          <a:prstGeom prst="rect">
            <a:avLst/>
          </a:prstGeom>
          <a:ln w="0">
            <a:noFill/>
          </a:ln>
        </p:spPr>
      </p:pic>
      <p:pic>
        <p:nvPicPr>
          <p:cNvPr id="88" name="그림 38" descr="Untitled-9.png"/>
          <p:cNvPicPr/>
          <p:nvPr/>
        </p:nvPicPr>
        <p:blipFill>
          <a:blip r:embed="rId4"/>
          <a:stretch/>
        </p:blipFill>
        <p:spPr>
          <a:xfrm>
            <a:off x="6724800" y="3933720"/>
            <a:ext cx="2419200" cy="189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73F-49E7-4808-B33F-FD5C9B44A1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F6A-97C3-4108-9A69-26751ADFB8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88D-A85E-4391-AE8C-11DA084DF0B0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7D6C-82FF-4FE9-9E5F-CA7257D1397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CDB-B392-4481-8235-6B2C9B8545C3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60C7-F32E-4AD6-9139-F5069DCB55A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DED-C781-4AD8-A27C-E66D3E673F31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7EEF-049F-4533-842B-E6BF6369530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4BF-F96F-4C20-9BEF-09855B3C3FDD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7D7-40C5-4A00-BB3A-80CA680AE71F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AE5-3A08-4CFA-896E-C5A5AE2CADA8}" type="datetime">
              <a:rPr b="0" lang="zh-CN" sz="1400" spc="-1" strike="noStrike">
                <a:solidFill>
                  <a:srgbClr val="000000"/>
                </a:solidFill>
                <a:latin typeface="Guli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5EBF-E264-4E27-B12E-4F49DE9F349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5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59"/>
          <p:cNvSpPr/>
          <p:nvPr/>
        </p:nvSpPr>
        <p:spPr>
          <a:xfrm>
            <a:off x="7669800" y="9018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Neue LT 45 Light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18" name="직사각형 5" descr=""/>
          <p:cNvPicPr/>
          <p:nvPr/>
        </p:nvPicPr>
        <p:blipFill>
          <a:blip r:embed="rId1"/>
          <a:stretch/>
        </p:blipFill>
        <p:spPr>
          <a:xfrm>
            <a:off x="152280" y="1609560"/>
            <a:ext cx="6559560" cy="743040"/>
          </a:xfrm>
          <a:prstGeom prst="rect">
            <a:avLst/>
          </a:prstGeom>
          <a:ln w="0">
            <a:noFill/>
          </a:ln>
        </p:spPr>
      </p:pic>
      <p:pic>
        <p:nvPicPr>
          <p:cNvPr id="619" name="직사각형 6" descr=""/>
          <p:cNvPicPr/>
          <p:nvPr/>
        </p:nvPicPr>
        <p:blipFill>
          <a:blip r:embed="rId2"/>
          <a:stretch/>
        </p:blipFill>
        <p:spPr>
          <a:xfrm>
            <a:off x="0" y="2225520"/>
            <a:ext cx="5473800" cy="1084320"/>
          </a:xfrm>
          <a:prstGeom prst="rect">
            <a:avLst/>
          </a:prstGeom>
          <a:ln w="0">
            <a:noFill/>
          </a:ln>
        </p:spPr>
      </p:pic>
      <p:sp>
        <p:nvSpPr>
          <p:cNvPr id="620" name="직사각형 7"/>
          <p:cNvSpPr/>
          <p:nvPr/>
        </p:nvSpPr>
        <p:spPr>
          <a:xfrm>
            <a:off x="3995640" y="5013360"/>
            <a:ext cx="48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Franklin Gothic Book"/>
              </a:rPr>
              <a:t>Our company respects everybody is doing a best. Thinks the customer first of all. Loves the customer. Will increase in the customer and thanks. Will become the company which endeavors always. Thanks. 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그림 34" descr="Untitled-12.png"/>
          <p:cNvPicPr/>
          <p:nvPr/>
        </p:nvPicPr>
        <p:blipFill>
          <a:blip r:embed="rId1"/>
          <a:stretch/>
        </p:blipFill>
        <p:spPr>
          <a:xfrm>
            <a:off x="1427040" y="2773440"/>
            <a:ext cx="792360" cy="2408040"/>
          </a:xfrm>
          <a:prstGeom prst="rect">
            <a:avLst/>
          </a:prstGeom>
          <a:ln w="0">
            <a:noFill/>
          </a:ln>
        </p:spPr>
      </p:pic>
      <p:pic>
        <p:nvPicPr>
          <p:cNvPr id="622" name="그림 27" descr="Untitled-10.png"/>
          <p:cNvPicPr/>
          <p:nvPr/>
        </p:nvPicPr>
        <p:blipFill>
          <a:blip r:embed="rId2"/>
          <a:stretch/>
        </p:blipFill>
        <p:spPr>
          <a:xfrm>
            <a:off x="993600" y="1779480"/>
            <a:ext cx="2097360" cy="1427400"/>
          </a:xfrm>
          <a:prstGeom prst="rect">
            <a:avLst/>
          </a:prstGeom>
          <a:ln w="0">
            <a:noFill/>
          </a:ln>
        </p:spPr>
      </p:pic>
      <p:pic>
        <p:nvPicPr>
          <p:cNvPr id="623" name="그림 28" descr="Untitled-11.png"/>
          <p:cNvPicPr/>
          <p:nvPr/>
        </p:nvPicPr>
        <p:blipFill>
          <a:blip r:embed="rId3"/>
          <a:stretch/>
        </p:blipFill>
        <p:spPr>
          <a:xfrm>
            <a:off x="1700280" y="3213000"/>
            <a:ext cx="1774800" cy="1273320"/>
          </a:xfrm>
          <a:prstGeom prst="rect">
            <a:avLst/>
          </a:prstGeom>
          <a:ln w="0">
            <a:noFill/>
          </a:ln>
        </p:spPr>
      </p:pic>
      <p:pic>
        <p:nvPicPr>
          <p:cNvPr id="624" name="그림 35" descr="Untitled-11.png"/>
          <p:cNvPicPr/>
          <p:nvPr/>
        </p:nvPicPr>
        <p:blipFill>
          <a:blip r:embed="rId4"/>
          <a:stretch/>
        </p:blipFill>
        <p:spPr>
          <a:xfrm>
            <a:off x="1627200" y="4395960"/>
            <a:ext cx="2255760" cy="140148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82"/>
          <p:cNvSpPr/>
          <p:nvPr/>
        </p:nvSpPr>
        <p:spPr>
          <a:xfrm>
            <a:off x="39528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Rectangle 84"/>
          <p:cNvSpPr/>
          <p:nvPr/>
        </p:nvSpPr>
        <p:spPr>
          <a:xfrm>
            <a:off x="39528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27" name="Rectangle 82" descr=""/>
          <p:cNvPicPr/>
          <p:nvPr/>
        </p:nvPicPr>
        <p:blipFill>
          <a:blip r:embed="rId5"/>
          <a:stretch/>
        </p:blipFill>
        <p:spPr>
          <a:xfrm>
            <a:off x="145728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82" descr=""/>
          <p:cNvPicPr/>
          <p:nvPr/>
        </p:nvPicPr>
        <p:blipFill>
          <a:blip r:embed="rId6"/>
          <a:stretch/>
        </p:blipFill>
        <p:spPr>
          <a:xfrm>
            <a:off x="2114640" y="3571920"/>
            <a:ext cx="1317600" cy="603360"/>
          </a:xfrm>
          <a:prstGeom prst="rect">
            <a:avLst/>
          </a:prstGeom>
          <a:ln w="0">
            <a:noFill/>
          </a:ln>
        </p:spPr>
      </p:pic>
      <p:pic>
        <p:nvPicPr>
          <p:cNvPr id="629" name="Rectangle 82" descr=""/>
          <p:cNvPicPr/>
          <p:nvPr/>
        </p:nvPicPr>
        <p:blipFill>
          <a:blip r:embed="rId7"/>
          <a:stretch/>
        </p:blipFill>
        <p:spPr>
          <a:xfrm>
            <a:off x="2114640" y="4730760"/>
            <a:ext cx="1317600" cy="609480"/>
          </a:xfrm>
          <a:prstGeom prst="rect">
            <a:avLst/>
          </a:prstGeom>
          <a:ln w="0">
            <a:noFill/>
          </a:ln>
        </p:spPr>
      </p:pic>
      <p:pic>
        <p:nvPicPr>
          <p:cNvPr id="630" name="그림 51" descr="Untitled-13.png"/>
          <p:cNvPicPr/>
          <p:nvPr/>
        </p:nvPicPr>
        <p:blipFill>
          <a:blip r:embed="rId8"/>
          <a:stretch/>
        </p:blipFill>
        <p:spPr>
          <a:xfrm>
            <a:off x="5651640" y="1879560"/>
            <a:ext cx="2381040" cy="248616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82"/>
          <p:cNvSpPr/>
          <p:nvPr/>
        </p:nvSpPr>
        <p:spPr>
          <a:xfrm>
            <a:off x="5940360" y="228924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b61"/>
                </a:solidFill>
                <a:latin typeface="Georgia"/>
              </a:rPr>
              <a:t>Not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Rectangle 84"/>
          <p:cNvSpPr/>
          <p:nvPr/>
        </p:nvSpPr>
        <p:spPr>
          <a:xfrm>
            <a:off x="5961240" y="2577960"/>
            <a:ext cx="1152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33" name="그림 57" descr="Untitled-12.png"/>
          <p:cNvPicPr/>
          <p:nvPr/>
        </p:nvPicPr>
        <p:blipFill>
          <a:blip r:embed="rId9"/>
          <a:stretch/>
        </p:blipFill>
        <p:spPr>
          <a:xfrm>
            <a:off x="3657600" y="2773440"/>
            <a:ext cx="792000" cy="2408040"/>
          </a:xfrm>
          <a:prstGeom prst="rect">
            <a:avLst/>
          </a:prstGeom>
          <a:ln w="0">
            <a:noFill/>
          </a:ln>
        </p:spPr>
      </p:pic>
      <p:pic>
        <p:nvPicPr>
          <p:cNvPr id="634" name="그림 58" descr="Untitled-10.png"/>
          <p:cNvPicPr/>
          <p:nvPr/>
        </p:nvPicPr>
        <p:blipFill>
          <a:blip r:embed="rId10"/>
          <a:stretch/>
        </p:blipFill>
        <p:spPr>
          <a:xfrm>
            <a:off x="3224160" y="1779480"/>
            <a:ext cx="2097000" cy="1427400"/>
          </a:xfrm>
          <a:prstGeom prst="rect">
            <a:avLst/>
          </a:prstGeom>
          <a:ln w="0">
            <a:noFill/>
          </a:ln>
        </p:spPr>
      </p:pic>
      <p:pic>
        <p:nvPicPr>
          <p:cNvPr id="635" name="그림 59" descr="Untitled-11.png"/>
          <p:cNvPicPr/>
          <p:nvPr/>
        </p:nvPicPr>
        <p:blipFill>
          <a:blip r:embed="rId11"/>
          <a:stretch/>
        </p:blipFill>
        <p:spPr>
          <a:xfrm>
            <a:off x="3932280" y="3213000"/>
            <a:ext cx="1779480" cy="1273320"/>
          </a:xfrm>
          <a:prstGeom prst="rect">
            <a:avLst/>
          </a:prstGeom>
          <a:ln w="0">
            <a:noFill/>
          </a:ln>
        </p:spPr>
      </p:pic>
      <p:pic>
        <p:nvPicPr>
          <p:cNvPr id="636" name="그림 60" descr="Untitled-11.png"/>
          <p:cNvPicPr/>
          <p:nvPr/>
        </p:nvPicPr>
        <p:blipFill>
          <a:blip r:embed="rId12"/>
          <a:stretch/>
        </p:blipFill>
        <p:spPr>
          <a:xfrm>
            <a:off x="3865680" y="4395960"/>
            <a:ext cx="2249280" cy="1401480"/>
          </a:xfrm>
          <a:prstGeom prst="rect">
            <a:avLst/>
          </a:prstGeom>
          <a:ln w="0">
            <a:noFill/>
          </a:ln>
        </p:spPr>
      </p:pic>
      <p:pic>
        <p:nvPicPr>
          <p:cNvPr id="637" name="Rectangle 82" descr=""/>
          <p:cNvPicPr/>
          <p:nvPr/>
        </p:nvPicPr>
        <p:blipFill>
          <a:blip r:embed="rId13"/>
          <a:stretch/>
        </p:blipFill>
        <p:spPr>
          <a:xfrm>
            <a:off x="3687840" y="2133720"/>
            <a:ext cx="1328760" cy="639720"/>
          </a:xfrm>
          <a:prstGeom prst="rect">
            <a:avLst/>
          </a:prstGeom>
          <a:ln w="0">
            <a:noFill/>
          </a:ln>
        </p:spPr>
      </p:pic>
      <p:pic>
        <p:nvPicPr>
          <p:cNvPr id="638" name="Rectangle 82" descr=""/>
          <p:cNvPicPr/>
          <p:nvPr/>
        </p:nvPicPr>
        <p:blipFill>
          <a:blip r:embed="rId14"/>
          <a:stretch/>
        </p:blipFill>
        <p:spPr>
          <a:xfrm>
            <a:off x="4352760" y="3571920"/>
            <a:ext cx="1309680" cy="603360"/>
          </a:xfrm>
          <a:prstGeom prst="rect">
            <a:avLst/>
          </a:prstGeom>
          <a:ln w="0">
            <a:noFill/>
          </a:ln>
        </p:spPr>
      </p:pic>
      <p:pic>
        <p:nvPicPr>
          <p:cNvPr id="639" name="Rectangle 82" descr=""/>
          <p:cNvPicPr/>
          <p:nvPr/>
        </p:nvPicPr>
        <p:blipFill>
          <a:blip r:embed="rId15"/>
          <a:stretch/>
        </p:blipFill>
        <p:spPr>
          <a:xfrm>
            <a:off x="4352760" y="4730760"/>
            <a:ext cx="1309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그림 65" descr="Untitled-14.png"/>
          <p:cNvPicPr/>
          <p:nvPr/>
        </p:nvPicPr>
        <p:blipFill>
          <a:blip r:embed="rId1"/>
          <a:stretch/>
        </p:blipFill>
        <p:spPr>
          <a:xfrm>
            <a:off x="1339920" y="21337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641" name="그림 66" descr="Untitled-15.png"/>
          <p:cNvPicPr/>
          <p:nvPr/>
        </p:nvPicPr>
        <p:blipFill>
          <a:blip r:embed="rId2"/>
          <a:stretch/>
        </p:blipFill>
        <p:spPr>
          <a:xfrm>
            <a:off x="5730840" y="206208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642" name="그림 68" descr="Untitled-17.png"/>
          <p:cNvPicPr/>
          <p:nvPr/>
        </p:nvPicPr>
        <p:blipFill>
          <a:blip r:embed="rId3"/>
          <a:stretch/>
        </p:blipFill>
        <p:spPr>
          <a:xfrm>
            <a:off x="2057400" y="1989000"/>
            <a:ext cx="4943520" cy="4248360"/>
          </a:xfrm>
          <a:prstGeom prst="rect">
            <a:avLst/>
          </a:prstGeom>
          <a:ln w="0">
            <a:noFill/>
          </a:ln>
        </p:spPr>
      </p:pic>
      <p:pic>
        <p:nvPicPr>
          <p:cNvPr id="643" name="Rectangle 82" descr=""/>
          <p:cNvPicPr/>
          <p:nvPr/>
        </p:nvPicPr>
        <p:blipFill>
          <a:blip r:embed="rId4"/>
          <a:stretch/>
        </p:blipFill>
        <p:spPr>
          <a:xfrm>
            <a:off x="3895560" y="2743200"/>
            <a:ext cx="1114560" cy="536400"/>
          </a:xfrm>
          <a:prstGeom prst="rect">
            <a:avLst/>
          </a:prstGeom>
          <a:ln w="0">
            <a:noFill/>
          </a:ln>
        </p:spPr>
      </p:pic>
      <p:pic>
        <p:nvPicPr>
          <p:cNvPr id="644" name="Rectangle 82" descr=""/>
          <p:cNvPicPr/>
          <p:nvPr/>
        </p:nvPicPr>
        <p:blipFill>
          <a:blip r:embed="rId5"/>
          <a:stretch/>
        </p:blipFill>
        <p:spPr>
          <a:xfrm>
            <a:off x="3828960" y="3444840"/>
            <a:ext cx="1060560" cy="566640"/>
          </a:xfrm>
          <a:prstGeom prst="rect">
            <a:avLst/>
          </a:prstGeom>
          <a:ln w="0">
            <a:noFill/>
          </a:ln>
        </p:spPr>
      </p:pic>
      <p:pic>
        <p:nvPicPr>
          <p:cNvPr id="645" name="Rectangle 82" descr=""/>
          <p:cNvPicPr/>
          <p:nvPr/>
        </p:nvPicPr>
        <p:blipFill>
          <a:blip r:embed="rId6"/>
          <a:stretch/>
        </p:blipFill>
        <p:spPr>
          <a:xfrm>
            <a:off x="3760920" y="4175280"/>
            <a:ext cx="1055520" cy="568080"/>
          </a:xfrm>
          <a:prstGeom prst="rect">
            <a:avLst/>
          </a:prstGeom>
          <a:ln w="0">
            <a:noFill/>
          </a:ln>
        </p:spPr>
      </p:pic>
      <p:pic>
        <p:nvPicPr>
          <p:cNvPr id="646" name="Rectangle 82" descr=""/>
          <p:cNvPicPr/>
          <p:nvPr/>
        </p:nvPicPr>
        <p:blipFill>
          <a:blip r:embed="rId7"/>
          <a:stretch/>
        </p:blipFill>
        <p:spPr>
          <a:xfrm>
            <a:off x="3760920" y="5029200"/>
            <a:ext cx="1055520" cy="5666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82"/>
          <p:cNvSpPr/>
          <p:nvPr/>
        </p:nvSpPr>
        <p:spPr>
          <a:xfrm>
            <a:off x="1835280" y="3286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Rectangle 82"/>
          <p:cNvSpPr/>
          <p:nvPr/>
        </p:nvSpPr>
        <p:spPr>
          <a:xfrm>
            <a:off x="615636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Rectangle 82"/>
          <p:cNvSpPr/>
          <p:nvPr/>
        </p:nvSpPr>
        <p:spPr>
          <a:xfrm>
            <a:off x="6588000" y="24224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Rectangle 82"/>
          <p:cNvSpPr/>
          <p:nvPr/>
        </p:nvSpPr>
        <p:spPr>
          <a:xfrm rot="16200000">
            <a:off x="1737720" y="2159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b61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Rectangle 82"/>
          <p:cNvSpPr/>
          <p:nvPr/>
        </p:nvSpPr>
        <p:spPr>
          <a:xfrm rot="1305000">
            <a:off x="1456920" y="27558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Rectangle 82"/>
          <p:cNvSpPr/>
          <p:nvPr/>
        </p:nvSpPr>
        <p:spPr>
          <a:xfrm>
            <a:off x="468360" y="907920"/>
            <a:ext cx="27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Rectangle 84"/>
          <p:cNvSpPr/>
          <p:nvPr/>
        </p:nvSpPr>
        <p:spPr>
          <a:xfrm>
            <a:off x="46836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Georgia"/>
              </a:rPr>
              <a:t>Our company respects everybody is doing a best. Thinks the customer first of all. Loves the customer. Will increase in the customer and thanks. Will become the company which endeavors always. Thanks.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6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5T01:48:53Z</dcterms:modified>
  <cp:revision>1</cp:revision>
  <dc:subject/>
  <dc:title>PowerPoint 演示文稿</dc:title>
</cp:coreProperties>
</file>