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4779-0705-434D-A368-7CE1AB7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35B1C-3501-42EE-AA5E-E1F670A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4FEA-6033-4233-BEAE-0892E5D1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8A61-14B9-4BB7-8D65-0765252B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53569-5503-4473-A3DB-EC0ABC0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40280-0553-470F-91F2-0825983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280A-340F-4020-9EBA-11D481C1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5C021-AECD-4A65-BCD2-A5CBAE45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9A628-1B3B-4A27-8807-F377149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F4AB1-6BC8-4800-A4AB-A7E75011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0F9E-D167-4958-BDA5-2475B777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8C47C-3E35-4B02-9A96-F6AE5A9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2AE74-FDB1-40BF-8DFC-F2E9B762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7BA39-0C3A-4370-8BCD-0BBFC543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AB84C-8425-4D6B-A2B7-9EA55F5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313FA-DE99-477F-A02F-D5C2A9E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859BC-1D98-4FA6-800D-6AF9A0F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0F040-9B8E-4EE9-8776-061C6EFB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41D5-6B2D-4E57-B6D9-3D2FD7F0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C3C43-4D80-432B-8EB6-F65FED62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DF7A3-842D-4480-AE8E-B6496CAD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80031-B7CB-4EF3-9C6D-9C22C3ED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C6296-21D8-4774-A650-7EEF865F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EFBC4-9331-436F-865A-A9B2FA6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D7B6D-3E38-4D3A-9453-8E09CB0A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40FA3-B3BF-4924-9FD1-04028FA1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56C9-8120-4562-B30A-727BD6BF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74A20-2EF9-4EC9-9957-F0D3D9A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3AE81-65C5-4901-A234-AF898C05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7B024-284E-4CAD-88A1-0DB4101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6E3-C2EE-4F13-A9AD-A47D2B51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7A0AE-AC1E-443B-872E-3D47F7B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3694C-CCDE-4204-B839-4DB5F55B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27D1F-AD32-4762-A4BB-F70BB021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0039A-B15D-4245-AB14-EE6745BC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DBF04-F052-424A-8E71-22ED4E51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83D5-08F6-464C-8DC0-FAE18CD0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225FA-3064-485B-9215-8E05359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17CD7-9D6F-4C0C-96F1-121D27E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214C5-DD70-4219-9EC6-D536B58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49C42-967F-4A93-9676-16373E5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910-4755-432A-BA5D-64264F4C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395E-735A-41FF-BC2D-A7137B34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24F50-92E6-42E5-BF80-6AB72D9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C61CE-A09E-459A-8E20-54341FE2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533C5-469A-41CF-8127-4C87995B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7085C-5B98-43C8-BC30-89D9DC86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ACF19-71EB-419D-B0BA-0F098F56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9BB49-4988-4CF7-9013-C02D982D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7A385-44A5-4AA7-8807-E1BDC59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D57AE-DEC0-45D5-8D7F-5DD7585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4E6F3-5E1F-42F5-94AE-E2F0023F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774-F702-4509-A4AE-8CC8B30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36025-653D-4B8C-AEDF-9CDDC30D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0ABF-68B1-4083-9F23-C7063B5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09F86-EE2A-4759-B117-8B9C65A7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B178-16F9-4F9B-A8BF-5451487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A0A4A-3FCD-4524-8F85-89F2871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47EB9-7C49-431B-8F13-1EA2BC37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3513F-98F6-456B-BE72-6C727550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5B2-29C5-417D-B923-681BAF3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664-6AA0-4BC8-83EC-0951C62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568-EA42-4D39-9380-8C21518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3A2-6671-48D5-8BB9-CB577FB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A62-DB7E-472A-A415-06E7245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E57-A01C-4F0D-AFA8-13526E9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948-A001-4A51-969A-F41EEE74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A07-8008-43DD-B4E7-4D294D3E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9A9-6BEF-4838-9734-E7B439E0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1030-CE7B-402D-AE48-1950C8F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DDA-50C9-415F-8B75-4F08DB6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3BB0-5E1B-4ADB-85F8-F71365C2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3D77-A904-4AB0-B72A-086A174C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FAF2-304B-4F97-918C-FD88126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3B8-DE5A-4573-98F4-A926D1F0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C1C5-B944-4AB7-B2B0-370F678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C42D-FFF0-4FC1-A5F9-FE66517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669-7D77-4A60-BC5E-0BD2741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B2B-1AD1-4773-ABAC-C2C7E753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30B9-B1FC-4B8A-B8D1-B2CFC7FE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BC18-E008-4320-A441-15764234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8884-28C5-4980-9A9B-26F14097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3CA1-462A-45A0-A5D1-91342573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DBD3-2B50-4100-8E3D-4A5C0781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9CFE-DAB9-4B3C-A219-AB790AD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AEEF-A309-4BB0-AEFD-A5C7F6B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70BA-D815-4E57-B77D-A5EC205A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27D3-706E-4C19-BB10-9F9F020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A6B6-3B5B-4C35-94BB-87E86CB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DF30-8B13-4128-B8C0-C5095D6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10E1-F4F1-4521-A36D-1F916AF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CEE5-958F-4A75-8E99-6004488E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5BE4-C95E-44ED-9DB4-9AFE8A6B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878A-8EED-467C-BF1B-04D374F0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F0E3-795F-4461-9235-5913741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284A-D658-43D6-9B02-2818CB5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8E0A-E9EE-4E20-9E8E-78A30544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17BD-CDD1-4AFF-8805-1F7668C5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7C16-9E6C-4807-88A4-C36838DB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69A9-7033-48BA-904C-4DED8810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2EB4-846A-4B6F-B7AB-B78996C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8C24F-7E22-4321-873B-186DA8A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3A62-52DE-4B53-9396-612237BF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0E1E-2787-4813-9336-EC6AE588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D8BE-80D1-454F-BB52-43B9DFC8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FCEA-3F07-4038-B81A-90BEE57A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0EC96-19EA-4870-824B-DB9E3C43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72CD-4265-4A7A-A548-8F2B660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A946-0F9E-4544-9133-88990FB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C710D-2DF8-4003-95B4-CFB3F783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C334-3713-4BEC-AABB-7711F81E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D402-5CB9-4F8E-86E8-8CCC43E6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6931-1048-4684-A889-3EC3334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90A25-41CE-4CDB-B741-B1E1974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DE9D-A4EE-4DD8-8173-D98ACD7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6DECD-9180-420D-BD24-CECD0E6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8D40-1B8E-4705-A18A-4A8D5A58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BC22-7CD9-4FD5-BF26-005C7187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BEDA-C88F-4809-96A9-71495A4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30D4A-EADE-4EE6-AC14-18BB8074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7CFD6-10C0-411B-96ED-8C0433F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CEE7-5B90-4F0D-BEE6-F32356E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1A8F1-6C51-48E5-B89B-6011C098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84FE-2913-441E-9449-B608913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CFB4-836E-447E-BADE-76779FA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7AC3-DCCD-4660-854F-E454403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15177-E355-4E01-95BB-DDEE1586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99FE-3055-423A-BDB9-3B16C0C7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F8CE1-EC68-4EFC-B3F7-C334ACC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F01E-FDF0-41DB-913B-ADF4B4DB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D6EA8-145F-4747-AE3B-47C19B1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4A28-ECAE-40A3-AC74-74B7427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5238-91FB-4B51-9DB2-9F9A080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EDA5D-2902-4C7E-B526-76CDCC0A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EBB9-B649-4129-9F65-78D0D00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A0E4-6DA1-405E-B0A5-DA91C74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4035-B542-4B26-8210-D2850BC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47EB-1624-4DFE-A931-30BA83B7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64C34-718F-49E5-AA52-888E1F2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E30F8-E428-4F35-9A9B-EA8EECA3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92C8-AE17-407B-886B-3D680206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DAF1-FA97-4302-BB88-EF3FBBD0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C9308-0D6F-4138-AA4C-B0BCFE7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FEFB-EB4B-4428-A58D-B3396E39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bcb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760E-F9AC-4F5A-BDBC-4E27B9CFCA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F431-1169-4357-8A99-6AC785930E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31E-FB32-4FAA-89FE-E1DD7585D3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18D9-98DC-4B19-89F2-3454B7624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9A58-6324-492D-B84E-F85C12CB07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DEF-6C4F-4DFF-B274-A99212CE6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91B-3C94-49D2-BA9E-B50578702E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DF5-2E74-45EE-A0FC-67D99BCB3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19A-F929-4927-A2D3-934874F72F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881-E01A-4484-9917-E782DC74D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68D-FE75-4E34-8434-83B116392A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5968-7D2E-40B8-BB9F-F06025E09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A26-C348-4414-9EDF-6B84353711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F99C-0858-4DB2-8D39-D6CE899FA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2F62-F6BE-4519-968B-2D302F13ED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DE1-60C2-4199-92B5-7B7651F67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87D0-9495-4302-8131-E30CC286D9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EDC-DF30-4690-9220-245AC63D6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7CCC-1968-4471-A252-9AB6808930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8B5B-67A2-42FF-9E69-0BD292B5E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5DAF-5C5D-4700-A4ED-12B7589072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B07-D316-4E77-B025-6E2DCEF976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A4F0-3B8E-4015-95DF-C3D94FC433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7F76-D916-46DD-AF88-36A5F481F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28960" y="856800"/>
            <a:ext cx="5929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GIS and Higher Education</a:t>
            </a:r>
            <a:endParaRPr b="1" lang="en-US" sz="32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7640" y="1856880"/>
            <a:ext cx="207180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- Dr. Smith</a:t>
            </a:r>
            <a:endParaRPr b="0" lang="en-US" sz="24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Traditional Curriculum</a:t>
            </a:r>
            <a:endParaRPr b="1" lang="en-US" sz="44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42960" y="164304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Build GIS into Coursework</a:t>
            </a: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Incorporate GIS into Programs</a:t>
            </a: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stance Learning and GIS</a:t>
            </a: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GIS Resources</a:t>
            </a:r>
            <a:endParaRPr b="1" lang="en-US" sz="44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ESRI – GIS for Higher Education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Status of GIS Education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Mapalytics – Tailored for the Education Community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National Institute for Technology and Liberal Education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000080" y="2857680"/>
            <a:ext cx="46864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Gulim"/>
              </a:rPr>
              <a:t>Thank you !</a:t>
            </a:r>
            <a:endParaRPr b="0" lang="en-US" sz="4800" spc="-1" strike="noStrike">
              <a:solidFill>
                <a:srgbClr val="d9d9d9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45:00Z</dcterms:created>
  <dc:creator/>
  <dc:description/>
  <cp:keywords/>
  <dc:language>en-US</dc:language>
  <cp:lastModifiedBy>a</cp:lastModifiedBy>
  <dcterms:modified xsi:type="dcterms:W3CDTF">2014-07-23T08:18:22Z</dcterms:modified>
  <cp:revision>2</cp:revision>
  <dc:subject/>
  <dc:title>GIS and Higher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