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EF1-F83B-4B82-8080-16E21EA7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C6B-C76F-488F-B40B-CCB1F40B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314C6-9062-475B-81D3-491625E4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C8D63-9A63-4898-80F9-E5A0C9CF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1384E-304F-483E-B9DC-51EBB082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AF009-B259-4A4F-B79B-5D8B31DE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90744-03E7-49FD-A699-8E204D6F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FBE59-90D7-4FE5-A9E2-17B1F80A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2378D-D282-4884-BA69-355E38EA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E152E-4C92-4B01-9923-C3A6536D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A9F46-E606-430D-9007-509690A7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D350C-76BE-4DC7-8980-E85C4C7D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4B9-0210-4645-9088-D16FA2DA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03A68-857E-417E-AD92-9E8ADC3C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88BEA-83CF-4668-991A-15EF8DB0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B82A0-22F2-4670-AD63-F8D4D4BF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7A2A7-4F30-41FB-9F19-53714D61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3D468-32F5-43B6-A803-7F94A1FC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607BE-A4EB-484F-B617-FCE8069D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CF0CA-42C5-47B9-82CB-8E6DDE00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F98A6-83BE-4CB1-A3FC-F0B76F96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0957D-7A1F-4547-8ABC-9FE6008D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CBF0D-05E7-49E9-BB39-5D45D919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C36-2695-4D80-AD92-4D6593B5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D5FF9-F87A-4D3F-B95B-48081608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6691C-9AC7-4605-A1BF-E56FFBF5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75971-D7A9-47B5-A4A4-C326573B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2C1DC-37E5-4B1F-9ADF-14C6EB79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1C878-5C1B-47BB-9F16-0389192E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229BF-5BF3-4DDF-91C3-A11E601F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5727C-0C71-4840-ADC7-8D7D1E63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36B18-7AC8-40C4-BC38-17D00E0C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198CC-EA36-4D8F-A575-5D7FFD77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E7566-5D40-4A2A-957E-D3636F40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762B-9632-42B6-8096-7CABED28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E3B8B-07E0-44BB-ACF7-03424BB6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A4C6C-E699-48B5-AD32-E6C24959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8FF47-149C-464F-8174-8F040643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8371B-04F1-4165-9E53-CD648FD9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F2D94-2F18-4AB2-B337-2B1EB5B3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38838-7754-4453-9812-04B8E81D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8BF0D-C190-4F90-BAE1-B65FC3DE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56684-4715-4065-BC7E-C664EFD0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FFC33-9E9D-4335-9E1E-A8A256D6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F4368-DA6A-4473-A33F-BA9A45C1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DE01-9877-4D8B-BC55-C23C6FCE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26CF1-F402-4720-81A1-588A81EA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B1E7E-988C-4B24-93F8-E99EE46D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AF2FC-8A6C-4160-A015-98825DA8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CBC3B-236F-447C-A902-A1C67285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ADA91-E91F-4AAB-B391-21FBF8B2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786D4-9939-4294-82CB-0FD90F8E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E8E66-B304-4D4A-9B16-A225E9C0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DA607-6F90-4ED0-863E-E498CBAA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8227E-5B22-4089-BE99-8DD38234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C1672-E220-4886-BE07-92653A7C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5B34-46E6-45D9-B601-08B725FB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F2EFD-A5CF-4B20-BC3B-281E06C6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3D081-F5DC-4F23-91D3-C89F8F5A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F676F-F539-4D5A-B583-6360A553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97D16-BB8B-4CB5-B348-4A138AEA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9DFC4-A46C-40DD-A2AC-9C2048C0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049B3-39E9-4583-9327-19B75FD6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AB655-F79E-47F5-B168-5B332332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B74D-EA7C-4108-AEC3-92AB4A64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195D-EF9F-44CA-9C6D-A1F1DD80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359D-15F4-4BFA-A212-CBF91C50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4165-D884-45FE-B6B9-4FD8D68D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07C-357A-4A67-88C4-0E285A28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69C0-4B42-4A46-AB87-AB6B6AD1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440A-0A07-4EFE-B11C-2AAAF1DA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7A04-FCB7-42E0-B000-309C4C9A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D0FA-51B7-4CC0-8F8F-18E1B90D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F3CB-F626-4186-89F7-7FF3AC39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0550-C755-4732-A847-3462A670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0199-1054-46AC-B690-2844F0AC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BD5F-1241-4D6F-B87F-ED7236A8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4E437-E000-4C2D-AFA1-868876E6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58AF-275E-4611-A955-BED5ACA6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708-CF29-449A-8B78-6B4FACB1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B7DC-7A2F-41B7-B442-C032CF5E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4DF96-8C70-4285-BD35-2441901C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5728-CB83-4610-AF90-DAD24A4A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96731-B4AD-4FB2-8F34-4291A6FB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62DB-8000-4357-92D1-A7D8442A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A7CA-A81C-4C92-AE2F-526E060F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EB476-B515-4437-B6E8-473DBC5C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B2A4D-7F5C-4F4A-AF02-68D3926A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0643-B106-4510-BC06-BDCE53B5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E1E47-C030-4A6F-AECA-484FA7C8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7DD-9D72-4D82-A7F1-F7F10633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3453-45FB-4582-8081-CA0874CF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A80D-D0F4-4BAC-8F97-A17D4660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EFF0A-E2AF-4275-823D-3848FFEE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5999C-E1F2-454B-BFA1-F0D77123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C8BB2-361B-49D5-A79B-6FF35E63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37ECC-5726-4D8C-BCD5-4B7D1385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A2A5E-1471-4B42-BA7C-DA170D1C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2260-08F7-4537-A5FE-95F44709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B3FD-2296-4DDC-80CF-83737B9B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B08DF-1EB1-4DCC-8F23-5BA2DB96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0B2-513A-4048-BA45-D4D20532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7EF8-1950-4A72-99A6-87A83F1A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4725D-C829-402F-82D5-AF531C02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7DBC7-A330-4E01-B276-2E9CCD9E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4909B-482A-4384-8C7A-FF00A145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67F61-3D9B-4A27-8757-54024C1D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7B63E-FA40-41E6-882A-922047CA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B2C65-44DB-49A5-ADC1-41353884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41BC9-E294-45C2-90E6-17F033C3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4C6E2-FB56-448B-978C-58D1113C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3135C-4D98-4462-BC3D-12BF1931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5A4-0AFB-4E4B-A497-B4531C64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B97EA-DDB8-4AA9-A35B-8027136B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66F98-343E-4E11-9CFB-D290ADE7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84B87-6B5F-43B3-ACCE-9C89E9FA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140B8-A581-4A82-BA1E-C47D5F46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E6CE0-ABDE-4870-BFA3-CC3562B8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069B9-E527-4101-91D5-C6759B45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C1B88-0586-47A5-B84B-807A27B1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E93BB-3886-4CD2-AF90-56CB7666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3DC43-5B45-44DC-9DBB-C5F7B3F2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CAF9B-DD32-438C-8BA4-529D8DD8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085-2A6D-43D8-96B8-712DC317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F1373-572A-49BC-B8FB-659B3CD8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27B5D-F6BA-4D01-AD3E-D53B06E9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921D1-3128-4320-A281-81A2B907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6467A-0F72-4A2D-A6E1-724C5FC9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1A89E-2C18-48C1-BFCD-C9DC7EEC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FC75E-BF31-4C7B-A435-BDB150D1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9416-8EE7-4047-93FD-D420CA7B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780EE-6D6B-4E06-A059-3E3A3825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B272A-558F-45B3-AA04-B3D87B23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E7B6E-C79D-4DB0-B49E-7A6D447D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150-B42C-4B60-9521-21362FAD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02D86-FB1D-454A-A0AE-560C9E71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5856B-C69E-48D4-B96C-818075DA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9F40D-26C6-4136-99AB-EC875C31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5C0AC-6E78-400E-9301-8B8C872E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24C4E-E2EC-4E70-BAF8-F2452D1E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B9C82-2B9C-4820-A92A-A50C34F9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47951-674C-47E5-B359-1DAF6BE1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763FB-B5AA-4F59-9B07-FA789187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78B8E-4962-40FE-B27D-729A4077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8C51C-CEDB-47D0-AC9B-57E4E022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CAB-D552-46CF-AFDC-EA33F942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472A7-AE9D-4AD4-84FF-181AF2BC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7276B-CF5E-4FF3-8347-AECEEB39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67E9D-4A41-4A20-BAE4-B0171B30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BC7B3-701E-493F-AE7A-B64BF4CF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C4BCD-9FE6-4144-9933-961801A4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7AD28-6C80-4558-BF48-296ED63A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DBB02-9535-4D6F-A2D2-A0602741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AD830-4728-4BC8-990E-DB4FB98D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E42DD-C850-40CA-83F2-9D0E0ED9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FF8D5-46B7-4FC1-BAC8-05319854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6DD6-572F-464D-8817-C2B343DCC8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18B2-0974-45B1-B390-BE83FC1B38F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C27D-7786-4FBB-863B-60685E7B856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136F-2DBC-423E-97E3-F162E93AB4F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5F4B-4EFC-4535-8734-B441C7B272B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9392-92D4-4707-9B4E-8C36D7FD797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A108-BBE2-4FB0-B32E-A649CAD326D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7C4E-1A79-4D97-9039-8CC7B1AA28B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B594-D660-4A48-A1A4-E060E0E4968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3613-DC2C-4E98-8715-7AA01F5214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9A06-0AEC-4B32-BDC4-95E83F18C6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7325-4D43-4C1F-AC0F-87B12B307D1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9FE3-7B07-4EEF-81B0-93C51BBB366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8BEF-EF2C-4971-9369-3C15C1D91BF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01CE-4E18-4B1A-83C1-5430F9EA044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24A9-29A8-41FE-9744-AE79FD9B508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378B-9548-4017-8C13-EE543AA85C2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2D38-7551-48F9-8296-6CACC361D0F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FE57-656F-4C7E-B6DD-EF3AFD121DF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A682-C829-4AD5-9BBA-6DAA799DDF5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A9FA-126A-4BBA-99B0-FCCE3573597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BE8E-12D4-44B5-ADCF-32A18FABB30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9FB3-8D6A-424B-8A05-A4E2168E254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E97D-24FE-48EA-809D-6B897247A47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8C9D-20FA-4B68-B0CB-DBB2D4E6887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Oval 2"/>
          <p:cNvSpPr/>
          <p:nvPr/>
        </p:nvSpPr>
        <p:spPr>
          <a:xfrm flipH="1">
            <a:off x="10988640" y="5602320"/>
            <a:ext cx="843120" cy="84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7e6e6"/>
              </a:gs>
            </a:gsLst>
            <a:lin ang="5400000"/>
          </a:gradFill>
          <a:ln w="9360">
            <a:solidFill>
              <a:srgbClr val="777777"/>
            </a:solidFill>
            <a:miter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开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5156280" y="1263600"/>
            <a:ext cx="702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99"/>
                </a:solidFill>
                <a:latin typeface="Calibri"/>
                <a:ea typeface="微软雅黑"/>
              </a:rPr>
              <a:t>小世界，大不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5727600" y="2521080"/>
            <a:ext cx="3467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配色基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色彩设计的原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色彩运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设计中的色彩诱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往大师的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潘通色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254280" y="2610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43264"/>
                </a:solidFill>
                <a:latin typeface="Calibri"/>
                <a:ea typeface="微软雅黑"/>
              </a:rPr>
              <a:t>设计配色基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9677880" y="220356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143264"/>
                </a:solidFill>
                <a:latin typeface="Calibri"/>
                <a:ea typeface="微软雅黑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2489040" y="336600"/>
            <a:ext cx="44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63c1"/>
                </a:solidFill>
                <a:latin typeface="Calibri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143264"/>
                </a:solidFill>
                <a:latin typeface="Calibri"/>
                <a:ea typeface="微软雅黑"/>
              </a:rPr>
              <a:t>设计配色基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2349360" y="19875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配色概述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通过配色着色还可达到某种应用上的要求，如提高塑料耐光性和耐候性；赋予塑料某些特殊功能，如导电性、抗静电性；不同彩色农地膜具有除草或避虫、育秧等作用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349360" y="3270240"/>
            <a:ext cx="74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定义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配色就是在红、黄、蓝三种基本颜色基础上，配出令人喜爱、符合色卡色差要求、经济并在加工、使用中不变色的色彩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349360" y="4552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配色原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颜色的种类非常多，不同的颜色会给人不同的感觉。红，橙，黄给人感到温暖和欢乐，因此称为“暖色”；蓝，绿，紫给人感到安静和清新，因此称为“冷色”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2441520" y="2009880"/>
            <a:ext cx="555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2967"/>
                </a:solidFill>
                <a:latin typeface="Calibri"/>
                <a:ea typeface="微软雅黑"/>
              </a:rPr>
              <a:t>谢谢聆听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2276640" y="3457440"/>
            <a:ext cx="5559120" cy="8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999999"/>
                </a:solidFill>
                <a:latin typeface="Calibri"/>
                <a:ea typeface="微软雅黑"/>
              </a:rPr>
              <a:t>THANK YOU VERY MUCH!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5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Box 7"/>
            <p:cNvSpPr/>
            <p:nvPr/>
          </p:nvSpPr>
          <p:spPr>
            <a:xfrm rot="20926800">
              <a:off x="343188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3T07:54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