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12E4-2305-4826-B24E-EE8722F65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B3F6-E60D-429F-AC60-FD16D0775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6C67-379E-41D5-B12B-1AA453778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761F-9BAF-4811-8ADB-A33BB9955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B699B-CCFD-4479-BF27-B95DFA65A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21A5B-0CFB-4811-886E-CAE1F966F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3B407-DD7B-4CFE-9FC4-ED24BD11E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4F900-230E-45E7-8A40-1CE7775A3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28078-BCD9-487A-BFF5-EF0162FCA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8421E-3757-4C78-8B6F-07EB4787D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625CA-6098-438E-8E13-F7ACFCBF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875E-90EC-4258-894E-7372304D6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C825A-0431-423F-8EB1-580FCE1C4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5B6BF-CDE9-4251-84BB-7E0E05A3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50DDA-AD44-420D-BE43-EBD7A4D62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BBFB9-E696-4B0C-A0A8-B02A0464A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8396D-3C15-4281-B3F8-B0F53DE8A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F171-26F7-4E7C-9DBF-55A37D265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8311-79B7-400B-8C3B-45C80D589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18EE-9413-4C60-96A4-2EB660CDD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9CF0-7039-4EF3-A5F6-D763647FF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7B64-8C6A-48B2-9810-231D0671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C12B-419A-460F-824B-D00EC6C8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EB8F-5D14-468C-A0A9-F3C70C5E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504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3EE69-EEF5-4F08-AC32-1E8565688A5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1A160-63AD-499D-ABFC-A5EDD69B6C3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EBA00-CE08-40E6-9243-E45CE35AAC73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0806C-C088-404F-AB69-CA0585E66BF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00360"/>
            <a:ext cx="77724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0504d"/>
                </a:solidFill>
                <a:latin typeface="Arial Unicode MS"/>
              </a:rPr>
              <a:t>愚人节的小丑</a:t>
            </a:r>
            <a:endParaRPr b="0" lang="en-US" sz="44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5505480"/>
            <a:ext cx="64008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1f497d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0c0"/>
              </a:solidFill>
              <a:latin typeface="Arial Unicode MS"/>
              <a:ea typeface="Arial Unicode MS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28760" y="521460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0504d"/>
                </a:solidFill>
                <a:latin typeface="Calibri"/>
              </a:rPr>
              <a:t>多谢观看！</a:t>
            </a:r>
            <a:endParaRPr b="0" lang="en-US" sz="4400" spc="-1" strike="noStrike">
              <a:solidFill>
                <a:srgbClr val="c0504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01:13:00Z</dcterms:created>
  <dc:creator/>
  <dc:description/>
  <cp:keywords/>
  <dc:language>en-US</dc:language>
  <cp:lastModifiedBy>a</cp:lastModifiedBy>
  <dcterms:modified xsi:type="dcterms:W3CDTF">2014-05-30T05:10:18Z</dcterms:modified>
  <cp:revision>1</cp:revision>
  <dc:subject/>
  <dc:title>愚人节的小丑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2</vt:lpwstr>
  </property>
</Properties>
</file>