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projctor.wav" ContentType="audio/x-wav"/>
  <Override PartName="/ppt/media/drumroll.wav" ContentType="audio/x-wav"/>
  <Override PartName="/ppt/media/chimes.wav" ContentType="audio/x-wav"/>
  <Override PartName="/ppt/media/explode.wav" ContentType="audio/x-wav"/>
  <Override PartName="/ppt/media/camera.wav" ContentType="audio/x-wav"/>
  <Override PartName="/ppt/media/laser.wav" ContentType="audio/x-wav"/>
  <Override PartName="/ppt/media/image4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3E05-794F-48C4-A192-A08AE658A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4BDE-EF7A-40C1-BE06-86092AADF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1754B8-3877-4B75-AC49-F52A85684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A96531-03CC-46C9-8982-AE356DDAD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4008AB-F4D5-45CD-90C2-774C4C6CA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2CC691-19DE-45AF-A846-AC257926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36F2DA-E5AB-40DC-89F3-5D3FB5E85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804FB8-9E58-4558-8D96-3A0051E67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88971B-BCCF-49CF-8D8F-85C5D3953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7CAF83-33AD-47BD-91F3-F7567304F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FC403F-87C0-4501-A8C6-A28BC3B94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088C99-379B-49B1-924C-AB2943824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459B-D28C-4D7B-B80E-596C3A052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266B85-B56D-4CD4-A8C4-AB5BBC379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AD2B0F-9A39-4151-B2F3-A753E62F0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6C3CE6-E71C-47A8-BF82-F11F7E297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A6DB72-EB29-4E13-A963-1632C1189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E58758-5447-4218-8C3C-8736CB3CC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68A08C-7F5D-4D77-9F4E-333F7B63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DB9262-0C08-4EDA-AA8B-291E5ED9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3768C6-3B63-45BE-9DEB-6501C3B55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07A246-C548-4AAD-A26E-5011198E5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8AC87F-2EF5-4E6F-B7CA-D16C52C6C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3CE7-B6C8-401C-8E18-EC6A2E573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7D90E1-A03D-4F44-A34F-BA3807EA0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FA23CB-4896-4C2C-9F12-0A089B394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11D2D9-0501-44FB-A52B-0D09DBD4C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F5603A-68D6-4A95-A8F7-AD769D5C0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E5C11E-69AB-495A-82FD-78289DB69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4E698A-03B0-447C-B31B-906534BB5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F25102-0D54-4A64-A78A-147847C16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CFB6B0-EE2A-4B58-9C17-DD8726131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B6D4ED-0D8C-44E3-A9A8-D0E15438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D6017F-CB2C-433A-8ABF-74C2F3C02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B8943-5EF2-4C1D-98D9-80A445FD5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941CB2-F8C0-411A-8199-7FA892D5D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5A0277-47AB-4975-98F9-774DA1DAA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D4D66F-D2BD-4D91-BC0E-389D4B9E7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017B24-4163-478E-9720-E8032BCDA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30AC1D-5B8B-47A3-A206-89695C1E8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FCA214-273C-49B4-8F4A-8694BF43F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96DCF6-E2D6-48CA-A924-CB5E9AE49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6D4951-CEF4-43F5-86F5-9A3C76A1F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065C81-18CB-4BFC-8D05-55EB2F69F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74138F-D8F1-4CA2-B0DB-4A2A6B67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508F1-62CE-4732-B7F1-1709E93E2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EF3ADB-D6D6-4BE4-BA9B-7150AAFF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F93394-4D4D-4400-8B8A-941422BE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23E6C6-B156-4B1F-91A4-BC66D8D98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B3EAA4-AAF0-46F8-AAA3-49952EFDF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F0D207-0A91-4A2D-836A-FF4ED2FB7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313511-6293-40C2-95DC-E7369955E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A9A644-04A1-4A77-B308-70DE4030D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97E827-536C-4714-ABEC-7F8E93D4C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75C345-A14F-4155-9E86-6204D00D3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40B42B-3613-4601-A9F1-994227D6F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B51C9-0A01-4726-A74E-F54D70F46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BCC109-FD60-452C-96AA-6D13480E3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87696C-6A02-4693-AA29-897D6023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2F7406-6DBD-49C5-9CAE-D9ED1AB4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A42A4F-3520-496A-B4F3-E59AF74E1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578775-5322-44E5-B909-F1E5D455E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FCD49C-1DA6-4F87-9D14-601F55E7F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EA66A9-798F-44C0-BF6D-CA7971F85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95B914-718B-4DD6-90B6-B4ADE4A1E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1F8C97-F015-410F-B7A3-0D323F682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40EF0D-8FF2-4A97-AB00-B6E28691C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3CC57-EC62-4321-928B-BA0425FA1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C3B95E-78DC-4219-A594-02BDC58E3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72DBD6-DAE3-46D4-A559-F7345670F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8A0C82-DB91-405E-93F5-2E40EC572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11E8CE-A37F-49CC-9250-5D58BE82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8D5041-33E3-4359-8C61-9C8286B1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F9B866-B3BA-46DE-8EC7-1C1E57BB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F741E6-6093-4B3B-A19B-24926A2E3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68D277-4CF8-470B-98ED-0097BAD22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E377D4-090F-4C8F-8C44-4A893720C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1930C-CF36-41E4-9072-21D0FE622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40439-4DE0-4509-9815-DDD5266B6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66FF6-BBBE-4FF0-B960-049007C8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71E5-4D9D-4771-BAE8-F294B5FA1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1F9CB-941C-4104-90B0-7D2F72A2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E72A1-B166-437B-9418-394121129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D779F-D3B2-4C40-8CFF-D439E1778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2D185-85A7-462C-8506-A255EF0A7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4A8D9-33CC-403F-8685-BE0CF5BAA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A090A-2D9F-4682-8465-B26A4EB6B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16D28-357A-4DDD-9CDB-3FAA2B0F6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9959D-8EA7-4BB6-83BA-CEB740808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E9E9C-7FD1-4D42-9ED7-1F8957F8F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5E2FF-AD1F-4922-A78B-627584F98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3E33-2045-450E-BE1E-13629669B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DA177-9A59-4C06-A1D3-6D8909577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5DE03-78C2-4C4E-9FB7-82DD127C1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1EC10-8B77-48F6-B96A-50A8E934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070EB-B0AC-4D09-9CD2-6A04FD5AE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19D75-1FFD-4B44-9789-A1186F9CC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FDC83-BD19-4131-98D0-013CE600F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D1513-BAF1-45C1-AB41-21FC44E4A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271F5-60D6-49FB-935F-7EFDD0613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09352-81A6-4C73-8A39-E0CAF07DD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E0D98-E474-49B6-958E-D854A6EE2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FD2A-B852-4B0D-A749-7397CB9D6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CB56D-273B-43E8-A39C-086CF7E67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4ED4B-44D6-4DA4-B55E-69786A96C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87AD0-6D63-484B-ABB2-1496880DC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50B24-D8E1-4A46-BC74-AA2D38AB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035DA-A16A-46B4-96BD-BFC33F62A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F00CE-F49A-4FC5-8F05-ECCE3238B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48AD1-0CD1-4EB9-ABD4-286E37DDC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0C63F-16EB-4FCC-AF38-9A78F6EA6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F5F67-B1E4-41DB-926B-E6B2C78AB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31E4B-F675-4B97-ACB7-743D7F25D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0FA9-5E36-4D95-BA2C-488B3A75B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7F1B61-2EAC-4DAA-87E8-84EF7390E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2EFB3F-4981-4153-BA2D-B0074FCE9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E191E4-AA99-434D-86F5-FB495FE89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89725-BDF1-428D-91FE-E3B006318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2E7C82-4AA9-44E7-A784-EF942806B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1934A5-859E-4678-A76C-FB3BAE4D0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8612B-C7AE-4DF2-8B77-614BBA690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4DB29-BF8A-4104-A925-624A9B86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75D9A-8F33-420E-8DD6-10D5F2504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F2BEE8-385E-46EC-8916-DDAE204C2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AFE4-A069-47F0-93B8-03D8A3B89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17AA0-54E6-45B2-BE3E-77E4A2903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869A0C-8A22-43CD-9ED1-2B3EB3EC4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2A5EF2-DA53-4D1C-8CFB-3D5025B9A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20F3E8-D038-4328-B231-552B48B3C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F63231-F5D3-4DB8-AD1F-6726510AE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5D591F-86F2-4F52-9876-817895EA8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7E5C90-015E-4E33-8949-0FEC0B30A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A49C34-14F8-4B44-966A-177028319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FC3B06-92E6-4881-B937-9225302E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F9471-D290-433C-900B-AA84AA2A3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2F43-CF94-429A-BA1B-C34F250E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0F3E66-C3CD-4B08-9B31-6C650B470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76FE80-7FF8-4294-9F25-F81475A79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9C2570-A053-44A8-AB0C-A5493D07C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5C716F-40D7-4EE8-9065-549AF393E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37E9F0-B9BC-483A-A1CF-EF36C992E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75F39D-189D-443E-92DE-8583EF8CC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6038A5-06CA-4C90-8419-AA23CA0E7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C10275-C259-4CDD-9538-8B1E64FE7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5FCBE7-C6AA-46F7-8F2F-2679F824E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4BE24F-5D94-4199-B363-4D7203C51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F495-E364-4EC1-8DB8-97BC6864D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8A40F5-0A35-46A0-A556-4211FE61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5DB37B-3BEA-4F92-8DC7-F801EC31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D33873-A90F-42E1-B095-0748CEB1B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FC8FE4-D9DB-4150-8245-D7A3A243C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BEFD62-D17F-4A55-8251-B15A09D44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1259F3-1A45-4569-BD67-9200DCD6B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1CD865-BAAB-4B29-B111-ECAB1BDF2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BEF4A2-BAE0-4946-8D30-F1D4FD889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A4B8C6-86F6-4CD5-BD74-6DE02F42C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4891D2-21EB-439F-AB4D-606516DEF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D5CA-6C9F-4FD1-9174-771B7B95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529311-2A36-49AF-9E2B-D6D5F4624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5EB36A-F9EC-4AA2-91E8-D452EECFB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E76F0A-C16C-4D1D-B608-B0EDE1D6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6F9C7F-A321-4F28-81A4-485B926EB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E7C9B0-0DC4-414C-8803-EAEA2703A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9A055D-011B-4D2D-9DCF-9027C7E34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306FED-B67A-4447-91AE-ED3288AAD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BB0084-C26D-41F3-ACE6-F88EC798D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B64E06-1E48-48DE-AA95-87B81A0A5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90BCE8-7E8B-4CF8-B2AA-079BCE247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5C7EA-8933-4783-923E-748B0CECC43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F638A-5459-47C7-A14A-B41BA0E1481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CDF3D-7C5E-4DCC-900D-5ACE06BC1EA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31481-C4B7-4ED9-8FCE-A8CE50CFA83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FAF04-FB32-4FAA-BD79-D3A26118266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59655-B45A-4CEC-86B5-0B10B8E6FBC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F7A22-B36D-4282-9865-7659985B75D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81F98-4787-45D2-BB28-A65A1F90346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44C62-10A8-4F02-8B01-50001F0B942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B9751-16A7-45DE-9427-B142397AA83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90C25-3839-4FDA-B1F6-FA9E326192E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74773-A408-48AC-8881-97CFE5D2538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00F13-6F91-4F6E-81F5-E15D8F0EFB3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87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89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31F58-8201-4778-BF09-9074530662D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A9FCE-BB88-494A-85F4-59F0FE3E06A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CDDC4-C8C8-4BCF-9174-CA4D0275113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C6D91-25A0-404C-8C48-2D30022AD9D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FB51F-CB26-402B-AF29-F478850A2A4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8CE7E-684F-4EF4-9E95-22221AC6275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5EEBF-E192-4B97-84C5-76267A831B3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4E2F8-11C1-408B-8FA4-00886530663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5008A-FA7E-4647-BFCD-F7F524DF034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6A8CC-E320-488A-894A-60F09748A72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C4A23-CC8B-4901-BFB4-95F804F9905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5E2BE-D695-4229-AAE8-EC89F00480F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38492-7C1F-4DA6-9B72-B35BCDAFCBB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drumroll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audio" Target="../media/projctor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Subjunctive Moo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I.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虚拟语气在条件主从复合句中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1. I ______________  (come)too if I had time   to spar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2. I didn’t see your sister at the meeting. If  she ________________ (come), she would have met my brother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3. If the hurricane had happened during the daytime,there______________________ (be)more death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4" name="Text Box 4"/>
          <p:cNvSpPr/>
          <p:nvPr/>
        </p:nvSpPr>
        <p:spPr>
          <a:xfrm>
            <a:off x="2133720" y="21337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should com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5" name="Text Box 5"/>
          <p:cNvSpPr/>
          <p:nvPr/>
        </p:nvSpPr>
        <p:spPr>
          <a:xfrm>
            <a:off x="2819520" y="342900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66"/>
                </a:solidFill>
                <a:latin typeface="Times New Roman"/>
              </a:rPr>
              <a:t>had </a:t>
            </a: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com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6" name="Text Box 6"/>
          <p:cNvSpPr/>
          <p:nvPr/>
        </p:nvSpPr>
        <p:spPr>
          <a:xfrm>
            <a:off x="4267080" y="487692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66"/>
                </a:solidFill>
                <a:latin typeface="Times New Roman"/>
              </a:rPr>
              <a:t>would have </a:t>
            </a: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bee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219320" y="533520"/>
            <a:ext cx="77724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3)I </a:t>
            </a:r>
            <a:r>
              <a:rPr b="0" lang="zh-CN" sz="3200" spc="-1" strike="noStrike" u="sng">
                <a:solidFill>
                  <a:srgbClr val="eaeaea"/>
                </a:solidFill>
                <a:uFillTx/>
                <a:latin typeface="Times New Roman"/>
              </a:rPr>
              <a:t>would love to have gone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to the party last night, but I had to work extra hours to finish a report.(97’NMET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4)She</a:t>
            </a:r>
            <a:r>
              <a:rPr b="0" lang="zh-CN" sz="3200" spc="-1" strike="noStrike" u="sng">
                <a:solidFill>
                  <a:srgbClr val="eaeaea"/>
                </a:solidFill>
                <a:uFillTx/>
                <a:latin typeface="Times New Roman"/>
              </a:rPr>
              <a:t>’d rather have stayed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at home than went to see the dull film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5" name="Text Box 4"/>
          <p:cNvSpPr/>
          <p:nvPr/>
        </p:nvSpPr>
        <p:spPr>
          <a:xfrm>
            <a:off x="1447920" y="21337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eb00b"/>
                </a:solidFill>
                <a:latin typeface="Times New Roman"/>
              </a:rPr>
              <a:t>昨晚我</a:t>
            </a:r>
            <a:r>
              <a:rPr b="0" lang="zh-CN" sz="3200" spc="-1" strike="noStrike" u="sng">
                <a:solidFill>
                  <a:srgbClr val="eeb00b"/>
                </a:solidFill>
                <a:uFillTx/>
                <a:latin typeface="Times New Roman"/>
              </a:rPr>
              <a:t>本想去参加</a:t>
            </a:r>
            <a:r>
              <a:rPr b="0" lang="zh-CN" sz="3200" spc="-1" strike="noStrike">
                <a:solidFill>
                  <a:srgbClr val="eeb00b"/>
                </a:solidFill>
                <a:latin typeface="Times New Roman"/>
              </a:rPr>
              <a:t>聚会来的，可我得额外加几个小时的班赶完一篇报告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6" name="Text Box 5"/>
          <p:cNvSpPr/>
          <p:nvPr/>
        </p:nvSpPr>
        <p:spPr>
          <a:xfrm>
            <a:off x="1600200" y="449568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eb00b"/>
                </a:solidFill>
                <a:latin typeface="Times New Roman"/>
              </a:rPr>
              <a:t>她</a:t>
            </a:r>
            <a:r>
              <a:rPr b="0" lang="zh-CN" sz="3200" spc="-1" strike="noStrike" u="sng">
                <a:solidFill>
                  <a:srgbClr val="eeb00b"/>
                </a:solidFill>
                <a:uFillTx/>
                <a:latin typeface="Times New Roman"/>
              </a:rPr>
              <a:t>真该呆</a:t>
            </a:r>
            <a:r>
              <a:rPr b="0" lang="zh-CN" sz="3200" spc="-1" strike="noStrike">
                <a:solidFill>
                  <a:srgbClr val="eeb00b"/>
                </a:solidFill>
                <a:latin typeface="Times New Roman"/>
              </a:rPr>
              <a:t>在家里而不去看那部乏味的电影的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1371600" y="45720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4.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英译汉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）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I </a:t>
            </a:r>
            <a:r>
              <a:rPr b="0" lang="zh-CN" sz="3200" spc="-1" strike="noStrike" u="sng">
                <a:solidFill>
                  <a:srgbClr val="eaeaea"/>
                </a:solidFill>
                <a:uFillTx/>
                <a:latin typeface="Times New Roman"/>
              </a:rPr>
              <a:t>intend to have written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a letter of thanks to him, but I didn’t know his addres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2) The plane </a:t>
            </a:r>
            <a:r>
              <a:rPr b="0" lang="zh-CN" sz="3200" spc="-1" strike="noStrike" u="sng">
                <a:solidFill>
                  <a:srgbClr val="eaeaea"/>
                </a:solidFill>
                <a:uFillTx/>
                <a:latin typeface="Times New Roman"/>
              </a:rPr>
              <a:t>was to have taken off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at eight this morning,but a heavy rain poured dow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9" name="Text Box 4"/>
          <p:cNvSpPr/>
          <p:nvPr/>
        </p:nvSpPr>
        <p:spPr>
          <a:xfrm>
            <a:off x="1752480" y="213372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eb00b"/>
                </a:solidFill>
                <a:latin typeface="Times New Roman"/>
              </a:rPr>
              <a:t>我</a:t>
            </a:r>
            <a:r>
              <a:rPr b="0" lang="zh-CN" sz="3200" spc="-1" strike="noStrike" u="sng">
                <a:solidFill>
                  <a:srgbClr val="eeb00b"/>
                </a:solidFill>
                <a:uFillTx/>
                <a:latin typeface="Times New Roman"/>
              </a:rPr>
              <a:t>本打算写</a:t>
            </a:r>
            <a:r>
              <a:rPr b="0" lang="zh-CN" sz="3200" spc="-1" strike="noStrike">
                <a:solidFill>
                  <a:srgbClr val="eeb00b"/>
                </a:solidFill>
                <a:latin typeface="Times New Roman"/>
              </a:rPr>
              <a:t>封信给他，但不知道他的地址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752480" y="449568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eb00b"/>
                </a:solidFill>
                <a:latin typeface="Times New Roman"/>
              </a:rPr>
              <a:t>飞机</a:t>
            </a:r>
            <a:r>
              <a:rPr b="0" lang="zh-CN" sz="3200" spc="-1" strike="noStrike" u="sng">
                <a:solidFill>
                  <a:srgbClr val="eeb00b"/>
                </a:solidFill>
                <a:uFillTx/>
                <a:latin typeface="Times New Roman"/>
              </a:rPr>
              <a:t>本要</a:t>
            </a:r>
            <a:r>
              <a:rPr b="0" lang="zh-CN" sz="3200" spc="-1" strike="noStrike">
                <a:solidFill>
                  <a:srgbClr val="eeb00b"/>
                </a:solidFill>
                <a:latin typeface="Times New Roman"/>
              </a:rPr>
              <a:t>今早八点</a:t>
            </a:r>
            <a:r>
              <a:rPr b="0" lang="zh-CN" sz="3200" spc="-1" strike="noStrike" u="sng">
                <a:solidFill>
                  <a:srgbClr val="eeb00b"/>
                </a:solidFill>
                <a:uFillTx/>
                <a:latin typeface="Times New Roman"/>
              </a:rPr>
              <a:t>起飞</a:t>
            </a:r>
            <a:r>
              <a:rPr b="0" lang="zh-CN" sz="3200" spc="-1" strike="noStrike">
                <a:solidFill>
                  <a:srgbClr val="eeb00b"/>
                </a:solidFill>
                <a:latin typeface="Times New Roman"/>
              </a:rPr>
              <a:t>，但下起了一场倾盆大雨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1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4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64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4.If it ___________________________(rain) tomorrow,we ________________(not go out)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5.______(be) I in good health, I __________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(go) with you tomorrow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i="1" lang="zh-CN" sz="3200" spc="-1" strike="noStrike">
                <a:solidFill>
                  <a:srgbClr val="eaeaea"/>
                </a:solidFill>
                <a:latin typeface="Times New Roman"/>
              </a:rPr>
              <a:t>eg. Had you told me earlier, I could have done something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eaeaea"/>
                </a:solidFill>
                <a:latin typeface="Times New Roman"/>
              </a:rPr>
              <a:t>          </a:t>
            </a:r>
            <a:r>
              <a:rPr b="0" i="1" lang="zh-CN" sz="3200" spc="-1" strike="noStrike">
                <a:solidFill>
                  <a:srgbClr val="eaeaea"/>
                </a:solidFill>
                <a:latin typeface="Times New Roman"/>
              </a:rPr>
              <a:t>Should anyone call, tell him to call in the afternoo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9" name="Text Box 4"/>
          <p:cNvSpPr/>
          <p:nvPr/>
        </p:nvSpPr>
        <p:spPr>
          <a:xfrm>
            <a:off x="2438280" y="14479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eb00b"/>
                </a:solidFill>
                <a:latin typeface="Times New Roman"/>
              </a:rPr>
              <a:t>rained/should rain/were to rai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0" name="Text Box 5"/>
          <p:cNvSpPr/>
          <p:nvPr/>
        </p:nvSpPr>
        <p:spPr>
          <a:xfrm flipH="1">
            <a:off x="4038480" y="20574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eb00b"/>
                </a:solidFill>
                <a:latin typeface="Times New Roman"/>
              </a:rPr>
              <a:t>should not go ou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1" name="Text Box 6"/>
          <p:cNvSpPr/>
          <p:nvPr/>
        </p:nvSpPr>
        <p:spPr>
          <a:xfrm>
            <a:off x="1828800" y="3048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eb00b"/>
                </a:solidFill>
                <a:latin typeface="Times New Roman"/>
              </a:rPr>
              <a:t>Wer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2" name="Text Box 7"/>
          <p:cNvSpPr/>
          <p:nvPr/>
        </p:nvSpPr>
        <p:spPr>
          <a:xfrm>
            <a:off x="6705720" y="297180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eb00b"/>
                </a:solidFill>
                <a:latin typeface="Times New Roman"/>
              </a:rPr>
              <a:t>would g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II.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在宾语从句中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cc66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He is not a pilot, but he wishes  he______ (be)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ffcc66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I wish I ___________(meet)him yesterday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ffcc66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I wish it __________(be) fine tomorrow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ffcc66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He ordered the work _________________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(start) at onc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eb00b"/>
                </a:solidFill>
                <a:latin typeface="Times New Roman"/>
              </a:rPr>
              <a:t>5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.   I’d rather you _________(stay) at home all day today.    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5" name="Text Box 4"/>
          <p:cNvSpPr/>
          <p:nvPr/>
        </p:nvSpPr>
        <p:spPr>
          <a:xfrm>
            <a:off x="7543800" y="16002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eb00b"/>
                </a:solidFill>
                <a:latin typeface="Times New Roman"/>
              </a:rPr>
              <a:t>wer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6" name="Text Box 5"/>
          <p:cNvSpPr/>
          <p:nvPr/>
        </p:nvSpPr>
        <p:spPr>
          <a:xfrm>
            <a:off x="3276720" y="26668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eeb00b"/>
                </a:solidFill>
                <a:latin typeface="Times New Roman"/>
              </a:rPr>
              <a:t>had  me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7" name="Text Box 6"/>
          <p:cNvSpPr/>
          <p:nvPr/>
        </p:nvSpPr>
        <p:spPr>
          <a:xfrm>
            <a:off x="3276720" y="327672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eb00b"/>
                </a:solidFill>
                <a:latin typeface="Times New Roman"/>
              </a:rPr>
              <a:t>would b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8" name="Text Box 7"/>
          <p:cNvSpPr/>
          <p:nvPr/>
        </p:nvSpPr>
        <p:spPr>
          <a:xfrm>
            <a:off x="5410080" y="3886200"/>
            <a:ext cx="335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9" name="Text Box 8"/>
          <p:cNvSpPr/>
          <p:nvPr/>
        </p:nvSpPr>
        <p:spPr>
          <a:xfrm>
            <a:off x="5257800" y="380988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eb00b"/>
                </a:solidFill>
                <a:latin typeface="Times New Roman"/>
              </a:rPr>
              <a:t>(should ) be start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0" name="Text Box 9"/>
          <p:cNvSpPr/>
          <p:nvPr/>
        </p:nvSpPr>
        <p:spPr>
          <a:xfrm>
            <a:off x="4267080" y="50292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eeb00b"/>
                </a:solidFill>
                <a:latin typeface="Times New Roman"/>
              </a:rPr>
              <a:t>stay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III.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在主语从句中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1. It is 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</a:rPr>
              <a:t>strange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that he _____________(mak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such a mistake. That’s unexpected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imes New Roman"/>
              </a:rPr>
              <a:t>(necessary,important,impossible,natural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imes New Roman"/>
              </a:rPr>
              <a:t>surprising,a pity etc.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2. It was 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</a:rPr>
              <a:t>required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that each student ________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(bring) enough food on the trip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imes New Roman"/>
              </a:rPr>
              <a:t>(ordered,suggested,demanded,desired, etc.)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3" name="Text Box 4"/>
          <p:cNvSpPr/>
          <p:nvPr/>
        </p:nvSpPr>
        <p:spPr>
          <a:xfrm>
            <a:off x="4876920" y="160020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eb00b"/>
                </a:solidFill>
                <a:latin typeface="Times New Roman"/>
              </a:rPr>
              <a:t>(should)  make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7238880" y="39625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eb00b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eeb00b"/>
                </a:solidFill>
                <a:latin typeface="Times New Roman"/>
              </a:rPr>
              <a:t>br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IV.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在表语从句或方式状从中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1. My demand is that you _______________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(get up)at six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2. He speaks as if he ________(be) an Englishma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3. They talked as if they _____________(b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good friends for years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7" name="Text Box 4"/>
          <p:cNvSpPr/>
          <p:nvPr/>
        </p:nvSpPr>
        <p:spPr>
          <a:xfrm>
            <a:off x="5486400" y="16002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eb00b"/>
                </a:solidFill>
                <a:latin typeface="Times New Roman"/>
              </a:rPr>
              <a:t>(should)    get u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8" name="Text Box 5"/>
          <p:cNvSpPr/>
          <p:nvPr/>
        </p:nvSpPr>
        <p:spPr>
          <a:xfrm>
            <a:off x="4800600" y="27432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eb00b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eeb00b"/>
                </a:solidFill>
                <a:latin typeface="Times New Roman"/>
              </a:rPr>
              <a:t>wer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9" name="Text Box 6"/>
          <p:cNvSpPr/>
          <p:nvPr/>
        </p:nvSpPr>
        <p:spPr>
          <a:xfrm>
            <a:off x="5334120" y="388620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eb00b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eeb00b"/>
                </a:solidFill>
                <a:latin typeface="Times New Roman"/>
              </a:rPr>
              <a:t>had bee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V.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在同位语从句中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Presently he made the suggestion that the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________________(carry on)their conver-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sation in French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2" name="Text Box 4"/>
          <p:cNvSpPr/>
          <p:nvPr/>
        </p:nvSpPr>
        <p:spPr>
          <a:xfrm>
            <a:off x="1295280" y="220968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eb00b"/>
                </a:solidFill>
                <a:latin typeface="Times New Roman"/>
              </a:rPr>
              <a:t>(should) carry 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VI.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在其他句型中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cc66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Even if he _______(be) here, he couldn’t solve the problem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ffcc66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Without air, there __________(be) no living thing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ffcc66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But for your help, I __________________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(not, do) it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ffcc66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If only I ____________(take) his advice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but I didn’t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5" name="Text Box 4"/>
          <p:cNvSpPr/>
          <p:nvPr/>
        </p:nvSpPr>
        <p:spPr>
          <a:xfrm>
            <a:off x="3733920" y="16002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6" name="Text Box 5"/>
          <p:cNvSpPr/>
          <p:nvPr/>
        </p:nvSpPr>
        <p:spPr>
          <a:xfrm>
            <a:off x="3657600" y="16002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eb00b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eeb00b"/>
                </a:solidFill>
                <a:latin typeface="Times New Roman"/>
              </a:rPr>
              <a:t>wer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7" name="Text Box 6"/>
          <p:cNvSpPr/>
          <p:nvPr/>
        </p:nvSpPr>
        <p:spPr>
          <a:xfrm>
            <a:off x="4952880" y="2666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8" name="Text Box 7"/>
          <p:cNvSpPr/>
          <p:nvPr/>
        </p:nvSpPr>
        <p:spPr>
          <a:xfrm>
            <a:off x="4876920" y="266688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eb00b"/>
                </a:solidFill>
                <a:latin typeface="Times New Roman"/>
              </a:rPr>
              <a:t>would b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9" name="Text Box 8"/>
          <p:cNvSpPr/>
          <p:nvPr/>
        </p:nvSpPr>
        <p:spPr>
          <a:xfrm>
            <a:off x="5257800" y="37339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eb00b"/>
                </a:solidFill>
                <a:latin typeface="Times New Roman"/>
              </a:rPr>
              <a:t>couldn’t have don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0" name="Text Box 9"/>
          <p:cNvSpPr/>
          <p:nvPr/>
        </p:nvSpPr>
        <p:spPr>
          <a:xfrm>
            <a:off x="3429000" y="49528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eb00b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eeb00b"/>
                </a:solidFill>
                <a:latin typeface="Times New Roman"/>
              </a:rPr>
              <a:t>had take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5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5. I was very busy yesterday, otherwise I _________________(come) to the meeting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6. Look at the clock! It’s(high) time we _______________(go) hom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3" name="Text Box 4"/>
          <p:cNvSpPr/>
          <p:nvPr/>
        </p:nvSpPr>
        <p:spPr>
          <a:xfrm>
            <a:off x="1676520" y="2133720"/>
            <a:ext cx="132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4" name="Text Box 5"/>
          <p:cNvSpPr/>
          <p:nvPr/>
        </p:nvSpPr>
        <p:spPr>
          <a:xfrm>
            <a:off x="1523880" y="21337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5" name="Text Box 6"/>
          <p:cNvSpPr/>
          <p:nvPr/>
        </p:nvSpPr>
        <p:spPr>
          <a:xfrm>
            <a:off x="1600200" y="21337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eb00b"/>
                </a:solidFill>
                <a:latin typeface="Times New Roman"/>
              </a:rPr>
              <a:t>would have com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6" name="Text Box 7"/>
          <p:cNvSpPr/>
          <p:nvPr/>
        </p:nvSpPr>
        <p:spPr>
          <a:xfrm>
            <a:off x="6858000" y="2666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7" name="Text Box 8"/>
          <p:cNvSpPr/>
          <p:nvPr/>
        </p:nvSpPr>
        <p:spPr>
          <a:xfrm>
            <a:off x="1600200" y="32004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eb00b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eeb00b"/>
                </a:solidFill>
                <a:latin typeface="Times New Roman"/>
              </a:rPr>
              <a:t>went/should g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2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7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VII.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复杂句型或惯用结构中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21896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1.If she hadn’t trained so hard, she _________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(not,be) able to run so fast today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2.They ____________(want) to help bu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couldn’t get here in tim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3.I _______________(be going to)travel by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train but then we decided to go by air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0" name="Text Box 4"/>
          <p:cNvSpPr/>
          <p:nvPr/>
        </p:nvSpPr>
        <p:spPr>
          <a:xfrm>
            <a:off x="6934320" y="15238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eb00b"/>
                </a:solidFill>
                <a:latin typeface="Times New Roman"/>
              </a:rPr>
              <a:t>wouldn’t b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1" name="Text Box 5"/>
          <p:cNvSpPr/>
          <p:nvPr/>
        </p:nvSpPr>
        <p:spPr>
          <a:xfrm>
            <a:off x="2514600" y="27432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eb00b"/>
                </a:solidFill>
                <a:latin typeface="Times New Roman"/>
              </a:rPr>
              <a:t>had want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2" name="Text Box 6"/>
          <p:cNvSpPr/>
          <p:nvPr/>
        </p:nvSpPr>
        <p:spPr>
          <a:xfrm>
            <a:off x="1905120" y="380988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eb00b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eeb00b"/>
                </a:solidFill>
                <a:latin typeface="Times New Roman"/>
              </a:rPr>
              <a:t>was going t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2T07:36:22Z</dcterms:created>
  <dc:creator>xyyz</dc:creator>
  <dc:description/>
  <cp:keywords/>
  <dc:language>en-US</dc:language>
  <cp:lastModifiedBy>a</cp:lastModifiedBy>
  <dcterms:modified xsi:type="dcterms:W3CDTF">2014-08-06T07:40:50Z</dcterms:modified>
  <cp:revision>11</cp:revision>
  <dc:subject/>
  <dc:title>Subjunctive Moo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