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749-0EDF-4200-9764-6E87DEED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585-B013-4315-BFCA-E7F06230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3E2-746D-4905-88ED-520E10A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C41-0CC0-4EA5-9B84-8FF51981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62F2-261D-4DD0-8BE2-8B2B0AF7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EB9-7E94-4F68-9A00-2A8117E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1E8E-BE48-441D-AC11-1A89E2F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0EF6-EF09-42C0-8034-45CCB7B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4D50-67CD-4D63-AA93-4D078704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EC8-34F2-48AA-9F56-35D4A5D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3542-0859-4FA9-818B-6815133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A61-DA36-4F7D-8137-6FBBFAF5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C29D-B1AB-4C66-8A96-9792A8E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01D-1513-45DD-8020-9EFF9A5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118-D57E-4FCC-B488-06A5436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A75-025C-4804-977E-73654175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99F-474D-45DD-8EA6-79FD564C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9048-6B38-4B63-9C44-92BA7951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7C5A-EADC-4006-A3A0-83513418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39E3-C2F7-4591-8B55-2302E14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C951-609B-4510-8184-3D0EDCC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0470-6F57-4DC1-89AC-4C8A2A8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FEE-CE03-442C-990E-239CA96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0DAE-81B1-47BE-9E38-68A791F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E090-C6F7-4B36-9F58-F6392E0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185F-285E-4D6D-BBAF-67EFBF1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4BCF-7F3F-44D4-9A34-F000EF3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7D00-6E5D-4F31-B590-D6E66700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EBB6-19CA-4790-8B44-A3FB11C3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BC33-E58D-4033-AC2B-A06C7BC2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E4E-BAD7-4073-B477-414CD4C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177-2B4C-4547-92C9-DD82A4A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5FC-5305-42BE-A8D0-3B6C864A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43F-4E05-411D-A961-7FAA9FA6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5DA-D0A5-413E-98AC-3C1F166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5FF-843E-4B69-BE8D-91D9DE7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天地人和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CFE-00B5-4669-85AA-B563A04BE3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BC9-9DCD-4AE5-9BB0-38267876DB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3EFD-FC0D-4613-B017-2A92AD168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天地人和1-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E40-616B-418A-9438-917907DD27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285264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50:14Z</dcterms:created>
  <dc:creator>sunlilymm</dc:creator>
  <dc:description/>
  <cp:keywords/>
  <dc:language>en-US</dc:language>
  <cp:lastModifiedBy>a</cp:lastModifiedBy>
  <dcterms:modified xsi:type="dcterms:W3CDTF">2014-07-22T02:53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