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1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9E7F-0724-4F25-9F77-167D89883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452A-8098-46CB-834C-B1BF9517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73DAF-97FB-4866-B98D-C448AED2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2B7B9-521A-4549-A571-B6CFCCC2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26F89-C52F-4FC4-951C-A7BBF369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EFC02-858B-4242-AA5A-188F13D6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29E92-37BE-43EA-9F68-EED8CC57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9783C-FFF4-4004-8CBD-2329DE68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7906A1-CA9B-4E4A-B101-54D78D89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30307-F320-4481-B930-021C6FD24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2EC19E-5C91-4180-96C6-686F46EE3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F90E52-6F0C-4FD9-B76E-B72FBEA21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2109-81E9-48A5-BC27-1A8CB6A66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594AE6-CEF4-431C-BEC4-5D4AD8AE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40D541-24D7-441B-ADF6-BB879AA2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02DF9D-143A-48D2-8ADC-BA750F27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7A7E4-B5BF-42C2-94EA-545D65A3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6900B-F55A-40D4-9B2F-5E42FA7C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D8709D-4C81-4025-A385-69493D10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5E6496-3F8F-453B-834C-7386D938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6F0A4C-ED82-4706-8796-D91F502B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0CA421-9CAE-4FAB-92BA-40E3E34F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5B7788-B020-4E42-9237-649669185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4642-9F20-4158-B6C7-03680AF80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9EF21-C8F1-42F8-A2F1-06C9AD2B1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F8B4D-E442-4D70-AEDC-23FAFFDC3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84162-D857-4A54-9B5F-9A1C2153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CBB65-CE09-4CD5-A4AE-2A73A6E6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DFB51A-D738-4BBC-899E-8D0CFC43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1E527-80BF-4E5E-8C3A-FF26EA29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A6C3E-D1C4-473E-B671-E9D7EC77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E75A4-F1A3-4D6F-8C57-5F7E1148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C06BC-B576-49AE-B5E8-11C96847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6B75D-238A-42AE-89F7-ADFA2CF0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99F5-1247-4744-87F6-09D66F0C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59CC38-B8DA-4FEC-9FA3-BD45AF18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581C7-1DE6-4A1B-91DC-261E7EBAD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AC695-CAED-4B87-BB54-D544AE913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4E94DF-EE2C-42B5-9417-9FFA9E6E3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2E5A63-D53D-4737-94A2-6D5E62D6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121A9B-8EF2-4BA3-8242-008ACA27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9D6A21-D0C5-4D7B-BB85-43E24881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29D61B-B1AC-447E-9554-9F27F77A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9954F0-80A7-4A9B-8203-975DD127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BBA256-B1F6-4D02-8C76-9137DFDF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DB9B-EE4B-47CE-915F-82A4C574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3A34E-7835-46F4-ABAF-B5BF3A14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F94995-7FF4-4BA1-A460-60DBDE3F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7A38A6-3B6C-42EC-9EC2-72267745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DD00C6-139A-4852-885D-D89519B33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852FA-FC77-4B6B-A667-2E530AA82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466E1B-5976-4C4F-8B5A-133483F1D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AC9EF1-2F92-474C-8C9A-A9480ED3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1AF06F-A06F-49BD-B64B-4BBDAE3B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A21A62-CC73-42A7-A515-4AD0F547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A6C3AA-EC8A-45E2-B479-D4CECB05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11A1-401B-4B9D-A510-49F58974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411F3D-FB08-4862-9D86-431ECBEA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49B2EF-0453-4A6B-8BE9-5B7E8FC3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C9074D-06C0-41D6-8AED-00BAB59C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B521F9-DFA8-4990-B1AC-C09C938A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9D8E19-1007-4B05-8268-D5FF65CD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5B1CB7-FF83-44CB-B68B-2E3E5C762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5B50EA-701F-42F6-B8A2-552D81A4C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590F-B62F-4C64-93C7-0EFD2EA5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897A-D939-482C-839C-D2625A83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1361-9164-437C-817E-8981683C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10CE-28D0-430E-89F6-628BE380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6761-8620-41FB-8319-95194951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72F3-17D2-4A03-BEA3-FD63E710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FCA7-9D72-417A-90FE-4EFC8163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42D2-BF2F-4F20-848E-2C0D54F7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76BB-C801-4B28-8ACE-12037B06F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D189-AF11-4B07-9EE1-65CD739B2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F9190-1ACD-449D-B545-90765503B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45589-7BB9-4711-AAB8-6D99F1C0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AA03A-39EF-46DD-A5B5-41D8AAA5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D70DA-3CC5-4647-9E07-7CD93E07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45413-51FC-47EC-B7B1-AE0C9417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A36D-9883-4A4B-9DCB-3F5FCE1B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89454-0122-4AD5-941D-17B0B3B3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E4D6E-F6B0-489C-8A26-A17B88CB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EBA5E-5F68-42A5-A5CD-7FADAC61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2EDDC-6699-4FF6-99DF-3ABF2134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053D5-8087-4540-B0AD-3635C1D1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7C49C-22E5-409D-8351-72668D620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BF40B-35AF-4C3B-A3B1-E3BDC62C7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15453-A0DA-42C8-86BF-8B069F894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0E3AD-44DE-41C8-B622-3E353E9E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8BA8C-DACC-4D49-935A-3B352081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1242-5822-444D-AD9A-FA547893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B2705-69E6-47C0-B6BA-DC212A78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F55BE-01DB-45AD-B43E-F3299C5C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4BA26-D648-4CDD-A48D-46742A10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CFD93-7E41-486A-9453-E244ED14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0184F-6E6B-4E12-9EAB-AF1C7DC5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1E1ED-3907-4536-92E2-BAC35E8D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CFF36-4A86-463F-A526-C15F78DF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4AF2C-4FE7-4D93-9CAA-E70738516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4E333-320D-4346-9BC4-A5E659E2F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64590-AE4D-4E12-A591-662C55DDB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00EC-1F76-44FB-BD44-2766807B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B2979-4315-4235-A097-1F3FE629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0E705-86B2-4FA8-9BE9-BAEEE781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1DC8E-2F40-4710-8CBB-2E363218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322E9-3000-4B42-B28B-F7765E6B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0967A-53E2-4F9F-BC31-D73B84EE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7F5CB-9605-4CB7-8593-F7121C66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5C96A-2BEA-41B3-800F-DA9635FD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F9CD9-A4AE-4569-8621-20769D89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6BFA5-1D04-4CFF-86DE-F8F5C43B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65FE5-674E-454B-A36B-6246A616E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1CA0-6AEB-456D-B3B3-4D254DE4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3405D-EEF1-4BB8-B259-13AAF5FED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886B2-25E4-4014-AD61-2BAFDEBE5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4BBBA-9E97-46C9-8116-61813643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292D9-E9BF-498A-A93C-A9FF9347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1ED86-1602-4068-9203-45C29C75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07202-BD36-4015-BE08-9BE5255C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E27CF-53FA-49EA-94EE-FA81E20D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5E7BE-31AF-4114-B86B-8810994D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40BA5-C6E3-4E3E-B9A6-7EAD6E13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1AFC4-9C85-4CA9-A279-2BBCA2E1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0E73-A5FB-4758-B8FD-A80A5AF9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09B3F-2690-4D29-A744-FB37ED5A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CD988-9F74-4B70-800A-5ABF4DF3A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2AA7E-AF70-4FC4-959C-D6A462388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B6199-20FC-495D-850B-5023798F2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4A7C2-D79E-4515-AE92-7F96EF74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A0F1A-A644-470F-95FC-9971F62A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74BC4-9E52-42BF-9C77-9FFECCEC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90E6A-F8A9-4FEF-A41A-EF85B58A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D53BB-36B8-4805-B760-F7B70677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078B8-3AEC-46DA-9EDA-E288E243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32D1-D446-4E55-85DC-9E422B16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E4685-7145-4DCD-8FE7-690C8065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84B14-1BF2-43DB-AFB7-BB9E94D5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A0B9D-35D0-43D3-BAD0-930F141E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6B80F-7D98-44BE-9551-2D60BA8F9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BA056-9C15-4F2B-AB67-F070F44EA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DF982-E87B-4EFB-9E79-0E295FA8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5E6F9-6E60-48E4-8C70-72FB4AE5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C00FB-7A67-4709-A610-53A14363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46374-CF2B-4548-9084-1C06D37D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E1927-84D6-4E87-9C0C-EC5F7E11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6263-5D38-4E1F-A052-F5E7C3F4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6AD21-A851-4EF2-91B2-0BEF1755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38D3E-9B98-4BAF-B31C-2786F4E9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292C4-D76A-4BDA-A689-13D246D3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91E1A-9E0A-44E3-8513-87B7CA61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6F1E7-B22E-43A3-9141-B7BC29AD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CF987-96B7-442A-989E-895161441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28651-2399-4319-A549-B07CD2760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801E1-4E9E-4C12-9B9A-532FFCAE6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8AF80-C8FB-4C9D-8AD3-6A8ED778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BE6CD-610D-485D-BE08-75556D9E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DA4B-11EE-46D5-A990-3A6ACCF71F9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C78B-01FD-4B1F-B9B0-E43E530C5F3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8D68-4CF7-4148-8890-7D409704155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FB42-3157-432B-AFE4-9CE0CBAA0ACF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11E3-1C9F-42D6-ACB7-B5AB1E85295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9F03-DC99-4BC2-9570-B14FF3AC9E87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635D-4D80-446E-B23B-906F6F3F643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FC9A-D03B-4963-9825-704ADEA2257A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B76A-6539-4BAD-9004-436D1530FAB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8567-CAA7-425E-8216-28E6183BFBF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31C9-46D1-4E37-A03D-7F175BF0A9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866F-B705-4C4D-B874-49A0CB0FD6B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5FEB-8D72-4A60-BC5B-49B3B5AD422D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2A33-D557-4D20-9AEB-BDA2C6136CC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C598-5CBB-4D26-9BE0-8AE30C12A3C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2505-DA8A-40B9-A16F-22FA57A7FBC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D1B8-C358-4872-857F-03FE94D7CB5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8119-5B18-4D82-82FC-55EFB7FA4D71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A88C-C894-4E27-B7D1-67834CADABA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3DF7-1F17-4A52-AC60-2FF86EE75711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3E72-4F23-4BB7-80D8-E79F9591733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F7D9-BF7F-4BE3-A72C-6A4E2497B7DA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E479-73E2-4C16-B8DB-47A3B1EE7F5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6AF1-94BB-497F-BEB0-07C8050BFCB0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074F-B716-4CB4-A6CB-69688CD8096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4" descr="中"/>
          <p:cNvPicPr/>
          <p:nvPr/>
        </p:nvPicPr>
        <p:blipFill>
          <a:blip r:embed="rId2"/>
          <a:stretch/>
        </p:blipFill>
        <p:spPr>
          <a:xfrm>
            <a:off x="4976640" y="2243160"/>
            <a:ext cx="784440" cy="9144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5" descr="国"/>
          <p:cNvPicPr/>
          <p:nvPr/>
        </p:nvPicPr>
        <p:blipFill>
          <a:blip r:embed="rId3"/>
          <a:stretch/>
        </p:blipFill>
        <p:spPr>
          <a:xfrm>
            <a:off x="4616280" y="3340080"/>
            <a:ext cx="874800" cy="85104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6" descr="红"/>
          <p:cNvPicPr/>
          <p:nvPr/>
        </p:nvPicPr>
        <p:blipFill>
          <a:blip r:embed="rId4"/>
          <a:stretch/>
        </p:blipFill>
        <p:spPr>
          <a:xfrm>
            <a:off x="5499000" y="3521160"/>
            <a:ext cx="1752840" cy="27176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7" descr="20083191453925_2"/>
          <p:cNvPicPr/>
          <p:nvPr/>
        </p:nvPicPr>
        <p:blipFill>
          <a:blip r:embed="rId5"/>
          <a:stretch/>
        </p:blipFill>
        <p:spPr>
          <a:xfrm>
            <a:off x="1603440" y="619200"/>
            <a:ext cx="395424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7000"/>
                            </p:stCondLst>
                            <p:childTnLst>
                              <p:par>
                                <p:cTn id="2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4" descr="边框"/>
          <p:cNvPicPr/>
          <p:nvPr/>
        </p:nvPicPr>
        <p:blipFill>
          <a:blip r:embed="rId2"/>
          <a:stretch/>
        </p:blipFill>
        <p:spPr>
          <a:xfrm>
            <a:off x="5062680" y="2116080"/>
            <a:ext cx="3173400" cy="11224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5" descr="中国花"/>
          <p:cNvPicPr/>
          <p:nvPr/>
        </p:nvPicPr>
        <p:blipFill>
          <a:blip r:embed="rId3"/>
          <a:stretch/>
        </p:blipFill>
        <p:spPr>
          <a:xfrm>
            <a:off x="3867120" y="2251080"/>
            <a:ext cx="809640" cy="7207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6" descr="中国花"/>
          <p:cNvPicPr/>
          <p:nvPr/>
        </p:nvPicPr>
        <p:blipFill>
          <a:blip r:embed="rId4"/>
          <a:stretch/>
        </p:blipFill>
        <p:spPr>
          <a:xfrm>
            <a:off x="3867120" y="3481560"/>
            <a:ext cx="809640" cy="7207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7" descr="中国花"/>
          <p:cNvPicPr/>
          <p:nvPr/>
        </p:nvPicPr>
        <p:blipFill>
          <a:blip r:embed="rId5"/>
          <a:stretch/>
        </p:blipFill>
        <p:spPr>
          <a:xfrm>
            <a:off x="3867120" y="4737240"/>
            <a:ext cx="809640" cy="7207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8" descr="边框"/>
          <p:cNvPicPr/>
          <p:nvPr/>
        </p:nvPicPr>
        <p:blipFill>
          <a:blip r:embed="rId6"/>
          <a:stretch/>
        </p:blipFill>
        <p:spPr>
          <a:xfrm>
            <a:off x="5062680" y="3351240"/>
            <a:ext cx="3173400" cy="11224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边框"/>
          <p:cNvPicPr/>
          <p:nvPr/>
        </p:nvPicPr>
        <p:blipFill>
          <a:blip r:embed="rId7"/>
          <a:stretch/>
        </p:blipFill>
        <p:spPr>
          <a:xfrm>
            <a:off x="5064120" y="4587840"/>
            <a:ext cx="3173400" cy="1122480"/>
          </a:xfrm>
          <a:prstGeom prst="rect">
            <a:avLst/>
          </a:prstGeom>
          <a:ln w="0">
            <a:noFill/>
          </a:ln>
        </p:spPr>
      </p:pic>
      <p:sp>
        <p:nvSpPr>
          <p:cNvPr id="543" name="TextBox 7"/>
          <p:cNvSpPr/>
          <p:nvPr/>
        </p:nvSpPr>
        <p:spPr>
          <a:xfrm>
            <a:off x="6079680" y="21859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历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8"/>
          <p:cNvSpPr/>
          <p:nvPr/>
        </p:nvSpPr>
        <p:spPr>
          <a:xfrm>
            <a:off x="6109560" y="33321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内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Box 9"/>
          <p:cNvSpPr/>
          <p:nvPr/>
        </p:nvSpPr>
        <p:spPr>
          <a:xfrm>
            <a:off x="6156360" y="46180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意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43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3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61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8000"/>
                            </p:stCondLst>
                            <p:childTnLst>
                              <p:par>
                                <p:cTn id="6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1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9000"/>
                            </p:stCondLst>
                            <p:childTnLst>
                              <p:par>
                                <p:cTn id="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6" descr="花"/>
          <p:cNvPicPr/>
          <p:nvPr/>
        </p:nvPicPr>
        <p:blipFill>
          <a:blip r:embed="rId2"/>
          <a:stretch/>
        </p:blipFill>
        <p:spPr>
          <a:xfrm>
            <a:off x="0" y="0"/>
            <a:ext cx="1309680" cy="13017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7" descr="花"/>
          <p:cNvPicPr/>
          <p:nvPr/>
        </p:nvPicPr>
        <p:blipFill>
          <a:blip r:embed="rId3"/>
          <a:stretch/>
        </p:blipFill>
        <p:spPr>
          <a:xfrm>
            <a:off x="0" y="5556240"/>
            <a:ext cx="1309680" cy="13017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花"/>
          <p:cNvPicPr/>
          <p:nvPr/>
        </p:nvPicPr>
        <p:blipFill>
          <a:blip r:embed="rId4"/>
          <a:stretch/>
        </p:blipFill>
        <p:spPr>
          <a:xfrm>
            <a:off x="9342360" y="5556240"/>
            <a:ext cx="1309680" cy="130176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9" descr="花"/>
          <p:cNvPicPr/>
          <p:nvPr/>
        </p:nvPicPr>
        <p:blipFill>
          <a:blip r:embed="rId5"/>
          <a:stretch/>
        </p:blipFill>
        <p:spPr>
          <a:xfrm>
            <a:off x="9342360" y="0"/>
            <a:ext cx="1309680" cy="13017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1" descr="小边框"/>
          <p:cNvPicPr/>
          <p:nvPr/>
        </p:nvPicPr>
        <p:blipFill>
          <a:blip r:embed="rId6"/>
          <a:stretch/>
        </p:blipFill>
        <p:spPr>
          <a:xfrm>
            <a:off x="1258920" y="800280"/>
            <a:ext cx="1049400" cy="9270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2" descr="小边框"/>
          <p:cNvPicPr/>
          <p:nvPr/>
        </p:nvPicPr>
        <p:blipFill>
          <a:blip r:embed="rId7"/>
          <a:stretch/>
        </p:blipFill>
        <p:spPr>
          <a:xfrm>
            <a:off x="1246320" y="4818240"/>
            <a:ext cx="927000" cy="104904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13" descr="小边框"/>
          <p:cNvPicPr/>
          <p:nvPr/>
        </p:nvPicPr>
        <p:blipFill>
          <a:blip r:embed="rId8"/>
          <a:stretch/>
        </p:blipFill>
        <p:spPr>
          <a:xfrm>
            <a:off x="8400960" y="762120"/>
            <a:ext cx="927360" cy="104904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4" descr="小边框"/>
          <p:cNvPicPr/>
          <p:nvPr/>
        </p:nvPicPr>
        <p:blipFill>
          <a:blip r:embed="rId9"/>
          <a:stretch/>
        </p:blipFill>
        <p:spPr>
          <a:xfrm>
            <a:off x="8286840" y="4940280"/>
            <a:ext cx="1049400" cy="927000"/>
          </a:xfrm>
          <a:prstGeom prst="rect">
            <a:avLst/>
          </a:prstGeom>
          <a:ln w="0">
            <a:noFill/>
          </a:ln>
        </p:spPr>
      </p:pic>
      <p:sp>
        <p:nvSpPr>
          <p:cNvPr id="554" name="TextBox 9"/>
          <p:cNvSpPr/>
          <p:nvPr/>
        </p:nvSpPr>
        <p:spPr>
          <a:xfrm>
            <a:off x="3204720" y="1959120"/>
            <a:ext cx="59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我国夏朝流行黑色，殷商时期流行白色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周朝流行红色，并给了红色正统地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汉，明两个朝代是中国最强盛的时期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同时对中国影响最深，所以渐渐的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红色文化渗透到了中国的各个方面成了民族的代表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8400"/>
                            </p:stCondLst>
                            <p:childTnLst>
                              <p:par>
                                <p:cTn id="14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3600"/>
                            </p:stCondLst>
                            <p:childTnLst>
                              <p:par>
                                <p:cTn id="14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8800"/>
                            </p:stCondLst>
                            <p:childTnLst>
                              <p:par>
                                <p:cTn id="15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3800"/>
                            </p:stCondLst>
                            <p:childTnLst>
                              <p:par>
                                <p:cTn id="16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6" descr="过渡画框"/>
          <p:cNvPicPr/>
          <p:nvPr/>
        </p:nvPicPr>
        <p:blipFill>
          <a:blip r:embed="rId1"/>
          <a:stretch/>
        </p:blipFill>
        <p:spPr>
          <a:xfrm>
            <a:off x="2610000" y="0"/>
            <a:ext cx="6831000" cy="65739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" descr="封面2"/>
          <p:cNvPicPr/>
          <p:nvPr/>
        </p:nvPicPr>
        <p:blipFill>
          <a:blip r:embed="rId2"/>
          <a:stretch/>
        </p:blipFill>
        <p:spPr>
          <a:xfrm>
            <a:off x="9394920" y="0"/>
            <a:ext cx="2797200" cy="68580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5" descr="封面1"/>
          <p:cNvPicPr/>
          <p:nvPr/>
        </p:nvPicPr>
        <p:blipFill>
          <a:blip r:embed="rId3"/>
          <a:stretch/>
        </p:blipFill>
        <p:spPr>
          <a:xfrm>
            <a:off x="0" y="0"/>
            <a:ext cx="2743200" cy="6858000"/>
          </a:xfrm>
          <a:prstGeom prst="rect">
            <a:avLst/>
          </a:prstGeom>
          <a:ln w="0">
            <a:noFill/>
          </a:ln>
        </p:spPr>
      </p:pic>
      <p:sp>
        <p:nvSpPr>
          <p:cNvPr id="558" name="TextBox 4"/>
          <p:cNvSpPr/>
          <p:nvPr/>
        </p:nvSpPr>
        <p:spPr>
          <a:xfrm>
            <a:off x="4407840" y="1701720"/>
            <a:ext cx="33811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中国红（又称绛色）是三原色中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红色，以此为主色调衍生出中国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系列：娇嫩的榴红、深沉的枣红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华贵的朱砂红、朴浊的陶土红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沧桑的铁锈红、鲜亮的樱桃红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明妍的胭脂红、羞涩的绯红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暖暖的橘红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。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8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4" descr="大画框"/>
          <p:cNvPicPr/>
          <p:nvPr/>
        </p:nvPicPr>
        <p:blipFill>
          <a:blip r:embed="rId2"/>
          <a:stretch/>
        </p:blipFill>
        <p:spPr>
          <a:xfrm>
            <a:off x="0" y="-504720"/>
            <a:ext cx="9304200" cy="7920000"/>
          </a:xfrm>
          <a:prstGeom prst="rect">
            <a:avLst/>
          </a:prstGeom>
          <a:ln w="0">
            <a:noFill/>
          </a:ln>
        </p:spPr>
      </p:pic>
      <p:sp>
        <p:nvSpPr>
          <p:cNvPr id="560" name="TextBox 2"/>
          <p:cNvSpPr/>
          <p:nvPr/>
        </p:nvSpPr>
        <p:spPr>
          <a:xfrm>
            <a:off x="3038760" y="1501920"/>
            <a:ext cx="3807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中国红是中国人的魂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尚红习俗的演变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记载着中国人的心路历程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经过世代承启、沉淀、深化和扬弃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传统精髓逐渐嬗变为中国文化的底色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弥漫着浓得化不开的积极入世情结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象征着热忱、奋进、团结的民族品格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/>
          <p:nvPr/>
        </p:nvSpPr>
        <p:spPr>
          <a:xfrm>
            <a:off x="395280" y="6454800"/>
            <a:ext cx="4824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999"/>
                </a:solidFill>
                <a:latin typeface="楷体"/>
                <a:ea typeface="楷体"/>
              </a:rPr>
              <a:t>更多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3"/>
              </a:rPr>
              <a:t>免费PPT模板</a:t>
            </a:r>
            <a:r>
              <a:rPr b="1" lang="zh-CN" sz="1400" spc="-1" strike="noStrike">
                <a:solidFill>
                  <a:srgbClr val="009999"/>
                </a:solidFill>
                <a:latin typeface="楷体"/>
                <a:ea typeface="楷体"/>
              </a:rPr>
              <a:t>尽在</a:t>
            </a:r>
            <a:r>
              <a:rPr b="1" lang="zh-CN" sz="1400" spc="-1" strike="noStrike">
                <a:solidFill>
                  <a:srgbClr val="009999"/>
                </a:solidFill>
                <a:latin typeface="Calibri"/>
              </a:rPr>
              <a:t>：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4" descr="红条"/>
          <p:cNvPicPr/>
          <p:nvPr/>
        </p:nvPicPr>
        <p:blipFill>
          <a:blip r:embed="rId1"/>
          <a:stretch/>
        </p:blipFill>
        <p:spPr>
          <a:xfrm>
            <a:off x="12600" y="0"/>
            <a:ext cx="12192120" cy="24526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5" descr="红条"/>
          <p:cNvPicPr/>
          <p:nvPr/>
        </p:nvPicPr>
        <p:blipFill>
          <a:blip r:embed="rId2"/>
          <a:stretch/>
        </p:blipFill>
        <p:spPr>
          <a:xfrm>
            <a:off x="25560" y="4738680"/>
            <a:ext cx="12191760" cy="21193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5415145_185556535126_2副本"/>
          <p:cNvPicPr/>
          <p:nvPr/>
        </p:nvPicPr>
        <p:blipFill>
          <a:blip r:embed="rId3"/>
          <a:stretch/>
        </p:blipFill>
        <p:spPr>
          <a:xfrm>
            <a:off x="4154400" y="1617840"/>
            <a:ext cx="3889440" cy="222552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8"/>
          <p:cNvSpPr/>
          <p:nvPr/>
        </p:nvSpPr>
        <p:spPr>
          <a:xfrm>
            <a:off x="5503680" y="40482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9 -0.1787 L -0.00105 0.18149 E">
                                      <p:cBhvr>
                                        <p:cTn id="271" dur="2000" fill="hold"/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6 0.15463 L -0.003 -0.15509 E">
                                      <p:cBhvr>
                                        <p:cTn id="279" dur="20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10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3" dur="250" autoRev="1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67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6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a</cp:lastModifiedBy>
  <dcterms:modified xsi:type="dcterms:W3CDTF">2015-01-14T14:19:51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