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22D-F5E1-4E33-A323-2483F0EC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EEA-4749-48AA-9339-8FFC21E4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7695E-FE0A-4A82-87A4-86505DC8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F5C01-08BA-44EB-93BD-CCC2D696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5FBFE-96CC-499F-B97D-FF717E8A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C306F-3FCB-4A66-B5E0-BC991A4C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270EB-A2DB-45E7-A4C5-AF0808D5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4E3C8-0787-4CFA-918A-57365216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8E61B-C35C-4574-B5DB-B0F068EC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EA363-045F-4142-81F3-98702526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33FF1-FB52-432E-93E5-C79D5355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E6F1A-5B43-41CE-8A70-70F7D736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C2D-2E71-445C-A5A2-056B21F5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07416-7487-485B-AFF2-B3DB7DD1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E9D58-D179-41DC-A6D3-C30699E6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DA67B-AF4F-4F03-BF88-30E40A73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1AD45-E855-4055-961A-5E86CF0F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F3750-AECB-4A52-9B04-02E546E4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1C46B-D85A-4FF3-A3EE-1F80CACF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F1BEA-06DA-41B8-ABDB-C5A5A701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BC802-14E2-49FB-8912-BDC03CD3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2933F-4BD1-4943-A69F-3D247019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DD61D-48E8-400F-A73A-95A9C28C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E7E8-078B-4ECB-A50D-92099C5B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259C4-00C5-4BF7-B5BB-30055121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6D52F-3E42-4030-9AC5-6506E011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4CCA3-D65F-4049-BE9F-6C1B6588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DB078-578B-4842-8E40-CC41A832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578B7-9C2E-4155-BF80-ED998416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14647-13EE-45A6-8E59-69BF0E86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B301E-AD5E-4091-8877-76BF2A43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2F005-8A25-476F-9B3A-0A123587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3B948-2719-44A1-9F9A-5B5E8AEF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CEF21-B8E8-4FC2-9029-A39BDE03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1820-F639-4C5C-BFEB-56E44B84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AD9B2-5C04-499D-A726-45D97F16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515E6-D2A8-4690-91ED-C7F96254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AF204-E2F3-490D-80F4-2359DEA3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E09A9-911F-4253-BEA4-38270AF7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62A68-676A-4B4D-949C-EC77D270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5F321-4D93-452C-9444-3835E2BE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FA187-09F4-457F-AC81-207AED44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C32D1-3726-47D1-BEEE-B33AEE76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7183F-B260-45C5-B91C-424E89AD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53E12-71D1-4F8A-9882-BE2B6350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7821-94C5-4F1E-B51A-8B523354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F47F3-5C41-4364-9E71-84722850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78845-DC6D-4BFA-9C13-DFFF0AE7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D0800-006D-4681-890E-E34F6C36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CAE17-EE3F-4302-8601-FE5F218E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BE554-219D-42A5-A228-DC7B8FF5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BAFD8-81CF-4BDD-A242-62B50917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9FF07-FB32-45DE-BA15-B55C8318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FC55E-F0A5-4A36-B8E2-65336D4E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56B1B-9F0F-4848-9F2C-936B3265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FC1DB-997C-4C5F-8976-84D0415D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0183-82E1-415E-B52B-75A29383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761F5-7FEE-49FF-BE20-399FBEB8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89AF2-7162-4AD4-BFA1-09A7136A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C182A9-9236-4DBE-BAE8-806A72A6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8E358-941A-44EF-A845-C0BC6D97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05030-52D7-4663-A3AF-08FAAD30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5158B-EB81-488A-A10E-47046A93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95064-6CA8-4BB6-A5DC-417AA09C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89F5-56A4-4659-8ECF-D89007A9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B865-B07E-4E6A-BC1F-2A4F2C00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AB0C-467D-45A4-9F0C-646D74F8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F698-DBC1-4E15-9A5F-99A6D712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CB2-A401-4EF7-BEB7-AEDFF2B2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8E09-3023-4E91-BBF3-189074D8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17A2-5B08-4FBC-B9D4-AB4BC02F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750B-7140-4643-9BDE-1761B739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409D-E9CC-4A6C-BDAC-49123FCF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E25E-8BC1-4BB7-8E9D-7CB2FEAE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D0537-E29C-42EE-B973-3B041809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3DAD5-F7E2-497F-BDC8-66795405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C32A2-E03C-4D5D-9DBE-628B9DA0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0D08D-EA08-43B5-B6E4-7CDFFCEC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2DD45-901B-4A7F-92F8-370244C1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156-B6F5-4A37-8AED-1F3D902B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02BAC-72AE-46F1-A94F-CCBB1F2F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F5781-A863-48A0-B45C-672A7AA9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1089A-B7A5-40F1-98D8-9040BF12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06D74-A2EB-4747-A7C5-B97A5167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0EC84-F091-49DF-98B6-B4EACA36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712C3-19C3-450F-88BC-9114DCDC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EB2B0-9054-4101-B08C-2D45952A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CDC5A-DA3D-49BB-9149-49715D84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56AB4-D276-4518-A913-06427498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06098-35DD-435C-AD7E-EB5DF75C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ABEF-33C1-4883-9CA3-AD83994E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C0CDC-4765-4333-B6F6-310E9D4D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6916C-75DE-4BF5-A6F4-D7DA2ED8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546F1-5180-4902-A6E2-6895C7F8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357B1-A56D-4251-99C5-E61D69B8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2A610-4A07-4984-B89E-EAE91EDA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1277C-A260-46DF-AEC2-A685596D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ADC13-83F7-4976-BC67-EA969C49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91ABB-F63D-4D66-B2BD-0A7A7CAF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E14BA-D106-4679-8A30-251268FF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24592-E02E-413B-AC86-FB10034D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1557-37EC-47F5-98A9-0F06F624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179CF-CAA9-495D-82C9-E4435BF6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3305A-4DA1-4F86-939D-13D3A7E7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7C76D-6110-4616-AFFD-D8EBF482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54E3B-ED9E-41F4-BFAA-2E331207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7C567-D0E4-4B0F-B55F-ED960DF0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BC5F3-C9C8-4359-A7D6-8A2906CD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D90EA-EFC5-47E2-A284-7E2A982A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98CE9-9EDA-4C2B-BD69-F2006E7A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F6530-50B3-4563-AABF-BCE55920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6D260-AF9E-425F-8502-7D363BFA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B08-3DA9-4DEE-A2E6-79C8DA35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A9548-7D60-4EFE-A8B2-6B4776A4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F39C2-D7B6-4F8D-954E-A72A372D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BB6C6-3B56-4B25-8644-DE1976A4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1F93C-4A9E-4A58-879B-CA2D14AF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364FB-205A-4AD7-BFAC-01BB40AD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8BC3B-CC73-4BA7-8E28-790484B8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18CFA-787C-4AB8-A130-93BADF30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B85EB-4D1F-4F2B-A21D-55116CD5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66A8D-31BE-4F27-8C65-F387B21B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E2A89-5294-4DD0-A36C-F05DAEB8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DFB-3508-4784-A8BA-102D843D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D183B-4268-408A-8832-CB0CBC3B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C5443-6846-47D8-A663-CED3F513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1C891-8AA1-431E-8636-1886A2BD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19CF1-A2FD-4755-B5B3-57FBC54E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9AC2D-C164-438A-A221-08F502EA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CCF55-AA1F-4A64-AA4B-33BCA6D8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EA496-EAEF-44C6-B1FC-97A33C38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EB2FE-CC15-45DA-B1BE-CC4B1EB5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DFC9F-F152-4590-BFD5-143F4756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91976-6950-4666-9321-6F4761FD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648-3FF5-4CB3-B37D-1251D9D6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8B26E-4AFA-43AC-921D-1B8909E6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FACBA-CB1F-48DF-90CB-C354A442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5FBCA-E023-4C83-8891-8D2C1CB4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7A2EB-2043-44CC-87AC-1F59BA0B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79F21-738D-42E7-909F-73656E1A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F1F10-6385-40BA-A7C8-936B9B51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B7716-2B43-46F4-9035-0B9DB952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98FB3-8C64-4AB9-B797-4CF417A4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3CD69-DE05-4BEA-B65C-841F5E87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EC678-55AB-48A0-963C-67000D12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4CA-94FC-476A-ACD0-66F9DC0E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54A23-BD4C-4D96-8A00-9544AEE9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74ABC-4A4D-445C-BF50-5E85177D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0F80F-C86C-4147-9553-BB91B528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75AFA-4A14-48DA-AEE8-B10AA893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AC5A2-0C70-4797-87DA-E8A432D9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C5B17-9783-4514-A47D-2AA11360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EF531-F7D4-4AA4-B923-E6F7372E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B49D5-A851-4FA9-A6DB-6E066F57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0C7CF-ED71-485F-95B6-732929C3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44676-7C17-4260-8EB6-92B20B97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B635-FA5A-4B4F-B1D7-9B1DAF10C6B0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1C6D-9714-48FE-B63E-FA993E85D17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671D-22CC-4A82-97F8-9E6D29E05A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D4B3-7339-46D3-A3A3-D6065A706DF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50F1-411C-42FE-8A2A-44E0D01730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ADBA-BC1D-4C40-A671-2FD390C1E8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2B19-C0FB-4EE9-B176-9CCB7E53F8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5916-00F7-403B-B95D-F6B0F18FA51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EFE9-A348-4222-A820-F62C98709B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34A3-F2A3-41DB-AEB2-A164552480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D90F-CCEE-4786-8D28-5A738E98D6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2F3F-F6F9-46EA-80FB-9AAA1EA592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1284-E8E5-42BC-AACB-F2C051E394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027D-D390-4E8E-8C00-256340DA720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C8AB-B793-4DEF-B267-E790E74512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7DE8-3293-4BE2-95B4-ACDB4E39E2B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0143-8843-4B76-9414-15C5D6EA94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83DA-89B8-45F4-84F9-3A9A5764409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942C-930B-4F82-81B1-70D1AF2F60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CBE7-2D4D-4296-8F4D-4A98D1AD627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7928-FB10-42E0-BB9C-C4B1D71904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4DB3-C38C-4AD3-A4C8-9A7A65E58A2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BB99-4989-4B2D-8824-216E990814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8D92-2CDE-4960-AAE5-5C78D81154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6CB0-FDD3-4132-ABBE-8F460FBB58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标题框-3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3279600" y="2347920"/>
            <a:ext cx="1508400" cy="14414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标题框-3"/>
          <p:cNvPicPr/>
          <p:nvPr/>
        </p:nvPicPr>
        <p:blipFill>
          <a:blip r:embed="rId3">
            <a:lum bright="-24000"/>
          </a:blip>
          <a:stretch/>
        </p:blipFill>
        <p:spPr>
          <a:xfrm>
            <a:off x="7604280" y="2637000"/>
            <a:ext cx="1506240" cy="1439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4"/>
          <p:cNvSpPr/>
          <p:nvPr/>
        </p:nvSpPr>
        <p:spPr>
          <a:xfrm>
            <a:off x="3924360" y="2708280"/>
            <a:ext cx="439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80000"/>
                </a:solidFill>
                <a:latin typeface="黑体"/>
                <a:ea typeface="黑体"/>
              </a:rPr>
              <a:t>中国结•</a:t>
            </a:r>
            <a:r>
              <a:rPr b="0" lang="zh-CN" sz="4800" spc="-1" strike="noStrike">
                <a:solidFill>
                  <a:srgbClr val="c80000"/>
                </a:solidFill>
                <a:latin typeface="黑体"/>
                <a:ea typeface="黑体"/>
              </a:rPr>
              <a:t>系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5" descr="中国红-3"/>
          <p:cNvPicPr/>
          <p:nvPr/>
        </p:nvPicPr>
        <p:blipFill>
          <a:blip r:embed="rId4">
            <a:lum bright="-24000"/>
          </a:blip>
          <a:srcRect l="40149" t="31914" r="39348" b="33559"/>
          <a:stretch/>
        </p:blipFill>
        <p:spPr>
          <a:xfrm>
            <a:off x="34920" y="1414440"/>
            <a:ext cx="3044880" cy="34592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云纹-8"/>
          <p:cNvPicPr/>
          <p:nvPr/>
        </p:nvPicPr>
        <p:blipFill>
          <a:blip r:embed="rId5">
            <a:lum bright="-12000"/>
          </a:blip>
          <a:srcRect l="0" t="48218" r="16203" b="28419"/>
          <a:stretch/>
        </p:blipFill>
        <p:spPr>
          <a:xfrm>
            <a:off x="2560680" y="5884920"/>
            <a:ext cx="6592680" cy="10015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云纹-8"/>
          <p:cNvPicPr/>
          <p:nvPr/>
        </p:nvPicPr>
        <p:blipFill>
          <a:blip r:embed="rId6">
            <a:lum bright="-12000"/>
          </a:blip>
          <a:srcRect l="0" t="28418" r="16205" b="48221"/>
          <a:stretch/>
        </p:blipFill>
        <p:spPr>
          <a:xfrm>
            <a:off x="-247680" y="-22320"/>
            <a:ext cx="658512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中国红-3"/>
          <p:cNvPicPr/>
          <p:nvPr/>
        </p:nvPicPr>
        <p:blipFill>
          <a:blip r:embed="rId2">
            <a:lum bright="-24000"/>
          </a:blip>
          <a:srcRect l="49907" t="31914" r="36904" b="33559"/>
          <a:stretch/>
        </p:blipFill>
        <p:spPr>
          <a:xfrm>
            <a:off x="0" y="1415880"/>
            <a:ext cx="2000160" cy="3461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中国红-3"/>
          <p:cNvPicPr/>
          <p:nvPr/>
        </p:nvPicPr>
        <p:blipFill>
          <a:blip r:embed="rId3">
            <a:lum bright="-24000"/>
          </a:blip>
          <a:srcRect l="40149" t="31914" r="49842" b="33559"/>
          <a:stretch/>
        </p:blipFill>
        <p:spPr>
          <a:xfrm>
            <a:off x="7661160" y="1415880"/>
            <a:ext cx="1521000" cy="34592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4"/>
          <p:cNvSpPr/>
          <p:nvPr/>
        </p:nvSpPr>
        <p:spPr>
          <a:xfrm>
            <a:off x="3276720" y="692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80000"/>
                </a:solidFill>
                <a:latin typeface="Arial"/>
                <a:ea typeface="黑体"/>
              </a:rPr>
              <a:t>情系中国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3059280" y="22035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80000"/>
                </a:solidFill>
                <a:latin typeface="Arial"/>
              </a:rPr>
              <a:t>方胜结 • 一路平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3059280" y="2754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80000"/>
                </a:solidFill>
                <a:latin typeface="Arial"/>
              </a:rPr>
              <a:t>双蝶结 • 比翼双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060720" y="328464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80000"/>
                </a:solidFill>
                <a:latin typeface="Arial"/>
              </a:rPr>
              <a:t>如意结 • 吉祥如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3059280" y="383544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80000"/>
                </a:solidFill>
                <a:latin typeface="Arial"/>
              </a:rPr>
              <a:t>团锦结 • 前程似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3059280" y="441324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80000"/>
                </a:solidFill>
                <a:latin typeface="Arial"/>
              </a:rPr>
              <a:t>祥云结 • 祥云绵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10" descr="标题框-2"/>
          <p:cNvPicPr/>
          <p:nvPr/>
        </p:nvPicPr>
        <p:blipFill>
          <a:blip r:embed="rId4">
            <a:lum bright="-18000"/>
          </a:blip>
          <a:srcRect l="0" t="0" r="-35411" b="-8595"/>
          <a:stretch/>
        </p:blipFill>
        <p:spPr>
          <a:xfrm>
            <a:off x="2676600" y="1565280"/>
            <a:ext cx="1101600" cy="9270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1" descr="标题框-2"/>
          <p:cNvPicPr/>
          <p:nvPr/>
        </p:nvPicPr>
        <p:blipFill>
          <a:blip r:embed="rId5">
            <a:lum bright="-18000"/>
          </a:blip>
          <a:srcRect l="-40560" t="-14852" r="0" b="0"/>
          <a:stretch/>
        </p:blipFill>
        <p:spPr>
          <a:xfrm>
            <a:off x="4861080" y="4683240"/>
            <a:ext cx="1144440" cy="9792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标题框-1"/>
          <p:cNvPicPr/>
          <p:nvPr/>
        </p:nvPicPr>
        <p:blipFill>
          <a:blip r:embed="rId6">
            <a:lum bright="-18000"/>
          </a:blip>
          <a:srcRect l="0" t="0" r="0" b="41108"/>
          <a:stretch/>
        </p:blipFill>
        <p:spPr>
          <a:xfrm>
            <a:off x="2986200" y="662040"/>
            <a:ext cx="865080" cy="5335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3" descr="标题框-1"/>
          <p:cNvPicPr/>
          <p:nvPr/>
        </p:nvPicPr>
        <p:blipFill>
          <a:blip r:embed="rId7">
            <a:lum bright="-18000"/>
          </a:blip>
          <a:srcRect l="0" t="41108" r="0" b="0"/>
          <a:stretch/>
        </p:blipFill>
        <p:spPr>
          <a:xfrm>
            <a:off x="4861080" y="835200"/>
            <a:ext cx="8650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方胜结-1"/>
          <p:cNvPicPr/>
          <p:nvPr/>
        </p:nvPicPr>
        <p:blipFill>
          <a:blip r:embed="rId2">
            <a:lum bright="-18000"/>
          </a:blip>
          <a:srcRect l="35024" t="11319" r="35488" b="17307"/>
          <a:stretch/>
        </p:blipFill>
        <p:spPr>
          <a:xfrm>
            <a:off x="957240" y="2003400"/>
            <a:ext cx="2030400" cy="323856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3"/>
          <p:cNvSpPr/>
          <p:nvPr/>
        </p:nvSpPr>
        <p:spPr>
          <a:xfrm>
            <a:off x="3492360" y="270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80000"/>
                </a:solidFill>
                <a:latin typeface="Arial"/>
              </a:rPr>
              <a:t>方胜结 • 一路平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" descr="标题框-1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3276720" y="2600280"/>
            <a:ext cx="717480" cy="752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标题框-1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6807240" y="2781360"/>
            <a:ext cx="717480" cy="7524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云纹-2"/>
          <p:cNvPicPr/>
          <p:nvPr/>
        </p:nvPicPr>
        <p:blipFill>
          <a:blip r:embed="rId5"/>
          <a:stretch/>
        </p:blipFill>
        <p:spPr>
          <a:xfrm>
            <a:off x="7404120" y="1916280"/>
            <a:ext cx="11304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3492360" y="270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80000"/>
                </a:solidFill>
                <a:latin typeface="Arial"/>
              </a:rPr>
              <a:t>团锦结 • 前程似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标题框-1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3276720" y="2600280"/>
            <a:ext cx="717480" cy="7524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标题框-1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6807240" y="2781360"/>
            <a:ext cx="717480" cy="7524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" descr="团锦结"/>
          <p:cNvPicPr/>
          <p:nvPr/>
        </p:nvPicPr>
        <p:blipFill>
          <a:blip r:embed="rId4">
            <a:lum bright="-18000"/>
          </a:blip>
          <a:srcRect l="17582" t="18814" r="20111" b="10908"/>
          <a:stretch/>
        </p:blipFill>
        <p:spPr>
          <a:xfrm>
            <a:off x="936720" y="1436760"/>
            <a:ext cx="2266920" cy="38336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" descr="云纹-2"/>
          <p:cNvPicPr/>
          <p:nvPr/>
        </p:nvPicPr>
        <p:blipFill>
          <a:blip r:embed="rId5"/>
          <a:stretch/>
        </p:blipFill>
        <p:spPr>
          <a:xfrm>
            <a:off x="7404120" y="1916280"/>
            <a:ext cx="11304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-31680" y="547560"/>
            <a:ext cx="9285120" cy="111924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-174600" y="187200"/>
            <a:ext cx="942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3443400" y="720720"/>
            <a:ext cx="523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00"/>
                </a:solidFill>
                <a:latin typeface="Arial"/>
                <a:ea typeface="黑体"/>
              </a:rPr>
              <a:t>中有千千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901800" y="2565360"/>
            <a:ext cx="7488000" cy="27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结绳记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--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据《易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·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系辞》载：“上古结绳而治，后世圣人易之以书目契。”可见在远古 的华夏土地，“结”被先民们赋予了“契”和“约”的法律表意功能，同时还有记载历史事件的作用，“结”因此备受人们的尊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  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服饰之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--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从先民用绳结盘曲成“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S”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形饰于腰间始，历经了周的“绶带”，南北朝的“腰间双绮带，梦为同心结”到盛唐的“披帛结绶”、宋的“玉环绶”直至明清旗袍上的“盘扣”及传世的荷包（香囊）、玉 佩、扇坠、发簪等无不显示了“结”在中国传统服饰中被应用的历时之久、包罗之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神灵之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--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中国结中还有一类被认为是通神灵的法物，可达到驱邪避灾、镇凶纳吉、却阴护阳等功效，如“吉祥结”、“盘长结”等，这类“结”作为凝聚着神秘宗教观念的护身符，在民间得以广泛的应用，并形成一定的传承机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 flipV="1">
            <a:off x="9264600" y="1628280"/>
            <a:ext cx="17997480" cy="54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 flipV="1">
            <a:off x="-18111960" y="493200"/>
            <a:ext cx="17908920" cy="54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8"/>
          <p:cNvGrpSpPr/>
          <p:nvPr/>
        </p:nvGrpSpPr>
        <p:grpSpPr>
          <a:xfrm>
            <a:off x="519120" y="42840"/>
            <a:ext cx="2755800" cy="2276640"/>
            <a:chOff x="519120" y="42840"/>
            <a:chExt cx="2755800" cy="2276640"/>
          </a:xfrm>
        </p:grpSpPr>
        <p:sp>
          <p:nvSpPr>
            <p:cNvPr id="568" name="Oval 9"/>
            <p:cNvSpPr/>
            <p:nvPr/>
          </p:nvSpPr>
          <p:spPr>
            <a:xfrm>
              <a:off x="735480" y="115200"/>
              <a:ext cx="2123280" cy="212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10" descr="中国红-5"/>
            <p:cNvPicPr/>
            <p:nvPr/>
          </p:nvPicPr>
          <p:blipFill>
            <a:blip r:embed="rId2"/>
            <a:srcRect l="12127" t="28222" r="47997" b="38594"/>
            <a:stretch/>
          </p:blipFill>
          <p:spPr>
            <a:xfrm>
              <a:off x="519120" y="42840"/>
              <a:ext cx="2755800" cy="227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1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10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898560" y="-20520"/>
            <a:ext cx="1081080" cy="691020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"/>
          <p:cNvSpPr/>
          <p:nvPr/>
        </p:nvSpPr>
        <p:spPr>
          <a:xfrm rot="5400000">
            <a:off x="-177480" y="191880"/>
            <a:ext cx="9428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3132000" y="990720"/>
            <a:ext cx="5619960" cy="22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文字的前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--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易系辞载：上古结绳记事，后世圣人易之以书契。而和郑玄周易又注称；大事大结其绳，小事小结其绳。而在战国铜器上所见的数字符号上都还留有结绳的形状，由这些历史资料来看，绳结确实曾被用作辅助记忆的工具，也可说是文字的前身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  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穿着的习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--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最早的衣服没有今天的钮扣，拉链等配件，所以若想把衣服系牢，就只能借助将衣带打结这个方法。中国人一向有佩玉的习惯，历代的玉佩形制如玉璜，玉珑，玉□等。在其上都钻有小圆孔，以便于穿过 线绳，将这些玉佩系在衣服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近代：结绳艺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--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到了清代，绳结发展至非常高妙的水准，式样既多，名称也巧，简直就把中国结这种优美的装饰品当成艺术品一般来讲究。在曹雪芹著的红楼第三十五回「白玉钏亲尝莲叶羹，黄金莺巧结梅花络」中，有一段描述宝玉与莺儿商 谈编结络子（络子就是结子的应用之一）的对白，就说明了当时结子的用途，饰物与结子颜巴的调配，以及结子的式样名称等等的问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555840" y="2708280"/>
            <a:ext cx="12776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e600"/>
                </a:solidFill>
                <a:latin typeface="Arial"/>
              </a:rPr>
              <a:t>历史为骨</a:t>
            </a:r>
            <a:r>
              <a:rPr b="0" lang="zh-CN" sz="3600" spc="-1" strike="noStrike">
                <a:solidFill>
                  <a:srgbClr val="ffe6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ffe600"/>
                </a:solidFill>
                <a:latin typeface="Arial"/>
              </a:rPr>
              <a:t>艺术为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 flipH="1">
            <a:off x="861840" y="6894360"/>
            <a:ext cx="54000" cy="14398920"/>
          </a:xfrm>
          <a:prstGeom prst="rect">
            <a:avLst/>
          </a:prstGeom>
          <a:gradFill rotWithShape="0">
            <a:gsLst>
              <a:gs pos="0">
                <a:srgbClr val="ffe600"/>
              </a:gs>
              <a:gs pos="50000">
                <a:srgbClr val="ffffff"/>
              </a:gs>
              <a:gs pos="100000">
                <a:srgbClr val="ffe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 flipH="1">
            <a:off x="1977480" y="-14500080"/>
            <a:ext cx="53640" cy="14398560"/>
          </a:xfrm>
          <a:prstGeom prst="rect">
            <a:avLst/>
          </a:prstGeom>
          <a:gradFill rotWithShape="0">
            <a:gsLst>
              <a:gs pos="0">
                <a:srgbClr val="ffe600"/>
              </a:gs>
              <a:gs pos="50000">
                <a:srgbClr val="ffffff"/>
              </a:gs>
              <a:gs pos="100000">
                <a:srgbClr val="ffe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8"/>
          <p:cNvGrpSpPr/>
          <p:nvPr/>
        </p:nvGrpSpPr>
        <p:grpSpPr>
          <a:xfrm>
            <a:off x="158760" y="431640"/>
            <a:ext cx="2755800" cy="2276640"/>
            <a:chOff x="158760" y="431640"/>
            <a:chExt cx="2755800" cy="2276640"/>
          </a:xfrm>
        </p:grpSpPr>
        <p:sp>
          <p:nvSpPr>
            <p:cNvPr id="577" name="Oval 9"/>
            <p:cNvSpPr/>
            <p:nvPr/>
          </p:nvSpPr>
          <p:spPr>
            <a:xfrm>
              <a:off x="394920" y="547560"/>
              <a:ext cx="2123640" cy="201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Picture 10" descr="中国红-5"/>
            <p:cNvPicPr/>
            <p:nvPr/>
          </p:nvPicPr>
          <p:blipFill>
            <a:blip r:embed="rId2"/>
            <a:srcRect l="12127" t="28222" r="47997" b="38594"/>
            <a:stretch/>
          </p:blipFill>
          <p:spPr>
            <a:xfrm>
              <a:off x="158760" y="431640"/>
              <a:ext cx="2755800" cy="227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中国红-3"/>
          <p:cNvPicPr/>
          <p:nvPr/>
        </p:nvPicPr>
        <p:blipFill>
          <a:blip r:embed="rId2">
            <a:lum bright="-24000"/>
          </a:blip>
          <a:srcRect l="40149" t="31914" r="36904" b="33559"/>
          <a:stretch/>
        </p:blipFill>
        <p:spPr>
          <a:xfrm>
            <a:off x="3274920" y="-236520"/>
            <a:ext cx="2686320" cy="265896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3"/>
          <p:cNvSpPr/>
          <p:nvPr/>
        </p:nvSpPr>
        <p:spPr>
          <a:xfrm>
            <a:off x="3851280" y="2565360"/>
            <a:ext cx="1297080" cy="403380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482640" y="2928960"/>
            <a:ext cx="1521000" cy="30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e600"/>
                </a:solidFill>
                <a:latin typeface="Arial"/>
              </a:rPr>
              <a:t>谢谢聆听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标题框-1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5194440" y="741240"/>
            <a:ext cx="1466640" cy="15354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标题框-1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7021440" y="5064120"/>
            <a:ext cx="1468440" cy="1533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标题框-4"/>
          <p:cNvPicPr/>
          <p:nvPr/>
        </p:nvPicPr>
        <p:blipFill>
          <a:blip r:embed="rId4">
            <a:lum bright="-12000"/>
          </a:blip>
          <a:srcRect l="0" t="2037" r="42086" b="5723"/>
          <a:stretch/>
        </p:blipFill>
        <p:spPr>
          <a:xfrm>
            <a:off x="311040" y="2378160"/>
            <a:ext cx="803520" cy="13399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标题框-4"/>
          <p:cNvPicPr/>
          <p:nvPr/>
        </p:nvPicPr>
        <p:blipFill>
          <a:blip r:embed="rId5">
            <a:lum bright="-12000"/>
          </a:blip>
          <a:srcRect l="42086" t="2038" r="0" b="5721"/>
          <a:stretch/>
        </p:blipFill>
        <p:spPr>
          <a:xfrm>
            <a:off x="2843280" y="2378160"/>
            <a:ext cx="803160" cy="13399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标题框-3"/>
          <p:cNvPicPr/>
          <p:nvPr/>
        </p:nvPicPr>
        <p:blipFill>
          <a:blip r:embed="rId6">
            <a:lum bright="-18000"/>
          </a:blip>
          <a:srcRect l="0" t="0" r="0" b="46666"/>
          <a:stretch/>
        </p:blipFill>
        <p:spPr>
          <a:xfrm>
            <a:off x="2263680" y="258840"/>
            <a:ext cx="1320840" cy="6746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标题框-3"/>
          <p:cNvPicPr/>
          <p:nvPr/>
        </p:nvPicPr>
        <p:blipFill>
          <a:blip r:embed="rId7">
            <a:lum bright="-18000"/>
          </a:blip>
          <a:srcRect l="0" t="46666" r="0" b="0"/>
          <a:stretch/>
        </p:blipFill>
        <p:spPr>
          <a:xfrm>
            <a:off x="393840" y="479520"/>
            <a:ext cx="1320840" cy="67284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8"/>
          <p:cNvSpPr/>
          <p:nvPr/>
        </p:nvSpPr>
        <p:spPr>
          <a:xfrm>
            <a:off x="895320" y="304920"/>
            <a:ext cx="289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黑体"/>
              </a:rPr>
              <a:t>文化内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812880" y="2778120"/>
            <a:ext cx="2533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中国结由于年代久远，其历史贯穿于人类史始终，漫长的文化积淀使得中国结渗透着中华民族特有的、纯粹的文化精髓，富含丰富的文化底蕴。“绳”与“神”谐音，中国文化在形成阶段，曾经崇拜过绳子。据文字记载：“ 女娲引绳在泥中，举以为人。”又因绳像蟠曲的蛇龙，中国人是龙的传人，龙神的 形象，在史前时代，是用绳结的变化来体现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5437080" y="1281240"/>
            <a:ext cx="27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宋体"/>
              </a:rPr>
              <a:t>    “</a:t>
            </a:r>
            <a:r>
              <a:rPr b="0" lang="zh-CN" sz="1800" spc="-1" strike="noStrike">
                <a:solidFill>
                  <a:srgbClr val="808080"/>
                </a:solidFill>
                <a:latin typeface="宋体"/>
              </a:rPr>
              <a:t>结”字也是一个表示力量、和谐， 充满情感的字眼，无论是结合、结交、结缘、团结、结果，还是结发夫妻，永结同心，“结”给人都是一种团圆、亲密、温馨的美感“结”与“吉 ”谐 音，“吉” 有着丰富多彩的内容，福、禄、寿、喜、财、安、康无一不属于吉的范畴。“吉” 就是人类永恒的追求主题，“绳结”这种具有生命力的民间技艺也就自然作为中国传统 文化的精髓，兴盛长远规划，流传至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Oval 2"/>
          <p:cNvSpPr/>
          <p:nvPr/>
        </p:nvSpPr>
        <p:spPr>
          <a:xfrm>
            <a:off x="3852720" y="3502080"/>
            <a:ext cx="2087640" cy="1655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3"/>
          <p:cNvSpPr/>
          <p:nvPr/>
        </p:nvSpPr>
        <p:spPr>
          <a:xfrm>
            <a:off x="3419640" y="3068640"/>
            <a:ext cx="2520720" cy="1303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4"/>
          <p:cNvSpPr/>
          <p:nvPr/>
        </p:nvSpPr>
        <p:spPr>
          <a:xfrm>
            <a:off x="6445080" y="4870440"/>
            <a:ext cx="1800360" cy="115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5"/>
          <p:cNvSpPr/>
          <p:nvPr/>
        </p:nvSpPr>
        <p:spPr>
          <a:xfrm>
            <a:off x="1041480" y="4870440"/>
            <a:ext cx="1801800" cy="115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6"/>
          <p:cNvSpPr/>
          <p:nvPr/>
        </p:nvSpPr>
        <p:spPr>
          <a:xfrm>
            <a:off x="5508720" y="835200"/>
            <a:ext cx="1801800" cy="115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7"/>
          <p:cNvSpPr/>
          <p:nvPr/>
        </p:nvSpPr>
        <p:spPr>
          <a:xfrm>
            <a:off x="1978200" y="907920"/>
            <a:ext cx="1800000" cy="115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8"/>
          <p:cNvSpPr/>
          <p:nvPr/>
        </p:nvSpPr>
        <p:spPr>
          <a:xfrm>
            <a:off x="6950160" y="3139920"/>
            <a:ext cx="1800000" cy="115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9"/>
          <p:cNvSpPr/>
          <p:nvPr/>
        </p:nvSpPr>
        <p:spPr>
          <a:xfrm>
            <a:off x="609480" y="3139920"/>
            <a:ext cx="1800360" cy="115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10"/>
          <p:cNvCxnSpPr/>
          <p:nvPr/>
        </p:nvCxnSpPr>
        <p:spPr>
          <a:xfrm rot="5400000">
            <a:off x="9137880" y="6208560"/>
            <a:ext cx="3670920" cy="1278720"/>
          </a:xfrm>
          <a:prstGeom prst="bentConnector4">
            <a:avLst>
              <a:gd name="adj1" fmla="val -6482"/>
              <a:gd name="adj2" fmla="val 417262"/>
            </a:avLst>
          </a:prstGeom>
          <a:ln w="0">
            <a:noFill/>
          </a:ln>
        </p:spPr>
      </p:cxnSp>
      <p:cxnSp>
        <p:nvCxnSpPr>
          <p:cNvPr id="600" name="AutoShape 11"/>
          <p:cNvCxnSpPr>
            <a:stCxn id="595" idx="2"/>
            <a:endCxn id="592" idx="0"/>
          </p:cNvCxnSpPr>
          <p:nvPr/>
        </p:nvCxnSpPr>
        <p:spPr>
          <a:xfrm rot="5400000">
            <a:off x="5004000" y="1662840"/>
            <a:ext cx="1080360" cy="172944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601" name="AutoShape 12"/>
          <p:cNvCxnSpPr>
            <a:stCxn id="595" idx="2"/>
          </p:cNvCxnSpPr>
          <p:nvPr/>
        </p:nvCxnSpPr>
        <p:spPr>
          <a:xfrm rot="5400000">
            <a:off x="5112000" y="1554840"/>
            <a:ext cx="865800" cy="1730880"/>
          </a:xfrm>
          <a:prstGeom prst="bentConnector2">
            <a:avLst/>
          </a:prstGeom>
          <a:ln w="0">
            <a:noFill/>
          </a:ln>
        </p:spPr>
      </p:cxnSp>
      <p:cxnSp>
        <p:nvCxnSpPr>
          <p:cNvPr id="602" name="AutoShape 13"/>
          <p:cNvCxnSpPr>
            <a:stCxn id="595" idx="2"/>
            <a:endCxn id="592" idx="0"/>
          </p:cNvCxnSpPr>
          <p:nvPr/>
        </p:nvCxnSpPr>
        <p:spPr>
          <a:xfrm rot="5400000">
            <a:off x="5004000" y="1662840"/>
            <a:ext cx="1080360" cy="172944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sp>
        <p:nvSpPr>
          <p:cNvPr id="603" name="Line 14"/>
          <p:cNvSpPr/>
          <p:nvPr/>
        </p:nvSpPr>
        <p:spPr>
          <a:xfrm>
            <a:off x="2698920" y="5446800"/>
            <a:ext cx="1298520" cy="144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5"/>
          <p:cNvSpPr/>
          <p:nvPr/>
        </p:nvSpPr>
        <p:spPr>
          <a:xfrm>
            <a:off x="5291280" y="5445000"/>
            <a:ext cx="1296720" cy="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6"/>
          <p:cNvSpPr/>
          <p:nvPr/>
        </p:nvSpPr>
        <p:spPr>
          <a:xfrm>
            <a:off x="2266920" y="3718080"/>
            <a:ext cx="1297080" cy="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7"/>
          <p:cNvSpPr/>
          <p:nvPr/>
        </p:nvSpPr>
        <p:spPr>
          <a:xfrm>
            <a:off x="5796000" y="3716280"/>
            <a:ext cx="1297080" cy="180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8"/>
          <p:cNvSpPr/>
          <p:nvPr/>
        </p:nvSpPr>
        <p:spPr>
          <a:xfrm flipH="1">
            <a:off x="3994200" y="4292640"/>
            <a:ext cx="1440" cy="115416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9"/>
          <p:cNvSpPr/>
          <p:nvPr/>
        </p:nvSpPr>
        <p:spPr>
          <a:xfrm flipH="1">
            <a:off x="5291280" y="4294080"/>
            <a:ext cx="1440" cy="115272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0"/>
          <p:cNvSpPr/>
          <p:nvPr/>
        </p:nvSpPr>
        <p:spPr>
          <a:xfrm>
            <a:off x="4714920" y="2494080"/>
            <a:ext cx="1730160" cy="144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21"/>
          <p:cNvSpPr/>
          <p:nvPr/>
        </p:nvSpPr>
        <p:spPr>
          <a:xfrm flipH="1">
            <a:off x="3057120" y="1916280"/>
            <a:ext cx="1800" cy="57600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2"/>
          <p:cNvSpPr/>
          <p:nvPr/>
        </p:nvSpPr>
        <p:spPr>
          <a:xfrm>
            <a:off x="6372360" y="1916280"/>
            <a:ext cx="0" cy="57600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3"/>
          <p:cNvSpPr/>
          <p:nvPr/>
        </p:nvSpPr>
        <p:spPr>
          <a:xfrm>
            <a:off x="4714920" y="2492280"/>
            <a:ext cx="1440" cy="64764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24"/>
          <p:cNvSpPr/>
          <p:nvPr/>
        </p:nvSpPr>
        <p:spPr>
          <a:xfrm>
            <a:off x="2050920" y="1073160"/>
            <a:ext cx="18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蝴蝶结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福在眼前，富运迭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5"/>
          <p:cNvSpPr/>
          <p:nvPr/>
        </p:nvSpPr>
        <p:spPr>
          <a:xfrm>
            <a:off x="5548320" y="1052640"/>
            <a:ext cx="19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福字结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福气满堂，神星高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6"/>
          <p:cNvSpPr/>
          <p:nvPr/>
        </p:nvSpPr>
        <p:spPr>
          <a:xfrm>
            <a:off x="682560" y="3352680"/>
            <a:ext cx="16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鱼结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年富足，吉庆有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7"/>
          <p:cNvSpPr/>
          <p:nvPr/>
        </p:nvSpPr>
        <p:spPr>
          <a:xfrm>
            <a:off x="7021440" y="34369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寿字结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人寿年丰，寿比南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8"/>
          <p:cNvSpPr/>
          <p:nvPr/>
        </p:nvSpPr>
        <p:spPr>
          <a:xfrm>
            <a:off x="1042920" y="508644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藻井结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方正平整，井然有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29"/>
          <p:cNvSpPr/>
          <p:nvPr/>
        </p:nvSpPr>
        <p:spPr>
          <a:xfrm>
            <a:off x="6518160" y="5165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双喜结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喜上加喜，双喜临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0"/>
          <p:cNvSpPr/>
          <p:nvPr/>
        </p:nvSpPr>
        <p:spPr>
          <a:xfrm>
            <a:off x="4074840" y="335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结饰涵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31"/>
          <p:cNvSpPr/>
          <p:nvPr/>
        </p:nvSpPr>
        <p:spPr>
          <a:xfrm>
            <a:off x="2987640" y="2492280"/>
            <a:ext cx="1728720" cy="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1:22:00Z</dcterms:created>
  <dc:creator>Administrator</dc:creator>
  <dc:description/>
  <cp:keywords/>
  <dc:language>en-US</dc:language>
  <cp:lastModifiedBy>a</cp:lastModifiedBy>
  <dcterms:modified xsi:type="dcterms:W3CDTF">2014-07-23T08:22:14Z</dcterms:modified>
  <cp:revision>3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