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C51F-4E6D-48AB-8944-1FFCB90B1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BE51-9FCA-4764-9216-973C248F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41D3FE-899A-45F8-89CC-25928E30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D64A2-2E9F-4386-8200-B4CD4DAE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82EA3-1B18-4295-A982-EE208778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8C1998-8D4D-4946-BA2A-1E616B48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400CA-05E9-4DEC-80BB-F2C65D25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D41D2-F4B7-4E6B-AB05-D1C0E7F4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304661-6729-442D-B814-8524F113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2159E-CD04-4A28-982A-96C2248E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8F055-175F-4A70-9A27-69D7F01A4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891658-C4BE-4AAF-B4C5-ABD10F733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5F2F-1E51-4B1D-82D9-72DE2020B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C6D49-B35C-4421-BF83-3E9FC0E8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094904-B656-4AA2-AD90-5291B705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C78828-57AE-496B-BA1F-CDD6888F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507155-F622-42AD-A6DD-112EDB84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C46EC8-5D4D-43F7-8360-41DFF50F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42C02E-BBDB-4B67-A6EA-5CF13640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2D1E50-4723-4BA1-BC8E-43CBDDCA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F7329-F131-40F3-A85B-021FFECE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D9B92-4A25-4462-BE9C-4DCB4B17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860B40-65DF-4E01-B1CC-A0C51462E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4A17-9245-434A-9908-DD7670A1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BB0C22-37ED-44B5-B9E9-9DEB6836B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933DAA-3A4F-415A-8E75-1D0ECAAF7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0B77B-9D7E-4F63-8AAA-ABB382F6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55634-FAA7-4519-A420-BB134643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3BE72-FE2D-4BB3-9812-CDF0653C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92860-3A38-4ABF-9917-2A5CB8E4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32409-F38F-4AD5-8BE7-8BE759C3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7708E-4790-4653-9C35-460F6E4C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71643-28D5-49A7-A003-0A86B35C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9862E-211F-45F7-A736-A4E6BE97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5B66-5B6E-4CA5-BDCE-86CD77BB4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CDD4D-7E23-44DA-B52F-B26AB821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3BF68-2DDB-4692-AFE6-8A4209BA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9496D-4A6E-40B9-BAE4-B936F1231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E37D9-167A-4557-B369-B3716B6D0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BF4DC-129F-4E69-B10C-43AD5124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65C666-891C-4B0E-BA0E-06417D13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74A42-D837-48C9-9D3E-332B485A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7F2CB5-FF33-439A-842F-3D7B61F8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5CDC0-3676-49C5-9A1D-031A6F11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C8C03B-ABC1-4878-810E-3BB54CBA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27A3-B1ED-4412-B9C3-0D4F2729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E2BA5A-650E-446C-9873-C472431D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FA1E69-A8C2-4C39-9EC7-25FEBB45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796B6B-0A7C-4514-B35B-C0620CDB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0F1D52-C67E-417A-8DAE-DBE7C6634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4181D9-EA4F-470D-B928-D0BD2F9C1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7E22C5-CA88-4100-8EB5-7AFA8F27A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9E2298-F7F2-4DDA-ADA9-3BE2B276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D48ACF-5154-4CCB-9C68-71CB476C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241832-2430-46DC-8B32-180B032A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20E6C8-B416-4172-80A5-705ED45C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B123-BCCA-4E7F-B318-3D75BEFA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EDC5E5-C3D4-43CD-B3F3-3A4DA83D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0144BB-08A8-4705-A1D6-C232FC7A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5B3322-E69B-401B-87A3-D9BD227D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34085E-05CB-4334-9D18-38BB563D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97CD10-5558-455B-8689-C11F7563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27113E-7371-40E0-AA21-EF5D13E7E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015EEB-C322-453E-AAB6-3689EAB30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9CC322-6611-45C7-A35E-45D285AC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77C671-3B1B-438E-A170-235EC4DE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C1A139-43C7-44F1-955A-E542D2E0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2E36-4226-425C-BA60-5F3DF226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0CA0DE-8FE3-4BBC-AE93-EE27B772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FE1497-743A-41ED-8B16-07CAF69E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E5018B-234B-4E47-95DA-3DEB1C26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1FF6C4-300A-45EA-8F99-95EA0690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C221E4-37B5-441D-84A1-7648EACB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5E5AAC-D167-42AD-A878-67D04585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2B1D01-0E82-4248-A604-C3A69538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9DB7ED-4E05-4E59-AA7E-F015E04A7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D7C0C1-5564-4E8B-90A8-154E45A0E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46B9-B859-4AC9-8D48-B8CD6ACA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0234-A195-4467-A88A-1B96A3C2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6209-B68F-45E1-B7BA-1AD1E8A4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19AD-640C-4538-B9FF-507BB7E0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A59E-55EB-4A94-934A-8D1D7203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743D-5623-46F9-9133-1CF691E1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FEDE-40E7-43AE-A9CA-AFB6B2C0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4FD0-0DA0-4443-BCEE-C2E9D5A0E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CA42-C379-4507-B99E-6BDBCF0F8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09039-908C-4677-B4C1-A42A80393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1FE06-FE68-4409-BAAA-5E5A0E4C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F780F-AB84-40F8-83C3-4393848A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4697C-3717-4C58-8346-23318C2E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B6874-5E27-4639-948C-70513753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76E2-CD65-41D1-A49B-16289209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F7053-9728-4C9F-AB46-39E5D131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1840A-C0DC-4276-BF1D-125D3019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1697D-68E8-489B-99B8-831097FC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F6D6C-8424-403E-9F8C-38DDC6EB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6D6F3-FD5A-4737-BE14-852E35B3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1021B-3389-44D0-B4EA-A6D348E09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A4446-01F5-4B7D-94BB-8D9058237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898C8-713B-474D-8C37-5B80177AE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E70AF-222E-4D08-9C70-82BEECBF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3CAD7-2703-4695-98D6-EEB56570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C6FA-01AA-46A1-9B66-2C3A6F5A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D5139-DC37-45AD-8A22-B49408B9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91660-5CE3-4F75-A619-6012F6F3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26DEB-14AB-4DEF-99E8-45900AFA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A1C54-0FB8-4A58-B07C-101A5157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789A6-8677-4000-8D96-A8263352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82224-7C5F-48D4-B1D1-932902D1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24A22-AC7A-4245-A548-C0D63F6E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7DF8D-5B75-4179-9B34-52644861A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86F79-3E46-4BCE-8E88-50A8EDD85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0465A-112D-4108-AD32-6E654B739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5B16-4735-494C-A441-214826FF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04EBF-2211-419F-AEA4-0578D340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50471-6940-490D-9BCB-61C2A024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A1972-0999-4F9D-A896-5841C77B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87E5E-EAF3-4F49-AC49-FC9E5CB4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060E8-0BE8-49ED-BE3E-109E10CC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0DA90-C820-437E-A480-B4D6D578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FB20E-D33E-4E82-96BE-3731D10C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3CAA9-8D55-4BBC-9F93-A3B71C28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1B530-4C4D-4EFA-86FB-13FD14F4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3A3BD-E5F9-44A7-BB17-DE4E0141E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4428-D892-44FE-A2B8-80483CAB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E27E5-AAEF-4F93-BB61-68819F8F6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C6964-0F5D-417D-BA0F-B0909E0E9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478FC-7C6B-4E45-AD25-37913FF5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718F9-21E4-4DBD-9F4B-DA3C0CC5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73F3F-928C-4689-B677-DDA79AAE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E75B6-D95C-4E4C-BA4A-D5FDC240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21DC0-5439-4DC8-A599-59D2E388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B337A-BA8C-42D7-AD81-380F5DE2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89976-264C-46B5-BEF3-D9AD530B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9ABB7-44EB-4E64-9801-C215694F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C14F-C506-4336-B47D-7F46C569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43908-426C-4E06-BE83-59DB4B4C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9BF16-1AF7-485C-AC60-4E8CFC3E2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1ED24-4DE7-4F4C-8BEC-4891DB7D1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23B81-33B0-489A-9D66-3948BF9F6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B6215-5C08-4AF5-A9B7-26EC307B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2C6B8-2321-470E-86FC-FA022AA5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B6DA4-06CF-485C-BC6B-2B481A82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ACEBE-C561-44FE-AD42-A1F2DD32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2D66F-981C-4548-8D6A-801F8FEB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1B08D-B874-4912-B9D8-1F04CFE8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A8ED-512F-437F-96CD-0E5792EA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C962B-4072-46E9-B61C-C5E9903E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E4372-9FFC-4BE6-BCF8-138D92C7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781DA-1D72-4E1C-92F6-40AEF224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A6CCC-A46A-4162-BE4F-2062CE7D5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8FDED-1344-4DF6-B569-F5808C1E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307BE-7038-4E62-8C19-CA900F6DD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981B5-346A-46B3-BB00-C6A5CE3F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47FA8-950F-40B2-A5AA-5F836C69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2A785-64BC-42EA-9C12-D20DA677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0AC90-B144-42E8-BCAC-1BE7A4D8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9BB0-AF67-4762-8BD7-E356BF76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0D701-376C-40E4-AB18-08009371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11AFA-2799-49EB-B0DE-F70CFF72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1B5BC-3245-4B30-A451-5D298C32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BADD9-A418-4ACC-8C89-4F44469D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9F6E1-7387-407B-B63B-5AD83A0C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0EA6C-BB99-4D9B-8169-B1C7420C6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CACED-C733-467D-830D-4A67053A2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E27CE-41F8-44C7-A8B1-CC6AA50B7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C121E-A490-4AA5-906A-8BFCF019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59B2A-7D19-487A-9C15-C7E62EDE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98b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28498b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855C-020B-4C40-A59F-EBEE92108EB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F20B-3876-4C67-8803-0DCAAF849F4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555C-3767-4E2C-B3E8-A3732734A7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8D75-540B-4C4B-A605-EB976BB57AB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471B-83C3-470B-821D-D693102AAD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139E-6523-4D37-A61A-82523FE4DCE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E8A0-B52D-4133-BCE4-55513F846B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4FFF-3535-47A4-81EC-F0F892360FE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63C6-975D-4A2A-945F-26033A053F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201F-DE72-4114-995D-7034BD6173E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B71B-D7D0-4829-BBA8-C3D94C87E6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98b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28498b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2B76-0AC7-490C-A817-9F62526C76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FA30-F94F-46C0-9BC6-D1D036A5740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9557-6B76-46E0-B2B8-AB18D8D7A5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BD9F-9CB4-4B69-81B8-D5E74A0F600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5569-8503-4300-8DDB-D7DFA8FF5C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85F9-97D7-42B4-8589-16DF3EF570E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BC95-443D-4B4B-8304-11325EA519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ABC4-3112-4B81-B242-C171956762A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FB14-4899-4BF6-86A6-F638A9126C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9B64-F48D-418E-B523-564A652640B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38E0-1E4A-4099-9F11-D855BAB826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00AE-DA2D-4A4B-BC6F-E19504E6667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C6B5-E1BE-4706-8CE9-E589831B5B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9283-E0B2-4551-84FA-4A896F695C3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75D6-23F2-4C39-AB2C-5DD0707319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4" descr="http://pic1.ooopic.com/uploadfilepic/yuanwenjian/2009-05-31/OOOPIC_changyue1903_20090531132b2e60cd5b27d0.jpg"/>
          <p:cNvPicPr/>
          <p:nvPr/>
        </p:nvPicPr>
        <p:blipFill>
          <a:blip r:embed="rId1"/>
          <a:stretch/>
        </p:blipFill>
        <p:spPr>
          <a:xfrm>
            <a:off x="-1665360" y="3032280"/>
            <a:ext cx="738360" cy="71568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3"/>
          <p:cNvSpPr/>
          <p:nvPr/>
        </p:nvSpPr>
        <p:spPr>
          <a:xfrm>
            <a:off x="4178160" y="2781360"/>
            <a:ext cx="787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4"/>
          <p:cNvSpPr/>
          <p:nvPr/>
        </p:nvSpPr>
        <p:spPr>
          <a:xfrm>
            <a:off x="4546440" y="2685960"/>
            <a:ext cx="457200" cy="41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5"/>
          <p:cNvSpPr/>
          <p:nvPr/>
        </p:nvSpPr>
        <p:spPr>
          <a:xfrm>
            <a:off x="4343400" y="2641680"/>
            <a:ext cx="457200" cy="42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6"/>
          <p:cNvSpPr/>
          <p:nvPr/>
        </p:nvSpPr>
        <p:spPr>
          <a:xfrm>
            <a:off x="3409920" y="1486080"/>
            <a:ext cx="1521000" cy="36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663bc"/>
                </a:solidFill>
                <a:latin typeface="Arial"/>
                <a:ea typeface="华文琥珀"/>
              </a:rPr>
              <a:t>岐 山 擀 面 皮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http://ztu68.com/uploads/Psd/c100626/12M555V630330-159E.jpg"/>
          <p:cNvPicPr/>
          <p:nvPr/>
        </p:nvPicPr>
        <p:blipFill>
          <a:blip r:embed="rId2"/>
          <a:srcRect l="0" t="-3276" r="0" b="0"/>
          <a:stretch/>
        </p:blipFill>
        <p:spPr>
          <a:xfrm>
            <a:off x="755640" y="2523960"/>
            <a:ext cx="1658880" cy="16639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580" name="Picture 2" descr="http://ztu68.com/uploads/Psd/c100626/12M555V630330-159E.jpg"/>
          <p:cNvPicPr/>
          <p:nvPr/>
        </p:nvPicPr>
        <p:blipFill>
          <a:blip r:embed="rId3"/>
          <a:srcRect l="0" t="-3276" r="0" b="0"/>
          <a:stretch/>
        </p:blipFill>
        <p:spPr>
          <a:xfrm>
            <a:off x="6732720" y="2523960"/>
            <a:ext cx="1658880" cy="16639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矩形 3"/>
          <p:cNvSpPr/>
          <p:nvPr/>
        </p:nvSpPr>
        <p:spPr>
          <a:xfrm>
            <a:off x="-7920" y="-7920"/>
            <a:ext cx="1413000" cy="6865920"/>
          </a:xfrm>
          <a:prstGeom prst="rect">
            <a:avLst/>
          </a:prstGeom>
          <a:solidFill>
            <a:srgbClr val="284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9"/>
          <p:cNvSpPr/>
          <p:nvPr/>
        </p:nvSpPr>
        <p:spPr>
          <a:xfrm>
            <a:off x="3498480" y="1125360"/>
            <a:ext cx="172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f497d"/>
                </a:solidFill>
                <a:latin typeface="Calibri"/>
                <a:ea typeface="华文琥珀"/>
              </a:rPr>
              <a:t>凉      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10"/>
          <p:cNvSpPr/>
          <p:nvPr/>
        </p:nvSpPr>
        <p:spPr>
          <a:xfrm>
            <a:off x="7724880" y="-7920"/>
            <a:ext cx="1420560" cy="6850080"/>
          </a:xfrm>
          <a:prstGeom prst="rect">
            <a:avLst/>
          </a:prstGeom>
          <a:solidFill>
            <a:srgbClr val="284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11"/>
          <p:cNvSpPr/>
          <p:nvPr/>
        </p:nvSpPr>
        <p:spPr>
          <a:xfrm>
            <a:off x="3129120" y="2060640"/>
            <a:ext cx="3458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f497d"/>
                </a:solidFill>
                <a:latin typeface="微软雅黑"/>
                <a:ea typeface="华文琥珀"/>
              </a:rPr>
              <a:t>1.</a:t>
            </a:r>
            <a:r>
              <a:rPr b="0" lang="zh-CN" sz="2800" spc="-1" strike="noStrike">
                <a:solidFill>
                  <a:srgbClr val="1f497d"/>
                </a:solidFill>
                <a:latin typeface="Calibri"/>
                <a:ea typeface="华文琥珀"/>
              </a:rPr>
              <a:t>岐山擀面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f497d"/>
                </a:solidFill>
                <a:latin typeface="华文琥珀"/>
                <a:ea typeface="华文琥珀"/>
              </a:rPr>
              <a:t>2.</a:t>
            </a:r>
            <a:r>
              <a:rPr b="0" lang="zh-CN" sz="2800" spc="-1" strike="noStrike">
                <a:solidFill>
                  <a:srgbClr val="1f497d"/>
                </a:solidFill>
                <a:latin typeface="华文琥珀"/>
                <a:ea typeface="华文琥珀"/>
              </a:rPr>
              <a:t>汉中热米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f497d"/>
                </a:solidFill>
                <a:latin typeface="微软雅黑"/>
                <a:ea typeface="华文琥珀"/>
              </a:rPr>
              <a:t>3.</a:t>
            </a:r>
            <a:r>
              <a:rPr b="0" lang="zh-CN" sz="2800" spc="-1" strike="noStrike">
                <a:solidFill>
                  <a:srgbClr val="1f497d"/>
                </a:solidFill>
                <a:latin typeface="微软雅黑"/>
                <a:ea typeface="华文琥珀"/>
              </a:rPr>
              <a:t>秦镇面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f497d"/>
                </a:solidFill>
                <a:latin typeface="微软雅黑"/>
                <a:ea typeface="华文琥珀"/>
              </a:rPr>
              <a:t>4.</a:t>
            </a:r>
            <a:r>
              <a:rPr b="0" lang="zh-CN" sz="2800" spc="-1" strike="noStrike">
                <a:solidFill>
                  <a:srgbClr val="1f497d"/>
                </a:solidFill>
                <a:latin typeface="微软雅黑"/>
                <a:ea typeface="华文琥珀"/>
              </a:rPr>
              <a:t>麻酱酿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2" descr="http://ztu68.com/uploads/Psd/c100626/12M555V630330-159E.jpg"/>
          <p:cNvPicPr/>
          <p:nvPr/>
        </p:nvPicPr>
        <p:blipFill>
          <a:blip r:embed="rId1"/>
          <a:stretch/>
        </p:blipFill>
        <p:spPr>
          <a:xfrm>
            <a:off x="7338960" y="1893960"/>
            <a:ext cx="1805040" cy="30718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586" name="Picture 2" descr="http://ztu68.com/uploads/Psd/c100626/12M555V630330-159E.jpg"/>
          <p:cNvPicPr/>
          <p:nvPr/>
        </p:nvPicPr>
        <p:blipFill>
          <a:blip r:embed="rId2"/>
          <a:stretch/>
        </p:blipFill>
        <p:spPr>
          <a:xfrm>
            <a:off x="-23760" y="1893960"/>
            <a:ext cx="1797120" cy="30718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3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3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矩形 6"/>
          <p:cNvSpPr/>
          <p:nvPr/>
        </p:nvSpPr>
        <p:spPr>
          <a:xfrm flipV="1">
            <a:off x="1587600" y="-7200"/>
            <a:ext cx="1420560" cy="2916360"/>
          </a:xfrm>
          <a:prstGeom prst="rect">
            <a:avLst/>
          </a:prstGeom>
          <a:solidFill>
            <a:srgbClr val="284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2" descr="http://ztu68.com/uploads/Psd/c100626/12M555V630330-159E.jpg"/>
          <p:cNvPicPr/>
          <p:nvPr/>
        </p:nvPicPr>
        <p:blipFill>
          <a:blip r:embed="rId1"/>
          <a:srcRect l="0" t="-3289" r="0" b="0"/>
          <a:stretch/>
        </p:blipFill>
        <p:spPr>
          <a:xfrm>
            <a:off x="971640" y="2060640"/>
            <a:ext cx="2522520" cy="25351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</p:pic>
      <p:sp>
        <p:nvSpPr>
          <p:cNvPr id="589" name="TextBox 4"/>
          <p:cNvSpPr/>
          <p:nvPr/>
        </p:nvSpPr>
        <p:spPr>
          <a:xfrm>
            <a:off x="2037600" y="27781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f497d"/>
                </a:solidFill>
                <a:latin typeface="方正姚体"/>
                <a:ea typeface="方正姚体"/>
              </a:rPr>
              <a:t>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5"/>
          <p:cNvSpPr/>
          <p:nvPr/>
        </p:nvSpPr>
        <p:spPr>
          <a:xfrm>
            <a:off x="4412520" y="297504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f497d"/>
                </a:solidFill>
                <a:latin typeface="华文琥珀"/>
                <a:ea typeface="华文琥珀"/>
              </a:rPr>
              <a:t>岐山擀面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4" descr="http://pic1.ooopic.com/uploadfilepic/yuanwenjian/2009-05-31/OOOPIC_changyue1903_20090531132b2e60cd5b27d0.jpg"/>
          <p:cNvPicPr/>
          <p:nvPr/>
        </p:nvPicPr>
        <p:blipFill>
          <a:blip r:embed="rId2"/>
          <a:stretch/>
        </p:blipFill>
        <p:spPr>
          <a:xfrm>
            <a:off x="7186680" y="2641680"/>
            <a:ext cx="736560" cy="71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3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3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3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3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矩形 3"/>
          <p:cNvSpPr/>
          <p:nvPr/>
        </p:nvSpPr>
        <p:spPr>
          <a:xfrm flipV="1">
            <a:off x="0" y="691920"/>
            <a:ext cx="9164520" cy="898560"/>
          </a:xfrm>
          <a:prstGeom prst="rect">
            <a:avLst/>
          </a:prstGeom>
          <a:solidFill>
            <a:srgbClr val="284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标题 1"/>
          <p:cNvSpPr/>
          <p:nvPr/>
        </p:nvSpPr>
        <p:spPr>
          <a:xfrm>
            <a:off x="248436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琥珀"/>
                <a:ea typeface="华文琥珀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彩云"/>
                <a:ea typeface="华文彩云"/>
              </a:rPr>
              <a:t>岐山擀面皮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4" descr="2626849_205744149157_2"/>
          <p:cNvPicPr/>
          <p:nvPr/>
        </p:nvPicPr>
        <p:blipFill>
          <a:blip r:embed="rId1"/>
          <a:srcRect l="-90" t="11724" r="0" b="5436"/>
          <a:stretch/>
        </p:blipFill>
        <p:spPr>
          <a:xfrm>
            <a:off x="0" y="333360"/>
            <a:ext cx="2403360" cy="14698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</p:pic>
      <p:sp>
        <p:nvSpPr>
          <p:cNvPr id="595" name="Text Box 5"/>
          <p:cNvSpPr/>
          <p:nvPr/>
        </p:nvSpPr>
        <p:spPr>
          <a:xfrm>
            <a:off x="1690560" y="2730600"/>
            <a:ext cx="576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6"/>
          <p:cNvSpPr/>
          <p:nvPr/>
        </p:nvSpPr>
        <p:spPr>
          <a:xfrm>
            <a:off x="774720" y="2716200"/>
            <a:ext cx="77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63bc"/>
                </a:solidFill>
                <a:latin typeface="Arial"/>
                <a:ea typeface="华文琥珀"/>
              </a:rPr>
              <a:t>      </a:t>
            </a:r>
            <a:r>
              <a:rPr b="0" lang="zh-CN" sz="2000" spc="-1" strike="noStrike">
                <a:solidFill>
                  <a:srgbClr val="3663bc"/>
                </a:solidFill>
                <a:latin typeface="Arial"/>
                <a:ea typeface="华文琥珀"/>
              </a:rPr>
              <a:t>岐山擀面皮是从唐代冷淘面演变而来。具有筋斗、柔软、凉香、酸辣可口、四季皆宜之特点，是西北较有民族风味的食品之一。其面皮选料精良，工艺严谨，调味讲究，以“白、薄、光、软、筋、香”而闻名，凉爽可口。如今是关中西府的重要名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矩形 3"/>
          <p:cNvSpPr/>
          <p:nvPr/>
        </p:nvSpPr>
        <p:spPr>
          <a:xfrm flipV="1">
            <a:off x="0" y="691920"/>
            <a:ext cx="9164520" cy="898560"/>
          </a:xfrm>
          <a:prstGeom prst="rect">
            <a:avLst/>
          </a:prstGeom>
          <a:solidFill>
            <a:srgbClr val="284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标题 1"/>
          <p:cNvSpPr/>
          <p:nvPr/>
        </p:nvSpPr>
        <p:spPr>
          <a:xfrm>
            <a:off x="248436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琥珀"/>
                <a:ea typeface="华文琥珀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彩云"/>
                <a:ea typeface="华文彩云"/>
              </a:rPr>
              <a:t>岐山擀面皮做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4" descr="2626849_205744149157_2"/>
          <p:cNvPicPr/>
          <p:nvPr/>
        </p:nvPicPr>
        <p:blipFill>
          <a:blip r:embed="rId1"/>
          <a:srcRect l="-90" t="11724" r="0" b="5436"/>
          <a:stretch/>
        </p:blipFill>
        <p:spPr>
          <a:xfrm>
            <a:off x="0" y="333360"/>
            <a:ext cx="2403360" cy="14698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</p:pic>
      <p:sp>
        <p:nvSpPr>
          <p:cNvPr id="600" name="Text Box 5"/>
          <p:cNvSpPr/>
          <p:nvPr/>
        </p:nvSpPr>
        <p:spPr>
          <a:xfrm>
            <a:off x="1690560" y="2730600"/>
            <a:ext cx="576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6"/>
          <p:cNvSpPr/>
          <p:nvPr/>
        </p:nvSpPr>
        <p:spPr>
          <a:xfrm>
            <a:off x="774720" y="2716200"/>
            <a:ext cx="77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663bc"/>
                </a:solidFill>
                <a:latin typeface="Arial"/>
                <a:ea typeface="华文琥珀"/>
              </a:rPr>
              <a:t>                                                                                                               </a:t>
            </a:r>
            <a:r>
              <a:rPr b="0" lang="zh-CN" sz="2400" spc="-1" strike="noStrike">
                <a:solidFill>
                  <a:srgbClr val="3663bc"/>
                </a:solidFill>
                <a:latin typeface="Arial"/>
                <a:ea typeface="华文琥珀"/>
              </a:rPr>
              <a:t>歧山擀面皮做法很非凡，别处的米面皮和凉皮是把面调成糊状，放在特制的铁笼上  擀面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663bc"/>
                </a:solidFill>
                <a:latin typeface="Arial"/>
                <a:ea typeface="华文琥珀"/>
              </a:rPr>
              <a:t>蒸。而歧山擀面皮则是先擀成面，然后再蒸，蒸熟后再切成比凉皮稍宽的条状，吃法和米面皮基本一样，不同于米面皮的是，擀面皮口感较硬，韧度高，有筋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0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8-11T07:25:08Z</dcterms:modified>
  <cp:revision>1</cp:revision>
  <dc:subject/>
  <dc:title>PowerPoint 演示文稿</dc:title>
</cp:coreProperties>
</file>