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2.jpeg" ContentType="image/jpeg"/>
  <Override PartName="/ppt/media/image11.jpeg" ContentType="image/jpeg"/>
  <Override PartName="/ppt/media/image9.png" ContentType="image/png"/>
  <Override PartName="/ppt/media/image6.gif" ContentType="image/gif"/>
  <Override PartName="/ppt/media/image17.jpeg" ContentType="image/jpeg"/>
  <Override PartName="/ppt/media/image16.png" ContentType="image/png"/>
  <Override PartName="/ppt/media/image14.jpeg" ContentType="image/jpeg"/>
  <Override PartName="/ppt/media/image10.png" ContentType="image/pn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dt" idx="4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ftr" idx="4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 type="sldNum" idx="4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65707-C72A-4CB6-88B6-EDB978861B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B585E-A07A-4AD9-A455-A5CA267934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89EF1-C247-46CD-927D-A69FA21C4C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0E386-9BCB-4022-8ED5-899EDCACF0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6828-09AA-4FD0-BAB3-71BFD2624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81F0-83BE-4965-B657-4AFBAE6F7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999D26-695B-4CE2-B965-DA8EE514F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12CF43-CF06-4133-903D-CE8E68404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19BD70-F170-4F94-B901-D95B859D8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9F81AE-5F03-4897-8C4A-1DF7A62F2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A6A199-EB15-4657-988C-3B1A0303C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CE6887-6FD9-46CC-A591-0EB8CA447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E9A036-49F8-452C-81DF-1BB9689E5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95D36B-71C7-41D8-BA97-43577BA2C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F97641-7620-4E75-B2A8-E5DA4E7CA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80D6B9-D9AD-46D8-B5A9-F276B8782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4C37-F4E3-4FB1-B49A-83716194A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871AAF-422F-40B2-8DB6-D441EC9B2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9B0B28-B3EA-4906-AFDD-C3B15CC24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928F52-2465-4E2F-B4A6-7AAAA3808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86FFAA-FF1A-428A-B1CF-58CD6D707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C3893E-2B8E-411F-BE28-EBBAC5CC0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44DDAB-20A4-4FF1-AAE9-1578EF02A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B5C7E2-E6AF-427F-8544-A5B6450C0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646BCF-3049-42CC-AA45-94660AA06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24BE19-8FE2-4BCC-A1D9-6C3B7AFAC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59DDD5-6C2A-45F5-B93E-9B7CEEE8A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E237-0F28-42E6-8737-1E1A01752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43DF24-F1F8-4908-9405-1CC093A7C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F1F6CB-7202-4E6D-82AC-4F511B643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7FD782-0019-4A2D-8FAC-F64B8E6B5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D6DE5D-0EFC-4BCF-8D34-F7C9416C2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58BEAC-DB4E-4395-B6BE-460E73769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FD6B83-8884-4171-B448-652AE6F8F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321D9E-C6F4-4442-8B22-4D2DF6AE1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E644AA-4A74-418C-A7D1-6B1C5A5DB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E0271F-BF2E-4DC4-AF2C-6383CF8F5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CF5989-DB34-47E4-9623-B2C348C73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1B50A-B09A-48E0-8A5A-648313CBA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2A50FC-ADAD-4A9E-A492-64938C53B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8B3C17-5A20-406B-B32B-E861D6491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04D0F7-2F16-4ECD-AA6B-BF8C11071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404CB0-E470-4F71-9BC9-DD48AB41B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744AF0-628F-4548-94C4-221540B81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47F2C9-FA65-47FE-B503-B594BF863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BBFDC5-6B58-4F95-A4F7-247FF16FE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9250AD-DBD9-47D5-8ADD-87DEE4258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A934AB-3C21-42FD-AEE2-B62860668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E75E7D-D8F1-434C-9616-64DB2532B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AB035-BFFE-4D6D-877F-092333BE0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C3596A-290B-4CDD-9182-1A8C792E3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A6DCA6-A80F-4D33-8120-28E9BCA83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449EBB-4F5D-4426-BF90-4F845924A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49B42E-DEE0-4C66-BAFC-B8890F63C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16AEDC-2218-4C5F-BDA9-AF4145C10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95C426-B198-4147-B869-3B524CB8C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8856F9-77BC-4BF3-915E-5E1C00CB5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92E901-18DB-42F3-9DEF-2EB8B58F5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F61D58-264C-4547-8942-59706E4D0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CBE791-DC24-467A-BA0C-55A56EEDB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A640B-6B00-4B1B-AB13-7688CB491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ECD181-3A86-43CC-8492-B87DA27A1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52A299-6FF0-46F2-A46B-BE91AF644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17257D-6804-47E3-855B-9F150CC19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677711-4290-4BCF-BE40-6138E4EF5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21C975-7803-44AD-B130-52029BBBF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563371-67BB-423A-8580-4149B3BC3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1352C5-404E-4829-9754-4E779E12D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34EC0-F3AF-42E2-A050-1CB23332D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B8833-6E17-4AB6-A02E-785400A19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432B3-777B-4276-8575-2C627F1D5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C18A2-427E-4BB3-9E14-32D559338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EC76-BF94-4B81-ADA4-D549C5CBD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40BAB-4C0B-49C3-8084-793A1A6D2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D4C62-6332-498C-B60E-B90766360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8F2A1-3F40-49DA-8CDA-3F407F5F4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83603-53FD-4536-A42F-E5F3FFA49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A0BE9-4D54-4C81-ADA2-9B78D97BB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9CCFEF-9441-436B-9F92-F20FA33E6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42EF53-6185-404C-9319-FBC340B51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90B116-F7BB-486D-B6EC-E482519F0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5D6ADB-7234-42C9-93CA-B596287BE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30AE32-A0E5-4F5B-9D36-F0EBD303A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6CC7-1FF0-4C37-AB3A-2262F9E95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BB21C1-EC73-419E-9707-3F9027C85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198D7B-0A66-4190-AA09-C090A0F10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CABE14-08CC-41C0-AD6B-1E29ED6DE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7AF534-8591-4C86-87D7-C4E3C35F8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68294C-3EDB-476C-9DC7-D4944E541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B89BBB-9F2A-4E48-89E5-986F92674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861FA9-1405-4EC1-920B-BE71220D8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AAB580-70DA-47E4-A632-B3FE1B190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B3EE19-B58D-46B5-9DB5-D87CB1FB3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81E028-DBFE-4AFE-AB23-33B27CBF4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EADE-AC93-4DB8-A8DC-489D41906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9B2712-A5E3-449E-9F49-54E955657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BDF13B-9702-4B54-A159-4F336B1EF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E773CC-A5BE-49B9-8112-D3FCC8A80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2616FD-6E4A-4351-B40D-775A073AB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B8D977-CD7D-4F54-8611-DB40AE02C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7D1672-DC5E-44F5-8EDD-9377047EA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64AC62-7729-4A44-9A90-BAD02861C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4198C8-EAE3-4A8C-9FF7-3BFDB57A8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DFE76D-E127-4BEA-9598-4297AE05C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294D54-0E62-4B84-B7CF-A9B67128E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451A-DF09-4898-BDD0-BD9169348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0FEF63-E4E2-4C9B-BF8C-6FFAFC5F9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F8B5E5-6FDF-478C-975D-C764113CB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79C0F8-249F-478C-9B4F-1DC9174CB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47ABAC-1430-49FB-8CEA-AF319F127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B70BAB-ACF1-4E2B-BFDB-DC9C25AC6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DCC06B-551C-434A-AF13-C51A528B4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40454A-9EDB-4CC6-A148-86F71D3DB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CFDD34-E711-47CC-AA06-3D51D8921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016BE1-93D0-418B-BC08-C757EA480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28CCE5-1F03-4D29-A717-93C6D262D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D8A6-F1D3-4E85-B126-8308CB8CC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19D078-8537-452B-8F73-82F03E079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83EDDF-1A82-4053-90E7-F2745EC8E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D4F6AA-6004-4BA5-B75F-200B9D547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B01440-876F-436A-B4CE-CB4309159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5B5644-ED56-4251-8B3A-AF040E049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883F06-3CDD-451D-A6FA-D5538F394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25359E-58CB-41D9-847B-3B33D93FE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9575D8-049A-4B61-9825-E20D51056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4EBB4D-4A57-423E-ACE1-327932A43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6BA311-A32E-4AAC-B182-7985CB0C4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6793-1023-4468-B7BC-50789DE20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21EDAB-96DB-4807-B194-6F96755BE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F33EE9-733D-47B5-B188-EE8537A50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659A8D-5508-49BA-9FAB-0860FB638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703348-9213-46C1-9517-90D5AB128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6A286D-ECCF-4ABD-BF46-86111AAAE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2D1116-8208-4C43-96BB-C269E6981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7EE476-973B-4141-95EF-CF05B1522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D6D204-CA73-4BE1-82E5-804CCC9CE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A4171B-3244-4933-AC62-A6879A76B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24FC38-9871-4911-9D3E-A4B0D2DF2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FD3B-2DDE-4125-A5BD-23DC1D5BF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CDAFF2-466D-4216-A39D-0FF3575DB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6C97AA-AFF0-4723-9BC8-FB1B92DF5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4959CD-4958-4C6A-98EE-9119A30A8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D9BC09-DACC-42A4-9E34-063F5E724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2D6752-4D5B-42D5-BF51-36F7F1CD8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12452B-EDD6-4950-BE94-8BE715E3F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692138-3EE2-405C-AAC5-A307CB4D2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8BCB6F-8F21-408C-8038-1A24203C0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CFCBEB-9289-48A4-A028-AE8BAF141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A8BE94-6DEF-4DA5-B967-3A3756F1C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24D0-2138-4E58-83AD-5CFDB0FD1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F1ED03-6C07-4449-8B69-D3F478858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CFC4AC-228A-4B5D-97CE-0B33A3809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43284E-D3FA-4145-9491-6A29F1961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0A8F9F-5373-4752-8365-2E850AE2F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DA9443-F956-4980-A877-B5DDA2AF8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3775AC-4D38-4820-94E1-4BCA2FAC3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DF79E8-977D-4F53-9994-DB6A1CE86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D628D8-1B42-4F28-B1A1-CA1CE17B1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36AB8F-ED30-4665-8CAD-117E805E4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05E403-65AC-45A6-A6C0-785FC95D6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CC202-0140-4406-A105-212E57CF5B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0CAEF-2506-4B5F-8445-8C9E524F00D5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2E413-E7AC-441C-B376-D591748A0DB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0004B-AEC6-444D-B63E-5FE480AA6783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A7ADA-288A-45E7-8A72-8182BC87022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088AA-2A1E-4E69-86B4-B0D95215652A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D7CEA-9EA3-4278-9221-FC8FE03B5E4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055AE-2683-42E0-BF56-A0CA119767B4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9877A-5FD0-43B6-B74D-E5F0D0B56B4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805D1-6F47-485A-973D-D0D3EAF2D6A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747E8-134F-40D9-A439-41D4FB2CBB9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C4AA2-4F4E-417B-8F7E-21DC8D5E363C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DEE91-83C1-4B2F-A4D8-698C1EE1EE1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57E0E-DF49-4900-811C-55AC28AACE53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9A0C7-DD8C-469D-9208-2292A8441F8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7B390-23B5-43B5-8ECD-347A9192F7D7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7C53D-0720-4E38-98B4-32F10BD2502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9B1BD-3D38-4BB3-ACFD-849E606BE1CF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FAF12-DEF3-402E-9401-A56AAB527B1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22CED-B552-41F1-8FF7-A85AD93B6D96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46A09-EA2A-4147-8F54-8C5D3297ECF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34A35-3D92-4EFA-BD48-4EF46481F186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A833D-9DA2-4971-B7CD-DD7794840E0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151F0-4AF5-4889-A3AE-ABA70217A525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E17D8-84C0-4151-8A3D-5B49FC597C6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4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AutoShape 9"/>
          <p:cNvSpPr/>
          <p:nvPr/>
        </p:nvSpPr>
        <p:spPr>
          <a:xfrm rot="1759200">
            <a:off x="3657240" y="3580920"/>
            <a:ext cx="762120" cy="457200"/>
          </a:xfrm>
          <a:custGeom>
            <a:avLst/>
            <a:gdLst>
              <a:gd name="textAreaLeft" fmla="*/ 325080 w 762120"/>
              <a:gd name="textAreaRight" fmla="*/ 437040 w 762120"/>
              <a:gd name="textAreaTop" fmla="*/ 195120 h 457200"/>
              <a:gd name="textAreaBottom" fmla="*/ 262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217" y="9217"/>
                </a:lnTo>
                <a:lnTo>
                  <a:pt x="10800" y="0"/>
                </a:lnTo>
                <a:lnTo>
                  <a:pt x="12383" y="9217"/>
                </a:lnTo>
                <a:lnTo>
                  <a:pt x="21600" y="10800"/>
                </a:lnTo>
                <a:lnTo>
                  <a:pt x="12383" y="12383"/>
                </a:lnTo>
                <a:lnTo>
                  <a:pt x="10800" y="21600"/>
                </a:lnTo>
                <a:lnTo>
                  <a:pt x="9217" y="12383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9fcb"/>
              </a:gs>
              <a:gs pos="100000">
                <a:srgbClr val="f8b04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AutoShape 10"/>
          <p:cNvSpPr/>
          <p:nvPr/>
        </p:nvSpPr>
        <p:spPr>
          <a:xfrm rot="2973000">
            <a:off x="2552400" y="1485720"/>
            <a:ext cx="609480" cy="838440"/>
          </a:xfrm>
          <a:custGeom>
            <a:avLst/>
            <a:gdLst>
              <a:gd name="textAreaLeft" fmla="*/ 259920 w 609480"/>
              <a:gd name="textAreaRight" fmla="*/ 349560 w 609480"/>
              <a:gd name="textAreaTop" fmla="*/ 357840 h 838440"/>
              <a:gd name="textAreaBottom" fmla="*/ 4806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217" y="9217"/>
                </a:lnTo>
                <a:lnTo>
                  <a:pt x="10800" y="0"/>
                </a:lnTo>
                <a:lnTo>
                  <a:pt x="12383" y="9217"/>
                </a:lnTo>
                <a:lnTo>
                  <a:pt x="21600" y="10800"/>
                </a:lnTo>
                <a:lnTo>
                  <a:pt x="12383" y="12383"/>
                </a:lnTo>
                <a:lnTo>
                  <a:pt x="10800" y="21600"/>
                </a:lnTo>
                <a:lnTo>
                  <a:pt x="9217" y="12383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AutoShape 11"/>
          <p:cNvSpPr/>
          <p:nvPr/>
        </p:nvSpPr>
        <p:spPr>
          <a:xfrm rot="18514200">
            <a:off x="7124400" y="5371560"/>
            <a:ext cx="762120" cy="838080"/>
          </a:xfrm>
          <a:custGeom>
            <a:avLst/>
            <a:gdLst>
              <a:gd name="textAreaLeft" fmla="*/ 325080 w 762120"/>
              <a:gd name="textAreaRight" fmla="*/ 437040 w 762120"/>
              <a:gd name="textAreaTop" fmla="*/ 357480 h 838080"/>
              <a:gd name="textAreaBottom" fmla="*/ 48060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217" y="9217"/>
                </a:lnTo>
                <a:lnTo>
                  <a:pt x="10800" y="0"/>
                </a:lnTo>
                <a:lnTo>
                  <a:pt x="12383" y="9217"/>
                </a:lnTo>
                <a:lnTo>
                  <a:pt x="21600" y="10800"/>
                </a:lnTo>
                <a:lnTo>
                  <a:pt x="12383" y="12383"/>
                </a:lnTo>
                <a:lnTo>
                  <a:pt x="10800" y="21600"/>
                </a:lnTo>
                <a:lnTo>
                  <a:pt x="9217" y="12383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cbcbcb"/>
              </a:gs>
              <a:gs pos="100000">
                <a:srgbClr val="eaea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AutoShape 12"/>
          <p:cNvSpPr/>
          <p:nvPr/>
        </p:nvSpPr>
        <p:spPr>
          <a:xfrm rot="1759200">
            <a:off x="7086240" y="380880"/>
            <a:ext cx="685800" cy="838440"/>
          </a:xfrm>
          <a:custGeom>
            <a:avLst/>
            <a:gdLst>
              <a:gd name="textAreaLeft" fmla="*/ 292680 w 685800"/>
              <a:gd name="textAreaRight" fmla="*/ 393120 w 685800"/>
              <a:gd name="textAreaTop" fmla="*/ 357840 h 838440"/>
              <a:gd name="textAreaBottom" fmla="*/ 4806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217" y="9217"/>
                </a:lnTo>
                <a:lnTo>
                  <a:pt x="10800" y="0"/>
                </a:lnTo>
                <a:lnTo>
                  <a:pt x="12383" y="9217"/>
                </a:lnTo>
                <a:lnTo>
                  <a:pt x="21600" y="10800"/>
                </a:lnTo>
                <a:lnTo>
                  <a:pt x="12383" y="12383"/>
                </a:lnTo>
                <a:lnTo>
                  <a:pt x="10800" y="21600"/>
                </a:lnTo>
                <a:lnTo>
                  <a:pt x="9217" y="12383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AutoShape 13"/>
          <p:cNvSpPr/>
          <p:nvPr/>
        </p:nvSpPr>
        <p:spPr>
          <a:xfrm rot="21459000">
            <a:off x="5562360" y="2362320"/>
            <a:ext cx="685800" cy="609480"/>
          </a:xfrm>
          <a:custGeom>
            <a:avLst/>
            <a:gdLst>
              <a:gd name="textAreaLeft" fmla="*/ 292680 w 685800"/>
              <a:gd name="textAreaRight" fmla="*/ 393120 w 685800"/>
              <a:gd name="textAreaTop" fmla="*/ 259920 h 609480"/>
              <a:gd name="textAreaBottom" fmla="*/ 349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217" y="9217"/>
                </a:lnTo>
                <a:lnTo>
                  <a:pt x="10800" y="0"/>
                </a:lnTo>
                <a:lnTo>
                  <a:pt x="12383" y="9217"/>
                </a:lnTo>
                <a:lnTo>
                  <a:pt x="21600" y="10800"/>
                </a:lnTo>
                <a:lnTo>
                  <a:pt x="12383" y="12383"/>
                </a:lnTo>
                <a:lnTo>
                  <a:pt x="10800" y="21600"/>
                </a:lnTo>
                <a:lnTo>
                  <a:pt x="9217" y="12383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840" bIns="42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AutoShape 14"/>
          <p:cNvSpPr/>
          <p:nvPr/>
        </p:nvSpPr>
        <p:spPr>
          <a:xfrm rot="1759200">
            <a:off x="7543800" y="2286000"/>
            <a:ext cx="762120" cy="838080"/>
          </a:xfrm>
          <a:custGeom>
            <a:avLst/>
            <a:gdLst>
              <a:gd name="textAreaLeft" fmla="*/ 325080 w 762120"/>
              <a:gd name="textAreaRight" fmla="*/ 437040 w 762120"/>
              <a:gd name="textAreaTop" fmla="*/ 357480 h 838080"/>
              <a:gd name="textAreaBottom" fmla="*/ 48060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217" y="9217"/>
                </a:lnTo>
                <a:lnTo>
                  <a:pt x="10800" y="0"/>
                </a:lnTo>
                <a:lnTo>
                  <a:pt x="12383" y="9217"/>
                </a:lnTo>
                <a:lnTo>
                  <a:pt x="21600" y="10800"/>
                </a:lnTo>
                <a:lnTo>
                  <a:pt x="12383" y="12383"/>
                </a:lnTo>
                <a:lnTo>
                  <a:pt x="10800" y="21600"/>
                </a:lnTo>
                <a:lnTo>
                  <a:pt x="9217" y="12383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AutoShape 15"/>
          <p:cNvSpPr/>
          <p:nvPr/>
        </p:nvSpPr>
        <p:spPr>
          <a:xfrm rot="1759200">
            <a:off x="1523880" y="3886200"/>
            <a:ext cx="838440" cy="588960"/>
          </a:xfrm>
          <a:custGeom>
            <a:avLst/>
            <a:gdLst>
              <a:gd name="textAreaLeft" fmla="*/ 357840 w 838440"/>
              <a:gd name="textAreaRight" fmla="*/ 480600 w 838440"/>
              <a:gd name="textAreaTop" fmla="*/ 251280 h 588960"/>
              <a:gd name="textAreaBottom" fmla="*/ 337680 h 588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217" y="9217"/>
                </a:lnTo>
                <a:lnTo>
                  <a:pt x="10800" y="0"/>
                </a:lnTo>
                <a:lnTo>
                  <a:pt x="12383" y="9217"/>
                </a:lnTo>
                <a:lnTo>
                  <a:pt x="21600" y="10800"/>
                </a:lnTo>
                <a:lnTo>
                  <a:pt x="12383" y="12383"/>
                </a:lnTo>
                <a:lnTo>
                  <a:pt x="10800" y="21600"/>
                </a:lnTo>
                <a:lnTo>
                  <a:pt x="9217" y="12383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47ff"/>
              </a:gs>
            </a:gsLst>
            <a:lin ang="2700000"/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0" bIns="39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AutoShape 16"/>
          <p:cNvSpPr/>
          <p:nvPr/>
        </p:nvSpPr>
        <p:spPr>
          <a:xfrm rot="1759200">
            <a:off x="7772400" y="4114800"/>
            <a:ext cx="838080" cy="588960"/>
          </a:xfrm>
          <a:custGeom>
            <a:avLst/>
            <a:gdLst>
              <a:gd name="textAreaLeft" fmla="*/ 357480 w 838080"/>
              <a:gd name="textAreaRight" fmla="*/ 480600 w 838080"/>
              <a:gd name="textAreaTop" fmla="*/ 251280 h 588960"/>
              <a:gd name="textAreaBottom" fmla="*/ 337680 h 588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217" y="9217"/>
                </a:lnTo>
                <a:lnTo>
                  <a:pt x="10800" y="0"/>
                </a:lnTo>
                <a:lnTo>
                  <a:pt x="12383" y="9217"/>
                </a:lnTo>
                <a:lnTo>
                  <a:pt x="21600" y="10800"/>
                </a:lnTo>
                <a:lnTo>
                  <a:pt x="12383" y="12383"/>
                </a:lnTo>
                <a:lnTo>
                  <a:pt x="10800" y="21600"/>
                </a:lnTo>
                <a:lnTo>
                  <a:pt x="9217" y="12383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47ff"/>
              </a:gs>
            </a:gsLst>
            <a:lin ang="2700000"/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0" bIns="39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AutoShape 17"/>
          <p:cNvSpPr/>
          <p:nvPr/>
        </p:nvSpPr>
        <p:spPr>
          <a:xfrm rot="2020200">
            <a:off x="1447560" y="5486040"/>
            <a:ext cx="457200" cy="762120"/>
          </a:xfrm>
          <a:custGeom>
            <a:avLst/>
            <a:gdLst>
              <a:gd name="textAreaLeft" fmla="*/ 188280 w 457200"/>
              <a:gd name="textAreaRight" fmla="*/ 268920 w 457200"/>
              <a:gd name="textAreaTop" fmla="*/ 313920 h 762120"/>
              <a:gd name="textAreaBottom" fmla="*/ 4482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AutoShape 18"/>
          <p:cNvSpPr/>
          <p:nvPr/>
        </p:nvSpPr>
        <p:spPr>
          <a:xfrm rot="1404600">
            <a:off x="304560" y="2743200"/>
            <a:ext cx="914400" cy="990720"/>
          </a:xfrm>
          <a:custGeom>
            <a:avLst/>
            <a:gdLst>
              <a:gd name="textAreaLeft" fmla="*/ 407880 w 914400"/>
              <a:gd name="textAreaRight" fmla="*/ 506520 w 914400"/>
              <a:gd name="textAreaTop" fmla="*/ 442080 h 990720"/>
              <a:gd name="textAreaBottom" fmla="*/ 5486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639" y="9639"/>
                </a:lnTo>
                <a:lnTo>
                  <a:pt x="10800" y="0"/>
                </a:lnTo>
                <a:lnTo>
                  <a:pt x="11961" y="9639"/>
                </a:lnTo>
                <a:lnTo>
                  <a:pt x="21600" y="10800"/>
                </a:lnTo>
                <a:lnTo>
                  <a:pt x="11961" y="11961"/>
                </a:lnTo>
                <a:lnTo>
                  <a:pt x="10800" y="21600"/>
                </a:lnTo>
                <a:lnTo>
                  <a:pt x="9639" y="11961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AutoShape 19"/>
          <p:cNvSpPr/>
          <p:nvPr/>
        </p:nvSpPr>
        <p:spPr>
          <a:xfrm rot="3251400">
            <a:off x="4401720" y="4208040"/>
            <a:ext cx="720720" cy="838080"/>
          </a:xfrm>
          <a:custGeom>
            <a:avLst/>
            <a:gdLst>
              <a:gd name="textAreaLeft" fmla="*/ 307440 w 720720"/>
              <a:gd name="textAreaRight" fmla="*/ 413280 w 720720"/>
              <a:gd name="textAreaTop" fmla="*/ 357480 h 838080"/>
              <a:gd name="textAreaBottom" fmla="*/ 48060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217" y="9217"/>
                </a:lnTo>
                <a:lnTo>
                  <a:pt x="10800" y="0"/>
                </a:lnTo>
                <a:lnTo>
                  <a:pt x="12383" y="9217"/>
                </a:lnTo>
                <a:lnTo>
                  <a:pt x="21600" y="10800"/>
                </a:lnTo>
                <a:lnTo>
                  <a:pt x="12383" y="12383"/>
                </a:lnTo>
                <a:lnTo>
                  <a:pt x="10800" y="21600"/>
                </a:lnTo>
                <a:lnTo>
                  <a:pt x="9217" y="12383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1" name="Picture 51" descr=""/>
          <p:cNvPicPr/>
          <p:nvPr/>
        </p:nvPicPr>
        <p:blipFill>
          <a:blip r:embed="rId2"/>
          <a:srcRect l="0" t="0" r="-28" b="13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2" name="Text Box 53"/>
          <p:cNvSpPr/>
          <p:nvPr/>
        </p:nvSpPr>
        <p:spPr>
          <a:xfrm>
            <a:off x="4886280" y="944640"/>
            <a:ext cx="549360" cy="46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Text Box 54"/>
          <p:cNvSpPr/>
          <p:nvPr/>
        </p:nvSpPr>
        <p:spPr>
          <a:xfrm>
            <a:off x="4886280" y="1020600"/>
            <a:ext cx="549360" cy="33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55"/>
          <p:cNvSpPr/>
          <p:nvPr/>
        </p:nvSpPr>
        <p:spPr>
          <a:xfrm>
            <a:off x="4728600" y="-875880"/>
            <a:ext cx="1399320" cy="83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3300"/>
                </a:solidFill>
                <a:latin typeface="Times New Roman"/>
                <a:ea typeface="黑体"/>
              </a:rPr>
              <a:t>爱迪生救妈妈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Text Box 3"/>
          <p:cNvSpPr/>
          <p:nvPr/>
        </p:nvSpPr>
        <p:spPr>
          <a:xfrm>
            <a:off x="838080" y="1219320"/>
            <a:ext cx="701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Text Box 25"/>
          <p:cNvSpPr/>
          <p:nvPr/>
        </p:nvSpPr>
        <p:spPr>
          <a:xfrm>
            <a:off x="533520" y="1828800"/>
            <a:ext cx="769608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5998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手术做得很成功，妈妈得救了。医生夸奖爱迪生，说：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“今天多亏了这个小家伙，他真是个聪明的孩子！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26"/>
          <p:cNvSpPr/>
          <p:nvPr/>
        </p:nvSpPr>
        <p:spPr>
          <a:xfrm>
            <a:off x="1660680" y="2611440"/>
            <a:ext cx="496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8" name="Picture 28" descr="D:\html\东方网页王\resource\按钮背景\oval_yellow.gif"/>
          <p:cNvPicPr/>
          <p:nvPr/>
        </p:nvPicPr>
        <p:blipFill>
          <a:blip r:embed="rId2"/>
          <a:stretch/>
        </p:blipFill>
        <p:spPr>
          <a:xfrm>
            <a:off x="228600" y="228600"/>
            <a:ext cx="1828800" cy="762120"/>
          </a:xfrm>
          <a:prstGeom prst="rect">
            <a:avLst/>
          </a:prstGeom>
          <a:ln w="0">
            <a:noFill/>
          </a:ln>
        </p:spPr>
      </p:pic>
      <p:sp>
        <p:nvSpPr>
          <p:cNvPr id="599" name="Text Box 29"/>
          <p:cNvSpPr/>
          <p:nvPr/>
        </p:nvSpPr>
        <p:spPr>
          <a:xfrm>
            <a:off x="428760" y="271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我会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Text Box 15"/>
          <p:cNvSpPr/>
          <p:nvPr/>
        </p:nvSpPr>
        <p:spPr>
          <a:xfrm>
            <a:off x="609480" y="1752480"/>
            <a:ext cx="8153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22"/>
          <p:cNvSpPr/>
          <p:nvPr/>
        </p:nvSpPr>
        <p:spPr>
          <a:xfrm>
            <a:off x="304920" y="2201760"/>
            <a:ext cx="83818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5998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爱迪生是一位伟大的发明家，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他从小就爱动脑筋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，常常想出一些好主意。有一次，他靠自己的聪明救了妈妈的命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2" name="Picture 27" descr="D:\html\东方网页王\resource\按钮背景\oval_yellow.gif"/>
          <p:cNvPicPr/>
          <p:nvPr/>
        </p:nvPicPr>
        <p:blipFill>
          <a:blip r:embed="rId2"/>
          <a:stretch/>
        </p:blipFill>
        <p:spPr>
          <a:xfrm>
            <a:off x="228600" y="228600"/>
            <a:ext cx="1828800" cy="762120"/>
          </a:xfrm>
          <a:prstGeom prst="rect">
            <a:avLst/>
          </a:prstGeom>
          <a:ln w="0">
            <a:noFill/>
          </a:ln>
        </p:spPr>
      </p:pic>
      <p:sp>
        <p:nvSpPr>
          <p:cNvPr id="603" name="Text Box 28"/>
          <p:cNvSpPr/>
          <p:nvPr/>
        </p:nvSpPr>
        <p:spPr>
          <a:xfrm>
            <a:off x="428760" y="271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我会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4" name="Picture 4" descr="E:\button78.gif"/>
          <p:cNvPicPr/>
          <p:nvPr/>
        </p:nvPicPr>
        <p:blipFill>
          <a:blip r:embed="rId2"/>
          <a:stretch/>
        </p:blipFill>
        <p:spPr>
          <a:xfrm>
            <a:off x="304920" y="1549440"/>
            <a:ext cx="431640" cy="431640"/>
          </a:xfrm>
          <a:prstGeom prst="rect">
            <a:avLst/>
          </a:prstGeom>
          <a:ln w="0">
            <a:noFill/>
          </a:ln>
        </p:spPr>
      </p:pic>
      <p:pic>
        <p:nvPicPr>
          <p:cNvPr id="605" name="Picture 5" descr="E:\button78.gif"/>
          <p:cNvPicPr/>
          <p:nvPr/>
        </p:nvPicPr>
        <p:blipFill>
          <a:blip r:embed="rId3"/>
          <a:stretch/>
        </p:blipFill>
        <p:spPr>
          <a:xfrm>
            <a:off x="304920" y="2463840"/>
            <a:ext cx="431640" cy="431640"/>
          </a:xfrm>
          <a:prstGeom prst="rect">
            <a:avLst/>
          </a:prstGeom>
          <a:ln w="0">
            <a:noFill/>
          </a:ln>
        </p:spPr>
      </p:pic>
      <p:pic>
        <p:nvPicPr>
          <p:cNvPr id="606" name="Picture 6" descr="E:\button78.gif"/>
          <p:cNvPicPr/>
          <p:nvPr/>
        </p:nvPicPr>
        <p:blipFill>
          <a:blip r:embed="rId4"/>
          <a:stretch/>
        </p:blipFill>
        <p:spPr>
          <a:xfrm>
            <a:off x="380880" y="3606840"/>
            <a:ext cx="432000" cy="431640"/>
          </a:xfrm>
          <a:prstGeom prst="rect">
            <a:avLst/>
          </a:prstGeom>
          <a:ln w="0">
            <a:noFill/>
          </a:ln>
        </p:spPr>
      </p:pic>
      <p:sp>
        <p:nvSpPr>
          <p:cNvPr id="607" name="Text Box 7"/>
          <p:cNvSpPr/>
          <p:nvPr/>
        </p:nvSpPr>
        <p:spPr>
          <a:xfrm>
            <a:off x="914400" y="236232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Text Box 8"/>
          <p:cNvSpPr/>
          <p:nvPr/>
        </p:nvSpPr>
        <p:spPr>
          <a:xfrm>
            <a:off x="914400" y="1508040"/>
            <a:ext cx="73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_x000b__x000c_"/>
              </a:rPr>
              <a:t>有志者，事竟成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  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Text Box 9"/>
          <p:cNvSpPr/>
          <p:nvPr/>
        </p:nvSpPr>
        <p:spPr>
          <a:xfrm>
            <a:off x="1066680" y="3519360"/>
            <a:ext cx="716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_x000b__x000c_"/>
              </a:rPr>
              <a:t>自信是成功的第一秘诀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Text Box 10"/>
          <p:cNvSpPr/>
          <p:nvPr/>
        </p:nvSpPr>
        <p:spPr>
          <a:xfrm>
            <a:off x="990720" y="245268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_x000b__x000c_"/>
              </a:rPr>
              <a:t>天才是百分之一的灵感，加百分之九十九的血汗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1" name="Picture 13" descr="D:\html\东方网页王\resource\按钮背景\oval_yellow.gif"/>
          <p:cNvPicPr/>
          <p:nvPr/>
        </p:nvPicPr>
        <p:blipFill>
          <a:blip r:embed="rId5"/>
          <a:stretch/>
        </p:blipFill>
        <p:spPr>
          <a:xfrm>
            <a:off x="0" y="0"/>
            <a:ext cx="1600200" cy="974880"/>
          </a:xfrm>
          <a:prstGeom prst="rect">
            <a:avLst/>
          </a:prstGeom>
          <a:ln w="0">
            <a:noFill/>
          </a:ln>
        </p:spPr>
      </p:pic>
      <p:sp>
        <p:nvSpPr>
          <p:cNvPr id="612" name="Text Box 21"/>
          <p:cNvSpPr/>
          <p:nvPr/>
        </p:nvSpPr>
        <p:spPr>
          <a:xfrm>
            <a:off x="1066680" y="4554360"/>
            <a:ext cx="637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_x000b__x000c_"/>
              </a:rPr>
              <a:t>良好的个性胜于卓越的才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Text Box 24"/>
          <p:cNvSpPr/>
          <p:nvPr/>
        </p:nvSpPr>
        <p:spPr>
          <a:xfrm>
            <a:off x="1432080" y="5735520"/>
            <a:ext cx="374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Text Box 25"/>
          <p:cNvSpPr/>
          <p:nvPr/>
        </p:nvSpPr>
        <p:spPr>
          <a:xfrm>
            <a:off x="555480" y="4183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5" name="Picture 26" descr="E:\button78.gif"/>
          <p:cNvPicPr/>
          <p:nvPr/>
        </p:nvPicPr>
        <p:blipFill>
          <a:blip r:embed="rId6"/>
          <a:stretch/>
        </p:blipFill>
        <p:spPr>
          <a:xfrm>
            <a:off x="380880" y="4597560"/>
            <a:ext cx="432000" cy="431640"/>
          </a:xfrm>
          <a:prstGeom prst="rect">
            <a:avLst/>
          </a:prstGeom>
          <a:ln w="0">
            <a:noFill/>
          </a:ln>
        </p:spPr>
      </p:pic>
      <p:sp>
        <p:nvSpPr>
          <p:cNvPr id="616" name="Text Box 27"/>
          <p:cNvSpPr/>
          <p:nvPr/>
        </p:nvSpPr>
        <p:spPr>
          <a:xfrm>
            <a:off x="555480" y="5097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Text Box 29"/>
          <p:cNvSpPr/>
          <p:nvPr/>
        </p:nvSpPr>
        <p:spPr>
          <a:xfrm>
            <a:off x="762120" y="5715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 Box 31"/>
          <p:cNvSpPr/>
          <p:nvPr/>
        </p:nvSpPr>
        <p:spPr>
          <a:xfrm>
            <a:off x="76320" y="1522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我会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 Box 32"/>
          <p:cNvSpPr/>
          <p:nvPr/>
        </p:nvSpPr>
        <p:spPr>
          <a:xfrm>
            <a:off x="3124080" y="457200"/>
            <a:ext cx="44960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_x000b__x000c_"/>
              </a:rPr>
              <a:t>爱迪生名言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WordArt 3"/>
          <p:cNvSpPr txBox="1"/>
          <p:nvPr/>
        </p:nvSpPr>
        <p:spPr>
          <a:xfrm>
            <a:off x="1523880" y="3048120"/>
            <a:ext cx="640080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324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/>
                  </a:outerShdw>
                </a:effectLst>
                <a:latin typeface="华文新魏"/>
              </a:rPr>
              <a:t>明天学得更开心！</a:t>
            </a:r>
            <a:endParaRPr b="1" lang="en-US" sz="2400" spc="1" strike="noStrike">
              <a:ln w="324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5400000"/>
              </a:gradFill>
              <a:effectLst>
                <a:outerShdw dist="17819" dir="2700000" blurRad="0" rotWithShape="0">
                  <a:srgbClr val="808080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621" name="WordArt 4"/>
          <p:cNvSpPr txBox="1"/>
          <p:nvPr/>
        </p:nvSpPr>
        <p:spPr>
          <a:xfrm>
            <a:off x="838080" y="609480"/>
            <a:ext cx="5105520" cy="19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行楷"/>
              </a:rPr>
              <a:t>开心！开心！！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2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623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24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5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Text Box 2"/>
          <p:cNvSpPr/>
          <p:nvPr/>
        </p:nvSpPr>
        <p:spPr>
          <a:xfrm>
            <a:off x="533520" y="1371600"/>
            <a:ext cx="8076960" cy="21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5499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那一年，爱迪生刚满七岁。一天，妈妈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突然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肚子痛，疼得在床上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直打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。爸爸急忙骑马到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几十里外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去请医生。太阳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快落山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的时候，医生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终于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来了。一检查，原来妈妈得的是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急性阑尾炎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，需要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马上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做手术。上医院已经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来不及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了，医生决定在家里做手术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6" name="Picture 7" descr="D:\html\东方网页王\resource\按钮背景\oval_yellow.gif"/>
          <p:cNvPicPr/>
          <p:nvPr/>
        </p:nvPicPr>
        <p:blipFill>
          <a:blip r:embed="rId2"/>
          <a:stretch/>
        </p:blipFill>
        <p:spPr>
          <a:xfrm>
            <a:off x="228600" y="228600"/>
            <a:ext cx="1828800" cy="762120"/>
          </a:xfrm>
          <a:prstGeom prst="rect">
            <a:avLst/>
          </a:prstGeom>
          <a:ln w="0">
            <a:noFill/>
          </a:ln>
        </p:spPr>
      </p:pic>
      <p:sp>
        <p:nvSpPr>
          <p:cNvPr id="557" name="Text Box 12"/>
          <p:cNvSpPr/>
          <p:nvPr/>
        </p:nvSpPr>
        <p:spPr>
          <a:xfrm>
            <a:off x="428760" y="2858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我会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8" name="Picture 2" descr="D:\030_2.gif"/>
          <p:cNvPicPr/>
          <p:nvPr/>
        </p:nvPicPr>
        <p:blipFill>
          <a:blip r:embed="rId2"/>
          <a:stretch/>
        </p:blipFill>
        <p:spPr>
          <a:xfrm>
            <a:off x="8064360" y="5958000"/>
            <a:ext cx="468360" cy="53964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11" descr="E:\button78.gif"/>
          <p:cNvPicPr/>
          <p:nvPr/>
        </p:nvPicPr>
        <p:blipFill>
          <a:blip r:embed="rId3"/>
          <a:stretch/>
        </p:blipFill>
        <p:spPr>
          <a:xfrm>
            <a:off x="533520" y="1981080"/>
            <a:ext cx="431640" cy="432000"/>
          </a:xfrm>
          <a:prstGeom prst="rect">
            <a:avLst/>
          </a:prstGeom>
          <a:ln w="0">
            <a:noFill/>
          </a:ln>
        </p:spPr>
      </p:pic>
      <p:pic>
        <p:nvPicPr>
          <p:cNvPr id="560" name="Picture 12" descr="E:\button78.gif"/>
          <p:cNvPicPr/>
          <p:nvPr/>
        </p:nvPicPr>
        <p:blipFill>
          <a:blip r:embed="rId4"/>
          <a:stretch/>
        </p:blipFill>
        <p:spPr>
          <a:xfrm>
            <a:off x="533520" y="3200400"/>
            <a:ext cx="431640" cy="43164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13" descr="E:\button78.gif"/>
          <p:cNvPicPr/>
          <p:nvPr/>
        </p:nvPicPr>
        <p:blipFill>
          <a:blip r:embed="rId5"/>
          <a:stretch/>
        </p:blipFill>
        <p:spPr>
          <a:xfrm>
            <a:off x="533520" y="4267080"/>
            <a:ext cx="431640" cy="432000"/>
          </a:xfrm>
          <a:prstGeom prst="rect">
            <a:avLst/>
          </a:prstGeom>
          <a:ln w="0">
            <a:noFill/>
          </a:ln>
        </p:spPr>
      </p:pic>
      <p:sp>
        <p:nvSpPr>
          <p:cNvPr id="562" name="Text Box 14"/>
          <p:cNvSpPr/>
          <p:nvPr/>
        </p:nvSpPr>
        <p:spPr>
          <a:xfrm>
            <a:off x="914400" y="236232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15"/>
          <p:cNvSpPr/>
          <p:nvPr/>
        </p:nvSpPr>
        <p:spPr>
          <a:xfrm>
            <a:off x="1143000" y="167652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医生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环顾四周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，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迟疑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了片刻，说：“房间里光线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太暗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，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没法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做手术。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28"/>
          <p:cNvSpPr/>
          <p:nvPr/>
        </p:nvSpPr>
        <p:spPr>
          <a:xfrm>
            <a:off x="1219320" y="419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医生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还是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摇头，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连连说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不行。大家急得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团团转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Text Box 30"/>
          <p:cNvSpPr/>
          <p:nvPr/>
        </p:nvSpPr>
        <p:spPr>
          <a:xfrm>
            <a:off x="1219320" y="304812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爸爸说：“那就多点几盏油灯。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 Box 35"/>
          <p:cNvSpPr/>
          <p:nvPr/>
        </p:nvSpPr>
        <p:spPr>
          <a:xfrm>
            <a:off x="6219720" y="5943600"/>
            <a:ext cx="1067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8" name="Picture 4" descr="D:\html\东方网页王\resource\按钮背景\oval_yellow.gif"/>
          <p:cNvPicPr/>
          <p:nvPr/>
        </p:nvPicPr>
        <p:blipFill>
          <a:blip r:embed="rId2"/>
          <a:stretch/>
        </p:blipFill>
        <p:spPr>
          <a:xfrm>
            <a:off x="7086600" y="5867280"/>
            <a:ext cx="1905120" cy="914400"/>
          </a:xfrm>
          <a:prstGeom prst="rect">
            <a:avLst/>
          </a:prstGeom>
          <a:ln w="0">
            <a:noFill/>
          </a:ln>
        </p:spPr>
      </p:pic>
      <p:sp>
        <p:nvSpPr>
          <p:cNvPr id="569" name="Text Box 6"/>
          <p:cNvSpPr/>
          <p:nvPr/>
        </p:nvSpPr>
        <p:spPr>
          <a:xfrm>
            <a:off x="7391520" y="59436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我会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0" name="Picture 4" descr=""/>
          <p:cNvPicPr/>
          <p:nvPr/>
        </p:nvPicPr>
        <p:blipFill>
          <a:blip r:embed="rId1"/>
          <a:srcRect l="0" t="4442" r="49982" b="679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1" name="Rectangle 2"/>
          <p:cNvSpPr/>
          <p:nvPr/>
        </p:nvSpPr>
        <p:spPr>
          <a:xfrm>
            <a:off x="533520" y="533520"/>
            <a:ext cx="83055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突然，爱迪生</a:t>
            </a:r>
            <a:r>
              <a:rPr b="0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一溜烟似的奔出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门。不一会儿，他回来了，</a:t>
            </a:r>
            <a:r>
              <a:rPr b="0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捧着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面明晃晃的大镜子，身后还跟着好几个小男孩，每个人</a:t>
            </a:r>
            <a:r>
              <a:rPr b="0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都捧着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面大镜子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Text Box 3"/>
          <p:cNvSpPr/>
          <p:nvPr/>
        </p:nvSpPr>
        <p:spPr>
          <a:xfrm>
            <a:off x="762120" y="3657600"/>
            <a:ext cx="777240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爱迪生让小伙伴们站在点燃的油灯旁边，由于镜子</a:t>
            </a:r>
            <a:r>
              <a:rPr b="0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把光聚在一起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病床上一下子</a:t>
            </a:r>
            <a:r>
              <a:rPr b="0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亮堂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起来了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Picture 3" descr=""/>
          <p:cNvPicPr/>
          <p:nvPr/>
        </p:nvPicPr>
        <p:blipFill>
          <a:blip r:embed="rId1"/>
          <a:srcRect l="0" t="4442" r="49982" b="679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4" name="Text Box 2"/>
          <p:cNvSpPr/>
          <p:nvPr/>
        </p:nvSpPr>
        <p:spPr>
          <a:xfrm>
            <a:off x="1295280" y="1219320"/>
            <a:ext cx="655344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爸爸一见</a:t>
            </a:r>
            <a:r>
              <a:rPr b="0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又急又气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斥责道：</a:t>
            </a:r>
            <a:r>
              <a:rPr b="1" lang="zh-CN" sz="3600" spc="-1" strike="noStrike">
                <a:solidFill>
                  <a:srgbClr val="0066ff"/>
                </a:solidFill>
                <a:latin typeface="Times New Roman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什么时候了，还胡闹！</a:t>
            </a:r>
            <a:r>
              <a:rPr b="1" lang="zh-CN" sz="3600" spc="-1" strike="noStrike">
                <a:solidFill>
                  <a:srgbClr val="0066ff"/>
                </a:solidFill>
                <a:latin typeface="Times New Roman"/>
                <a:ea typeface="楷体_GB2312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爱迪生</a:t>
            </a:r>
            <a:r>
              <a:rPr b="0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委屈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地说：</a:t>
            </a:r>
            <a:r>
              <a:rPr b="1" lang="zh-CN" sz="3600" spc="-1" strike="noStrike">
                <a:solidFill>
                  <a:srgbClr val="0066ff"/>
                </a:solidFill>
                <a:latin typeface="Times New Roman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我没胡闹，我想出办法了。不信你瞧！</a:t>
            </a:r>
            <a:r>
              <a:rPr b="1" lang="zh-CN" sz="3600" spc="-1" strike="noStrike">
                <a:solidFill>
                  <a:srgbClr val="0066ff"/>
                </a:solidFill>
                <a:latin typeface="Times New Roman"/>
                <a:ea typeface="楷体_GB2312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38"/>
          <p:cNvSpPr/>
          <p:nvPr/>
        </p:nvSpPr>
        <p:spPr>
          <a:xfrm>
            <a:off x="0" y="9907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6" name="Picture 39" descr="D:\html\东方网页王\resource\按钮背景\oval_yellow.gif"/>
          <p:cNvPicPr/>
          <p:nvPr/>
        </p:nvPicPr>
        <p:blipFill>
          <a:blip r:embed="rId1"/>
          <a:stretch/>
        </p:blipFill>
        <p:spPr>
          <a:xfrm>
            <a:off x="0" y="0"/>
            <a:ext cx="2590920" cy="914400"/>
          </a:xfrm>
          <a:prstGeom prst="rect">
            <a:avLst/>
          </a:prstGeom>
          <a:ln w="0">
            <a:noFill/>
          </a:ln>
        </p:spPr>
      </p:pic>
      <p:pic>
        <p:nvPicPr>
          <p:cNvPr id="577" name="Object 53" descr=""/>
          <p:cNvPicPr/>
          <p:nvPr/>
        </p:nvPicPr>
        <p:blipFill>
          <a:blip r:embed="rId2"/>
          <a:stretch/>
        </p:blipFill>
        <p:spPr>
          <a:xfrm>
            <a:off x="380880" y="304920"/>
            <a:ext cx="8458200" cy="6226200"/>
          </a:xfrm>
          <a:prstGeom prst="rect">
            <a:avLst/>
          </a:prstGeom>
          <a:ln w="0">
            <a:noFill/>
          </a:ln>
        </p:spPr>
      </p:pic>
      <p:pic>
        <p:nvPicPr>
          <p:cNvPr id="578" name="Picture 54" descr="D:\html\东方网页王\resource\按钮背景\oval_yellow.gif"/>
          <p:cNvPicPr/>
          <p:nvPr/>
        </p:nvPicPr>
        <p:blipFill>
          <a:blip r:embed="rId3"/>
          <a:stretch/>
        </p:blipFill>
        <p:spPr>
          <a:xfrm>
            <a:off x="0" y="0"/>
            <a:ext cx="2590920" cy="914400"/>
          </a:xfrm>
          <a:prstGeom prst="rect">
            <a:avLst/>
          </a:prstGeom>
          <a:ln w="0">
            <a:noFill/>
          </a:ln>
        </p:spPr>
      </p:pic>
      <p:sp>
        <p:nvSpPr>
          <p:cNvPr id="579" name="Text Box 55"/>
          <p:cNvSpPr/>
          <p:nvPr/>
        </p:nvSpPr>
        <p:spPr>
          <a:xfrm>
            <a:off x="228600" y="1522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黑体"/>
              </a:rPr>
              <a:t>我会议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黑体"/>
              </a:rPr>
              <a:t>,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黑体"/>
              </a:rPr>
              <a:t>我会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0" name="Picture 3" descr=""/>
          <p:cNvPicPr/>
          <p:nvPr/>
        </p:nvPicPr>
        <p:blipFill>
          <a:blip r:embed="rId1"/>
          <a:srcRect l="0" t="0" r="40" b="0"/>
          <a:stretch/>
        </p:blipFill>
        <p:spPr>
          <a:xfrm>
            <a:off x="0" y="0"/>
            <a:ext cx="9448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Object 2" descr=""/>
          <p:cNvPicPr/>
          <p:nvPr/>
        </p:nvPicPr>
        <p:blipFill>
          <a:blip r:embed="rId2"/>
          <a:stretch/>
        </p:blipFill>
        <p:spPr>
          <a:xfrm>
            <a:off x="304920" y="1828800"/>
            <a:ext cx="482400" cy="495360"/>
          </a:xfrm>
          <a:prstGeom prst="rect">
            <a:avLst/>
          </a:prstGeom>
          <a:ln w="0">
            <a:noFill/>
          </a:ln>
        </p:spPr>
      </p:pic>
      <p:sp>
        <p:nvSpPr>
          <p:cNvPr id="582" name="Text Box 3"/>
          <p:cNvSpPr/>
          <p:nvPr/>
        </p:nvSpPr>
        <p:spPr>
          <a:xfrm>
            <a:off x="762120" y="1600200"/>
            <a:ext cx="297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恍然大悟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Text Box 4"/>
          <p:cNvSpPr/>
          <p:nvPr/>
        </p:nvSpPr>
        <p:spPr>
          <a:xfrm>
            <a:off x="609480" y="1752480"/>
            <a:ext cx="8153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Text Box 5"/>
          <p:cNvSpPr/>
          <p:nvPr/>
        </p:nvSpPr>
        <p:spPr>
          <a:xfrm>
            <a:off x="609480" y="2438280"/>
            <a:ext cx="80773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　　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Arial"/>
              </a:rPr>
              <a:t>形容一下子明白过来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5" name="Picture 6" descr="E:\button104.gif"/>
          <p:cNvPicPr/>
          <p:nvPr/>
        </p:nvPicPr>
        <p:blipFill>
          <a:blip r:embed="rId3"/>
          <a:stretch/>
        </p:blipFill>
        <p:spPr>
          <a:xfrm>
            <a:off x="380880" y="3733920"/>
            <a:ext cx="457200" cy="52200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7" descr="E:\button103.gif"/>
          <p:cNvPicPr/>
          <p:nvPr/>
        </p:nvPicPr>
        <p:blipFill>
          <a:blip r:embed="rId4"/>
          <a:stretch/>
        </p:blipFill>
        <p:spPr>
          <a:xfrm>
            <a:off x="380880" y="5181480"/>
            <a:ext cx="457200" cy="522360"/>
          </a:xfrm>
          <a:prstGeom prst="rect">
            <a:avLst/>
          </a:prstGeom>
          <a:ln w="0">
            <a:noFill/>
          </a:ln>
        </p:spPr>
      </p:pic>
      <p:sp>
        <p:nvSpPr>
          <p:cNvPr id="587" name="Text Box 9"/>
          <p:cNvSpPr/>
          <p:nvPr/>
        </p:nvSpPr>
        <p:spPr>
          <a:xfrm>
            <a:off x="1066680" y="365760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当看到病床上一下子亮堂起来的时候，爸爸恍然大悟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Text Box 10"/>
          <p:cNvSpPr/>
          <p:nvPr/>
        </p:nvSpPr>
        <p:spPr>
          <a:xfrm>
            <a:off x="517680" y="325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9" name="Picture 11" descr="D:\html\东方网页王\resource\按钮背景\oval_yellow.gif"/>
          <p:cNvPicPr/>
          <p:nvPr/>
        </p:nvPicPr>
        <p:blipFill>
          <a:blip r:embed="rId5"/>
          <a:stretch/>
        </p:blipFill>
        <p:spPr>
          <a:xfrm>
            <a:off x="228600" y="228600"/>
            <a:ext cx="1828800" cy="762120"/>
          </a:xfrm>
          <a:prstGeom prst="rect">
            <a:avLst/>
          </a:prstGeom>
          <a:ln w="0">
            <a:noFill/>
          </a:ln>
        </p:spPr>
      </p:pic>
      <p:sp>
        <p:nvSpPr>
          <p:cNvPr id="590" name="Text Box 12"/>
          <p:cNvSpPr/>
          <p:nvPr/>
        </p:nvSpPr>
        <p:spPr>
          <a:xfrm>
            <a:off x="380880" y="30492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我会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Text Box 13"/>
          <p:cNvSpPr/>
          <p:nvPr/>
        </p:nvSpPr>
        <p:spPr>
          <a:xfrm>
            <a:off x="1469880" y="5021280"/>
            <a:ext cx="57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14"/>
          <p:cNvSpPr/>
          <p:nvPr/>
        </p:nvSpPr>
        <p:spPr>
          <a:xfrm>
            <a:off x="1219320" y="5257800"/>
            <a:ext cx="64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当我看见爸爸拿出蛋糕时，才恍然大悟：原来，今天是妈妈的生日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15"/>
          <p:cNvSpPr/>
          <p:nvPr/>
        </p:nvSpPr>
        <p:spPr>
          <a:xfrm>
            <a:off x="1508040" y="4668840"/>
            <a:ext cx="420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Text Box 16"/>
          <p:cNvSpPr/>
          <p:nvPr/>
        </p:nvSpPr>
        <p:spPr>
          <a:xfrm>
            <a:off x="1698480" y="5021280"/>
            <a:ext cx="3178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06T05:47:03Z</dcterms:created>
  <dc:creator>冯建明</dc:creator>
  <dc:description/>
  <dc:language>en-US</dc:language>
  <cp:lastModifiedBy>a</cp:lastModifiedBy>
  <dcterms:modified xsi:type="dcterms:W3CDTF">2015-03-17T05:54:38Z</dcterms:modified>
  <cp:revision>86</cp:revision>
  <dc:subject/>
  <dc:title>PowerPoint 演示文稿</dc:title>
</cp:coreProperties>
</file>