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8382-1678-44F1-BAC3-EA1953C621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675A-0FD2-4F0A-ADD6-5324508863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我们看看根据史料和杜牧的《阿房宫赋》绘制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阿房宫复原效果图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。大家谈谈自己的印象（说的训练）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68F6-4CB0-42D2-8092-C3D01B2841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分钟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听的训练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3B1-0D1F-4F5B-B6ED-49D6D7C72F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概括能力的训练，文章详写的是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D6F-48D6-481F-AF3A-E6A42332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B97-6171-433E-A658-8F79A21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83FEA-70B6-4D7E-995E-ACF7744C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B1E79-D890-463B-B039-17E0F597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AA003-AA58-4C1D-962E-76787372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6664F-1AC6-4B60-B9EA-F250C1BF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8CBB0-51A7-4F22-B7EF-003475B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677DD-22D0-45AB-B60E-A4B512C9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A8DC3-A024-483C-9633-E644EDA8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5FA19-5670-453A-8B3B-569BC915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1A2FE-A106-41D8-AA7A-8D6472D9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72354-D9FF-4074-B5EF-217F9EDD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92C-9BAB-460C-8672-CD12933F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7CD09-A126-4965-BDB4-B143419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3955D-C773-491B-BA78-5D82E17C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710C4-DFE0-4712-80D5-1832F9B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D1EE9-9FBB-468A-8487-A0BC7F4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CD1C6-98FE-4CEB-9916-A149455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CBF6E-4CAE-4B12-A797-F6E6B12C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374F7-8A0D-4862-96CD-7A43598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2624-54C8-4CCB-B135-965CDE49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896F2-2481-479C-AD7C-8DE5E17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AB707-9E6A-49E7-A9F0-963D356C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564-46DD-4587-A69E-D7D2045E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06813-592D-4FE3-8525-9EF1BBE3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9211F-CE41-4342-A228-AB42D5A3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CC2A7-E1A3-406F-B338-F3B54DAE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03601-6434-450C-B216-4CF66408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712F0-7844-4F65-8E76-1C0BAEF4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A684D-C213-46ED-841B-B9EDB8B3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D59AA-12F4-4AEB-9F6A-0D695857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1EDEE-3AA3-4CC5-A34C-96C5A81A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3621B-AC01-401F-9A15-67835BF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5F905-E106-4B4C-A4D5-D709A2E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AB29-2F1C-4E4A-9062-BDF86150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DCF38-59C5-4461-8122-D7A25384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95A59-FAA5-4903-B180-B5063549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35A0-A12F-4EEC-A8D0-327B9ADE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D3631-B64C-42CF-9288-9EB28E18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423CA-B999-4D1E-A12A-E781F24E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F0822-06D4-4C83-8C9D-7EC4CDB0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CAAF3-D861-43EE-B4D7-470DF95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30E67-CB4A-4DE4-9F1F-FA4C8EA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25427-EB3B-4C95-BC9B-4BB23179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33482-442E-46FD-ACAF-275E7C47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29F0-6942-4F58-83C4-070AA8BF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82289-9DE4-45D5-B99D-DDA81548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8E6BC-129F-4DBE-AD9E-AAEADA46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71620-F74E-43C7-973A-AC51C04C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084E4-385B-48DB-94C0-CF0FF907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0F1E4-A601-4C63-98E9-8CB4EA82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16CD7-2AD9-4EE8-A070-B005D3BE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B1116-7FC6-4778-B374-F94D0E6A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D1AFC-73BC-42EE-BCD8-C35CF2A6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356A4-2A3B-4A50-B804-11A958B4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40B49-972A-4A0D-88E3-4FD19619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858B-DA4F-44B0-9B65-FD02C1A9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AC5AE-49A8-45FE-82FF-18C64FC4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7C0D2-61B2-4C03-9E49-5CFEEC1F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C84EE-5671-4FBF-A026-3F2B04D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E646B-6D86-41D9-8A12-63CB87E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AD183-A9DC-407F-99A8-FB186614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BE53B0-09DB-4995-B361-4EF4A7DC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C6840-7299-4E53-AC17-6DD4FD20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9C6E-DCC8-4460-A9C2-870CE093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1A4F-A878-4365-8A8E-40CD9611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AECB-1DBE-4FD5-B96E-4259A7E6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C68E-01FC-4771-9CEA-1C68C7F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1B1-1B59-4F24-B336-149F54D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E775-FD62-451F-BC74-A96A4902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C783-4A5B-464D-954D-012132F3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F100-01A5-430C-AC1D-A9E409A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3C75-62CE-4025-97BC-FB61C3A4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67E1-BE7B-406C-8EE4-902098E6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8918-CB75-4F09-B43F-2FCE0581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E73A-0F75-49FC-B53C-07FF3FAD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E572A-6FAD-40B4-A6AB-B77ACB10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7BE1-9AB0-46D5-A9DA-310D22B2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7FE7-48C4-413C-A530-7DF9DBF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799D-C058-4CCE-9422-5E135373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40D7-3DBC-4F10-8E71-F8A21E1C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7421-711F-42D1-83D7-8CE74065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B304-0C2A-4768-B868-6EFC008D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D09D-7DBA-489F-8BAE-D4F9E2F3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4957D-A897-4B34-81CD-E4902848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56C4-1E77-428A-AA86-3FED1740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FAD9-5276-4AF8-91D2-8B524C00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5D83-1217-4C73-AF88-53FA50E4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3F46-ED17-40E8-ADBD-49362C1B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7B3A-A195-46AD-8747-6410B452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80E-BBF1-4085-9CA1-EA93934D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9BF0C-2EB6-413D-B679-2F09CCB5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59A6-EFE3-4381-8CFD-7818F662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D11B3-33AF-44DB-B310-52EC0541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EB7C-4B72-463A-912A-063A6C7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6D71-7900-44D4-8B65-B6FEBE1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4A75-7266-4C62-8E2B-7005592D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418E0-FEB7-40A3-9A4A-C105E0FB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C56E-AE76-41A1-88C7-1FB588CD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0223-31A2-447A-A929-566F94A9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8409-6CF7-4280-BD8D-9C50BAE9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C57-D2ED-4B0E-8C47-C0B4B301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9F76-4035-472B-9C13-6C4BD770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F998F-2727-4CE3-BF40-BEC955D2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2812C-0AA2-4DC9-8759-E0569F5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8760D-402E-4DFA-BED8-8F02AAC1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4958-93C5-4009-BF9B-C9BEE667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C4D6-3EBE-4CF8-864A-7B0A3113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3C098-AE9D-4989-A46B-4D81A5A7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99CDA-DD94-42C8-9B6C-5D4E472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2BFD9-375E-4DB9-96B6-CD25DE94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F9DAC-C25E-483E-BF98-192414C5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A14-3057-48BF-92FD-CC949357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1AC5-47E8-4C2F-98AB-871D350C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84789-1B90-41C0-BFCF-DFE53083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DEF6B-705B-4848-AF01-34F7204C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34A76-1385-4016-AA4A-1AC5A495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B7AF-049E-4ED8-B02D-0DEC19F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ACAC-2031-4681-A35C-66CAD579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575B-3F3F-4B51-8762-5BB71417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4BCD3-E56E-47FB-9E9B-C37F5DE8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6A572-04BE-4808-96ED-2D801C4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B26E-036E-40B9-9EBD-663EAA4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A26-2CF5-41F0-8836-4EF075A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FD3B-20CF-4242-917C-5DC95D33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10DA6-2737-45BE-999C-A773DF94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949E9-42B3-46B2-BB58-47656A6F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1A170-0F25-4823-85EE-19168FD6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45205-85AC-42E1-A8B4-EB67CE5B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8EDB9-A7A9-48C6-81B6-3507B76C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42F80-F6D7-4FB3-9B98-B4054815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02A7E-E40B-42DD-8287-CAB3E204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521F-A6C2-4CAC-AE07-69C9A118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4BDA2-26E9-4449-94D8-90F12A2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C61A-AECC-4E5A-85C0-175DFE5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03EF-523E-466E-9FED-8F6D11C6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2192E-B9E2-4400-8667-883B31EA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BE2B-7813-4D65-8335-C74A7DC9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E8BF0-7E6A-450C-BDCC-E7AC84E3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7C09-F9CC-43AA-BA68-5B82432B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6F87A-6DBB-4AD4-9DAF-9F75FD84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850AB-3EDD-4FDD-B99F-5F740BDF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45363-10C6-4CC6-B60C-679E9554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917CB-5ADF-4135-9EBD-6A565037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3C872-29CB-4D51-BE19-2BE48E1B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167-9C30-480A-8D0C-A959EF17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DAFE4-E532-462A-B1DC-A4C839A0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61C92-91C9-41EB-8D0C-8FFD8FB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21CB8-9DE1-4AC6-A3AE-361B7B9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5056E-0205-432B-88EC-610E3E11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3F2B-6A46-414C-8312-7AC7A52C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DA892-6564-468C-8702-3E22AF18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0E1F-A1D0-49B9-AF65-F42055A2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C68CF-9BC9-49B6-B3CF-2BFADB07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9A398-CA3C-4CE5-8837-64F7DC12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06A91-14B0-4744-830E-D072D144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5D0B-BB5A-4A1B-B2EB-CA3F574FF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7772400" y="5410080"/>
            <a:ext cx="1371600" cy="1447920"/>
          </a:xfrm>
          <a:custGeom>
            <a:avLst/>
            <a:gdLst>
              <a:gd name="textAreaLeft" fmla="*/ 88560 w 1371600"/>
              <a:gd name="textAreaRight" fmla="*/ 1283040 w 1371600"/>
              <a:gd name="textAreaTop" fmla="*/ 88560 h 1447920"/>
              <a:gd name="textAreaBottom" fmla="*/ 1359360 h 1447920"/>
            </a:gdLst>
            <a:ahLst/>
            <a:rect l="textAreaLeft" t="textAreaTop" r="textAreaRight" b="textAreaBottom"/>
            <a:pathLst>
              <a:path w="21600" h="22802">
                <a:moveTo>
                  <a:pt x="0" y="0"/>
                </a:moveTo>
                <a:lnTo>
                  <a:pt x="21600" y="0"/>
                </a:lnTo>
                <a:lnTo>
                  <a:pt x="21600" y="22802"/>
                </a:lnTo>
                <a:lnTo>
                  <a:pt x="0" y="22802"/>
                </a:lnTo>
                <a:close/>
              </a:path>
              <a:path fill="lightenLess" w="21600" h="228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02">
                <a:moveTo>
                  <a:pt x="21600" y="0"/>
                </a:moveTo>
                <a:lnTo>
                  <a:pt x="21600" y="22802"/>
                </a:lnTo>
                <a:lnTo>
                  <a:pt x="20200" y="21402"/>
                </a:lnTo>
                <a:lnTo>
                  <a:pt x="20200" y="1400"/>
                </a:lnTo>
                <a:close/>
              </a:path>
              <a:path fill="darkenLess" w="21600" h="22802">
                <a:moveTo>
                  <a:pt x="21600" y="22802"/>
                </a:moveTo>
                <a:lnTo>
                  <a:pt x="0" y="22802"/>
                </a:lnTo>
                <a:lnTo>
                  <a:pt x="1400" y="21402"/>
                </a:lnTo>
                <a:lnTo>
                  <a:pt x="20200" y="21402"/>
                </a:lnTo>
                <a:close/>
              </a:path>
              <a:path fill="lighten" w="21600" h="22802">
                <a:moveTo>
                  <a:pt x="0" y="228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0" y="57150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4514" y="10800"/>
                </a:moveTo>
                <a:lnTo>
                  <a:pt x="18527" y="3794"/>
                </a:lnTo>
                <a:lnTo>
                  <a:pt x="185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1FA9-3B64-4208-9654-E9FC2B21B7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E748-4D7B-447F-8474-6E205997AC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715-06A6-4C39-ACBF-DD3272122A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003-63D3-4CA0-A969-6994F44F41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468-DC9D-4978-A1DA-6BE5E6D8D1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673-14A9-49FB-8E6A-93EBE26A75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E358-3EB8-4994-A9B7-995C4A88ED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7B6C-7B7E-4DD4-B98F-35EA3D060A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7D91-5ED7-4373-AE2B-DC80B4E16F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DB1-2A35-444C-9263-01DD6BD97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A15-8C3A-4341-8EDF-749A9A6799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0794-993A-4669-938E-B23F6C6CE3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9FA6-F343-4B5F-8955-BFDA366D0C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EFD1-8D80-4DB1-915E-DB8BB9F38F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BA4-65E4-4E82-A10C-346BA8BED21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B4E3-CB2C-473A-A5D4-2D80D1AF02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A6A1-0463-4F73-84D8-99C2B5C380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E31A-014A-47CE-8E65-251DFFFD6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0CC4-D0BD-4784-86C4-D4FDB25C0B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3AD4-88F1-4681-9D6E-C72BC0B3B0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E13F-ED54-43A2-B830-3ED779BFA6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9E09-14B7-45BA-A5D0-1EB110BFA3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E89D-C138-4CF5-8A66-AA3CE6C5F7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0C9B-1E78-4BAB-ADC0-AF4569940A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7" descr="阿房宫白描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543" name="WordArt 5"/>
          <p:cNvSpPr txBox="1"/>
          <p:nvPr/>
        </p:nvSpPr>
        <p:spPr>
          <a:xfrm>
            <a:off x="1332000" y="1557360"/>
            <a:ext cx="633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阿房宫赋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5685480" y="5300640"/>
            <a:ext cx="26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设计人：李静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工作单位：枣庄八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第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节重点从珍宝之多，突出其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纷奢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；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纷奢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到极点的后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自取灭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144792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翻译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燕赵之收藏，韩魏之经营，齐楚之精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注意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活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④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戍卒叫，函谷举，楚人一炬，可怜焦土！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注意</a:t>
            </a:r>
            <a:r>
              <a:rPr b="0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句式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2971800"/>
            <a:ext cx="914400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燕、赵、韩、魏、齐、楚等国收藏、聚敛的金玉珠宝等财物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6"/>
          <p:cNvSpPr/>
          <p:nvPr/>
        </p:nvSpPr>
        <p:spPr>
          <a:xfrm>
            <a:off x="1981080" y="236232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7"/>
          <p:cNvSpPr/>
          <p:nvPr/>
        </p:nvSpPr>
        <p:spPr>
          <a:xfrm>
            <a:off x="4724280" y="236232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8"/>
          <p:cNvSpPr/>
          <p:nvPr/>
        </p:nvSpPr>
        <p:spPr>
          <a:xfrm>
            <a:off x="7391520" y="236232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3200400" y="3505320"/>
            <a:ext cx="59436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动词、形容词用如名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0" y="533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陈胜吴广振臂一呼（发动起义），函谷关被攻破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3124080" y="4038480"/>
            <a:ext cx="91440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熟读第四段，背诵相关语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762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呜呼！灭六国者，六国也，非秦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0" y="2514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使秦复爱六国之人，则递三世可至万世而为君，谁得而族灭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5"/>
          <p:cNvSpPr/>
          <p:nvPr/>
        </p:nvSpPr>
        <p:spPr>
          <a:xfrm>
            <a:off x="609480" y="220968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6"/>
          <p:cNvSpPr/>
          <p:nvPr/>
        </p:nvSpPr>
        <p:spPr>
          <a:xfrm>
            <a:off x="0" y="6019920"/>
            <a:ext cx="883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>
            <a:off x="762120" y="2971800"/>
            <a:ext cx="594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2"/>
          <p:cNvSpPr/>
          <p:nvPr/>
        </p:nvSpPr>
        <p:spPr>
          <a:xfrm>
            <a:off x="0" y="3809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秦人不暇自哀，而后人哀之；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3"/>
          <p:cNvSpPr/>
          <p:nvPr/>
        </p:nvSpPr>
        <p:spPr>
          <a:xfrm>
            <a:off x="533520" y="1447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族秦者，秦也，非天下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4"/>
          <p:cNvSpPr/>
          <p:nvPr/>
        </p:nvSpPr>
        <p:spPr>
          <a:xfrm>
            <a:off x="60948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使六国各爱其人，则足以拒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后人哀之而不鉴之，亦使后人而复哀后人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章末句有四处“后人”，所指分别是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秦人不暇自哀，而后人哀之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人哀之而不鉴之，亦使后人而复哀后人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4724280" y="53352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0" y="114300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81480" y="121932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7391520" y="1219320"/>
            <a:ext cx="914400" cy="6094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0" y="2057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①②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秦以后的人，本文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宋人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指宋以后的人；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0" y="4572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杜牧自己在《上知己文章启》中所说的“宝历（唐敬宗的年号）大起宫室，广声色，故作《阿房宫赋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可以看出这“后人”指的应是当时最高统治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3733920" y="1447920"/>
            <a:ext cx="1143000" cy="28371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0" descr="秦始皇"/>
          <p:cNvPicPr/>
          <p:nvPr/>
        </p:nvPicPr>
        <p:blipFill>
          <a:blip r:embed="rId1"/>
          <a:stretch/>
        </p:blipFill>
        <p:spPr>
          <a:xfrm>
            <a:off x="7188120" y="0"/>
            <a:ext cx="1955880" cy="2819520"/>
          </a:xfrm>
          <a:prstGeom prst="rect">
            <a:avLst/>
          </a:prstGeom>
          <a:ln w="0">
            <a:noFill/>
          </a:ln>
        </p:spPr>
      </p:pic>
      <p:sp>
        <p:nvSpPr>
          <p:cNvPr id="616" name="Oval 21"/>
          <p:cNvSpPr/>
          <p:nvPr/>
        </p:nvSpPr>
        <p:spPr>
          <a:xfrm>
            <a:off x="5791320" y="1981080"/>
            <a:ext cx="914400" cy="7621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5867280" y="1981080"/>
            <a:ext cx="762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4800600" y="281952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史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秦始皇本纪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建筑阿房宫，秦发“隐宫徒刑者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七十余万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，工程浩大，耗费民力财力极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5257800" y="2971800"/>
            <a:ext cx="3581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人之爱，建立在万万人的痛苦之上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25"/>
          <p:cNvSpPr/>
          <p:nvPr/>
        </p:nvSpPr>
        <p:spPr>
          <a:xfrm>
            <a:off x="3352680" y="4419720"/>
            <a:ext cx="1447920" cy="83808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26"/>
          <p:cNvSpPr/>
          <p:nvPr/>
        </p:nvSpPr>
        <p:spPr>
          <a:xfrm>
            <a:off x="3657600" y="4495680"/>
            <a:ext cx="914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3352680" y="5562720"/>
            <a:ext cx="2667240" cy="1008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天下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29" descr=""/>
          <p:cNvPicPr/>
          <p:nvPr/>
        </p:nvPicPr>
        <p:blipFill>
          <a:blip r:embed="rId2"/>
          <a:stretch/>
        </p:blipFill>
        <p:spPr>
          <a:xfrm>
            <a:off x="0" y="0"/>
            <a:ext cx="2239920" cy="3048120"/>
          </a:xfrm>
          <a:prstGeom prst="rect">
            <a:avLst/>
          </a:prstGeom>
          <a:ln w="0">
            <a:noFill/>
          </a:ln>
        </p:spPr>
      </p:pic>
      <p:sp>
        <p:nvSpPr>
          <p:cNvPr id="624" name="Oval 30"/>
          <p:cNvSpPr/>
          <p:nvPr/>
        </p:nvSpPr>
        <p:spPr>
          <a:xfrm>
            <a:off x="2209680" y="1600200"/>
            <a:ext cx="1371600" cy="106668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31"/>
          <p:cNvSpPr/>
          <p:nvPr/>
        </p:nvSpPr>
        <p:spPr>
          <a:xfrm>
            <a:off x="2438280" y="1752480"/>
            <a:ext cx="914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哀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2"/>
          <p:cNvSpPr/>
          <p:nvPr/>
        </p:nvSpPr>
        <p:spPr>
          <a:xfrm>
            <a:off x="0" y="30481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3"/>
          <p:cNvSpPr/>
          <p:nvPr/>
        </p:nvSpPr>
        <p:spPr>
          <a:xfrm>
            <a:off x="0" y="3048120"/>
            <a:ext cx="2971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以史为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可以知兴衰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34"/>
          <p:cNvSpPr/>
          <p:nvPr/>
        </p:nvSpPr>
        <p:spPr>
          <a:xfrm flipH="1">
            <a:off x="5105160" y="2819520"/>
            <a:ext cx="1066680" cy="2666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警钟长鸣2"/>
          <p:cNvPicPr/>
          <p:nvPr/>
        </p:nvPicPr>
        <p:blipFill>
          <a:blip r:embed="rId1"/>
          <a:stretch/>
        </p:blipFill>
        <p:spPr>
          <a:xfrm>
            <a:off x="1905120" y="30492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304920" y="5410080"/>
            <a:ext cx="8381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以史为鉴！             警钟长鸣！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2"/>
          <p:cNvSpPr/>
          <p:nvPr/>
        </p:nvSpPr>
        <p:spPr>
          <a:xfrm>
            <a:off x="0" y="457200"/>
            <a:ext cx="94489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80"/>
                </a:solidFill>
                <a:latin typeface="宋体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80"/>
                </a:solidFill>
                <a:latin typeface="宋体"/>
                <a:ea typeface="华文新魏"/>
              </a:rPr>
              <a:t>过华清宫绝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长安回望绣成堆，山顶千门次第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骑红尘妃子笑，无人知是荔枝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解题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--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赋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赋是由《诗经》《楚辞》发展而来，大体上经历了骚赋、汉赋、骈赋、律赋、文赋等几个发展阶段。杜牧的《阿房宫赋》就是一篇文赋。文赋句式参差，押韵比较随便，重视清新流畅，借景抒情，铺叙风物，极尽铺陈夸张之能事，托物言志，卒章显志，以寄讽喻之意是它的写作特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Y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3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28600" y="685800"/>
            <a:ext cx="4343400" cy="362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黑体"/>
                <a:ea typeface="黑体"/>
              </a:rPr>
              <a:t>杜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晚唐时期的杰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诗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也是那个时期著名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“文赋”和古文大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诗歌方面，人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“小杜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与李商隐并称为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“小李杜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古文方面，多为针砭时事的作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26" descr="阿房宫白描1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1030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、观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阿房宫复原效果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 ，用简短的语言概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己对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阿房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印象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阿房宫白描1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4"/>
          <p:cNvSpPr/>
          <p:nvPr/>
        </p:nvSpPr>
        <p:spPr>
          <a:xfrm>
            <a:off x="0" y="0"/>
            <a:ext cx="9144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、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2" action="ppaction://hlinksldjump"/>
              </a:rPr>
              <a:t>听录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注意字音并思考以下问题，分别用文中一句话来概括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1143000"/>
            <a:ext cx="91440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秦始皇修建阿房宫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阿房宫被烧毁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作者写《阿房宫赋》的原因</a:t>
            </a:r>
            <a:r>
              <a:rPr b="1" lang="en-US" sz="36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Oval 7"/>
          <p:cNvSpPr/>
          <p:nvPr/>
        </p:nvSpPr>
        <p:spPr>
          <a:xfrm>
            <a:off x="6172200" y="762120"/>
            <a:ext cx="91440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2" descr="秦阿房宫"/>
          <p:cNvPicPr/>
          <p:nvPr/>
        </p:nvPicPr>
        <p:blipFill>
          <a:blip r:embed="rId1"/>
          <a:stretch/>
        </p:blipFill>
        <p:spPr>
          <a:xfrm>
            <a:off x="0" y="3552840"/>
            <a:ext cx="9144000" cy="330516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0" y="0"/>
            <a:ext cx="9144000" cy="360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作者认为始皇修建阿房宫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阿房宫被烧毁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作者写《阿房宫赋》的原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1714680">
              <a:lnSpc>
                <a:spcPct val="100000"/>
              </a:lnSpc>
              <a:buClr>
                <a:srgbClr val="3333cc"/>
              </a:buClr>
              <a:buFont typeface="宋体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066680" y="1676520"/>
            <a:ext cx="8077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使 天 下 之 人，不 敢 言 而 敢 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5638680" y="6094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秦 爱 纷 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1763640" y="2819520"/>
            <a:ext cx="6999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后 人 哀 之 而 不 鉴 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8050320" y="1752480"/>
            <a:ext cx="91440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4191120" y="2895480"/>
            <a:ext cx="914400" cy="4572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秦始皇"/>
          <p:cNvPicPr/>
          <p:nvPr/>
        </p:nvPicPr>
        <p:blipFill>
          <a:blip r:embed="rId1"/>
          <a:stretch/>
        </p:blipFill>
        <p:spPr>
          <a:xfrm>
            <a:off x="54864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4"/>
          <p:cNvSpPr/>
          <p:nvPr/>
        </p:nvSpPr>
        <p:spPr>
          <a:xfrm>
            <a:off x="5486400" y="3049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0" y="198108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1 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阿房宫之雄伟壮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9"/>
          <p:cNvSpPr/>
          <p:nvPr/>
        </p:nvSpPr>
        <p:spPr>
          <a:xfrm flipH="1" flipV="1">
            <a:off x="685800" y="609120"/>
            <a:ext cx="449568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0" y="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现表体具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奢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写详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3"/>
          <p:cNvSpPr/>
          <p:nvPr/>
        </p:nvSpPr>
        <p:spPr>
          <a:xfrm>
            <a:off x="0" y="2895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ahoma"/>
              </a:rPr>
              <a:t>2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宫内美女之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4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5"/>
          <p:cNvSpPr/>
          <p:nvPr/>
        </p:nvSpPr>
        <p:spPr>
          <a:xfrm>
            <a:off x="0" y="411480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ff"/>
                </a:solidFill>
                <a:uFillTx/>
                <a:latin typeface="Tahoma"/>
              </a:rPr>
              <a:t>3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3324fa"/>
                </a:solidFill>
                <a:latin typeface="Tahoma"/>
              </a:rPr>
              <a:t>宫内珍宝之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6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齐读第一段，注意以下语句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开篇两句偶句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3" descr="阿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4"/>
          <p:cNvSpPr/>
          <p:nvPr/>
        </p:nvSpPr>
        <p:spPr>
          <a:xfrm>
            <a:off x="0" y="990720"/>
            <a:ext cx="91440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骊山北构而西折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钩心斗角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在文中的含义：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0" y="3200400"/>
            <a:ext cx="9144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④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……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而气候不齐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气候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古今异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3352680" y="457200"/>
            <a:ext cx="55627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实际上交待建宫背后的巨大耗资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919440" y="1066680"/>
            <a:ext cx="3297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骊山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 【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北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构而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【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西</a:t>
            </a:r>
            <a:r>
              <a:rPr b="1" lang="zh-CN" sz="3000" spc="-1" strike="noStrike">
                <a:solidFill>
                  <a:srgbClr val="ff3300"/>
                </a:solidFill>
                <a:latin typeface="宋体"/>
              </a:rPr>
              <a:t>】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折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4"/>
          <p:cNvSpPr/>
          <p:nvPr/>
        </p:nvSpPr>
        <p:spPr>
          <a:xfrm>
            <a:off x="0" y="22096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现在多用来比喻各用心机，互相排挤（含贬义） “钩”也作“勾”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5"/>
          <p:cNvSpPr/>
          <p:nvPr/>
        </p:nvSpPr>
        <p:spPr>
          <a:xfrm>
            <a:off x="228600" y="50292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１段：由楼阁建筑到人物活动，铺叙阿房宫建筑宏伟、豪华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1712520" y="3886200"/>
            <a:ext cx="410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天气 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|</a:t>
            </a: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（某地区较稳定的）气象情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房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0" y="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第２段侧重描写宫内的美女之众，宫人的悲惨命运，铺叙统治者生活的荒淫奢靡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24fa"/>
                </a:solidFill>
                <a:latin typeface="Tahoma"/>
              </a:rPr>
              <a:t>参照课下注释，翻译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0" y="1066680"/>
            <a:ext cx="9144000" cy="28371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朝歌夜弦，为秦宫人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注意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朝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夜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的合译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为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的意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绿云扰扰，梳晓鬟也 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（注意句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0" y="1676520"/>
            <a:ext cx="914400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宋体"/>
              </a:rPr>
              <a:t>（她们）从早到晚唱歌、弹琴，成为秦皇的宫人。</a:t>
            </a:r>
            <a:r>
              <a:rPr b="1" lang="zh-CN" sz="3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0" y="33526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又见）乌云纷纷扰扰，（原来是她们）一早在梳理发鬓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9"/>
          <p:cNvSpPr/>
          <p:nvPr/>
        </p:nvSpPr>
        <p:spPr>
          <a:xfrm>
            <a:off x="0" y="4419720"/>
            <a:ext cx="9144000" cy="642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“…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缦立远视，而望幸焉。有不见者，三十六年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0" y="5562720"/>
            <a:ext cx="914400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3324fa"/>
                </a:solidFill>
                <a:latin typeface="Tahoma"/>
              </a:rPr>
              <a:t>          </a:t>
            </a:r>
            <a:r>
              <a:rPr b="1" lang="zh-CN" sz="5000" spc="-1" strike="noStrike">
                <a:solidFill>
                  <a:srgbClr val="3324fa"/>
                </a:solidFill>
                <a:latin typeface="Tahoma"/>
              </a:rPr>
              <a:t>宫女的悲惨命运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09T03:12:14Z</dcterms:modified>
  <cp:revision>147</cp:revision>
  <dc:subject/>
  <dc:title>PowerPoint Presentation</dc:title>
</cp:coreProperties>
</file>