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8.jpeg" ContentType="image/jpeg"/>
  <Override PartName="/ppt/media/drumroll.wav" ContentType="audio/x-wav"/>
  <Override PartName="/ppt/media/image3.jpeg" ContentType="image/jpeg"/>
  <Override PartName="/ppt/media/image14.jpeg" ContentType="image/jpeg"/>
  <Override PartName="/ppt/media/image12.jpeg" ContentType="image/jpeg"/>
  <Override PartName="/ppt/media/image7.jpeg" ContentType="image/jpeg"/>
  <Override PartName="/ppt/media/image13.jpeg" ContentType="image/jpeg"/>
  <Override PartName="/ppt/media/ENTER2.WAV" ContentType="audio/x-wav"/>
  <Override PartName="/ppt/media/click.wav" ContentType="audio/x-wav"/>
  <Override PartName="/ppt/media/image1.jpeg" ContentType="image/jpeg"/>
  <Override PartName="/ppt/media/image2.jpeg" ContentType="image/jpeg"/>
  <Override PartName="/ppt/media/image5.jpeg" ContentType="image/jpeg"/>
  <Override PartName="/ppt/media/image6.jpeg" ContentType="image/jpeg"/>
  <Override PartName="/ppt/media/chimes.wav" ContentType="audio/x-wav"/>
  <Override PartName="/ppt/media/image10.wmf" ContentType="image/x-wmf"/>
  <Override PartName="/ppt/media/image4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FFDB-D991-4F81-9932-86E0C8681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3EB1-4809-4E26-8A24-7F0DFACEF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2D0413-86CD-4829-BE16-A073BDF46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185F03-0396-4F00-B63B-D0AC2E90B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45786F-479F-48FD-80F4-8734B2F64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AF34F3-2E4C-4BD6-A358-7B35CBDCF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2F16AE-1CCC-4218-A882-60DB210B8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350BB4-2DA2-41D8-8B05-C8D2A0B3B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3CA9F4-D939-4375-B34F-5A523BDEA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99084D-D5B3-4F5B-A0A3-83522F68E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2DF859-FB68-49C7-9116-E1FF01846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7CA5C6-FA99-4E8E-87D0-AA1A81D28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B2DA-F59D-4699-BBDB-54F9FC085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83BA78-B2B2-47C0-AEFF-0774419E0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A10675-22A4-4F08-BF71-7C46C3EEF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C41AC2-62DC-4AC8-BBF5-658D1330B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37F5FF-C86D-4EA2-81D3-C92A34A4A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EDE30C-595E-409B-9F8C-0A923E46F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ABB3C4-B7B6-42EE-8550-2BD8E1A6F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6E5136-8F66-4928-8219-14BA643B9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BAFC9A-5375-4E58-A8FB-D01E6EA5B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8A1738-0CBC-4516-9B8F-36D97C8FD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D541B8-767D-4548-9B40-30CD6CCC3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8491-440C-44A6-88F3-6F7B3943F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79BF79-6255-4785-BDF5-54CCBE3F1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E305F8-5D2A-4E5C-AF34-6EA624F5B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319BF3-E13A-44C3-92F4-9505C6545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9C113E-DE1C-4ADA-A083-8FBAB0A87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8EE9C6-8C72-4736-A4A0-A3036A634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53180B-7FFF-464C-9EDE-CA9B1A780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67A12F-0C3F-487A-A8B0-23EFA9283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1B8EF5-4141-405F-AB97-CCA8A9D3A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1B7AAA-551F-4542-8ED5-2F057EB1B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A1A963-C6E2-4566-B325-ABE883CDB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DD63C-3C9E-4864-B01E-3D5D186D2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A3F400-1077-481C-86C2-5D808B986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B46FD6-6AC7-4947-B0D8-E492AD578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6D04A8-A8B9-46B8-A190-BE99F9BD0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15CB90-02A8-4190-8727-494AD11D2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0D0425-7FEB-4E01-9874-FAB882474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4D1906-456D-4C77-A61A-02A823C7B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6AC245-CE11-4902-BFAC-A57BB67DD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A4DA83-7195-4F38-9B6D-9A74EC93E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E20654-1AC0-48E0-AA1F-D88B0190D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99CAB4-D2E3-4450-80BD-0F3DF70C1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F3F0A-DBC8-4688-AABA-667BFF949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E107D7-8B86-467A-8AC9-AC864CF2A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471634-0B52-433A-B6B2-C36EFD7AA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B71CED-B32A-4C5C-9316-236FDA501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6A07E3-AB1E-43E4-8EBF-AD5DE2AB9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A69B18-5EFF-425A-9895-8FC9C161B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8FFB4F-73E2-4264-BD8E-F8D376F6B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7ACBEF-BC27-4C06-8797-B42AF20F4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C0616A-F446-450D-A2CA-AF1186DE0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BF7709-AB4C-4750-B6BD-0C30928AD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DB6E3F-2925-44DC-B55E-549222C7C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5AD88-0C21-4169-837F-851865C0D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E8267F-A78D-4C46-9EEB-0DEDC1CD5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B24D25-AA28-48EF-AD1B-74B433733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5D18A0-AB57-4B1A-B74C-008F1192F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B4A20D-3CE3-4A12-A931-7A0F87C57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E1607C-C920-4C7E-8EEF-658C5D1AF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585A64-350F-49F0-B3E9-78C046D58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DC8AB8-2E0F-421A-95D4-80969C519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C176F-AACE-4853-8538-C3E580847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23C05-388E-4213-9618-DA4E30106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0E95B-C086-4FF0-AF18-837E067CA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796FC-268F-48E2-BC35-D8A518592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256D-0282-4863-943D-DF038AB54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F6C9B-F8B5-4914-95A8-6497E4947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B854A-EF61-4965-8867-D06569592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032C9-A449-4EBB-A3E4-67587E0A4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0C2A0-E3F2-4CA7-846A-5976B41E1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88217-3D41-415A-899F-2A087A72B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3B5ED0-2CC6-4EB7-BE73-A9906C55A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9D700A-A61A-4AD2-AEDC-75B1EA9C9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8BDAA0-7AFC-454C-8794-3DED8E5D3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7D7AE7-4916-45B6-84E0-3F5ECD40B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CF86E3-1132-4B6E-B059-16CB70915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9216-62AA-4110-A614-8A561BA6C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872138-FB5B-4BE1-86EB-39F5E7678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68B296-580C-4810-9561-6B5532C99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077417-001D-4C13-A1A8-A7F2FC5A3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BE7BCB-744B-4BD3-9062-C72485743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40EB70-3B78-4499-93E7-8CD112396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74C2A7-A08E-44D9-B104-578C54492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1C3FE8-B6D9-4B33-A50D-901D2A00F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EEDF36-748E-4807-807E-4C774627E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51FED5-7EC1-457E-A29B-BB55F12D1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DD60DD-CDA2-4059-84BF-414B584A6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B05D-5909-40DB-9B53-3E0F69850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620A6A-0A38-4896-8F45-0DC20B6F5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23D9B9-0E10-47D4-A5E1-F9B922ED1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98785C-7C5A-4AF0-82D9-0FB523096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9AB384-39CE-483E-8551-88386CBC7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3CA5FE-4D4A-4E02-B881-C3E799FAC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CBA494-7FE3-4D17-90B1-F7A1018C7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F268E6-B963-4A83-8C8A-03B000BFF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3856F6-0E93-4F6E-A9B7-5087544ED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001408-7F12-4E0C-A8BF-35CEA7DCA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CC5BAD-C58A-4753-9F47-13CD86A1A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407B-DE78-4B09-8346-1BCED03D3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6292E1-7F7F-4619-9304-9872AD1DE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391672-C066-4185-B0BD-ECAA9AF96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4B4949-7E28-46EA-A898-29A9BB343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53ECDE-8060-4831-BD23-60A3C13D6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121D3F-DE0B-429F-B608-4C7AFD21F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F2AC61-F3A9-4B5B-9601-FB17E5B4F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8FB08B-BAD0-428F-828D-19A198948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21CA98-C444-4C8C-A3EB-6946AA60E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FFE90B-125E-4D18-9E1B-FFB47AC0E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57E4DE-89D5-4359-9CA7-A8D07A928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C885-6159-4C31-8A26-3662F6A9A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808B48-122F-4AAE-A7FB-0E4190619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F9B894-D65E-4141-A954-322FAF2AE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8C754C-9DB2-4898-8703-DD9A54600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787D84-830B-4D98-BF93-5A1A1D1B6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879219-54A3-4988-8C88-A3B501698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332FFD-7D38-4512-A276-5FE44EAF5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027D96-6D85-423D-AFED-CCC50BDE9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AE25F6-B363-4EEE-BC38-9CDDE7F68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9B9DCF-4445-4BB2-ABF9-D034A19DC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C05EC9-6107-47CD-BD40-251306DDC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4C00-C026-4AD9-BD67-84306D785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F71C6A-EAE7-467A-957F-00143B857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98F944-A872-4C03-A03F-28DF3084D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59E8B5-56C6-4DFF-85EE-2AD358897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407ACD-DE8E-4D51-A5A8-60F4EBE1B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87AD05-060D-4F12-8C65-0F5AF8397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9A139D-21DF-4A9B-950B-8F806ACEF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05E4F3-25F1-4342-9C61-1930CBF0E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A0391B-3221-4FBB-8F96-D75413C8F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60917A-7EF6-4219-B35E-6BF198EFA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1A9CD8-6F75-4006-87B9-9842686DF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0216-5844-432A-98EE-9A170CDD6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B479F3-FC38-4176-9DFC-C16BF50AB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3BCF42-61A6-4692-8D3F-963094728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BF987B-E9A3-40D5-AA83-9B260D813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F08367-98F7-4AE2-BE9A-25C4DF275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C3736D-CAFB-464C-B8CB-463F39645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D6917C-3296-434E-838C-3BDFBC2A1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86880F-C102-42A1-8F5C-24ED941C0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81657A-EDD1-47D3-8E99-0DA487EEE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423565-D3F1-4AC3-822C-EA10DDE1E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CD7E18-FEAF-4E37-B1C8-F9DD3CBF1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7E47-0D57-4854-BDB8-6285E3D19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26F517-314B-4774-A514-EA4EECAF6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6E20DD-6678-4E49-918A-9A36FF837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C862D2-25C0-4020-B03B-500C7E113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4D8509-773B-43B5-B5E1-2F2E42AFB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2709B7-6908-41C2-8CC5-9D9DA3F16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31605C-758F-477E-8CBC-55A5BA2D6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169B19-2DD3-4E68-A29D-76A61D9E2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1BDAAB-860E-4248-A7BF-A11E260CD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6C56CA-BEB2-4E6C-8762-01825A917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6090F0-C4BE-4FBC-93D5-BDC8F6F67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95444-215A-4428-9B02-AF04179D6B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73E0F-54F9-40EF-A740-FFDEB809BEDE}" type="datetime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037E9-FC99-4AD8-99BA-EAC764257ACE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09A94-4A13-46B9-B65B-9AB76C96DDDF}" type="datetime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B659A-B733-4BF0-8EEA-2C5C3DC30B57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E4BD1-23DE-429C-A000-BF00A1187451}" type="datetime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F5F81-3467-4442-B8EF-DBC4AF650416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AC9CD-EB18-424A-B032-4B12A40297C6}" type="datetime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1CEEB-F488-44D8-B6B3-687C0074FAD6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F1C44-8663-4DDB-9686-5BF75AA28AC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ABEAB-ECB4-44B2-B58F-DA3E1BDDCDB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04B77-1780-4EF1-B226-9195EE38373B}" type="datetime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309B9-44B7-4904-A138-F3F13E9BF982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853FC-763E-4AA1-B825-F3D6F6702832}" type="datetime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8008F-928B-4E8B-A5F5-E2BB3D504A30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B69A2-7CBC-4F29-BBDC-6D07B0D32C9F}" type="datetime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79972-5A2B-409D-AB4E-1376EF6BFF73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440E9-B223-49DC-B149-87F0EDD73EF3}" type="datetime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AFE68-7DF8-4211-95B3-8EA608EF0B1A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E8235-9C73-4AA4-826E-8F2DE6460942}" type="datetime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22B8C-D364-4936-BB18-3D0BB80BF43E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6F6EE-C742-4F1D-B8E0-9E90FF20F393}" type="datetime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3C104-1841-4CCF-9557-99D92A276B30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791F5-99CD-4160-9654-E5CAA468365D}" type="datetime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CDA6F-12A2-414E-AE73-0DD700581020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14.xml"/><Relationship Id="rId3" Type="http://schemas.openxmlformats.org/officeDocument/2006/relationships/slide" Target="slide15.xml"/><Relationship Id="rId4" Type="http://schemas.openxmlformats.org/officeDocument/2006/relationships/slide" Target="slide16.xml"/><Relationship Id="rId5" Type="http://schemas.openxmlformats.org/officeDocument/2006/relationships/slide" Target="slide12.xml"/><Relationship Id="rId6" Type="http://schemas.openxmlformats.org/officeDocument/2006/relationships/audio" Target="../media/click.wav"/><Relationship Id="rId7" Type="http://schemas.openxmlformats.org/officeDocument/2006/relationships/audio" Target="../media/click.wav"/><Relationship Id="rId8" Type="http://schemas.openxmlformats.org/officeDocument/2006/relationships/audio" Target="../media/click.wav"/><Relationship Id="rId9" Type="http://schemas.openxmlformats.org/officeDocument/2006/relationships/audio" Target="../media/click.wav"/><Relationship Id="rId10" Type="http://schemas.openxmlformats.org/officeDocument/2006/relationships/audio" Target="../media/click.wav"/><Relationship Id="rId11" Type="http://schemas.openxmlformats.org/officeDocument/2006/relationships/audio" Target="../media/click.wav"/><Relationship Id="rId1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ENTER2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WordArt 2"/>
          <p:cNvSpPr txBox="1"/>
          <p:nvPr/>
        </p:nvSpPr>
        <p:spPr>
          <a:xfrm>
            <a:off x="1828800" y="0"/>
            <a:ext cx="541008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9111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隶书"/>
              </a:rPr>
              <a:t>安塞腰鼓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Text Box 2"/>
          <p:cNvSpPr/>
          <p:nvPr/>
        </p:nvSpPr>
        <p:spPr>
          <a:xfrm>
            <a:off x="685800" y="1066680"/>
            <a:ext cx="7696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感知课文内容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听录音朗读课文，用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安塞腰鼓，对安塞腰鼓进行评价，可填词、短语、句子（最好用文中内容）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533520" y="396252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Rectangle 4"/>
          <p:cNvSpPr/>
          <p:nvPr/>
        </p:nvSpPr>
        <p:spPr>
          <a:xfrm>
            <a:off x="533520" y="373392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独具魅力的安塞腰鼓 象掀起在黄土地上的狂飚，展示出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西北黄土高原农民朴素而豪放的性 格，张扬出独特的艺术个性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Picture 2" descr="安塞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52" name="Group 3"/>
          <p:cNvGrpSpPr/>
          <p:nvPr/>
        </p:nvGrpSpPr>
        <p:grpSpPr>
          <a:xfrm>
            <a:off x="684360" y="549360"/>
            <a:ext cx="3527280" cy="647640"/>
            <a:chOff x="684360" y="549360"/>
            <a:chExt cx="3527280" cy="647640"/>
          </a:xfrm>
        </p:grpSpPr>
        <p:sp>
          <p:nvSpPr>
            <p:cNvPr id="553" name="Rectangle 4"/>
            <p:cNvSpPr/>
            <p:nvPr/>
          </p:nvSpPr>
          <p:spPr>
            <a:xfrm>
              <a:off x="684360" y="549360"/>
              <a:ext cx="2879640" cy="64764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Text Box 5"/>
            <p:cNvSpPr/>
            <p:nvPr/>
          </p:nvSpPr>
          <p:spPr>
            <a:xfrm>
              <a:off x="900000" y="554400"/>
              <a:ext cx="3311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3300"/>
                  </a:solidFill>
                  <a:latin typeface="Arial"/>
                </a:rPr>
                <a:t>快 速 抢 答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5" name="Text Box 6"/>
          <p:cNvSpPr/>
          <p:nvPr/>
        </p:nvSpPr>
        <p:spPr>
          <a:xfrm>
            <a:off x="181080" y="1247760"/>
            <a:ext cx="9144000" cy="57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你能快速理清文章的结构吗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你认为文章的主题是什么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黄土高原人的性格是怎样的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安塞腰鼓的舞姿特点是什么？请用几个词语概括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那段用的反义词最多？找出来，并谈谈它们的作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用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Group 7"/>
          <p:cNvGrpSpPr/>
          <p:nvPr/>
        </p:nvGrpSpPr>
        <p:grpSpPr>
          <a:xfrm>
            <a:off x="7236000" y="1989000"/>
            <a:ext cx="1079280" cy="649440"/>
            <a:chOff x="7236000" y="1989000"/>
            <a:chExt cx="1079280" cy="649440"/>
          </a:xfrm>
        </p:grpSpPr>
        <p:sp>
          <p:nvSpPr>
            <p:cNvPr id="557" name="Rectangle 8"/>
            <p:cNvSpPr/>
            <p:nvPr/>
          </p:nvSpPr>
          <p:spPr>
            <a:xfrm>
              <a:off x="7236000" y="1989000"/>
              <a:ext cx="1079280" cy="649440"/>
            </a:xfrm>
            <a:prstGeom prst="rect">
              <a:avLst/>
            </a:prstGeom>
            <a:gradFill rotWithShape="0">
              <a:gsLst>
                <a:gs pos="0">
                  <a:srgbClr val="5e765e"/>
                </a:gs>
                <a:gs pos="100000">
                  <a:srgbClr val="ccff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Text Box 9"/>
            <p:cNvSpPr/>
            <p:nvPr/>
          </p:nvSpPr>
          <p:spPr>
            <a:xfrm>
              <a:off x="7236000" y="2060640"/>
              <a:ext cx="936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Arial"/>
                </a:rPr>
                <a:t>参考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9" name="Group 10"/>
          <p:cNvGrpSpPr/>
          <p:nvPr/>
        </p:nvGrpSpPr>
        <p:grpSpPr>
          <a:xfrm>
            <a:off x="7236000" y="2635200"/>
            <a:ext cx="1079280" cy="649440"/>
            <a:chOff x="7236000" y="2635200"/>
            <a:chExt cx="1079280" cy="649440"/>
          </a:xfrm>
        </p:grpSpPr>
        <p:sp>
          <p:nvSpPr>
            <p:cNvPr id="560" name="Rectangle 11"/>
            <p:cNvSpPr/>
            <p:nvPr/>
          </p:nvSpPr>
          <p:spPr>
            <a:xfrm>
              <a:off x="7236000" y="2635200"/>
              <a:ext cx="1079280" cy="649440"/>
            </a:xfrm>
            <a:prstGeom prst="rect">
              <a:avLst/>
            </a:prstGeom>
            <a:gradFill rotWithShape="0">
              <a:gsLst>
                <a:gs pos="0">
                  <a:srgbClr val="5e765e"/>
                </a:gs>
                <a:gs pos="100000">
                  <a:srgbClr val="ccff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Text Box 12"/>
            <p:cNvSpPr/>
            <p:nvPr/>
          </p:nvSpPr>
          <p:spPr>
            <a:xfrm>
              <a:off x="7236000" y="2650320"/>
              <a:ext cx="936360" cy="5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 u="sng">
                  <a:solidFill>
                    <a:srgbClr val="ccccff"/>
                  </a:solidFill>
                  <a:uFillTx/>
                  <a:latin typeface="Arial"/>
                  <a:hlinkClick r:id="rId2" action="ppaction://hlinksldjump"/>
                </a:rPr>
                <a:t>参考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2" name="Group 13"/>
          <p:cNvGrpSpPr/>
          <p:nvPr/>
        </p:nvGrpSpPr>
        <p:grpSpPr>
          <a:xfrm>
            <a:off x="7236000" y="3716280"/>
            <a:ext cx="1079280" cy="649440"/>
            <a:chOff x="7236000" y="3716280"/>
            <a:chExt cx="1079280" cy="649440"/>
          </a:xfrm>
        </p:grpSpPr>
        <p:sp>
          <p:nvSpPr>
            <p:cNvPr id="563" name="Rectangle 14"/>
            <p:cNvSpPr/>
            <p:nvPr/>
          </p:nvSpPr>
          <p:spPr>
            <a:xfrm>
              <a:off x="7236000" y="3716280"/>
              <a:ext cx="1079280" cy="649440"/>
            </a:xfrm>
            <a:prstGeom prst="rect">
              <a:avLst/>
            </a:prstGeom>
            <a:gradFill rotWithShape="0">
              <a:gsLst>
                <a:gs pos="0">
                  <a:srgbClr val="5e765e"/>
                </a:gs>
                <a:gs pos="100000">
                  <a:srgbClr val="ccff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Text Box 15"/>
            <p:cNvSpPr/>
            <p:nvPr/>
          </p:nvSpPr>
          <p:spPr>
            <a:xfrm>
              <a:off x="7236000" y="3731400"/>
              <a:ext cx="936360" cy="5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 u="sng">
                  <a:solidFill>
                    <a:srgbClr val="ccccff"/>
                  </a:solidFill>
                  <a:uFillTx/>
                  <a:latin typeface="Arial"/>
                  <a:hlinkClick r:id="rId3" action="ppaction://hlinksldjump"/>
                </a:rPr>
                <a:t>参考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5" name="Group 16"/>
          <p:cNvGrpSpPr/>
          <p:nvPr/>
        </p:nvGrpSpPr>
        <p:grpSpPr>
          <a:xfrm>
            <a:off x="7236000" y="4941720"/>
            <a:ext cx="1079280" cy="649440"/>
            <a:chOff x="7236000" y="4941720"/>
            <a:chExt cx="1079280" cy="649440"/>
          </a:xfrm>
        </p:grpSpPr>
        <p:sp>
          <p:nvSpPr>
            <p:cNvPr id="566" name="Rectangle 17"/>
            <p:cNvSpPr/>
            <p:nvPr/>
          </p:nvSpPr>
          <p:spPr>
            <a:xfrm>
              <a:off x="7236000" y="4941720"/>
              <a:ext cx="1079280" cy="649440"/>
            </a:xfrm>
            <a:prstGeom prst="rect">
              <a:avLst/>
            </a:prstGeom>
            <a:gradFill rotWithShape="0">
              <a:gsLst>
                <a:gs pos="0">
                  <a:srgbClr val="5e765e"/>
                </a:gs>
                <a:gs pos="100000">
                  <a:srgbClr val="ccff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Text Box 18"/>
            <p:cNvSpPr/>
            <p:nvPr/>
          </p:nvSpPr>
          <p:spPr>
            <a:xfrm>
              <a:off x="7236000" y="4956840"/>
              <a:ext cx="936360" cy="5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 u="sng">
                  <a:solidFill>
                    <a:srgbClr val="ccccff"/>
                  </a:solidFill>
                  <a:uFillTx/>
                  <a:latin typeface="Arial"/>
                  <a:hlinkClick r:id="rId4" action="ppaction://hlinksldjump"/>
                </a:rPr>
                <a:t>参考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8" name="Group 22"/>
          <p:cNvGrpSpPr/>
          <p:nvPr/>
        </p:nvGrpSpPr>
        <p:grpSpPr>
          <a:xfrm>
            <a:off x="7237440" y="1266840"/>
            <a:ext cx="1079640" cy="649440"/>
            <a:chOff x="7237440" y="1266840"/>
            <a:chExt cx="1079640" cy="649440"/>
          </a:xfrm>
        </p:grpSpPr>
        <p:sp>
          <p:nvSpPr>
            <p:cNvPr id="569" name="Rectangle 23"/>
            <p:cNvSpPr/>
            <p:nvPr/>
          </p:nvSpPr>
          <p:spPr>
            <a:xfrm>
              <a:off x="7237440" y="1266840"/>
              <a:ext cx="1079640" cy="649440"/>
            </a:xfrm>
            <a:prstGeom prst="rect">
              <a:avLst/>
            </a:prstGeom>
            <a:gradFill rotWithShape="0">
              <a:gsLst>
                <a:gs pos="0">
                  <a:srgbClr val="5e765e"/>
                </a:gs>
                <a:gs pos="100000">
                  <a:srgbClr val="ccff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Text Box 24">
              <a:hlinkClick r:id="rId5" action="ppaction://hlinksldjump"/>
            </p:cNvPr>
            <p:cNvSpPr/>
            <p:nvPr/>
          </p:nvSpPr>
          <p:spPr>
            <a:xfrm>
              <a:off x="7237440" y="1338480"/>
              <a:ext cx="936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Arial"/>
                </a:rPr>
                <a:t>参考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2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" dur="2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" dur="2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2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" dur="2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Text Box 2"/>
          <p:cNvSpPr/>
          <p:nvPr/>
        </p:nvSpPr>
        <p:spPr>
          <a:xfrm>
            <a:off x="-133920" y="1981080"/>
            <a:ext cx="1826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隶书"/>
                <a:ea typeface="隶书"/>
              </a:rPr>
              <a:t>安塞腰鼓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Text Box 3"/>
          <p:cNvSpPr/>
          <p:nvPr/>
        </p:nvSpPr>
        <p:spPr>
          <a:xfrm>
            <a:off x="2209680" y="114300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打鼓前</a:t>
            </a:r>
            <a:r>
              <a:rPr b="1" lang="en-US" sz="36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1-4:</a:t>
            </a:r>
            <a:r>
              <a:rPr b="1" lang="zh-CN" sz="36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（ 　　）的腰鼓           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Text Box 4"/>
          <p:cNvSpPr/>
          <p:nvPr/>
        </p:nvSpPr>
        <p:spPr>
          <a:xfrm>
            <a:off x="1981080" y="190512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打鼓中</a:t>
            </a:r>
            <a:r>
              <a:rPr b="1" lang="en-US" sz="36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5-27:</a:t>
            </a:r>
            <a:r>
              <a:rPr b="1" lang="zh-CN" sz="36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（ 　  ）的腰鼓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5"/>
          <p:cNvSpPr/>
          <p:nvPr/>
        </p:nvSpPr>
        <p:spPr>
          <a:xfrm>
            <a:off x="3733920" y="266688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5-13</a:t>
            </a:r>
            <a:r>
              <a:rPr b="1" lang="zh-CN" sz="32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：宏伟的场面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6"/>
          <p:cNvSpPr/>
          <p:nvPr/>
        </p:nvSpPr>
        <p:spPr>
          <a:xfrm>
            <a:off x="3657600" y="342900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14-17</a:t>
            </a:r>
            <a:r>
              <a:rPr b="1" lang="zh-CN" sz="32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：雄壮的（ 　　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Text Box 7"/>
          <p:cNvSpPr/>
          <p:nvPr/>
        </p:nvSpPr>
        <p:spPr>
          <a:xfrm>
            <a:off x="3581280" y="4114800"/>
            <a:ext cx="495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18-22</a:t>
            </a:r>
            <a:r>
              <a:rPr b="1" lang="zh-CN" sz="32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：击鼓的（ </a:t>
            </a:r>
            <a:r>
              <a:rPr b="1" lang="zh-CN" sz="4000" spc="-1" strike="noStrike">
                <a:solidFill>
                  <a:srgbClr val="ff66ff"/>
                </a:solidFill>
                <a:latin typeface="方正楷体简体"/>
                <a:ea typeface="方正楷体简体"/>
              </a:rPr>
              <a:t>　　</a:t>
            </a:r>
            <a:r>
              <a:rPr b="1" lang="zh-CN" sz="32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8"/>
          <p:cNvSpPr/>
          <p:nvPr/>
        </p:nvSpPr>
        <p:spPr>
          <a:xfrm>
            <a:off x="3657600" y="487692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23-27</a:t>
            </a:r>
            <a:r>
              <a:rPr b="1" lang="zh-CN" sz="32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：奇丽的（     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9"/>
          <p:cNvSpPr/>
          <p:nvPr/>
        </p:nvSpPr>
        <p:spPr>
          <a:xfrm>
            <a:off x="1981080" y="5638680"/>
            <a:ext cx="716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打鼓后</a:t>
            </a:r>
            <a:r>
              <a:rPr b="1" lang="en-US" sz="36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28-30</a:t>
            </a:r>
            <a:r>
              <a:rPr b="1" lang="zh-CN" sz="36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：（ </a:t>
            </a:r>
            <a:r>
              <a:rPr b="1" lang="zh-CN" sz="4000" spc="-1" strike="noStrike">
                <a:solidFill>
                  <a:srgbClr val="ff66ff"/>
                </a:solidFill>
                <a:latin typeface="方正楷体简体"/>
                <a:ea typeface="方正楷体简体"/>
              </a:rPr>
              <a:t>　　</a:t>
            </a:r>
            <a:r>
              <a:rPr b="1" lang="zh-CN" sz="36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）的腰鼓　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方正楷体简体"/>
                <a:ea typeface="方正楷体简体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AutoShape 10"/>
          <p:cNvSpPr/>
          <p:nvPr/>
        </p:nvSpPr>
        <p:spPr>
          <a:xfrm>
            <a:off x="1447920" y="1447920"/>
            <a:ext cx="609480" cy="4495680"/>
          </a:xfrm>
          <a:custGeom>
            <a:avLst/>
            <a:gdLst>
              <a:gd name="textAreaLeft" fmla="*/ 389520 w 609480"/>
              <a:gd name="textAreaRight" fmla="*/ 609840 w 609480"/>
              <a:gd name="textAreaTop" fmla="*/ 117000 h 4495680"/>
              <a:gd name="textAreaBottom" fmla="*/ 4378680 h 449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504"/>
                </a:lnTo>
                <a:cubicBezTo>
                  <a:pt x="10800" y="9404"/>
                  <a:pt x="5400" y="10304"/>
                  <a:pt x="0" y="10304"/>
                </a:cubicBezTo>
                <a:cubicBezTo>
                  <a:pt x="5400" y="10304"/>
                  <a:pt x="10800" y="11204"/>
                  <a:pt x="10800" y="12104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AutoShape 11"/>
          <p:cNvSpPr/>
          <p:nvPr/>
        </p:nvSpPr>
        <p:spPr>
          <a:xfrm>
            <a:off x="3352680" y="2895480"/>
            <a:ext cx="304920" cy="2362320"/>
          </a:xfrm>
          <a:custGeom>
            <a:avLst/>
            <a:gdLst>
              <a:gd name="textAreaLeft" fmla="*/ 194760 w 304920"/>
              <a:gd name="textAreaRight" fmla="*/ 305280 w 30492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189"/>
                </a:lnTo>
                <a:cubicBezTo>
                  <a:pt x="10800" y="10089"/>
                  <a:pt x="5400" y="10989"/>
                  <a:pt x="0" y="10989"/>
                </a:cubicBezTo>
                <a:cubicBezTo>
                  <a:pt x="5400" y="10989"/>
                  <a:pt x="10800" y="11889"/>
                  <a:pt x="10800" y="12789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2"/>
          <p:cNvSpPr/>
          <p:nvPr/>
        </p:nvSpPr>
        <p:spPr>
          <a:xfrm>
            <a:off x="5029200" y="1066680"/>
            <a:ext cx="152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方正楷体简体"/>
                <a:ea typeface="方正楷体简体"/>
              </a:rPr>
              <a:t>安静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3"/>
          <p:cNvSpPr/>
          <p:nvPr/>
        </p:nvSpPr>
        <p:spPr>
          <a:xfrm>
            <a:off x="5257800" y="182880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方正楷体简体"/>
                <a:ea typeface="方正楷体简体"/>
              </a:rPr>
              <a:t>激昂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Text Box 14"/>
          <p:cNvSpPr/>
          <p:nvPr/>
        </p:nvSpPr>
        <p:spPr>
          <a:xfrm>
            <a:off x="6705720" y="342900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方正楷体简体"/>
                <a:ea typeface="方正楷体简体"/>
              </a:rPr>
              <a:t>响声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Text Box 15"/>
          <p:cNvSpPr/>
          <p:nvPr/>
        </p:nvSpPr>
        <p:spPr>
          <a:xfrm>
            <a:off x="6629400" y="419112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方正楷体简体"/>
                <a:ea typeface="方正楷体简体"/>
              </a:rPr>
              <a:t>后生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16"/>
          <p:cNvSpPr/>
          <p:nvPr/>
        </p:nvSpPr>
        <p:spPr>
          <a:xfrm>
            <a:off x="5791320" y="5638680"/>
            <a:ext cx="167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方正楷体简体"/>
                <a:ea typeface="方正楷体简体"/>
              </a:rPr>
              <a:t>寂静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17"/>
          <p:cNvSpPr/>
          <p:nvPr/>
        </p:nvSpPr>
        <p:spPr>
          <a:xfrm>
            <a:off x="6705720" y="4800600"/>
            <a:ext cx="144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方正楷体简体"/>
                <a:ea typeface="方正楷体简体"/>
              </a:rPr>
              <a:t>舞姿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18"/>
          <p:cNvSpPr/>
          <p:nvPr/>
        </p:nvSpPr>
        <p:spPr>
          <a:xfrm>
            <a:off x="1805040" y="152280"/>
            <a:ext cx="353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方正楷体简体"/>
                <a:ea typeface="方正楷体简体"/>
              </a:rPr>
              <a:t>根据提示完成文章结构图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AutoShape 19">
            <a:hlinkClick r:id="" action="ppaction://hlinkshowjump?jump=previousslide"/>
          </p:cNvPr>
          <p:cNvSpPr/>
          <p:nvPr/>
        </p:nvSpPr>
        <p:spPr>
          <a:xfrm>
            <a:off x="395280" y="5877000"/>
            <a:ext cx="1008000" cy="647640"/>
          </a:xfrm>
          <a:custGeom>
            <a:avLst/>
            <a:gdLst>
              <a:gd name="textAreaLeft" fmla="*/ 41760 w 1008000"/>
              <a:gd name="textAreaRight" fmla="*/ 966240 w 10080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3612" h="21600">
                <a:moveTo>
                  <a:pt x="0" y="0"/>
                </a:moveTo>
                <a:lnTo>
                  <a:pt x="33612" y="0"/>
                </a:lnTo>
                <a:lnTo>
                  <a:pt x="33612" y="21600"/>
                </a:lnTo>
                <a:lnTo>
                  <a:pt x="0" y="21600"/>
                </a:lnTo>
                <a:close/>
              </a:path>
              <a:path fill="lightenLess" w="33612" h="21600">
                <a:moveTo>
                  <a:pt x="0" y="0"/>
                </a:moveTo>
                <a:lnTo>
                  <a:pt x="33612" y="0"/>
                </a:lnTo>
                <a:lnTo>
                  <a:pt x="32212" y="1400"/>
                </a:lnTo>
                <a:lnTo>
                  <a:pt x="1400" y="1400"/>
                </a:lnTo>
                <a:close/>
              </a:path>
              <a:path fill="darken" w="33612" h="21600">
                <a:moveTo>
                  <a:pt x="33612" y="0"/>
                </a:moveTo>
                <a:lnTo>
                  <a:pt x="33612" y="21600"/>
                </a:lnTo>
                <a:lnTo>
                  <a:pt x="32212" y="20200"/>
                </a:lnTo>
                <a:lnTo>
                  <a:pt x="32212" y="1400"/>
                </a:lnTo>
                <a:close/>
              </a:path>
              <a:path fill="darkenLess" w="33612" h="21600">
                <a:moveTo>
                  <a:pt x="336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212" y="20200"/>
                </a:lnTo>
                <a:close/>
              </a:path>
              <a:path fill="lighten" w="336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612" h="21600">
                <a:moveTo>
                  <a:pt x="9800" y="10800"/>
                </a:moveTo>
                <a:lnTo>
                  <a:pt x="23812" y="3794"/>
                </a:lnTo>
                <a:lnTo>
                  <a:pt x="23812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Picture 2" descr="安塞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0" name="AutoShape 3"/>
          <p:cNvSpPr/>
          <p:nvPr/>
        </p:nvSpPr>
        <p:spPr>
          <a:xfrm>
            <a:off x="7667640" y="5589720"/>
            <a:ext cx="1152360" cy="647640"/>
          </a:xfrm>
          <a:prstGeom prst="leftArrow">
            <a:avLst>
              <a:gd name="adj1" fmla="val 50000"/>
              <a:gd name="adj2" fmla="val 4448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Text Box 4"/>
          <p:cNvSpPr/>
          <p:nvPr/>
        </p:nvSpPr>
        <p:spPr>
          <a:xfrm>
            <a:off x="611280" y="2599560"/>
            <a:ext cx="8064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主题：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歌颂激荡的生命和磅礴的力量，歌颂阳刚之美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6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Picture 2" descr="安塞3"/>
          <p:cNvPicPr/>
          <p:nvPr/>
        </p:nvPicPr>
        <p:blipFill>
          <a:blip r:embed="rId1"/>
          <a:stretch/>
        </p:blipFill>
        <p:spPr>
          <a:xfrm>
            <a:off x="3636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3" name="AutoShape 3"/>
          <p:cNvSpPr/>
          <p:nvPr/>
        </p:nvSpPr>
        <p:spPr>
          <a:xfrm>
            <a:off x="7667640" y="5589720"/>
            <a:ext cx="1152360" cy="647640"/>
          </a:xfrm>
          <a:prstGeom prst="leftArrow">
            <a:avLst>
              <a:gd name="adj1" fmla="val 50000"/>
              <a:gd name="adj2" fmla="val 4448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Text Box 4"/>
          <p:cNvSpPr/>
          <p:nvPr/>
        </p:nvSpPr>
        <p:spPr>
          <a:xfrm>
            <a:off x="395280" y="22039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黄土高原人的性格：朴实、粗犷、开朗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NTER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" name="Picture 2" descr="安塞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6" name="Text Box 3"/>
          <p:cNvSpPr/>
          <p:nvPr/>
        </p:nvSpPr>
        <p:spPr>
          <a:xfrm>
            <a:off x="250920" y="1951920"/>
            <a:ext cx="8893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安塞腰鼓的舞姿特点：壮阔、豪放、火热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AutoShape 4"/>
          <p:cNvSpPr/>
          <p:nvPr/>
        </p:nvSpPr>
        <p:spPr>
          <a:xfrm>
            <a:off x="7667640" y="5589720"/>
            <a:ext cx="1152360" cy="647640"/>
          </a:xfrm>
          <a:prstGeom prst="leftArrow">
            <a:avLst>
              <a:gd name="adj1" fmla="val 50000"/>
              <a:gd name="adj2" fmla="val 4448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3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8" name="Picture 2" descr="安塞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9" name="AutoShape 3"/>
          <p:cNvSpPr/>
          <p:nvPr/>
        </p:nvSpPr>
        <p:spPr>
          <a:xfrm>
            <a:off x="7667640" y="5589720"/>
            <a:ext cx="1152360" cy="647640"/>
          </a:xfrm>
          <a:prstGeom prst="leftArrow">
            <a:avLst>
              <a:gd name="adj1" fmla="val 50000"/>
              <a:gd name="adj2" fmla="val 4448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Text Box 4"/>
          <p:cNvSpPr/>
          <p:nvPr/>
        </p:nvSpPr>
        <p:spPr>
          <a:xfrm>
            <a:off x="0" y="2250360"/>
            <a:ext cx="914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冰冷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燥热    恬静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飞溅    困倦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亢奋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形成鲜明对比，突出安塞腰鼓奇伟磅礴，雷霆万钧的能量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0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Text Box 2">
            <a:hlinkClick r:id="" action="ppaction://hlinkshowjump?jump=previousslide"/>
          </p:cNvPr>
          <p:cNvSpPr/>
          <p:nvPr/>
        </p:nvSpPr>
        <p:spPr>
          <a:xfrm>
            <a:off x="762120" y="685800"/>
            <a:ext cx="739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容不得束缚，容不得羁绊，容不得闭塞。是挣脱了、冲破了、撞开了的那么一股劲。（“那么一股劲”要“挣脱”“冲破”“撞开”什么？是什么“束缚”“羁绊”“闭塞”了“那一股劲”？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Text Box 3"/>
          <p:cNvSpPr/>
          <p:nvPr/>
        </p:nvSpPr>
        <p:spPr>
          <a:xfrm>
            <a:off x="762120" y="2743200"/>
            <a:ext cx="7467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贫瘠的黄土地、闭塞的生活，让生活在这儿的人们在物质和精神上受到太多的压抑和束缚，安塞腰鼓正是要打破这种束缚，让生命宣泄在天地间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Text Box 2"/>
          <p:cNvSpPr/>
          <p:nvPr/>
        </p:nvSpPr>
        <p:spPr>
          <a:xfrm>
            <a:off x="762120" y="1066680"/>
            <a:ext cx="64767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他们朴实得就像那片高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它使你惊异于那农民衣着包裹着的躯体，那消化着红豆角角老南瓜的躯体，居然可以释放出那么奇伟磅礴的能量。（过着贫困生活的农民，哪里来的这么强大的力量？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Text Box 3"/>
          <p:cNvSpPr/>
          <p:nvPr/>
        </p:nvSpPr>
        <p:spPr>
          <a:xfrm>
            <a:off x="762120" y="396252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他们有着自然健康的生命，是原始的、未经人工雕饰的。这是他们力量的源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Text Box 4"/>
          <p:cNvSpPr/>
          <p:nvPr/>
        </p:nvSpPr>
        <p:spPr>
          <a:xfrm>
            <a:off x="1187280" y="765000"/>
            <a:ext cx="59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多水的江南是易碎的玻璃，在那儿，打不得这样的腰鼓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Text Box 5"/>
          <p:cNvSpPr/>
          <p:nvPr/>
        </p:nvSpPr>
        <p:spPr>
          <a:xfrm>
            <a:off x="971640" y="3068640"/>
            <a:ext cx="727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江南更多的表现为柔媚的风格，而安塞腰鼓需要原始的，有粗犷的生命力的厚土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Picture 2" descr="a11"/>
          <p:cNvPicPr/>
          <p:nvPr/>
        </p:nvPicPr>
        <p:blipFill>
          <a:blip r:embed="rId1"/>
          <a:stretch/>
        </p:blipFill>
        <p:spPr>
          <a:xfrm>
            <a:off x="1143000" y="304920"/>
            <a:ext cx="6324480" cy="5163840"/>
          </a:xfrm>
          <a:prstGeom prst="rect">
            <a:avLst/>
          </a:prstGeom>
          <a:ln w="0">
            <a:noFill/>
          </a:ln>
        </p:spPr>
      </p:pic>
      <p:sp>
        <p:nvSpPr>
          <p:cNvPr id="535" name="Text Box 3"/>
          <p:cNvSpPr/>
          <p:nvPr/>
        </p:nvSpPr>
        <p:spPr>
          <a:xfrm>
            <a:off x="304920" y="5486400"/>
            <a:ext cx="85341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安塞腰鼓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是一种独特的民间大 型舞蹈艺术形式，具有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000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年 以上的历史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Text Box 4"/>
          <p:cNvSpPr/>
          <p:nvPr/>
        </p:nvSpPr>
        <p:spPr>
          <a:xfrm>
            <a:off x="1619280" y="126828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耳畔是一声渺远的鸡啼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Text Box 5"/>
          <p:cNvSpPr/>
          <p:nvPr/>
        </p:nvSpPr>
        <p:spPr>
          <a:xfrm>
            <a:off x="468360" y="3068640"/>
            <a:ext cx="766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鼓声停后，人们仍沉浸在激情之中，这里用鸡啼反衬寂静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Text Box 2"/>
          <p:cNvSpPr/>
          <p:nvPr/>
        </p:nvSpPr>
        <p:spPr>
          <a:xfrm>
            <a:off x="1295280" y="160020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这是一篇描写抒情性散文，通过对安塞腰鼓的场面描写，歌颂了激荡的生命和磅礴的力量，这是生命和力量的宣泄，这是中华民族和黄土高原特有的一种文明、一种文化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Text Box 3"/>
          <p:cNvSpPr/>
          <p:nvPr/>
        </p:nvSpPr>
        <p:spPr>
          <a:xfrm>
            <a:off x="1600200" y="838080"/>
            <a:ext cx="563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小       结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1" name="Picture 4" descr=""/>
          <p:cNvPicPr/>
          <p:nvPr/>
        </p:nvPicPr>
        <p:blipFill>
          <a:blip r:embed="rId1"/>
          <a:stretch/>
        </p:blipFill>
        <p:spPr>
          <a:xfrm>
            <a:off x="1828800" y="3276720"/>
            <a:ext cx="502920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Text Box 2"/>
          <p:cNvSpPr/>
          <p:nvPr/>
        </p:nvSpPr>
        <p:spPr>
          <a:xfrm>
            <a:off x="609480" y="685800"/>
            <a:ext cx="7391520" cy="20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分组阅读，寻找课文中的美点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试用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————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美，你看（听）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……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句式说出来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例：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、蓄势待发的后生美，你看，他们身后是一片高梁地。他们朴实得就像那片高梁。咝溜溜的南风吹动了高梁叶子，也吹动了他们的衣衫。他们的神情沉稳而安静。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3" name="Picture 3" descr="yaogu02"/>
          <p:cNvPicPr/>
          <p:nvPr/>
        </p:nvPicPr>
        <p:blipFill>
          <a:blip r:embed="rId1"/>
          <a:stretch/>
        </p:blipFill>
        <p:spPr>
          <a:xfrm>
            <a:off x="2057400" y="3733920"/>
            <a:ext cx="45086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4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615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16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7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Text Box 2"/>
          <p:cNvSpPr/>
          <p:nvPr/>
        </p:nvSpPr>
        <p:spPr>
          <a:xfrm>
            <a:off x="685800" y="5791320"/>
            <a:ext cx="723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安塞腰鼓表 演可由几人或上千人一同进行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,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7" name="Picture 3" descr=""/>
          <p:cNvPicPr/>
          <p:nvPr/>
        </p:nvPicPr>
        <p:blipFill>
          <a:blip r:embed="rId1"/>
          <a:stretch/>
        </p:blipFill>
        <p:spPr>
          <a:xfrm>
            <a:off x="228600" y="533520"/>
            <a:ext cx="861048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Text Box 2"/>
          <p:cNvSpPr/>
          <p:nvPr/>
        </p:nvSpPr>
        <p:spPr>
          <a:xfrm>
            <a:off x="304920" y="579132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磅礴的气势，精湛的表现力令人 陶醉，被称为“天下第一鼓”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9" name="Picture 3" descr="a12"/>
          <p:cNvPicPr/>
          <p:nvPr/>
        </p:nvPicPr>
        <p:blipFill>
          <a:blip r:embed="rId1"/>
          <a:stretch/>
        </p:blipFill>
        <p:spPr>
          <a:xfrm>
            <a:off x="380880" y="0"/>
            <a:ext cx="8001000" cy="55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Picture 2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8477280" cy="4981680"/>
          </a:xfrm>
          <a:prstGeom prst="rect">
            <a:avLst/>
          </a:prstGeom>
          <a:ln w="0">
            <a:noFill/>
          </a:ln>
        </p:spPr>
      </p:pic>
      <p:sp>
        <p:nvSpPr>
          <p:cNvPr id="541" name="Rectangle 3"/>
          <p:cNvSpPr/>
          <p:nvPr/>
        </p:nvSpPr>
        <p:spPr>
          <a:xfrm>
            <a:off x="380880" y="5334120"/>
            <a:ext cx="853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它先 后在第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1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届亚运会开幕式、香 港回归庆典等大型活动中表演，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996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年，安塞县被国家文化 部命名为“中国腰鼓之乡”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Picture 2050" descr="ftrq09"/>
          <p:cNvPicPr/>
          <p:nvPr/>
        </p:nvPicPr>
        <p:blipFill>
          <a:blip r:embed="rId1"/>
          <a:stretch/>
        </p:blipFill>
        <p:spPr>
          <a:xfrm>
            <a:off x="533520" y="304920"/>
            <a:ext cx="8001000" cy="52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Picture 2" descr="yaogu01"/>
          <p:cNvPicPr/>
          <p:nvPr/>
        </p:nvPicPr>
        <p:blipFill>
          <a:blip r:embed="rId1"/>
          <a:stretch/>
        </p:blipFill>
        <p:spPr>
          <a:xfrm>
            <a:off x="457200" y="304920"/>
            <a:ext cx="82296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Text Box 2"/>
          <p:cNvSpPr/>
          <p:nvPr/>
        </p:nvSpPr>
        <p:spPr>
          <a:xfrm>
            <a:off x="762120" y="1066680"/>
            <a:ext cx="7238880" cy="18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刘成章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937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年生，陕西省延安市人。现任陕西省作家协会副主席、中国散文学会常务理事。已出版六种散文集，其中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羊想云彩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》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获首届鲁迅文学奖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ff"/>
                </a:solidFill>
                <a:latin typeface="Times New Roman"/>
                <a:ea typeface="华文隶书"/>
              </a:rPr>
              <a:t>第一板块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083360" cy="16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324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300" spc="-1" strike="noStrike">
                <a:solidFill>
                  <a:srgbClr val="ff0000"/>
                </a:solidFill>
                <a:latin typeface="Times New Roman"/>
              </a:rPr>
              <a:t>朗读、感知</a:t>
            </a:r>
            <a:endParaRPr b="0" lang="en-US" sz="9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7" name="Picture 4" descr="MCj03943080000[1]"/>
          <p:cNvPicPr/>
          <p:nvPr/>
        </p:nvPicPr>
        <p:blipFill>
          <a:blip r:embed="rId1"/>
          <a:stretch/>
        </p:blipFill>
        <p:spPr>
          <a:xfrm>
            <a:off x="1619280" y="4365720"/>
            <a:ext cx="5616720" cy="180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" dur="500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30T09:44:04Z</dcterms:created>
  <dc:creator>马晓东</dc:creator>
  <dc:description>新语文 www.xinyuwen.com</dc:description>
  <dc:language>en-US</dc:language>
  <cp:lastModifiedBy>a</cp:lastModifiedBy>
  <dcterms:modified xsi:type="dcterms:W3CDTF">2015-02-10T01:50:59Z</dcterms:modified>
  <cp:revision>172</cp:revision>
  <dc:subject/>
  <dc:title>四川省平昌中学    马 晓 东</dc:title>
</cp:coreProperties>
</file>