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type.wav" ContentType="audio/x-wav"/>
  <Override PartName="/ppt/media/chimes.wav" ContentType="audio/x-wav"/>
  <Override PartName="/ppt/media/applause.wav" ContentType="audio/x-wav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43F-7CB7-4034-A503-6DF28906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390-577D-4914-9F9D-CA0155B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9265B-840C-46E0-BB46-59F21D48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DE2FA-FD80-4B47-B2C5-A5A89314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7E09B-E0BF-43CB-9127-E4F55C9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D96BB-EAAE-466B-94C2-144100C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0F454-0736-4BDA-B5A1-38DEB85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CA7E1-6015-4E1D-A663-8C1B0FB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7C266-BB37-4C79-8DA4-99086E5A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F984C-87C4-41B4-A1DA-E7ACB2AE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A610F-F407-4A08-B0CE-B59784A4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2185-EF82-45AF-8962-2D5E1B72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466-0E2F-4C77-BB49-CFCBFDCE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BBF3A-BD9D-4FE7-8EEB-133392E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61E58-CB5B-4CB2-9525-85DC94A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294A9-A5C5-4852-943A-A69BB72F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05D38-1756-4636-9F66-D435F36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02A90-BC1A-4035-AAE0-F5EF1A4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09BD2-F1C4-4866-BC15-7B12D51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73B71-370A-40B6-9974-C1DEF08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D9018-4D53-4169-B029-38422C8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87597-D878-44A0-9A5F-FF2276FB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8CE5F-B592-4F95-BED2-AAED856C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5CF-10D4-4599-AE25-015080D1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87E26-00BF-4E67-B477-C3C7BCB0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5E57B-C2B1-4120-9819-96D0007E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05C7-485C-4B13-B33B-7939BBA0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A5E8-3EC3-46F1-9701-58F2D77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57703-7F2B-4370-AB62-DEC6296B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EDDB8-5078-4B82-A91C-E39482A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A7947-FAD1-419D-B75C-164660AB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9D8C4-7507-437B-8157-ADF58C4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0FF48-29B1-4A69-A5B6-E73E3BF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19907-6AD4-468A-87AF-B38B6A0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549D-C6F3-421A-996B-C57D5299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3CEE0-6290-4FD1-B29F-6DA55C90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925CA-0A85-4416-A013-47E73926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3608E-822B-474B-8D1D-7C33DC3B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69664-3EA5-40BC-A7C1-D2403ABC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B148D-7498-4F3D-B636-4ABDF7ED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65754-2B21-44D5-919F-C9B52FE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4FC03-A8CD-4609-9896-C594A1D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EFCD1-D4B5-45B2-9271-AD0F1F9D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36428-91F8-4A50-901D-97684718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4EC5D-930B-478E-A202-5833BD5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8515-1E5A-4F6D-A030-E296471B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6BA81-A865-40A7-B80F-30DF34E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9B041-A3BB-4984-B9E6-C080C63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122C4-CB81-4B43-9E5E-B1E07407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71680-8C44-4A9A-933C-B85FE157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53D70-03D3-46E6-A9AB-E50256E3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8B45B-43E0-466A-AB6D-B68AEE59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AFEA0-35A1-4734-980B-268D93D0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B1831-D942-4AE0-AE44-1C6CD6B6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330C5-3A83-459A-9A3D-B5989FBE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4BA61-C201-45FF-AEFB-09D7A936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8FBB-0B27-45D2-93DD-9DA1C02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2CA16-0E88-423F-A66E-CD52FAE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02AA8-7983-45BD-8705-29712E2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6A9E8-D244-4A95-AC35-6217923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04886-E102-46FE-B7CB-4F87C887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1B9E6-C6E7-46D4-B470-DB7081FA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038DC-9387-46E9-BF12-F66EC196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0C64A-98B4-4A67-867C-2817F516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D575-6258-4BDD-B039-BC4FE08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AA50-0D1A-4D3D-9598-B175079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7D4C-090B-4F7B-AE4C-DE9F2EC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46E6-D61F-4B62-88AA-4731EE1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008-C49D-4DBD-B176-C0A2B7D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9B79-91C7-4FDC-8B7B-982D583F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D85-475E-45DE-9055-A523FF3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6456-3D2B-40EA-BCFE-D6B60E56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49C-A419-4DC2-B0D9-4B9452F0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5D25-8A2D-466E-8263-5232D759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8AE6-8BBF-428B-91A4-097BEDB1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9C55-F462-4285-A99A-E671D6F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EE89-839A-4157-B8D6-4B9370D5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5CAC-B39F-4648-A7B7-F3DEAE1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58CB-B9EA-4571-892B-475DBD8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B6D-6A7B-4D31-87EF-4C69694F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5186-7039-4EC9-A531-604415A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4C83-8515-4F1C-8D95-1583609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6FAA-413D-4817-9115-5A94ADA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7FDB-682B-4EB5-99BF-34DA980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C15B-0D2C-4B9A-85B8-326A8382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C284-861B-4D66-B3B4-1E17F2E8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726C-7E33-4CC9-8412-A4274817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8A77-5EA1-4381-B0D9-E0648C8E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A23B-FB0F-442B-9BEA-085A5AC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E297-8501-4E16-851A-7A38DC47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A85-6B25-4110-8698-4CA2F04A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E52D-E1C9-4C70-8FDB-651F70FC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3483-11DC-471F-8047-5100A15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0EA1-67CF-4122-96E3-F939340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254F-B0C9-4BDA-A37E-76BEF4F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2067-AAC3-4482-A67E-B307FC9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9A6C-CCF8-4BD3-9676-8EA8B7D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E159-5A0E-441A-8B04-02F22690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71DF-59A9-4471-A885-A9FE94A3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36CD-445D-4760-9830-2D8BA509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A941D-CC82-4236-B5C0-C92D8330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FE0-4617-45DD-B088-CE6938E6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1545-16F5-424F-8E93-0977C1F2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9C5CB-2867-42E8-AE11-21314BB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F5E1A-3A9B-4F23-BA6F-B8F828A4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81CBC-40E3-4084-86DD-4873F32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3D09-D0DE-462B-BFA3-B823643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120E-6035-4F93-A734-D5CD37F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E0E7-C6A9-434B-9DE3-1539EB6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4C5A-C574-4F73-98C7-02A569B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83F1-E3C4-4F1B-A5E8-034D3815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382E-DACC-4E9A-AF32-936DD0B5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AE5-7F6E-4026-AFA4-5560E63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EE6B-B5B9-4009-9255-440F9CC6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4550B-338F-42CA-83CA-D0F386AA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195C-DFF1-4755-B073-E58FEB6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CF81D-C4B8-4B68-8E16-1AA34C5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9E65-3A2A-4831-8DBD-2F5C3576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FA0E-25D5-452B-85A2-28FD0D5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9A5B-6DB0-467C-AFED-1DB4C83B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BC7D-63FD-48CC-8DFE-FAC7AE5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E2BAD-25D6-4ACE-A51C-2628E82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B66F-EE43-4B3A-B56A-0A29712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17C-B9B2-4552-BC19-E74194FF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651B-3603-4649-AE96-2892D931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4D9A-BEDA-480B-9FE1-2DD7EC8F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1C98-DBA5-4E37-ABC0-468F3685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0608-C941-4133-9A38-C4425114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F954F-8034-4BF2-A89A-E5CDDEF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0238-7E9C-4F6A-A86B-DC787B9A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03F9F-972C-4D7D-86D1-25FE0D66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F9AE-3A6E-49D7-989E-E4276C1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00C3-2728-4388-A149-B679C42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2A93-43F6-4787-AEE1-791D940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A06-7855-4F3B-8413-F4FC28A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8BAF8-95A8-48DC-B314-6488A61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4967D-C4D3-427C-AB78-058128CE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37AA-A42E-4F94-B3AC-BA138B86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7C56-13BE-4D16-87DB-27F002EC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67BE-39AA-4BC6-896C-649EC172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61F51-D06C-4F29-815B-D37EA6D9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5A0B-B7E3-44D8-8E39-D2AA8F5B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C62C-1C59-479E-927A-AC6FB26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251A0-60F8-4DBA-9C79-20ED2CC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F43F-2E57-459A-9335-1C368B8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65D-603A-4806-8FB0-2671DAA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D87B-63DF-45F0-835C-835E0919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69957-4B22-40E4-8F5F-6D1A333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637F-AF10-4D47-8BC4-D003959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10C49-552F-4064-9F66-E887E21C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44B62-BD7E-4ACE-BACE-CD65667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80E54-8BF8-4518-875F-5578F9F9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AEB6-196C-4FE4-AACD-AE060DE9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DB161-06AF-4B3C-BB75-4C331E8A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18E5D-F84F-4B8C-86D3-6FEA4EB3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C22AA-B91E-41B9-B8D7-392CE86E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769F-8919-4B86-8858-F49E7B84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DF5-C5E9-4AB0-A691-2D106BD65A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38A-2957-4D50-801C-E3D063FFFA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37E7-FD35-4CC0-BE99-542032E182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289-21C4-42D6-A4C8-885EA99B4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05B-A42D-4F02-A03B-8B08B400B4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A34-0A6B-40EA-80BE-543FAD7633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9AD6-6E99-41C0-8DF1-3ABFC4417E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EEC7-99EC-43A5-90AF-3110E9CEE1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77E9-9713-4CE5-BEBF-3858661388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328C-7711-4710-9E77-F9B17649DA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E2A3-D16E-498F-AEB4-72619040F6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11A-8E4F-4C80-AF5E-126BA48E2F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8E44-D871-4997-8E88-A8DF4F5009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6FD9-F794-4A9E-9B89-321E06F1EC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BFAF-1182-42E9-983B-12791E12A2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B484-C858-4696-AC2C-8BF0F551D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622-1665-479B-8920-602ED64F60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6A44-14AA-4091-93E9-9001F4A8A0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CBAC-3005-439D-AD4D-44B60741E4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602F-360E-4B1A-8FFC-D3B005956D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907-AFEB-43D0-B8B4-1E46B44D5B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95F1-D4D3-4263-B1EA-26B0A1420B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BEB-2897-421C-8B2F-B11A294D5C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BA3-315B-4671-9378-3E01B342CB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685800" y="68580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中的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地球上的淡水含量与地球上水总量的比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安利洗涤剂与水的正常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我们喝的鲜橙多中橙汁与水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妈妈做米饭时米与水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一种咖啡奶，咖啡和奶的比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557_200532519343594528"/>
          <p:cNvPicPr/>
          <p:nvPr/>
        </p:nvPicPr>
        <p:blipFill>
          <a:blip r:embed="rId2"/>
          <a:stretch/>
        </p:blipFill>
        <p:spPr>
          <a:xfrm>
            <a:off x="3124080" y="380880"/>
            <a:ext cx="1051200" cy="107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1523880" y="533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14400" y="114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一种什锦糖是由奶糖、水果糖、和酥糖按照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混合成的。要配制这样的什锦糖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5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1979640" y="2781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份数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+5+2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981080" y="350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奶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3200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41911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4648320" y="350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1905120" y="411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果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4267080" y="38862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487692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2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1905120" y="4876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酥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038480" y="472428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7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4800600" y="5029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1219320" y="5715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答：需要奶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水果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酥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0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3"/>
          <p:cNvSpPr/>
          <p:nvPr/>
        </p:nvSpPr>
        <p:spPr>
          <a:xfrm>
            <a:off x="76212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用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8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厘米长的铁丝围成一个三角形，三条边的长度比是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。三角形的三条边各长多少厘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914400" y="3276720"/>
            <a:ext cx="1371600" cy="2743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2743200" y="388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2843280" y="3284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+4+5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342900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505320" y="3657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350676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35067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1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34300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3"/>
          <p:cNvSpPr/>
          <p:nvPr/>
        </p:nvSpPr>
        <p:spPr>
          <a:xfrm>
            <a:off x="3430080" y="5410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4"/>
          <p:cNvSpPr/>
          <p:nvPr/>
        </p:nvSpPr>
        <p:spPr>
          <a:xfrm>
            <a:off x="3505320" y="48006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5"/>
          <p:cNvSpPr/>
          <p:nvPr/>
        </p:nvSpPr>
        <p:spPr>
          <a:xfrm>
            <a:off x="3505320" y="54864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3886200" y="3886200"/>
            <a:ext cx="198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21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28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35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4038480" y="5943600"/>
            <a:ext cx="22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2438280" y="5867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答：三条边分别长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21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,28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, 35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1676520" y="609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22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FIREWK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3"/>
          <p:cNvSpPr/>
          <p:nvPr/>
        </p:nvSpPr>
        <p:spPr>
          <a:xfrm>
            <a:off x="1295280" y="1600200"/>
            <a:ext cx="685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贺你们闯关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Times New Roman"/>
                <a:ea typeface="华文彩云"/>
              </a:rPr>
              <a:t>你们永远是最棒的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4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2"/>
          <p:cNvSpPr/>
          <p:nvPr/>
        </p:nvSpPr>
        <p:spPr>
          <a:xfrm>
            <a:off x="838080" y="380880"/>
            <a:ext cx="8458200" cy="13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再攀高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乙两个数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6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数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乙数是多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838080" y="35053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爸爸和王叔叔合作出资做生意，爸爸出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王叔叔出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一年后共盈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爸爸和王叔叔各分得多少钱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3" descr="557_200532519343594528"/>
          <p:cNvPicPr/>
          <p:nvPr/>
        </p:nvPicPr>
        <p:blipFill>
          <a:blip r:embed="rId2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0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533520" y="1066680"/>
            <a:ext cx="82296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活学活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白兔和灰兔只数的比是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，白兔占两种兔总只数的（    ），灰兔占两种兔总只数的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六三班男生和女生的比是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:5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男生占全班人数的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      )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女生占全班人数的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371520" cy="838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8" descr=""/>
          <p:cNvPicPr/>
          <p:nvPr/>
        </p:nvPicPr>
        <p:blipFill>
          <a:blip r:embed="rId3"/>
          <a:stretch/>
        </p:blipFill>
        <p:spPr>
          <a:xfrm>
            <a:off x="7010280" y="2057400"/>
            <a:ext cx="452520" cy="762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1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47680" cy="7621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6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222120" cy="685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1" descr="557_200532519343594528"/>
          <p:cNvPicPr/>
          <p:nvPr/>
        </p:nvPicPr>
        <p:blipFill>
          <a:blip r:embed="rId6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6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7"/>
          <p:cNvSpPr/>
          <p:nvPr/>
        </p:nvSpPr>
        <p:spPr>
          <a:xfrm>
            <a:off x="609480" y="914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、肯德基的老板听说这种新出的咖啡奶口感好，受欢迎，决定引进这种咖啡奶，他想请同学帮忙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8" descr="557_200532519343594528"/>
          <p:cNvPicPr/>
          <p:nvPr/>
        </p:nvPicPr>
        <p:blipFill>
          <a:blip r:embed="rId2"/>
          <a:stretch/>
        </p:blipFill>
        <p:spPr>
          <a:xfrm>
            <a:off x="30492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20"/>
          <p:cNvSpPr/>
          <p:nvPr/>
        </p:nvSpPr>
        <p:spPr>
          <a:xfrm>
            <a:off x="762120" y="1752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一杯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30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毫升的咖啡奶，咖啡和奶的比为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。需要咖啡和奶各多少毫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37160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990720" y="304812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想：咖啡和奶的比是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：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，就是说，在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330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毫升的咖啡奶中，咖啡占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奶占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一共是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。也就是说，咖啡占咖啡奶的     ，奶占咖啡奶的     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137160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380988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0"/>
          <p:cNvSpPr/>
          <p:nvPr/>
        </p:nvSpPr>
        <p:spPr>
          <a:xfrm>
            <a:off x="1523880" y="4343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1"/>
          <p:cNvSpPr/>
          <p:nvPr/>
        </p:nvSpPr>
        <p:spPr>
          <a:xfrm>
            <a:off x="4191120" y="441972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2"/>
          <p:cNvSpPr/>
          <p:nvPr/>
        </p:nvSpPr>
        <p:spPr>
          <a:xfrm>
            <a:off x="19051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奶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3"/>
          <p:cNvSpPr/>
          <p:nvPr/>
        </p:nvSpPr>
        <p:spPr>
          <a:xfrm>
            <a:off x="4191120" y="502920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6"/>
          <p:cNvSpPr/>
          <p:nvPr/>
        </p:nvSpPr>
        <p:spPr>
          <a:xfrm>
            <a:off x="1447920" y="3962520"/>
            <a:ext cx="30456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37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8"/>
          <p:cNvSpPr/>
          <p:nvPr/>
        </p:nvSpPr>
        <p:spPr>
          <a:xfrm>
            <a:off x="4343400" y="525780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39"/>
          <p:cNvSpPr/>
          <p:nvPr/>
        </p:nvSpPr>
        <p:spPr>
          <a:xfrm>
            <a:off x="4343400" y="46483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8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2"/>
          <p:cNvSpPr/>
          <p:nvPr/>
        </p:nvSpPr>
        <p:spPr>
          <a:xfrm>
            <a:off x="1066680" y="17524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工农业生产和生活中，常常需要把一个数量按照一定的比来进行分配。这种分配方法通常叫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按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比例分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3" descr="557_200532519343594528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3048120" y="7621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比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0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11430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7" descr="557_200532519343594528"/>
          <p:cNvPicPr/>
          <p:nvPr/>
        </p:nvPicPr>
        <p:blipFill>
          <a:blip r:embed="rId2"/>
          <a:stretch/>
        </p:blipFill>
        <p:spPr>
          <a:xfrm>
            <a:off x="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8"/>
          <p:cNvSpPr/>
          <p:nvPr/>
        </p:nvSpPr>
        <p:spPr>
          <a:xfrm>
            <a:off x="60948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5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609480" y="914400"/>
            <a:ext cx="7994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557_200532519343594528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1116000" y="2565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个班的总人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47+45+48=14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116000" y="33577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一班应栽的棵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6084720" y="3141720"/>
            <a:ext cx="6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6084720" y="3716280"/>
            <a:ext cx="5050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680400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1116000" y="40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二班应栽的棵树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6084720" y="400536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5"/>
          <p:cNvSpPr/>
          <p:nvPr/>
        </p:nvSpPr>
        <p:spPr>
          <a:xfrm>
            <a:off x="6084720" y="4437000"/>
            <a:ext cx="648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680400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=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1116000" y="4941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班应栽的棵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6012000" y="4797360"/>
            <a:ext cx="6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6012000" y="5229360"/>
            <a:ext cx="5047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6732720" y="501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=96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826920" y="57340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答：一班、二班、三班各应栽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6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152388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114300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4" descr="557_200532519343594528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9907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结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90720" y="2057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方法与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762120" y="289548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根据比先求出总份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求出各部分数占总数的几分之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运用分数乘法列式计算，求出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答题并检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2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914400" y="83808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一个农场计划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公顷的地里播种大豆和玉米。播种面积的比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两种作物各播种多少公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4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6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1447920" y="22096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91440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一种什锦糖是由奶糖、水果糖、和酥糖按照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混合成的。要配制这样的什锦糖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1523880" y="39625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914400" y="46483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厘米长的铁丝围成一个三角形，三条边的长度比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三角形的三条边各长多少厘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557_200532519343594528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6"/>
          <p:cNvSpPr/>
          <p:nvPr/>
        </p:nvSpPr>
        <p:spPr>
          <a:xfrm>
            <a:off x="90000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、一个农场计划在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公顷的地里播种大豆和玉米。播种面积的比是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。两种作物各播种多少公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042920" y="2997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总面积平均分成的份数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+2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042920" y="3716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大豆的面积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5867280" y="3357720"/>
            <a:ext cx="5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586728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6443640" y="37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1116000" y="458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玉米的面积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5940360" y="4365720"/>
            <a:ext cx="7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5940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6443640" y="465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1332000" y="5516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答：播种大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，播种玉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9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01:16:52Z</dcterms:created>
  <dc:creator>wy</dc:creator>
  <dc:description/>
  <dc:language>en-US</dc:language>
  <cp:lastModifiedBy>a</cp:lastModifiedBy>
  <dcterms:modified xsi:type="dcterms:W3CDTF">2015-03-18T05:36:42Z</dcterms:modified>
  <cp:revision>79</cp:revision>
  <dc:subject/>
  <dc:title>PowerPoint 演示文稿</dc:title>
</cp:coreProperties>
</file>