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6A60-1C79-4D6E-8175-84472F34C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E163-E9DD-49CA-A475-9BEFE4296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F51CC3-60F7-47A5-9897-580E966F9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A5D4E5-7D27-4891-A027-4F1C39367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C720EF-1823-421A-99CA-5BB19CBDB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2DD866-808A-4FF2-BE48-7DA1CBE8E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6C0ABC-E496-4C02-83D6-1A59BE5EB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02867D-9173-412E-A2B1-37CD31962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D40ADA-200D-4054-AB3F-67BD1F2B8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7F0EF1-91F5-43EF-A339-D93E1B00E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700AC9-F572-4947-BC6F-12E522C63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9C6E8F-D151-41D4-A9C2-BB7725AA0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2D58-C097-44BF-A7AB-543145885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72DC1C-65FB-4A3B-83E3-28B5708B1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3BB855-C124-4A58-A5E6-99D579B33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57E1D8-2170-49AF-BD5F-A3D05FEE3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7FE3BC-E7DE-453F-9AFC-F200B9FE9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392555-DEB3-4A31-BD2B-0BAD54076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F69744-28AD-4846-A616-8F706087C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E58672-20EC-49D5-B865-3E4351EC2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E1C5B7-C0B0-4106-9508-27E0FA78C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47F9FA-3B6C-4618-B406-250A46593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A7CD15-1B0D-4C13-989F-C0AB8AEF7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31D4-DF20-4220-B47D-8CAF472C4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181AA3-B39D-49D0-A3EA-3EAC8676D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4A8221-5EC7-452F-9124-8295EE91C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403514-431A-44BE-BD71-4E680BD51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A9D318-F711-4320-92E3-2E09FE551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7A899C-F138-4B00-A900-CEB5E6F33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547A3C-76CA-4F4B-AC8B-4D19F002B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58B0BD-8374-458C-89D0-73E6EA20D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197C1F-994C-4CF1-A0D8-5B52AC3E8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8883D1-F861-48ED-915A-FF88E11EB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2BD762-098E-4F80-ABA4-9810B19E3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777A3-2CFB-476A-81F4-A9D26B037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D04AD5-0982-4AEA-9424-99042382D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9672CF-8211-49AE-804B-20403ED53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D97E68-FF23-4F61-AB43-AF8AFBF8D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E74A0E-8178-4487-B696-F7EDD0D79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DD2B05-5AE7-4459-9861-925D21DF0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2D2514-EC71-4ECE-9195-8E1B945DE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47AF7F-BFB7-4A16-B748-44D297862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F20F05-D51D-478E-843B-0002A96E4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317DE9-BAE8-4318-828F-87C326651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37683F-F2D3-410B-8344-525814FD5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AA829-6505-42DD-A33E-E327F511D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434151-CC0B-4332-A2F7-DA902515B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90930B-E534-4ECB-81E3-2F1916C0E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6E911C-0FF4-4740-8AD3-B32A537E1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230064-58AB-498B-AC5D-C98106C74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2BFD99-9125-4FF2-A5A5-9CAB189A9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E71E41-243E-4BE5-A3C3-1FE52CF16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93D362-22A5-4F9F-A8B9-D3731F64E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38E7E5-C74B-4984-B3D9-DE8CE2594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BBEC73-C70D-471A-BC85-2C6C74AD1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B56B93-C4A8-476E-B464-46B2BE94E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99AAF-9E97-4DDA-863D-CCD06E324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458ED1-6AC3-41D0-980D-1EB926F11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8ED017-E8F0-46DF-9BBA-B367F47A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6BAB75-1B43-42C3-AAF0-F09FEB2C0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60B639-D60F-49C0-A1E0-155CC4827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DC0C21-08B1-4AED-AA04-890761CC9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2E9680-29BD-40ED-A4F3-46F247AB2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E361C1-8CEC-445F-ABE7-6C75D0E27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1592A-5E56-4105-9A7E-DE86788BE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317D5-EC90-403D-8DD0-F3C178ED5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11AAC-9991-4A97-970B-6EF71EBF6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873FD-8565-43B1-913F-D483E5072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DE79-3727-44B2-879A-A957D7356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04D99-1FF8-4548-943F-3C34C2E68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2176C-B04C-4FE7-8B3F-F0A076A78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14AEE-05CF-4B40-A0C1-36397B422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44FAF-9730-4326-8046-EAD7264F4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F2574-A806-43C4-A19E-7C4C5D1FE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EBB43-BD62-43F8-ADCE-09596A21D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75E2F-C703-4657-828C-7DE94DA0B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CE378-AE29-44DB-ACB6-B764F0741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230A4-28CF-48DD-BE16-ED836DA90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F2B85-0E9B-4CB2-B850-9ABD21738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69FD-252B-4D7B-804A-1B5BAC54A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7B0A7-FDCC-4F72-AC7B-C67A7E308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C1EEA0-BC22-451A-8400-1966473D6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0D7F1-0F7A-40D6-9ADE-DE4F068CB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82B49D-E80B-4450-B09A-3DE69970C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DB1F2-8447-4DAB-9E43-37D98CD7F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FF1083-1910-4B02-8BCE-378E7D7F5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BB3AD-3A10-49FD-9BCB-0F9D50558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5396C-B6DB-46CA-948C-263E51CFA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B45E75-A962-4873-98D6-00C2347B0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4845F-5647-43B9-8F29-794483291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A3A8-2A9E-458E-8B42-F81E989ED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4C8667-9A01-4033-8EC5-A553688B9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0B1B2-AC7A-40E7-9FE9-6163AC84F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997372-DBA7-4A63-BB0A-41FB6432F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B8376-356F-44C1-9387-1E15B297A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A938E-1AFF-4A7E-A4E3-535442A50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612F83-C697-426E-8947-94CAE95FD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F502F6-E949-4158-B8FA-853D14E16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84C2B-26EC-4FEA-A8DE-E71C8FBE0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0C732F-4AC3-4B13-9EC7-4027F026C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8D7840-A0F3-44E6-A98C-C52EEED57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9C93-38AA-427F-892B-26DC78FFD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649F85-2EAC-415D-A7EB-2BE0ECCE5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827763-22D2-4B7C-A897-36F196262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0D29A2-663B-467E-A1DB-C489D443B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D14790-9B13-4C80-8EF4-86EC27478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CBBCAA-661C-43B7-9F7D-4FE628427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F21821-D162-4EB6-9DF2-64A30C573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FE7F67-06BB-4890-BA70-3E1273337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4A71C6-4886-4DB8-ABD8-5A9413352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7C6C6B-60AB-4358-AC3A-29A2FAACE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54C83C-EF79-41B3-B09D-94391E50A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AF0B-CE38-4E2B-9D43-D30306830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2EF328-3D79-462A-83D6-A023EE901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E64865-D1B7-45D4-9CBF-F777396C3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6AE250-AA9A-4ABB-974E-483F581F7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3C905A-2BCA-4EDB-BA57-93978900E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D67830-BAF7-42C9-B1F9-3C74312FE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532F41-1839-45B2-9B05-354A6EA25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90515C-4D12-45B5-A9A6-E2661057B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4CDC93-5073-4BD6-AB3E-C5E51A120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9416D9-4AC3-4EDF-ACA8-2FCBAE4AB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EB2170-85E0-4FFB-9337-C5C5F12E5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5249-6259-4778-BD31-645A73B10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0FAEA2-5914-455A-83ED-222327AEB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9DD027-3135-46E8-AFAC-9D7CDD433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D72188-73D0-45F3-A9E1-A8A70DB46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934BD9-1A9C-4BAD-9C33-B1373B73D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CCD050-4B4B-4BA2-BC74-6D85E2EEE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C545D2-06D1-4D00-A273-C04DB8B10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17181B-0F42-49DD-A916-B279D5BE4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4EADCC-E776-419D-AF13-0406CD87E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EEA9B6-24BF-4B3F-B1E4-ED6BF54ED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87507A-2526-4821-A799-2BA61AA53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7F2E-756F-499F-8E2C-FB5ADB78E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B0393F-EF6E-4C97-8E6C-87B7676C8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F200DF-02D5-42AB-ACAD-D01B97CB7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703201-E336-41CB-A612-424FC052B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2F3476-AA40-4690-A5C5-B105C3055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33BB09-D5B8-4B8B-8304-52D6BC26E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981E45-F154-4F98-A734-4484021B6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52C084-79B1-4207-B2D2-F9F63D7A6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AEE50C-6163-464B-927D-66A7AA604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D9167B-70DE-47F0-8258-7D92A1497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7DE89C-D610-4B50-AC7E-E738586F6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7B83-B88C-47CC-B826-E2C0FDC3D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4B106B-9710-4CB2-AF02-69D023BFE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98AC41-E9A7-4F18-BABD-7DD03F030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B282F0-367E-499B-99E6-429B828EE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9E5EEB-B1C9-43DA-9E60-8BC74A28B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C872CD-AFC8-40B6-8F7D-71EC8BACF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36F9D7-29A5-4890-8C2C-465EF057D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2CB6CB-BB09-476C-8B88-CD5ED0D2F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B6D7A3-A1AD-4536-82DB-86941A307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F7A176-7F26-4DC4-BC34-7BC9C8D2B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ED9B10-3D28-4E48-A649-5B56F73C4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8F4BA-3126-4A0F-B968-6E40F2BA0B6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55F91-855A-4A2B-B134-85A7AEF16E6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44B3C-5709-47BB-A08F-F7F8D812FEA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30110-238D-4EC2-B80F-99EA9FAD2E4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62176-CD95-48FC-9E7A-8D0E3BE11EF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AE8D6-28D7-4107-B517-927C0DD6D88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508B1-8047-4123-AD71-349EED724DC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CEF19-6E6D-4964-8028-E4363D47877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79F89-9AE7-4843-9928-A77E5CE60D5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2CFDD-F947-4785-97EC-82A4FC2AF46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B4A96-0F55-419F-8D8F-6EEC5C278AC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8DDBA-3AEC-4B11-B394-9845FB2FC30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4FA73-B206-49FA-B846-D3F4AE1CAF3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5F7C7-F441-4A79-9765-8784D1B3E18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E7C04-8D92-43D7-B2E2-02A257D2D77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AF2DE-9F6F-4471-9DF5-29E02FA2232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F7F46-6696-4721-B0AB-B27A9977116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899CB-C41B-4046-8D59-825D4E62F17E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400F4-3A50-44BB-AD7C-477DC41ECDB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AFF46-4DEF-4180-B43E-5DDA6EABD29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57087-E04E-419A-BAB8-41E29D26A7C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F72AA-8A70-46F2-86D8-92F8CB75AA2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545CA-A408-4D28-A440-C20BB263D29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30633-7E37-4DA8-AFD3-2EBA6E5D76F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321FB-5AB2-4B28-886E-5212A78812B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3"/>
          <p:cNvSpPr/>
          <p:nvPr/>
        </p:nvSpPr>
        <p:spPr>
          <a:xfrm>
            <a:off x="533520" y="609480"/>
            <a:ext cx="830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、某学校有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500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人，今天到了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490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人，求出勤率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Rectangle 4"/>
          <p:cNvSpPr/>
          <p:nvPr/>
        </p:nvSpPr>
        <p:spPr>
          <a:xfrm>
            <a:off x="533520" y="205740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、某学校有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500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人，今天未到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人，求出勤率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Rectangle 5"/>
          <p:cNvSpPr/>
          <p:nvPr/>
        </p:nvSpPr>
        <p:spPr>
          <a:xfrm>
            <a:off x="685800" y="365760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、某学校今天到了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490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人，未到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10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人，求出勤率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Text Box 6"/>
          <p:cNvSpPr/>
          <p:nvPr/>
        </p:nvSpPr>
        <p:spPr>
          <a:xfrm>
            <a:off x="974880" y="5583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Text Box 4"/>
          <p:cNvSpPr/>
          <p:nvPr/>
        </p:nvSpPr>
        <p:spPr>
          <a:xfrm>
            <a:off x="685800" y="457200"/>
            <a:ext cx="800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、同学们植树，活了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196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棵，未成活的有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棵，求这批树苗的成活率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 Box 5"/>
          <p:cNvSpPr/>
          <p:nvPr/>
        </p:nvSpPr>
        <p:spPr>
          <a:xfrm>
            <a:off x="609480" y="2286000"/>
            <a:ext cx="8077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、许师傅日产零件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800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个，其中有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个不合格，求产品的合格率和不合格率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6"/>
          <p:cNvSpPr/>
          <p:nvPr/>
        </p:nvSpPr>
        <p:spPr>
          <a:xfrm>
            <a:off x="380880" y="4419720"/>
            <a:ext cx="8305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6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、生产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105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个零件，全部合格，合格率是多少？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如果有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个不合格，合格率是多少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 Box 4"/>
          <p:cNvSpPr/>
          <p:nvPr/>
        </p:nvSpPr>
        <p:spPr>
          <a:xfrm>
            <a:off x="533520" y="45720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、电视机厂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月份计划生产彩电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2500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台，实际生产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2600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台。完成计划的百分之几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Rectangle 6"/>
          <p:cNvSpPr/>
          <p:nvPr/>
        </p:nvSpPr>
        <p:spPr>
          <a:xfrm>
            <a:off x="457200" y="32004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、电视机厂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月份计划生产彩电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2500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台，实际超额生产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100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台。完成计划的百分之几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Rectangle 7"/>
          <p:cNvSpPr/>
          <p:nvPr/>
        </p:nvSpPr>
        <p:spPr>
          <a:xfrm>
            <a:off x="457200" y="19051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、电视机厂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月份生产彩电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2500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台，比计划多生产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100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台。完成计划的百分之几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Rectangle 8"/>
          <p:cNvSpPr/>
          <p:nvPr/>
        </p:nvSpPr>
        <p:spPr>
          <a:xfrm>
            <a:off x="380880" y="502920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、电视机厂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月份生产彩电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2500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台，比计划少生产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100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台。完成计划的百分之几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4"/>
          <p:cNvSpPr/>
          <p:nvPr/>
        </p:nvSpPr>
        <p:spPr>
          <a:xfrm>
            <a:off x="685800" y="251460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6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、电视机厂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月份计划生产彩电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2500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台，实际超额生产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100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台。超额完成百分之几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Rectangle 7"/>
          <p:cNvSpPr/>
          <p:nvPr/>
        </p:nvSpPr>
        <p:spPr>
          <a:xfrm>
            <a:off x="762120" y="449568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7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、电视机厂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月份生产彩电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2500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台，比计划多生产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100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台。超额完成百分之几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Rectangle 8"/>
          <p:cNvSpPr/>
          <p:nvPr/>
        </p:nvSpPr>
        <p:spPr>
          <a:xfrm>
            <a:off x="533520" y="38088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、电视机厂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月份计划生产彩电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2500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台，实际生产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2600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台。超额完成百分之几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4"/>
          <p:cNvSpPr/>
          <p:nvPr/>
        </p:nvSpPr>
        <p:spPr>
          <a:xfrm>
            <a:off x="914400" y="60948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8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、电视机厂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月份计划生产彩电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2500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台，实际生产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2400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台。节约了百分之几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Rectangle 5"/>
          <p:cNvSpPr/>
          <p:nvPr/>
        </p:nvSpPr>
        <p:spPr>
          <a:xfrm>
            <a:off x="990720" y="25146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9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、电视机厂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月份生产彩电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2500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台，比计划少生产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100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台。节约了百分之几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Rectangle 6"/>
          <p:cNvSpPr/>
          <p:nvPr/>
        </p:nvSpPr>
        <p:spPr>
          <a:xfrm>
            <a:off x="1066680" y="4648320"/>
            <a:ext cx="723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10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、电视机厂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月份计划生产彩电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2500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台，实际少生产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100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台。节约了百分之几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Text Box 2"/>
          <p:cNvSpPr/>
          <p:nvPr/>
        </p:nvSpPr>
        <p:spPr>
          <a:xfrm>
            <a:off x="914400" y="533520"/>
            <a:ext cx="763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、电视机厂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月份计划生产彩电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2500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台，实际生产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2600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台。完成计划的百分之几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Rectangle 3"/>
          <p:cNvSpPr/>
          <p:nvPr/>
        </p:nvSpPr>
        <p:spPr>
          <a:xfrm>
            <a:off x="1066680" y="236232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、电视机厂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月份计划生产彩电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2500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台，实际生产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2600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台。超额完成百分之几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Rectangle 4"/>
          <p:cNvSpPr/>
          <p:nvPr/>
        </p:nvSpPr>
        <p:spPr>
          <a:xfrm>
            <a:off x="990720" y="4267080"/>
            <a:ext cx="761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、电视机厂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月份计划生产彩电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2500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台，实际超额生产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100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台。完成计划的百分之几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2"/>
          <p:cNvSpPr/>
          <p:nvPr/>
        </p:nvSpPr>
        <p:spPr>
          <a:xfrm>
            <a:off x="914400" y="60948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、电视机厂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月份生产彩电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2500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台，比计划少生产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100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台。完成计划的百分之几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Rectangle 3"/>
          <p:cNvSpPr/>
          <p:nvPr/>
        </p:nvSpPr>
        <p:spPr>
          <a:xfrm>
            <a:off x="990720" y="251460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8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、电视机厂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月份生产彩电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2500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台，比计划少生产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100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台。节约了百分之几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Rectangle 4"/>
          <p:cNvSpPr/>
          <p:nvPr/>
        </p:nvSpPr>
        <p:spPr>
          <a:xfrm>
            <a:off x="1066680" y="4648320"/>
            <a:ext cx="7239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9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、电视机厂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月份计划生产彩电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2500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台，实际少生产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100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台。节约了百分之几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2"/>
          <p:cNvSpPr/>
          <p:nvPr/>
        </p:nvSpPr>
        <p:spPr>
          <a:xfrm>
            <a:off x="914400" y="30492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、电视机厂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月份计划生产彩电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2500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台，实际超额生产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100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台。超额完成百分之几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Rectangle 3"/>
          <p:cNvSpPr/>
          <p:nvPr/>
        </p:nvSpPr>
        <p:spPr>
          <a:xfrm>
            <a:off x="762120" y="228600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、电视机厂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月份生产彩电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2500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台，比计划多生产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100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台。完成计划的百分之几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Rectangle 4"/>
          <p:cNvSpPr/>
          <p:nvPr/>
        </p:nvSpPr>
        <p:spPr>
          <a:xfrm>
            <a:off x="762120" y="4495680"/>
            <a:ext cx="76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6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、电视机厂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月份生产彩电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2500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台，比计划多生产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100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台。超额完成百分之几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9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6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6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5-03-16T08:37:46Z</dcterms:modified>
  <cp:revision>4</cp:revision>
  <dc:subject/>
  <dc:title>PowerPoint Presentation</dc:title>
</cp:coreProperties>
</file>