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gif" ContentType="image/gif"/>
  <Override PartName="/ppt/media/image28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5.jpeg" ContentType="image/jpeg"/>
  <Override PartName="/ppt/media/image14.gif" ContentType="image/gif"/>
  <Override PartName="/ppt/media/image36.jpeg" ContentType="image/jpeg"/>
  <Override PartName="/ppt/media/image11.jpeg" ContentType="image/jpeg"/>
  <Override PartName="/ppt/media/image31.gif" ContentType="image/gif"/>
  <Override PartName="/ppt/media/image38.jpeg" ContentType="image/jpeg"/>
  <Override PartName="/ppt/media/image32.gif" ContentType="image/gif"/>
  <Override PartName="/ppt/media/image37.jpeg" ContentType="image/jpeg"/>
  <Override PartName="/ppt/media/image10.gif" ContentType="image/gif"/>
  <Override PartName="/ppt/media/image12.gif" ContentType="image/gif"/>
  <Override PartName="/ppt/media/image33.jpeg" ContentType="image/jpeg"/>
  <Override PartName="/ppt/media/image39.jpeg" ContentType="image/jpeg"/>
  <Override PartName="/ppt/media/image41.png" ContentType="image/png"/>
  <Override PartName="/ppt/media/image30.gif" ContentType="image/gif"/>
  <Override PartName="/ppt/media/image42.gif" ContentType="image/gif"/>
  <Override PartName="/ppt/media/image43.jpeg" ContentType="image/jpeg"/>
  <Override PartName="/ppt/media/image9.gif" ContentType="image/gif"/>
  <Override PartName="/ppt/media/image34.jpeg" ContentType="image/jpeg"/>
  <Override PartName="/ppt/media/image7.png" ContentType="image/png"/>
  <Override PartName="/ppt/media/image27.gif" ContentType="image/gif"/>
  <Override PartName="/ppt/media/image1.jpeg" ContentType="image/jpeg"/>
  <Override PartName="/ppt/media/image35.jpeg" ContentType="image/jpeg"/>
  <Override PartName="/ppt/media/image6.wmf" ContentType="image/x-wmf"/>
  <Override PartName="/ppt/media/image13.gif" ContentType="image/gif"/>
  <Override PartName="/ppt/media/image8.wmf" ContentType="image/x-wmf"/>
  <Override PartName="/ppt/media/image4.jpeg" ContentType="image/jpeg"/>
  <Override PartName="/ppt/media/image2.png" ContentType="image/png"/>
  <Override PartName="/ppt/media/image22.gif" ContentType="image/gif"/>
  <Override PartName="/ppt/media/image40.gif" ContentType="image/gif"/>
  <Override PartName="/ppt/media/image3.png" ContentType="image/png"/>
  <Override PartName="/ppt/media/image23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BD8-1718-4AFF-8E9B-B97C76C4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58C-F3E9-4DC3-890C-AC13880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8FF9-F814-403C-AA1E-046A4A04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926A0-6346-4D1D-B61A-A7E90F22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24AC3-F381-482C-8E10-037E53F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43A44-67E1-46C2-9A77-C274C43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D502C-397E-4534-A221-3FBB0CA5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2E6DF-013C-45A0-AC93-BC0CD193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7DF93-8B5B-4A34-BADE-C5D0F7E8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8FDD6-BD1D-47B1-9A0D-4135FEC2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CB1B7-48D1-4BA5-8392-963E78EA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4F47A-8E8A-47DD-8B18-8AF794E0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3764-95C0-4CE3-BAC0-12988B4F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ED0AC-4D00-46E7-BACB-482AEF89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69200-371C-40AE-88BB-4E93A59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2764C-C22C-4ADF-B03D-94B4E18B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C651C-1978-42C1-8FCD-B65E377E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E0EA6-A3D4-4A64-B67D-981DF0FA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5BAF1-B0C4-4E10-B06D-A202FE0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78F50-34AA-4350-BF60-99584948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E0BA8-F48E-4868-BCC2-8E95B4B4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0AD51-F8B9-4E08-B6CB-D66B9374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71120-0071-4A2B-B990-4D140324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0FFD-AAAA-4A0E-B2F5-40290786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64108-D191-44A7-8256-7FE31B38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C6CBF-23AC-41A3-AA3B-DE266F47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1E9DC-016F-4508-946F-55A2C6FD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82381-8B2B-4813-9AFD-5C0FA637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12884-F5E6-43A4-8A85-591D0DC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86118-4BDA-4E09-8E72-E7186069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95351-01FA-4EFE-B8E1-FED1F35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3604-AF79-4974-B7FF-BF32C20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E77C3-A57B-4037-BCA1-6FD613D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0DA6A-1E11-4BE0-96AA-2652A1BF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9759-4219-4DDE-831F-316A78A8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50130-2B35-4CC5-9CDC-4ACB297F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BBF3-8CA3-4CD5-9A40-B7BD5602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D5ABA-5226-488D-B601-D1F9D816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16E17-9312-48EF-BD93-23D06B9C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C864D-DED5-43E4-89FE-2F02A6C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1947A-451F-4315-B0B0-7790803E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CDB4B-EC7F-4D84-B16D-E26EAA18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C81E8-9177-448D-BAFF-17C9B4A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0809A-4581-45EE-9AF5-39FE66D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8CCC9-5415-44D8-839C-4DC43864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D0A-9CA3-4585-8C47-84D741C7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2F226-3B6E-46F7-82EE-7305525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5456C-C56A-4ECB-8A9B-C9A87F3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7B951-4884-4AEC-9489-445E92C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BCE78-EF91-4FCC-9365-E42CB0F8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77387-8277-4237-9C25-77115CFC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8E8DE-0A58-42AD-A2F9-54E9A3F5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A7F6D-A073-4D50-BA98-E9E1AB2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8CB76-D6D1-43BE-9162-0D0D0F7B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DF402-C871-4F3F-A621-3300C37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2B641-29DD-4910-8B54-C7463E5E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4846-A7A5-4944-BD75-65DFC942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36429-8E77-4EE9-A38B-30DADB66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1DF79-23FC-4A34-9A80-E64A2480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63CA2-9E5D-4A69-8439-EA19E9B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5F1B-1CD7-4BF1-B7B0-10C77CA1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4494D-7B43-4165-B0E8-D529DA4E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340C1-93F4-403D-A1D6-9555879A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4D2AD-1089-4C07-B6DD-6400A3BC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4784-4F96-4831-A701-831DB334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017E-D3B3-427C-9771-90950FA0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DD8E-5D6B-40D7-81DB-277BFF02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6DE-E0D2-4386-A90F-E60A20BC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8E2-FAFE-4770-942D-FE77EB54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327B-64DB-434B-BB0B-A50ABE63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1C09-AA01-42F2-9052-D02272A6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12A9-6884-4215-B7B0-97F0BA44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E2FE-7A3A-4E83-9D09-195C2750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00FB-64FF-41DD-B6BE-2A7E2A0A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F3F2A-3F7A-4F0E-BD90-FD389F46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47AB-899E-4200-8BE8-E906188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5995-90C8-4CA2-ABE0-D7698BE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71E7B-61A4-4D7E-BCF4-AD1BBB2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BAFA5-7286-40A4-9F9A-3DA438D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F03-93F5-4D3E-8937-A29B3D4C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6BC8-99D4-4B8F-BDE7-006F263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FEB9-803A-4B34-B20C-9B97DBB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68AA6-0786-4655-89C0-67D54A1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71BC-B9CF-478A-BD20-1ADF65A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6EF6-6BDB-4AB7-A6F9-6259CE7B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5EF7-464D-48E2-A767-36C7951E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632C-741A-48E2-B8CF-49C21663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4AD7-6138-4D4F-A41E-B27093CE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9C04-C31A-45AD-9615-21BC0D55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934E-98E7-4C80-9D7F-4EE6ACF6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264-35EE-47A8-A4E6-46777E0C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5BAE0-76E5-45FF-B09D-6F9F2E5D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97C1-FC92-4D8F-A3B0-785DEC7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AEFE-31AA-4F31-B5F1-13EE7EC1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D347-EBCC-463A-8578-8C6368F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09EA-7000-48EF-A666-5FD4A493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6FF04-DD73-48CF-978D-820EBDB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95685-20FD-4E0E-AEDC-ECBB6423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AE4B-C888-4EEE-A161-C0224E52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9A39-C935-4E60-A3D6-2FD91CDB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47E7-3976-4D44-BC05-73FDBDBB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D9DD-6B40-40B4-9483-72B326D6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9D86-531B-4E7D-BCD7-CE23624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764DC-7E64-410C-9D9C-9DB6872E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5659-41ED-44DF-92D6-376A4011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5D9D-4CF2-4B4E-A543-3EA25063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A017-3FA4-43D8-86E1-84ABE99A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86960-20A0-4D2C-8179-7BA840A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3BFD-797B-4A9F-A00A-F7874D29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B9AE-A9FD-4C9D-BFE8-2470A06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E891-32A2-45EC-B451-5D21D701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B6EFE-FA94-44A2-ADB1-A7D1205C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7907-8348-4E8C-A8BA-907F2D9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7E105-45AD-4393-894B-CBB515D8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B87CE-83E2-4A4A-B3FB-8E709B1E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CCE0-A3D9-4C8E-B17D-A47B83DE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68A14-B470-4AE5-8410-C02E753D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0B53-FE8D-4120-8BD8-36E1C8E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4A09-D9E1-4F68-BDB2-3CD88D7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A2C5F-6DF9-404B-B5D5-51A899D2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F270-616A-45E5-A62D-416D589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99897-3A02-4E76-A6D5-A5DF8BA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5E76-7527-4BC1-928D-0903F5AE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88C-A3DA-464E-9FB3-DC0AACCA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D11E9-1CFE-40C3-9D49-EBE10BD5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142C8-62D0-4D66-ACE1-49697359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06C02-9428-4771-A386-6D4B0009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B902-1D56-4E6B-971B-283007E8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D4A7-C330-4283-BDF3-55C2D02A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29FE4-7FC6-441E-8E7D-2E2D3C75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2C196-3D72-41F7-B3E1-F94B30A0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3DDF-429A-46BF-A2BB-E46260B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7657-57F4-4BB8-95B2-C55E2E80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67B30-100B-4528-94F0-B37AA94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563-8176-4280-AA0C-0F36C1C2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B7961-9A1C-46D1-9299-737C642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3A597-02D2-4480-8E49-3F73F05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8F97F-B3BE-4245-82D9-183089A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E3D4F-2F52-470B-A9C2-2404414D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82CCD-0DE9-4EB2-A9FA-67C9E824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46C8-9416-4113-B493-3BDB38D4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D20DF-5DE9-4873-8BA6-AF5572EB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880A-CF08-47E3-B046-3856C0DB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77B03-0C07-473B-80BC-0A3075A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1E16-9E7D-4613-B98E-5202BEB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12C-0B22-4377-A671-7427AA73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35424-60FD-4A30-97EA-BC406C21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73D18-5D6A-4054-9D8D-96D23DD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42803-EAE0-4D5A-B472-A93733B0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1A784-C06F-40E3-9AC6-86B48C9B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73EF4-DB6F-42C4-A66F-8BD1E191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951A-70EB-459B-96FC-ABDE7EDD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509E1-021F-4A1F-8988-EFEF19C8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8851E-C69A-4879-9F8E-4CCCBDD8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FC65C-8C3A-44FF-BDAE-25EAC7C5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A074F-5AD0-4A4F-9DE9-FCBE3680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210-610F-41EA-AA9D-F82381F9A7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05C-687B-4533-B06E-A6BFD6B4E9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40E1-E129-47FE-9BFB-606A96D26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12E-F2A4-4EA1-8E7A-F2516DBD45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7A6F-73A7-472F-8BDA-BCA55B9A08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A28E-726E-4E8D-98E5-9D608BD7988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E2CD-8DD4-434E-A625-3E8E68DEAB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92B6-F208-41A4-B1E9-6DA5B39840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7625-36BE-418B-8F5E-3EF04607A0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81C-D348-416E-A6C1-D137C3E57E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0C9-2A3B-4852-93BA-FCA3F799B7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9BA-F9BC-4130-BDD0-38DFF998D1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1841-B6CF-454A-83B6-4153F25DCA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30E-532C-4AB6-887B-3FA3319BDF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205D-02E1-40B4-BC48-49E1601DFE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6CB-EA0F-4F45-80D7-696E672B96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3CCF-BFCE-4B8A-B476-4F6A761D2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885F-4492-480C-A27D-EDBF8CCA63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ECF-17C7-4F1B-89FE-1B8BE42379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F40F-BB57-413C-BEF6-8C345DA7AD5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459-DBB5-46DC-B6C0-ABAD9F0FE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B678-62A2-4CAE-AE40-0240C6DECF1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BA0E-5296-4F6A-A465-AC5A5638DC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FE4-D244-4B3C-8E81-CEA7B3D93B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7563-D717-4691-9D14-34202BB85E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4.xml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hoto8.yupoo.com/20070729/231501_1594449302_vdyucrjl.jpg" TargetMode="External"/><Relationship Id="rId2" Type="http://schemas.openxmlformats.org/officeDocument/2006/relationships/image" Target="../media/image12.gif"/><Relationship Id="rId3" Type="http://schemas.openxmlformats.org/officeDocument/2006/relationships/hyperlink" Target="http://photo8.yupoo.com/20070729/231501_1951430035_gzlumshb.jpg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photo8.yupoo.com/20070729/231500_855926804_wppzqjpt.jpg" TargetMode="External"/><Relationship Id="rId6" Type="http://schemas.openxmlformats.org/officeDocument/2006/relationships/image" Target="../media/image14.gif"/><Relationship Id="rId7" Type="http://schemas.openxmlformats.org/officeDocument/2006/relationships/hyperlink" Target="http://photo6.yupoo.com/20070729/231500_1403506864_tmrmdojq.jpg" TargetMode="External"/><Relationship Id="rId8" Type="http://schemas.openxmlformats.org/officeDocument/2006/relationships/image" Target="../media/image15.gif"/><Relationship Id="rId9" Type="http://schemas.openxmlformats.org/officeDocument/2006/relationships/hyperlink" Target="http://photo8.yupoo.com/20070729/231502_1618600812_sxtohzfk.jpg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8.yupoo.com/20070729/231546_1571911182_ihculmbn.jpg" TargetMode="External"/><Relationship Id="rId12" Type="http://schemas.openxmlformats.org/officeDocument/2006/relationships/image" Target="../media/image17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hoto8.yupoo.com/20070729/231545_336508008_zfoekjmt.jpg" TargetMode="External"/><Relationship Id="rId2" Type="http://schemas.openxmlformats.org/officeDocument/2006/relationships/image" Target="../media/image18.gif"/><Relationship Id="rId3" Type="http://schemas.openxmlformats.org/officeDocument/2006/relationships/hyperlink" Target="http://photo8.yupoo.com/20070729/231545_1813063991_zpvynzzf.jpg" TargetMode="External"/><Relationship Id="rId4" Type="http://schemas.openxmlformats.org/officeDocument/2006/relationships/image" Target="../media/image19.gif"/><Relationship Id="rId5" Type="http://schemas.openxmlformats.org/officeDocument/2006/relationships/hyperlink" Target="http://photo8.yupoo.com/20070729/231547_753127691_lpztbbod.jpg" TargetMode="External"/><Relationship Id="rId6" Type="http://schemas.openxmlformats.org/officeDocument/2006/relationships/image" Target="../media/image20.gif"/><Relationship Id="rId7" Type="http://schemas.openxmlformats.org/officeDocument/2006/relationships/hyperlink" Target="http://photo6.yupoo.com/20070729/231546_1518136016_batgrvqm.jpg" TargetMode="External"/><Relationship Id="rId8" Type="http://schemas.openxmlformats.org/officeDocument/2006/relationships/image" Target="../media/image21.gif"/><Relationship Id="rId9" Type="http://schemas.openxmlformats.org/officeDocument/2006/relationships/hyperlink" Target="http://photo8.yupoo.com/20070729/231613_1332062759_aduxamzg.jpg" TargetMode="External"/><Relationship Id="rId10" Type="http://schemas.openxmlformats.org/officeDocument/2006/relationships/image" Target="../media/image22.gif"/><Relationship Id="rId11" Type="http://schemas.openxmlformats.org/officeDocument/2006/relationships/image" Target="../media/image23.gif"/><Relationship Id="rId12" Type="http://schemas.openxmlformats.org/officeDocument/2006/relationships/image" Target="../media/image24.gif"/><Relationship Id="rId13" Type="http://schemas.openxmlformats.org/officeDocument/2006/relationships/image" Target="../media/image25.gif"/><Relationship Id="rId14" Type="http://schemas.openxmlformats.org/officeDocument/2006/relationships/image" Target="../media/image26.gif"/><Relationship Id="rId15" Type="http://schemas.openxmlformats.org/officeDocument/2006/relationships/image" Target="../media/image27.gif"/><Relationship Id="rId16" Type="http://schemas.openxmlformats.org/officeDocument/2006/relationships/image" Target="../media/image28.gif"/><Relationship Id="rId17" Type="http://schemas.openxmlformats.org/officeDocument/2006/relationships/image" Target="../media/image29.gif"/><Relationship Id="rId18" Type="http://schemas.openxmlformats.org/officeDocument/2006/relationships/image" Target="../media/image30.gif"/><Relationship Id="rId19" Type="http://schemas.openxmlformats.org/officeDocument/2006/relationships/image" Target="../media/image31.gif"/><Relationship Id="rId2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image" Target="../media/image34.jpeg"/><Relationship Id="rId4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image" Target="../media/image34.jpeg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4.jpeg"/><Relationship Id="rId11" Type="http://schemas.openxmlformats.org/officeDocument/2006/relationships/image" Target="../media/image34.jpeg"/><Relationship Id="rId12" Type="http://schemas.openxmlformats.org/officeDocument/2006/relationships/image" Target="../media/image34.jpeg"/><Relationship Id="rId13" Type="http://schemas.openxmlformats.org/officeDocument/2006/relationships/image" Target="../media/image34.jpeg"/><Relationship Id="rId14" Type="http://schemas.openxmlformats.org/officeDocument/2006/relationships/image" Target="../media/image34.jpeg"/><Relationship Id="rId15" Type="http://schemas.openxmlformats.org/officeDocument/2006/relationships/image" Target="../media/image34.jpeg"/><Relationship Id="rId16" Type="http://schemas.openxmlformats.org/officeDocument/2006/relationships/image" Target="../media/image34.jpeg"/><Relationship Id="rId17" Type="http://schemas.openxmlformats.org/officeDocument/2006/relationships/image" Target="../media/image34.jpeg"/><Relationship Id="rId18" Type="http://schemas.openxmlformats.org/officeDocument/2006/relationships/image" Target="../media/image34.jpeg"/><Relationship Id="rId19" Type="http://schemas.openxmlformats.org/officeDocument/2006/relationships/image" Target="../media/image34.jpeg"/><Relationship Id="rId20" Type="http://schemas.openxmlformats.org/officeDocument/2006/relationships/image" Target="../media/image34.jpeg"/><Relationship Id="rId21" Type="http://schemas.openxmlformats.org/officeDocument/2006/relationships/image" Target="../media/image34.jpeg"/><Relationship Id="rId22" Type="http://schemas.openxmlformats.org/officeDocument/2006/relationships/image" Target="../media/image34.jpeg"/><Relationship Id="rId23" Type="http://schemas.openxmlformats.org/officeDocument/2006/relationships/image" Target="../media/image34.jpeg"/><Relationship Id="rId24" Type="http://schemas.openxmlformats.org/officeDocument/2006/relationships/image" Target="../media/image34.jpeg"/><Relationship Id="rId25" Type="http://schemas.openxmlformats.org/officeDocument/2006/relationships/image" Target="../media/image34.jpeg"/><Relationship Id="rId26" Type="http://schemas.openxmlformats.org/officeDocument/2006/relationships/image" Target="../media/image34.jpeg"/><Relationship Id="rId27" Type="http://schemas.openxmlformats.org/officeDocument/2006/relationships/image" Target="../media/image34.jpeg"/><Relationship Id="rId28" Type="http://schemas.openxmlformats.org/officeDocument/2006/relationships/image" Target="../media/image34.jpeg"/><Relationship Id="rId29" Type="http://schemas.openxmlformats.org/officeDocument/2006/relationships/image" Target="../media/image34.jpeg"/><Relationship Id="rId30" Type="http://schemas.openxmlformats.org/officeDocument/2006/relationships/image" Target="../media/image34.jpeg"/><Relationship Id="rId31" Type="http://schemas.openxmlformats.org/officeDocument/2006/relationships/image" Target="../media/image34.jpeg"/><Relationship Id="rId32" Type="http://schemas.openxmlformats.org/officeDocument/2006/relationships/image" Target="../media/image34.jpeg"/><Relationship Id="rId33" Type="http://schemas.openxmlformats.org/officeDocument/2006/relationships/image" Target="../media/image34.jpeg"/><Relationship Id="rId34" Type="http://schemas.openxmlformats.org/officeDocument/2006/relationships/image" Target="../media/image34.jpeg"/><Relationship Id="rId35" Type="http://schemas.openxmlformats.org/officeDocument/2006/relationships/image" Target="../media/image34.jpeg"/><Relationship Id="rId36" Type="http://schemas.openxmlformats.org/officeDocument/2006/relationships/image" Target="../media/image34.jpeg"/><Relationship Id="rId37" Type="http://schemas.openxmlformats.org/officeDocument/2006/relationships/image" Target="../media/image34.jpeg"/><Relationship Id="rId38" Type="http://schemas.openxmlformats.org/officeDocument/2006/relationships/image" Target="../media/image34.jpeg"/><Relationship Id="rId39" Type="http://schemas.openxmlformats.org/officeDocument/2006/relationships/image" Target="../media/image34.jpeg"/><Relationship Id="rId40" Type="http://schemas.openxmlformats.org/officeDocument/2006/relationships/image" Target="../media/image34.jpeg"/><Relationship Id="rId41" Type="http://schemas.openxmlformats.org/officeDocument/2006/relationships/image" Target="../media/image34.jpeg"/><Relationship Id="rId42" Type="http://schemas.openxmlformats.org/officeDocument/2006/relationships/image" Target="../media/image34.jpeg"/><Relationship Id="rId43" Type="http://schemas.openxmlformats.org/officeDocument/2006/relationships/image" Target="../media/image34.jpeg"/><Relationship Id="rId44" Type="http://schemas.openxmlformats.org/officeDocument/2006/relationships/image" Target="../media/image34.jpeg"/><Relationship Id="rId45" Type="http://schemas.openxmlformats.org/officeDocument/2006/relationships/image" Target="../media/image34.jpeg"/><Relationship Id="rId4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34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让我们荡起双浆.mi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WordArt 7"/>
          <p:cNvSpPr txBox="1"/>
          <p:nvPr/>
        </p:nvSpPr>
        <p:spPr>
          <a:xfrm>
            <a:off x="380880" y="2590920"/>
            <a:ext cx="83822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欢迎您的到来！</a:t>
            </a:r>
            <a:endParaRPr b="1" lang="en-US" sz="2400" spc="1" strike="noStrike">
              <a:ln w="3816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539" name="WordArt 8"/>
          <p:cNvSpPr txBox="1"/>
          <p:nvPr/>
        </p:nvSpPr>
        <p:spPr>
          <a:xfrm>
            <a:off x="380880" y="838080"/>
            <a:ext cx="60199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黑体"/>
              </a:rPr>
              <a:t>尊敬的各位家长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黑体"/>
              <a:ea typeface="黑体"/>
            </a:endParaRPr>
          </a:p>
        </p:txBody>
      </p:sp>
      <p:pic>
        <p:nvPicPr>
          <p:cNvPr id="540" name="Picture 9" descr="200492211034417"/>
          <p:cNvPicPr/>
          <p:nvPr/>
        </p:nvPicPr>
        <p:blipFill>
          <a:blip r:embed="rId3"/>
          <a:stretch/>
        </p:blipFill>
        <p:spPr>
          <a:xfrm>
            <a:off x="380880" y="5181480"/>
            <a:ext cx="5334120" cy="133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76360" y="5493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分析上述学生成绩较好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84360" y="170028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学生勤奋，对考试较重视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900000" y="2781360"/>
            <a:ext cx="6696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学生的学习方法较好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971640" y="3716280"/>
            <a:ext cx="75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）家长的支持和鼓励！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q4"/>
          <p:cNvPicPr/>
          <p:nvPr/>
        </p:nvPicPr>
        <p:blipFill>
          <a:blip r:embed="rId1"/>
          <a:stretch/>
        </p:blipFill>
        <p:spPr>
          <a:xfrm>
            <a:off x="228600" y="441360"/>
            <a:ext cx="131904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7"/>
          <p:cNvGrpSpPr/>
          <p:nvPr/>
        </p:nvGrpSpPr>
        <p:grpSpPr>
          <a:xfrm>
            <a:off x="1781280" y="2867040"/>
            <a:ext cx="6769080" cy="1125360"/>
            <a:chOff x="1781280" y="2867040"/>
            <a:chExt cx="6769080" cy="1125360"/>
          </a:xfrm>
        </p:grpSpPr>
        <p:sp>
          <p:nvSpPr>
            <p:cNvPr id="574" name="Rectangle 8"/>
            <p:cNvSpPr/>
            <p:nvPr/>
          </p:nvSpPr>
          <p:spPr>
            <a:xfrm>
              <a:off x="1781280" y="2867040"/>
              <a:ext cx="6769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1781280" y="2867040"/>
              <a:ext cx="668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6" name="Picture 10" descr="dh02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51640" y="5043600"/>
            <a:ext cx="1387440" cy="1299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1" descr="2007112472630902_1"/>
          <p:cNvPicPr/>
          <p:nvPr/>
        </p:nvPicPr>
        <p:blipFill>
          <a:blip r:embed="rId4"/>
          <a:stretch/>
        </p:blipFill>
        <p:spPr>
          <a:xfrm>
            <a:off x="324000" y="4653000"/>
            <a:ext cx="234000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295280" y="5335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一些学生考试成绩退步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55640" y="1844640"/>
            <a:ext cx="7273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1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对考试不重视，特别是单元考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755640" y="292428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826920" y="458136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3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学习方法不合适。（习惯差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826920" y="2781360"/>
            <a:ext cx="907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Tahoma"/>
              </a:rPr>
              <a:t>2.</a:t>
            </a: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学习态度差（学习不刻苦，不能客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99"/>
                </a:solidFill>
                <a:latin typeface="Tahoma"/>
              </a:rPr>
              <a:t>分析原因，总是怨天尤人）</a:t>
            </a:r>
            <a:r>
              <a:rPr b="0" lang="zh-CN" sz="3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7" descr="dh02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767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q4"/>
          <p:cNvPicPr/>
          <p:nvPr/>
        </p:nvPicPr>
        <p:blipFill>
          <a:blip r:embed="rId3"/>
          <a:stretch/>
        </p:blipFill>
        <p:spPr>
          <a:xfrm>
            <a:off x="304920" y="609480"/>
            <a:ext cx="1066680" cy="6336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9"/>
          <p:cNvGrpSpPr/>
          <p:nvPr/>
        </p:nvGrpSpPr>
        <p:grpSpPr>
          <a:xfrm>
            <a:off x="1403280" y="2924280"/>
            <a:ext cx="6769080" cy="1125360"/>
            <a:chOff x="1403280" y="2924280"/>
            <a:chExt cx="6769080" cy="1125360"/>
          </a:xfrm>
        </p:grpSpPr>
        <p:sp>
          <p:nvSpPr>
            <p:cNvPr id="586" name="Rectangle 10"/>
            <p:cNvSpPr/>
            <p:nvPr/>
          </p:nvSpPr>
          <p:spPr>
            <a:xfrm>
              <a:off x="1403280" y="2924280"/>
              <a:ext cx="6769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1403280" y="2924280"/>
              <a:ext cx="668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Text Box 12"/>
          <p:cNvSpPr/>
          <p:nvPr/>
        </p:nvSpPr>
        <p:spPr>
          <a:xfrm>
            <a:off x="1846800" y="5589720"/>
            <a:ext cx="408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家长的支持和鼓励不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http://photo8.yupoo.com/20070729/231501_1594449302_vdyucrj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90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http://photo8.yupoo.com/20070729/231501_1951430035_gzlumsh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341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http://photo8.yupoo.com/20070729/231500_855926804_wppzqjpt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242100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http://photo6.yupoo.com/20070729/231500_1403506864_tmrmdojq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500280"/>
            <a:ext cx="865440" cy="8654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6" descr="http://photo8.yupoo.com/20070729/231502_1618600812_sxtohzfk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450864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3387240" y="548280"/>
            <a:ext cx="14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8"/>
          <p:cNvSpPr/>
          <p:nvPr/>
        </p:nvSpPr>
        <p:spPr>
          <a:xfrm>
            <a:off x="4009680" y="1341000"/>
            <a:ext cx="5875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一周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333960" y="2349000"/>
            <a:ext cx="2082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开学两周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3333960" y="3357360"/>
            <a:ext cx="2082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3360960" y="4148640"/>
            <a:ext cx="17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12"/>
          <p:cNvSpPr txBox="1"/>
          <p:nvPr/>
        </p:nvSpPr>
        <p:spPr>
          <a:xfrm rot="5400000">
            <a:off x="-511200" y="2751120"/>
            <a:ext cx="4191120" cy="50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学期表情变化图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210120" y="5515560"/>
            <a:ext cx="27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中考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Picture 14" descr="http://photo8.yupoo.com/20070729/231546_1571911182_ihculmbn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227640" y="5300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15"/>
          <p:cNvSpPr/>
          <p:nvPr/>
        </p:nvSpPr>
        <p:spPr>
          <a:xfrm>
            <a:off x="3714840" y="3666600"/>
            <a:ext cx="23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http://photo8.yupoo.com/20070729/231545_336508008_zfoekjm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89000"/>
            <a:ext cx="792360" cy="633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http://photo8.yupoo.com/20070729/231545_1813063991_zpvynzzf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05264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" descr="http://photo8.yupoo.com/20070729/231547_753127691_lpztbbod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1916280"/>
            <a:ext cx="1152720" cy="7268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5" descr="http://photo6.yupoo.com/20070729/231546_1518136016_batgrvqm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68360" y="28526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http://photo8.yupoo.com/20070729/231613_1332062759_aduxamzg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84360" y="3860640"/>
            <a:ext cx="792360" cy="7923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http://photo8.yupoo.com/20070729/231612_1634465822_sjyjfzzg.jpg"/>
          <p:cNvPicPr/>
          <p:nvPr/>
        </p:nvPicPr>
        <p:blipFill>
          <a:blip r:embed="rId11"/>
          <a:stretch/>
        </p:blipFill>
        <p:spPr>
          <a:xfrm>
            <a:off x="2195640" y="4797360"/>
            <a:ext cx="1152360" cy="8240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8"/>
          <p:cNvSpPr/>
          <p:nvPr/>
        </p:nvSpPr>
        <p:spPr>
          <a:xfrm>
            <a:off x="856800" y="3326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期末快到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681480" y="907920"/>
            <a:ext cx="2111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得知考试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690120" y="1557000"/>
            <a:ext cx="16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395280" y="2708280"/>
            <a:ext cx="208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618480" y="3789360"/>
            <a:ext cx="16326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547200" y="4652640"/>
            <a:ext cx="163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4"/>
          <p:cNvSpPr/>
          <p:nvPr/>
        </p:nvSpPr>
        <p:spPr>
          <a:xfrm>
            <a:off x="3765600" y="6038640"/>
            <a:ext cx="23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5" descr="http://photo8.yupoo.com/20070729/231612_709979174_fmtqytcc.jpg"/>
          <p:cNvPicPr/>
          <p:nvPr/>
        </p:nvPicPr>
        <p:blipFill>
          <a:blip r:embed="rId12"/>
          <a:stretch/>
        </p:blipFill>
        <p:spPr>
          <a:xfrm>
            <a:off x="2268360" y="5877000"/>
            <a:ext cx="1368720" cy="760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6" descr="http://photo6.yupoo.com/20070729/231614_847433178_bnfgbvps.jpg"/>
          <p:cNvPicPr/>
          <p:nvPr/>
        </p:nvPicPr>
        <p:blipFill>
          <a:blip r:embed="rId13"/>
          <a:stretch/>
        </p:blipFill>
        <p:spPr>
          <a:xfrm>
            <a:off x="6084720" y="0"/>
            <a:ext cx="1008360" cy="8398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7"/>
          <p:cNvSpPr/>
          <p:nvPr/>
        </p:nvSpPr>
        <p:spPr>
          <a:xfrm>
            <a:off x="547200" y="6020640"/>
            <a:ext cx="16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8"/>
          <p:cNvSpPr/>
          <p:nvPr/>
        </p:nvSpPr>
        <p:spPr>
          <a:xfrm>
            <a:off x="4363560" y="0"/>
            <a:ext cx="16326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5296680" y="3732120"/>
            <a:ext cx="56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0" descr="http://photo8.yupoo.com/20070729/231611_516694906_thkadqxw.jpg"/>
          <p:cNvPicPr/>
          <p:nvPr/>
        </p:nvPicPr>
        <p:blipFill>
          <a:blip r:embed="rId14"/>
          <a:stretch/>
        </p:blipFill>
        <p:spPr>
          <a:xfrm>
            <a:off x="6156360" y="907920"/>
            <a:ext cx="1081080" cy="7714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1" descr="http://photo6.yupoo.com/20070729/231659_274432095_xsegbywx.jpg"/>
          <p:cNvPicPr/>
          <p:nvPr/>
        </p:nvPicPr>
        <p:blipFill>
          <a:blip r:embed="rId15"/>
          <a:stretch/>
        </p:blipFill>
        <p:spPr>
          <a:xfrm>
            <a:off x="6732720" y="1700280"/>
            <a:ext cx="936360" cy="7491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2" descr="http://photo6.yupoo.com/20070729/231659_1277055354_gwuufuut.jpg"/>
          <p:cNvPicPr/>
          <p:nvPr/>
        </p:nvPicPr>
        <p:blipFill>
          <a:blip r:embed="rId16"/>
          <a:stretch/>
        </p:blipFill>
        <p:spPr>
          <a:xfrm>
            <a:off x="6372360" y="2492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624" name="Rectangle 23"/>
          <p:cNvSpPr/>
          <p:nvPr/>
        </p:nvSpPr>
        <p:spPr>
          <a:xfrm>
            <a:off x="4434840" y="1051920"/>
            <a:ext cx="16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4"/>
          <p:cNvSpPr/>
          <p:nvPr/>
        </p:nvSpPr>
        <p:spPr>
          <a:xfrm>
            <a:off x="4353480" y="1700280"/>
            <a:ext cx="21117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一天晚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5"/>
          <p:cNvSpPr/>
          <p:nvPr/>
        </p:nvSpPr>
        <p:spPr>
          <a:xfrm>
            <a:off x="4404240" y="2708280"/>
            <a:ext cx="1908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小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6"/>
          <p:cNvSpPr/>
          <p:nvPr/>
        </p:nvSpPr>
        <p:spPr>
          <a:xfrm>
            <a:off x="3765240" y="47581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27" descr="http://photo8.yupoo.com/20070729/231659_946387693_pfwduifm.jpg"/>
          <p:cNvPicPr/>
          <p:nvPr/>
        </p:nvPicPr>
        <p:blipFill>
          <a:blip r:embed="rId17"/>
          <a:stretch/>
        </p:blipFill>
        <p:spPr>
          <a:xfrm>
            <a:off x="5292720" y="37162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8" descr="http://photo8.yupoo.com/20070729/231700_468342381_dvyerrrb.jpg"/>
          <p:cNvPicPr/>
          <p:nvPr/>
        </p:nvPicPr>
        <p:blipFill>
          <a:blip r:embed="rId18"/>
          <a:stretch/>
        </p:blipFill>
        <p:spPr>
          <a:xfrm>
            <a:off x="6084720" y="486900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9"/>
          <p:cNvSpPr/>
          <p:nvPr/>
        </p:nvSpPr>
        <p:spPr>
          <a:xfrm>
            <a:off x="4088520" y="422028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考试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30"/>
          <p:cNvSpPr/>
          <p:nvPr/>
        </p:nvSpPr>
        <p:spPr>
          <a:xfrm>
            <a:off x="4056480" y="4797360"/>
            <a:ext cx="1610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走出考场：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1"/>
          <p:cNvSpPr/>
          <p:nvPr/>
        </p:nvSpPr>
        <p:spPr>
          <a:xfrm>
            <a:off x="3850920" y="5734080"/>
            <a:ext cx="28724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对某老师的想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……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32" descr="231700_1542079419_wlyuucak"/>
          <p:cNvPicPr/>
          <p:nvPr/>
        </p:nvPicPr>
        <p:blipFill>
          <a:blip r:embed="rId19"/>
          <a:stretch/>
        </p:blipFill>
        <p:spPr>
          <a:xfrm>
            <a:off x="7164360" y="5516640"/>
            <a:ext cx="11509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WordArt 2"/>
          <p:cNvSpPr txBox="1"/>
          <p:nvPr/>
        </p:nvSpPr>
        <p:spPr>
          <a:xfrm>
            <a:off x="611280" y="907920"/>
            <a:ext cx="7561080" cy="414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66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存在问题：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6600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539640" y="393372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些学生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上课注意力不集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存在讲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看课外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睡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现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堂效率低、学习成绩不理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68360" y="17002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有些学生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学习目的性不明确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导致学习无动力。没有充分挖掘自己的潜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4" descr="3939"/>
          <p:cNvPicPr/>
          <p:nvPr/>
        </p:nvPicPr>
        <p:blipFill>
          <a:blip r:embed="rId1"/>
          <a:stretch/>
        </p:blipFill>
        <p:spPr>
          <a:xfrm>
            <a:off x="7451640" y="189000"/>
            <a:ext cx="1513080" cy="116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3348000" y="220500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324000" y="404640"/>
            <a:ext cx="849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部分学生平时不紧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考试前才想起要努力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按要求做练习、作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没能合理安排时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特别是中午和周六、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基础训练不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停留在听懂就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再深刻思考问题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380880" y="191628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000" spc="-1" strike="noStrike">
                <a:solidFill>
                  <a:srgbClr val="339966"/>
                </a:solidFill>
                <a:latin typeface="黑体"/>
                <a:ea typeface="黑体"/>
              </a:rPr>
              <a:t>有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生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作业完成情况差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老师讲评过的练习部分学生还是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没有养成及时订正的习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导致已做过的练习错了又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468360" y="4724280"/>
            <a:ext cx="82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些学生吃零食现象严重，同时卫生习惯差，给人印象十分不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468360" y="47628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部分孩子喜欢带一些与学习无关的书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P3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等到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yanzi"/>
          <p:cNvPicPr/>
          <p:nvPr/>
        </p:nvPicPr>
        <p:blipFill>
          <a:blip r:embed="rId1"/>
          <a:stretch/>
        </p:blipFill>
        <p:spPr>
          <a:xfrm>
            <a:off x="7236000" y="0"/>
            <a:ext cx="1523880" cy="1685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cai"/>
          <p:cNvPicPr/>
          <p:nvPr/>
        </p:nvPicPr>
        <p:blipFill>
          <a:blip r:embed="rId2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cai"/>
          <p:cNvPicPr/>
          <p:nvPr/>
        </p:nvPicPr>
        <p:blipFill>
          <a:blip r:embed="rId3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cai"/>
          <p:cNvPicPr/>
          <p:nvPr/>
        </p:nvPicPr>
        <p:blipFill>
          <a:blip r:embed="rId4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3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4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5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6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7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8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9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0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1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2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23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4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5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26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7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8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9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0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1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2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3" descr="cai"/>
          <p:cNvPicPr/>
          <p:nvPr/>
        </p:nvPicPr>
        <p:blipFill>
          <a:blip r:embed="rId3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4" descr="cai"/>
          <p:cNvPicPr/>
          <p:nvPr/>
        </p:nvPicPr>
        <p:blipFill>
          <a:blip r:embed="rId33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35" descr="cai"/>
          <p:cNvPicPr/>
          <p:nvPr/>
        </p:nvPicPr>
        <p:blipFill>
          <a:blip r:embed="rId34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36" descr="cai"/>
          <p:cNvPicPr/>
          <p:nvPr/>
        </p:nvPicPr>
        <p:blipFill>
          <a:blip r:embed="rId35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7" descr="cai"/>
          <p:cNvPicPr/>
          <p:nvPr/>
        </p:nvPicPr>
        <p:blipFill>
          <a:blip r:embed="rId36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8" descr="cai"/>
          <p:cNvPicPr/>
          <p:nvPr/>
        </p:nvPicPr>
        <p:blipFill>
          <a:blip r:embed="rId37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9" descr="cai"/>
          <p:cNvPicPr/>
          <p:nvPr/>
        </p:nvPicPr>
        <p:blipFill>
          <a:blip r:embed="rId38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0" descr="cai"/>
          <p:cNvPicPr/>
          <p:nvPr/>
        </p:nvPicPr>
        <p:blipFill>
          <a:blip r:embed="rId39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1" descr="cai"/>
          <p:cNvPicPr/>
          <p:nvPr/>
        </p:nvPicPr>
        <p:blipFill>
          <a:blip r:embed="rId40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2" descr="cai"/>
          <p:cNvPicPr/>
          <p:nvPr/>
        </p:nvPicPr>
        <p:blipFill>
          <a:blip r:embed="rId41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3" descr="cai"/>
          <p:cNvPicPr/>
          <p:nvPr/>
        </p:nvPicPr>
        <p:blipFill>
          <a:blip r:embed="rId42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4" descr="cai"/>
          <p:cNvPicPr/>
          <p:nvPr/>
        </p:nvPicPr>
        <p:blipFill>
          <a:blip r:embed="rId43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5" descr="cai"/>
          <p:cNvPicPr/>
          <p:nvPr/>
        </p:nvPicPr>
        <p:blipFill>
          <a:blip r:embed="rId44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6" descr="cai"/>
          <p:cNvPicPr/>
          <p:nvPr/>
        </p:nvPicPr>
        <p:blipFill>
          <a:blip r:embed="rId45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7" descr="cai"/>
          <p:cNvPicPr/>
          <p:nvPr/>
        </p:nvPicPr>
        <p:blipFill>
          <a:blip r:embed="rId46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-1692360" y="1700280"/>
            <a:ext cx="1047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首先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中学学业繁重，过度读课外书浪费时间，分散精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其次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课外书范围广，内容杂，有些根本不适合初中生阅读。尤其是武打、言情、异世、仙侠，甚至于色情书刊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次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本末倒置，上课，晚修都入迷，甚至作业乱做，甚至不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最后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书如药也，有良药也有毒药。对思想的影响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3049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一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外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yanzi"/>
          <p:cNvPicPr/>
          <p:nvPr/>
        </p:nvPicPr>
        <p:blipFill>
          <a:blip r:embed="rId1"/>
          <a:stretch/>
        </p:blipFill>
        <p:spPr>
          <a:xfrm>
            <a:off x="7956720" y="0"/>
            <a:ext cx="1523880" cy="16858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cai"/>
          <p:cNvPicPr/>
          <p:nvPr/>
        </p:nvPicPr>
        <p:blipFill>
          <a:blip r:embed="rId2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cai"/>
          <p:cNvPicPr/>
          <p:nvPr/>
        </p:nvPicPr>
        <p:blipFill>
          <a:blip r:embed="rId3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5" descr="cai"/>
          <p:cNvPicPr/>
          <p:nvPr/>
        </p:nvPicPr>
        <p:blipFill>
          <a:blip r:embed="rId4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7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8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9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0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1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2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3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4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5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6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7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8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9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0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1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2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3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4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5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6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7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8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9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0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31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2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33" descr="cai"/>
          <p:cNvPicPr/>
          <p:nvPr/>
        </p:nvPicPr>
        <p:blipFill>
          <a:blip r:embed="rId3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4" descr="cai"/>
          <p:cNvPicPr/>
          <p:nvPr/>
        </p:nvPicPr>
        <p:blipFill>
          <a:blip r:embed="rId33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5" descr="cai"/>
          <p:cNvPicPr/>
          <p:nvPr/>
        </p:nvPicPr>
        <p:blipFill>
          <a:blip r:embed="rId34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6" descr="cai"/>
          <p:cNvPicPr/>
          <p:nvPr/>
        </p:nvPicPr>
        <p:blipFill>
          <a:blip r:embed="rId35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7" descr="cai"/>
          <p:cNvPicPr/>
          <p:nvPr/>
        </p:nvPicPr>
        <p:blipFill>
          <a:blip r:embed="rId36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8" descr="cai"/>
          <p:cNvPicPr/>
          <p:nvPr/>
        </p:nvPicPr>
        <p:blipFill>
          <a:blip r:embed="rId37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9" descr="cai"/>
          <p:cNvPicPr/>
          <p:nvPr/>
        </p:nvPicPr>
        <p:blipFill>
          <a:blip r:embed="rId38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0" descr="cai"/>
          <p:cNvPicPr/>
          <p:nvPr/>
        </p:nvPicPr>
        <p:blipFill>
          <a:blip r:embed="rId39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1" descr="cai"/>
          <p:cNvPicPr/>
          <p:nvPr/>
        </p:nvPicPr>
        <p:blipFill>
          <a:blip r:embed="rId40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42" descr="cai"/>
          <p:cNvPicPr/>
          <p:nvPr/>
        </p:nvPicPr>
        <p:blipFill>
          <a:blip r:embed="rId41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43" descr="cai"/>
          <p:cNvPicPr/>
          <p:nvPr/>
        </p:nvPicPr>
        <p:blipFill>
          <a:blip r:embed="rId42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44" descr="cai"/>
          <p:cNvPicPr/>
          <p:nvPr/>
        </p:nvPicPr>
        <p:blipFill>
          <a:blip r:embed="rId43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5" descr="cai"/>
          <p:cNvPicPr/>
          <p:nvPr/>
        </p:nvPicPr>
        <p:blipFill>
          <a:blip r:embed="rId44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6" descr="cai"/>
          <p:cNvPicPr/>
          <p:nvPr/>
        </p:nvPicPr>
        <p:blipFill>
          <a:blip r:embed="rId45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7" descr="cai"/>
          <p:cNvPicPr/>
          <p:nvPr/>
        </p:nvPicPr>
        <p:blipFill>
          <a:blip r:embed="rId46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-1116000" y="1267920"/>
            <a:ext cx="975672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：在宿舍熄灯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上网，用短消息或者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QQ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聊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一聊就聊到深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造成睡眼不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第二天也就会精神不济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学习效率也大大折扣 ，长期以往，学业健康受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：初中生自制力弱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进课室，在课堂上发短消息或打游戏都可以在老师的眼皮底下隐敝地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定会影响学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弊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3: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会成为新型的攀比物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手机型号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外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功能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价钱都能成为比较的对象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攀比中自然会影响到学习或学生的心态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0" y="836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二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手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2005050204242260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3"/>
          <p:cNvSpPr/>
          <p:nvPr/>
        </p:nvSpPr>
        <p:spPr>
          <a:xfrm>
            <a:off x="2050920" y="476280"/>
            <a:ext cx="53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本次家长会议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900000" y="1341360"/>
            <a:ext cx="770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向家长汇报班级整体情况及简单介绍这次期中考试情况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由班长对这半个学期的学生情况做个汇报；尖子生孙亚琪谈谈她是如何学习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、就初二学生的一些“现象”及特征做个说明，望引起各位家长的高度重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留几个家长作个小范围的交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20050502042422603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2268360" y="112536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60e32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960e32"/>
                </a:solidFill>
                <a:latin typeface="Times New Roman"/>
              </a:rPr>
              <a:t>老师的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395280" y="1989000"/>
            <a:ext cx="770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手机上这件物品上，我们承受的起的是金钱，而我们承受不起的是逝去的美好求学时光和灿烂的未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u=835287119,1933748305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影响学生学业的因素之三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----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早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9612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会影响学业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会给学生造成严重心理伤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可能威胁学生的身体健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早恋现象会涣散同学的意志，影响整个学校风气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24000" y="25650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早恋期间的学生一般有下列几种表现：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讲究打扮和发型，在异性面前   表现失常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上课听讲注意力不集中，心事重重，学习成绩呈下降的趋势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沉默不语，不能按时就寝，逃避集体活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出现不正常的交往或来往书信   明显增多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cai"/>
          <p:cNvPicPr/>
          <p:nvPr/>
        </p:nvPicPr>
        <p:blipFill>
          <a:blip r:embed="rId1"/>
          <a:stretch/>
        </p:blipFill>
        <p:spPr>
          <a:xfrm>
            <a:off x="31240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4" descr="cai"/>
          <p:cNvPicPr/>
          <p:nvPr/>
        </p:nvPicPr>
        <p:blipFill>
          <a:blip r:embed="rId2"/>
          <a:stretch/>
        </p:blipFill>
        <p:spPr>
          <a:xfrm>
            <a:off x="7010280" y="62485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5" descr="cai"/>
          <p:cNvPicPr/>
          <p:nvPr/>
        </p:nvPicPr>
        <p:blipFill>
          <a:blip r:embed="rId3"/>
          <a:stretch/>
        </p:blipFill>
        <p:spPr>
          <a:xfrm>
            <a:off x="75438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6" descr="cai"/>
          <p:cNvPicPr/>
          <p:nvPr/>
        </p:nvPicPr>
        <p:blipFill>
          <a:blip r:embed="rId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7" descr="cai"/>
          <p:cNvPicPr/>
          <p:nvPr/>
        </p:nvPicPr>
        <p:blipFill>
          <a:blip r:embed="rId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8" descr="cai"/>
          <p:cNvPicPr/>
          <p:nvPr/>
        </p:nvPicPr>
        <p:blipFill>
          <a:blip r:embed="rId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9" descr="cai"/>
          <p:cNvPicPr/>
          <p:nvPr/>
        </p:nvPicPr>
        <p:blipFill>
          <a:blip r:embed="rId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0" descr="cai"/>
          <p:cNvPicPr/>
          <p:nvPr/>
        </p:nvPicPr>
        <p:blipFill>
          <a:blip r:embed="rId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1" descr="cai"/>
          <p:cNvPicPr/>
          <p:nvPr/>
        </p:nvPicPr>
        <p:blipFill>
          <a:blip r:embed="rId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2" descr="cai"/>
          <p:cNvPicPr/>
          <p:nvPr/>
        </p:nvPicPr>
        <p:blipFill>
          <a:blip r:embed="rId1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3" descr="cai"/>
          <p:cNvPicPr/>
          <p:nvPr/>
        </p:nvPicPr>
        <p:blipFill>
          <a:blip r:embed="rId1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14" descr="cai"/>
          <p:cNvPicPr/>
          <p:nvPr/>
        </p:nvPicPr>
        <p:blipFill>
          <a:blip r:embed="rId1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5" descr="cai"/>
          <p:cNvPicPr/>
          <p:nvPr/>
        </p:nvPicPr>
        <p:blipFill>
          <a:blip r:embed="rId1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6" descr="cai"/>
          <p:cNvPicPr/>
          <p:nvPr/>
        </p:nvPicPr>
        <p:blipFill>
          <a:blip r:embed="rId1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17" descr="cai"/>
          <p:cNvPicPr/>
          <p:nvPr/>
        </p:nvPicPr>
        <p:blipFill>
          <a:blip r:embed="rId1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18" descr="cai"/>
          <p:cNvPicPr/>
          <p:nvPr/>
        </p:nvPicPr>
        <p:blipFill>
          <a:blip r:embed="rId1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19" descr="cai"/>
          <p:cNvPicPr/>
          <p:nvPr/>
        </p:nvPicPr>
        <p:blipFill>
          <a:blip r:embed="rId1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0" descr="cai"/>
          <p:cNvPicPr/>
          <p:nvPr/>
        </p:nvPicPr>
        <p:blipFill>
          <a:blip r:embed="rId1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1" descr="cai"/>
          <p:cNvPicPr/>
          <p:nvPr/>
        </p:nvPicPr>
        <p:blipFill>
          <a:blip r:embed="rId1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2" descr="cai"/>
          <p:cNvPicPr/>
          <p:nvPr/>
        </p:nvPicPr>
        <p:blipFill>
          <a:blip r:embed="rId2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3" descr="cai"/>
          <p:cNvPicPr/>
          <p:nvPr/>
        </p:nvPicPr>
        <p:blipFill>
          <a:blip r:embed="rId2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4" descr="cai"/>
          <p:cNvPicPr/>
          <p:nvPr/>
        </p:nvPicPr>
        <p:blipFill>
          <a:blip r:embed="rId22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5" descr="cai"/>
          <p:cNvPicPr/>
          <p:nvPr/>
        </p:nvPicPr>
        <p:blipFill>
          <a:blip r:embed="rId23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26" descr="cai"/>
          <p:cNvPicPr/>
          <p:nvPr/>
        </p:nvPicPr>
        <p:blipFill>
          <a:blip r:embed="rId24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7" descr="cai"/>
          <p:cNvPicPr/>
          <p:nvPr/>
        </p:nvPicPr>
        <p:blipFill>
          <a:blip r:embed="rId25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8" descr="cai"/>
          <p:cNvPicPr/>
          <p:nvPr/>
        </p:nvPicPr>
        <p:blipFill>
          <a:blip r:embed="rId26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9" descr="cai"/>
          <p:cNvPicPr/>
          <p:nvPr/>
        </p:nvPicPr>
        <p:blipFill>
          <a:blip r:embed="rId27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30" descr="cai"/>
          <p:cNvPicPr/>
          <p:nvPr/>
        </p:nvPicPr>
        <p:blipFill>
          <a:blip r:embed="rId28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31" descr="cai"/>
          <p:cNvPicPr/>
          <p:nvPr/>
        </p:nvPicPr>
        <p:blipFill>
          <a:blip r:embed="rId29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2" descr="cai"/>
          <p:cNvPicPr/>
          <p:nvPr/>
        </p:nvPicPr>
        <p:blipFill>
          <a:blip r:embed="rId30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3" descr="cai"/>
          <p:cNvPicPr/>
          <p:nvPr/>
        </p:nvPicPr>
        <p:blipFill>
          <a:blip r:embed="rId31"/>
          <a:stretch/>
        </p:blipFill>
        <p:spPr>
          <a:xfrm>
            <a:off x="4191120" y="624852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34" descr="cai"/>
          <p:cNvPicPr/>
          <p:nvPr/>
        </p:nvPicPr>
        <p:blipFill>
          <a:blip r:embed="rId32"/>
          <a:stretch/>
        </p:blipFill>
        <p:spPr>
          <a:xfrm>
            <a:off x="45720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5" descr="cai"/>
          <p:cNvPicPr/>
          <p:nvPr/>
        </p:nvPicPr>
        <p:blipFill>
          <a:blip r:embed="rId33"/>
          <a:stretch/>
        </p:blipFill>
        <p:spPr>
          <a:xfrm>
            <a:off x="3657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36" descr="cai"/>
          <p:cNvPicPr/>
          <p:nvPr/>
        </p:nvPicPr>
        <p:blipFill>
          <a:blip r:embed="rId34"/>
          <a:stretch/>
        </p:blipFill>
        <p:spPr>
          <a:xfrm>
            <a:off x="2590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37" descr="cai"/>
          <p:cNvPicPr/>
          <p:nvPr/>
        </p:nvPicPr>
        <p:blipFill>
          <a:blip r:embed="rId35"/>
          <a:stretch/>
        </p:blipFill>
        <p:spPr>
          <a:xfrm>
            <a:off x="20574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8" descr="cai"/>
          <p:cNvPicPr/>
          <p:nvPr/>
        </p:nvPicPr>
        <p:blipFill>
          <a:blip r:embed="rId36"/>
          <a:stretch/>
        </p:blipFill>
        <p:spPr>
          <a:xfrm>
            <a:off x="16002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39" descr="cai"/>
          <p:cNvPicPr/>
          <p:nvPr/>
        </p:nvPicPr>
        <p:blipFill>
          <a:blip r:embed="rId37"/>
          <a:stretch/>
        </p:blipFill>
        <p:spPr>
          <a:xfrm>
            <a:off x="10666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40" descr="cai"/>
          <p:cNvPicPr/>
          <p:nvPr/>
        </p:nvPicPr>
        <p:blipFill>
          <a:blip r:embed="rId38"/>
          <a:stretch/>
        </p:blipFill>
        <p:spPr>
          <a:xfrm>
            <a:off x="5335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41" descr="cai"/>
          <p:cNvPicPr/>
          <p:nvPr/>
        </p:nvPicPr>
        <p:blipFill>
          <a:blip r:embed="rId39"/>
          <a:stretch/>
        </p:blipFill>
        <p:spPr>
          <a:xfrm>
            <a:off x="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2" descr="cai"/>
          <p:cNvPicPr/>
          <p:nvPr/>
        </p:nvPicPr>
        <p:blipFill>
          <a:blip r:embed="rId40"/>
          <a:stretch/>
        </p:blipFill>
        <p:spPr>
          <a:xfrm>
            <a:off x="48769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3" descr="cai"/>
          <p:cNvPicPr/>
          <p:nvPr/>
        </p:nvPicPr>
        <p:blipFill>
          <a:blip r:embed="rId41"/>
          <a:stretch/>
        </p:blipFill>
        <p:spPr>
          <a:xfrm>
            <a:off x="541008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44" descr="cai"/>
          <p:cNvPicPr/>
          <p:nvPr/>
        </p:nvPicPr>
        <p:blipFill>
          <a:blip r:embed="rId42"/>
          <a:stretch/>
        </p:blipFill>
        <p:spPr>
          <a:xfrm>
            <a:off x="5943600" y="6257880"/>
            <a:ext cx="533520" cy="60012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45" descr="cai"/>
          <p:cNvPicPr/>
          <p:nvPr/>
        </p:nvPicPr>
        <p:blipFill>
          <a:blip r:embed="rId43"/>
          <a:stretch/>
        </p:blipFill>
        <p:spPr>
          <a:xfrm>
            <a:off x="64771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46" descr="cai"/>
          <p:cNvPicPr/>
          <p:nvPr/>
        </p:nvPicPr>
        <p:blipFill>
          <a:blip r:embed="rId44"/>
          <a:stretch/>
        </p:blipFill>
        <p:spPr>
          <a:xfrm>
            <a:off x="8077320" y="6257880"/>
            <a:ext cx="533160" cy="60012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47" descr="cai"/>
          <p:cNvPicPr/>
          <p:nvPr/>
        </p:nvPicPr>
        <p:blipFill>
          <a:blip r:embed="rId45"/>
          <a:stretch/>
        </p:blipFill>
        <p:spPr>
          <a:xfrm>
            <a:off x="8610480" y="6257880"/>
            <a:ext cx="533520" cy="600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WordArt 2"/>
          <p:cNvSpPr txBox="1"/>
          <p:nvPr/>
        </p:nvSpPr>
        <p:spPr>
          <a:xfrm>
            <a:off x="250920" y="1125360"/>
            <a:ext cx="792000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关于孩子的教育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1447920" y="914400"/>
            <a:ext cx="793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611280" y="1052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若孩子在实际生活中确认，他的任性要求都能满足，他的不听话并未遭致任何不愉快的后果，那么就渐渐习惯于顽皮、任性、捣乱、不听话，之后就慢慢认为这是理所当然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著名教育家苏霍姆林斯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       </a:t>
            </a:r>
            <a:r>
              <a:rPr b="1" lang="zh-CN" sz="45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如果一个孩子没有良好的家庭教育，那么不管老师付出多大的努力，都收不到完美的效果，学校里的一切问题都会在家庭里折射出来，而学校复杂的教育过程产生困难的根源也都可以追溯到家庭。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18920" y="5300640"/>
            <a:ext cx="70866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著名教育家苏霍姆林斯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WordArt 2"/>
          <p:cNvSpPr txBox="1"/>
          <p:nvPr/>
        </p:nvSpPr>
        <p:spPr>
          <a:xfrm>
            <a:off x="611280" y="549360"/>
            <a:ext cx="741672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谈谈家庭教育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395280" y="1125360"/>
            <a:ext cx="7567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⒈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控制好上学放学时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间及业余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尤其是上网的时间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468360" y="2637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⒉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严格控制孩子的零花钱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 衣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发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式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468360" y="3429000"/>
            <a:ext cx="59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⒊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反对同学聚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过生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395280" y="42926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en-GB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双休日期间尽量少外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39640" y="50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⒌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了解孩子的交际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谁 特点 玩法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755640" y="33336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希望家长配合老师做好以下工作</a:t>
            </a:r>
            <a:r>
              <a:rPr b="1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684360" y="579132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孩子面前对学校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老师的评价态度的把握要恰当不要造成负面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幼圆"/>
              </a:rPr>
              <a:t>测测您的家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你们是否有全家一起固定参与的活动（散步，去祖父母家，购物，去朋友家）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cc3300"/>
                </a:solidFill>
                <a:latin typeface="黑体"/>
                <a:ea typeface="黑体"/>
              </a:rPr>
              <a:t>（这是一个令家庭成员可以交流的好机会，不要错过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你们是否同孩子一起看他喜爱的电视节目并讨论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000" spc="-1" strike="noStrike">
                <a:solidFill>
                  <a:srgbClr val="cc3300"/>
                </a:solidFill>
                <a:latin typeface="黑体"/>
                <a:ea typeface="黑体"/>
              </a:rPr>
              <a:t>（指导孩子有选择看电视节目是现代家庭必不可少的一课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、您是否知道孩子的好朋友是谁，他和朋友一起时所热衷的活动是什么？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100" spc="-1" strike="noStrike">
                <a:solidFill>
                  <a:srgbClr val="cc3300"/>
                </a:solidFill>
                <a:latin typeface="黑体"/>
                <a:ea typeface="黑体"/>
              </a:rPr>
              <a:t>（友谊是孩子成长中不可缺少的，是父母无法替代的，应该指导孩子如何交友）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b53beb0ecf10bafc37d12279"/>
          <p:cNvPicPr/>
          <p:nvPr/>
        </p:nvPicPr>
        <p:blipFill>
          <a:blip r:embed="rId1"/>
          <a:stretch/>
        </p:blipFill>
        <p:spPr>
          <a:xfrm>
            <a:off x="-228600" y="-228600"/>
            <a:ext cx="9505800" cy="7345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8"/>
          <p:cNvSpPr/>
          <p:nvPr/>
        </p:nvSpPr>
        <p:spPr>
          <a:xfrm>
            <a:off x="1379880" y="1447920"/>
            <a:ext cx="62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010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—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2011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学年第二学期期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9"/>
          <p:cNvSpPr/>
          <p:nvPr/>
        </p:nvSpPr>
        <p:spPr>
          <a:xfrm>
            <a:off x="2886480" y="26668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Times New Roman"/>
                <a:ea typeface="隶书"/>
              </a:rPr>
              <a:t>成绩分析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7724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在工作中取得成绩，是否会与全家人分享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分享自已的成功可以让每一个家庭成员都为你自豪，增强家庭的亲凝聚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您情绪暴躁并伴有过激行为时，是否会向家人（包括孩子）作出道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不要怕失面子，你的解释和道歉只会让家庭成员更多地体谅你，孩子对成人世界的了解可以丰富他的心灵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209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夫妻吵架是否回避孩子，事后是否会向孩子解释？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夫妻吵架在所难免，攻击性的争吵会给孩子带来恐惧，但当争吵发生时，父母应当顾及到孩子的感受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、在与孩子有沟通障碍时，是放弃还是另想其他方式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（沟通有障碍正说明有问题，可以从其他可能的方面入手，也许需要一段时间的等待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您是否会在客人面前公开谈论对孩子的教养心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请珍视孩子的自尊，这种谈论有害无益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、在孩子的朋友面前，你是否会大声斥责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（这会让孩子很没面子，即使孩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有错，也要等到朋友走了以后再管教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在孩子提出过分的物质要求时，您是简单粗暴地拒绝，还是先了解原因再疏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如果粗暴地拒绝，您将错过一次了解、疏导孩子的机会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当您与孩子发生争执，您是否会以摔坏他喜爱的物品作为惩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这是很不成熟的表现，别忘记您是成人，打击孩子不是良策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会在孩子面前与他人谈论他的过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请维护孩子的自尊心，他一定不希望听到您谈论他的过失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孩子解决不了的问题，您是如何帮助他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要相信孩子，他们要父母想象的好得多，为什么不让他试试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给自己和配偶留下独处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要有独处的时间，沉浸于自己的世界，夫妻也要有纯粹的二人世界，平静调节感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你们的家务分配合理吗？有没有人不做家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责任的培养应该体现在家务的承担上，没有人可以有借口不做家务，只是多少而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认为工作忙是你无法管教孩子的充足理由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是父母的责任，工作忙是一条理由，却不是充足的理由，你一定可以找到时间和机会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您是否会在孩子面前赞美您的丈夫（妻子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孩子感觉到父母的相爱和美好，会使孩子更有安全感，更易信任他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Text Box 2"/>
          <p:cNvSpPr/>
          <p:nvPr/>
        </p:nvSpPr>
        <p:spPr>
          <a:xfrm>
            <a:off x="2411280" y="47628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彩云"/>
              </a:rPr>
              <a:t>       </a:t>
            </a: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华文隶书"/>
              </a:rPr>
              <a:t>孩子是祖国的未来，民族的希望，更是我们每一个家庭的寄托。在此衷心祝愿我们每一个孩子健康成长，每一个家庭幸福平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3" descr="rose"/>
          <p:cNvPicPr/>
          <p:nvPr/>
        </p:nvPicPr>
        <p:blipFill>
          <a:blip r:embed="rId1"/>
          <a:stretch/>
        </p:blipFill>
        <p:spPr>
          <a:xfrm>
            <a:off x="0" y="152280"/>
            <a:ext cx="2521080" cy="67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0570"/>
          <p:cNvPicPr/>
          <p:nvPr/>
        </p:nvPicPr>
        <p:blipFill>
          <a:blip r:embed="rId1"/>
          <a:stretch/>
        </p:blipFill>
        <p:spPr>
          <a:xfrm>
            <a:off x="0" y="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3"/>
          <p:cNvSpPr/>
          <p:nvPr/>
        </p:nvSpPr>
        <p:spPr>
          <a:xfrm>
            <a:off x="577800" y="990720"/>
            <a:ext cx="818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1203480" y="2666880"/>
            <a:ext cx="545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900000" y="5084640"/>
            <a:ext cx="75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经常联系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826920" y="314172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620787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3"/>
          <p:cNvSpPr/>
          <p:nvPr/>
        </p:nvSpPr>
        <p:spPr>
          <a:xfrm>
            <a:off x="0" y="0"/>
            <a:ext cx="838836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ff"/>
                </a:solidFill>
                <a:latin typeface="Arial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任课教师联络方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（安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3081095213     852412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（赵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（甄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（赵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历史（张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政治（牛）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852412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4" descr="27"/>
          <p:cNvPicPr/>
          <p:nvPr/>
        </p:nvPicPr>
        <p:blipFill>
          <a:blip r:embed="rId2"/>
          <a:stretch/>
        </p:blipFill>
        <p:spPr>
          <a:xfrm rot="2269200">
            <a:off x="6732720" y="333360"/>
            <a:ext cx="1655640" cy="93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b53beb0ecf10bafc37d12279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3454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1066680" y="9144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各科最高分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066680" y="1676520"/>
          <a:ext cx="7113600" cy="3744720"/>
        </p:xfrm>
        <a:graphic>
          <a:graphicData uri="http://schemas.openxmlformats.org/drawingml/2006/table">
            <a:tbl>
              <a:tblPr/>
              <a:tblGrid>
                <a:gridCol w="1094040"/>
                <a:gridCol w="1066680"/>
                <a:gridCol w="1295280"/>
                <a:gridCol w="1219320"/>
                <a:gridCol w="1219320"/>
                <a:gridCol w="1218960"/>
              </a:tblGrid>
              <a:tr h="91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语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数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英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物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历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政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ff"/>
                    </a:solidFill>
                  </a:tcPr>
                </a:tc>
              </a:tr>
              <a:tr h="915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5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杨硕等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杨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马子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石淞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李伊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石淞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Picture 2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5" name="WordArt 3"/>
          <p:cNvSpPr txBox="1"/>
          <p:nvPr/>
        </p:nvSpPr>
        <p:spPr>
          <a:xfrm>
            <a:off x="380880" y="533520"/>
            <a:ext cx="6096240" cy="36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谢谢！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再见！</a:t>
            </a:r>
            <a:endParaRPr b="0" lang="en-US" sz="2400" spc="1" strike="noStrike">
              <a:ln w="3816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26" name="Picture 5" descr="BD10253_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BD10253_"/>
          <p:cNvPicPr/>
          <p:nvPr/>
        </p:nvPicPr>
        <p:blipFill>
          <a:blip r:embed="rId3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7" descr="BD10253_"/>
          <p:cNvPicPr/>
          <p:nvPr/>
        </p:nvPicPr>
        <p:blipFill>
          <a:blip r:embed="rId4"/>
          <a:stretch/>
        </p:blipFill>
        <p:spPr>
          <a:xfrm>
            <a:off x="7680240" y="489600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829" name="b04.mid" descr=""/>
          <p:cNvPicPr/>
          <p:nvPr/>
        </p:nvPicPr>
        <p:blipFill>
          <a:blip r:embed="rId5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" fill="hold"/>
                                        <p:tgtEl>
                                          <p:spTgt spid="8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b53beb0ecf10bafc37d12279"/>
          <p:cNvPicPr/>
          <p:nvPr/>
        </p:nvPicPr>
        <p:blipFill>
          <a:blip r:embed="rId1"/>
          <a:stretch/>
        </p:blipFill>
        <p:spPr>
          <a:xfrm>
            <a:off x="-181080" y="-171360"/>
            <a:ext cx="9506160" cy="7345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914400" y="762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班级前十名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3172680" y="5486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警示：有薄弱科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Object 7"/>
          <p:cNvGraphicFramePr/>
          <p:nvPr/>
        </p:nvGraphicFramePr>
        <p:xfrm>
          <a:off x="990720" y="1295280"/>
          <a:ext cx="731520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31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3119400" y="395280"/>
            <a:ext cx="27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01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年河北中考分数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596240" y="1427040"/>
            <a:ext cx="62215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前年，长沙市一中和师大附中的最低录取分数线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5A1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中招第一批录取分数线出炉，长沙市一中、师大附中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雅礼中学和长郡中学都将分数线划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6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且雅礼中学和长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中学还要求综合素质评定成绩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4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也就是必须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科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全部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等，才能被雅礼中学和长郡中学录取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中招办公布首批进点招生学校公费录取最低控制线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一中、师大附中、雅礼中学和长郡中学都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6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长沙市一中对综合试验区的考生学业成绩等第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5A1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明德中学、周南中学和田家炳实验中学对考生学业成绩等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要求为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3A3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086"/>
          <p:cNvPicPr/>
          <p:nvPr/>
        </p:nvPicPr>
        <p:blipFill>
          <a:blip r:embed="rId1"/>
          <a:stretch/>
        </p:blipFill>
        <p:spPr>
          <a:xfrm>
            <a:off x="0" y="0"/>
            <a:ext cx="9647280" cy="72547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42920" y="765000"/>
            <a:ext cx="3754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期中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年级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名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WordArt 5"/>
          <p:cNvSpPr txBox="1"/>
          <p:nvPr/>
        </p:nvSpPr>
        <p:spPr>
          <a:xfrm>
            <a:off x="2627280" y="5373720"/>
            <a:ext cx="46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你们真棒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b53beb0ecf10bafc37d12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3"/>
          <p:cNvSpPr/>
          <p:nvPr/>
        </p:nvSpPr>
        <p:spPr>
          <a:xfrm>
            <a:off x="838080" y="533520"/>
            <a:ext cx="676908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成绩进步幅度大的同学</a:t>
            </a:r>
            <a:r>
              <a:rPr b="1" lang="en-US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Object 5"/>
          <p:cNvGraphicFramePr/>
          <p:nvPr/>
        </p:nvGraphicFramePr>
        <p:xfrm>
          <a:off x="990720" y="1295280"/>
          <a:ext cx="728172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72817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b53beb0ecf10bafc37d122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1965240" y="2286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各科平均分及年级排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143000" y="1066680"/>
          <a:ext cx="6705720" cy="4907160"/>
        </p:xfrm>
        <a:graphic>
          <a:graphicData uri="http://schemas.openxmlformats.org/drawingml/2006/table">
            <a:tbl>
              <a:tblPr/>
              <a:tblGrid>
                <a:gridCol w="1905120"/>
                <a:gridCol w="2590560"/>
                <a:gridCol w="2210040"/>
              </a:tblGrid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科目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平均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名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语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2.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数学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4.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英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9.9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政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8.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历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84.7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物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76.7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6:16:30Z</dcterms:modified>
  <cp:revision>10</cp:revision>
  <dc:subject/>
  <dc:title>PowerPoint Presentation</dc:title>
</cp:coreProperties>
</file>