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.wmf" ContentType="image/x-wmf"/>
  <Override PartName="/ppt/media/image3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A37-208A-484D-B9DE-880A5754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240-FB30-449D-8171-4E829A20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BFBDB-3B84-450B-B3B1-F45DF7D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43BD3-7438-468E-911F-9CE5C44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23A52-66F9-465F-91C5-BBC8FCA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989D5-75BE-4437-9666-49D3BF4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EC068-3ABA-4434-94DC-46C1005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DAD6D-1A5B-474E-B3D2-49C58A3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6F6B9-D4F7-4FAC-97AE-C3A81A45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0D30B-8033-44A5-98F3-E07800A6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924AF-1A09-4191-ADD9-185483AB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44F35-E5CD-4B20-92F3-0BAF9216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744-8602-490E-A6D4-85F199FE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14CF9-AFDE-4020-BA22-BDAE20F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BA2CE-1080-4AE2-81BC-75725098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AEEF3-BA1C-41CC-A305-A859E235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157C2-B016-45C9-B1C5-9DFB221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924F5-4EF5-439D-8F88-2310994A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B8110-ACFF-43E4-BA9C-6A789CE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C4D6-3D9E-461E-809C-F88B959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B8EAB-637C-448F-9587-DD50E97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0E902-958A-4030-9D6C-8A492CE7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11B81-62CD-4A3B-B9B0-2CA08837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FCE-307D-44D8-8218-F72AF06D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9EC86-DD49-4309-B1D7-77CD6005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6585A-B69A-49D9-B15A-F25441DE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31D58-FF91-4447-8DDB-21FED78C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A89D-2723-4DE2-9267-BD4C6BC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635D-930F-483A-BB37-1AF7004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19D5-DAA4-404E-8119-9EADF4A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E7A2A-A3BC-44C0-995E-288D31D5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B1F0-017F-4FB0-937E-B578718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63C7A-92CA-4B15-8836-F186F71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BAF69-A046-42EF-8C52-3D283CB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DD62-B100-40E2-BC46-59444D7C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F4DCA-8628-42B1-A883-AF1CAC5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EFFDA-2665-4A57-8008-1A41097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72B72-85BB-4967-A7F6-F20C6249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89BBC-4516-4567-BF73-E83E0B52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B3F98-E3BB-497A-BA21-DFA4ADC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C50D0-6274-45EC-B3A1-0627ACC1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E3DC5-0062-4060-AC55-2BBA63A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4FC34-876C-4FD6-9E1A-75439EF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F00D4-44FE-404A-B7EE-EEA717E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4557D-1CCA-4219-8E38-EC36073F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D5E5-F2C5-4565-AE5A-581FE062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E47B6-68A7-48A2-A10E-AB9F13B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4E5CB-02D4-42A6-B849-7AA3A9F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333DB-B0BC-4B59-8488-E034B92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C7A9-BC52-44B4-AA0E-EBB2E001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AC284-C065-44C3-A5F9-C3168844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9C0A5-B9F9-47EF-B5D2-7459F547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1EF06-3CCE-49BD-8622-30E3971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8CFE6-1CA6-4EFE-BA3D-0FF34EF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C6118-ABDC-4A32-AA6A-3F3A17D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A36DF-4EEC-4295-827E-81F179E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6B5C-BE72-41D3-9427-224BF31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A6CD4-E61D-4956-9CA9-05C98B65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CDF18-4268-4533-92BF-E0A54FC8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0E10A-9902-4669-B4B0-D6E620D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C7A46-FBDA-448E-9B08-8B5E970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4AC44-5312-4EFC-B757-1B1DAFA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A8323-37F7-4C07-BFA3-4EA23F99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0A62A-E48C-4A99-90C3-C80F67D7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26C-15B1-4B33-BAAB-5EA4BF8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633F-94C6-4F5A-BA78-D469CA9C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7D79-C671-415A-AC36-ADCE9A9F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7F4-B674-4FC5-865B-ACDCFE36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7F8-33C4-46EB-AB49-C56090E3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D09E-9177-4DA5-BC6A-CBBABC8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C37-3BFD-4FD9-8C7C-4BECC08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2977-2F73-4290-ABAD-F90B33B8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5F6C-D232-4522-A411-5CA5BAD7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99D0-C827-49BD-B102-C69B6EDD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E386-E267-46E2-AC64-83D704F6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4CE7-20EF-4778-85B3-3D56B7D3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F7B9-FBC1-4768-882C-49612EAC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13B0-DDA2-4C1C-A632-62D8174D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5294-4064-447F-BAB4-75EE568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EDC-9F2C-4575-8F8D-E2C1805B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0632-7ADA-4B39-9F38-34B3187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13AC-E225-49FA-BAA3-FE2F884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A6FA-18B5-47E1-ABD1-38694D3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E924-9934-417F-B5A6-92FD2E9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635E-C068-4C40-B0B8-7A5FCD0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3589-F86C-416A-A641-E4C9F25A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2076-DAC9-41ED-A159-6528CBB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6C60-E9E4-496C-A4EF-AB045FBE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FB7A-2467-4E9B-BFF8-F452AEA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8EC6-20E7-463B-889A-02C5AC7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989-40F7-4EC9-8B29-EF3531AC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BB15-5249-4C9B-87ED-D80A58B3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21B9-8E1D-49CF-B975-BB7A3113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C8D6-E835-4A08-BD15-CE55682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1EBF-518D-4470-8012-3A5D8C1F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C24D5-3037-4F03-9006-A6FF2E7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FCC2-330C-4869-B577-1933614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343D-0F79-4C4C-BA5D-8B20498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3AA3-12F0-43A5-8001-58AB5200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B8CA-58CD-4E12-8B4F-640251A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9478-9E65-4215-A85C-65D3FA83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7FD-906E-4D2D-B364-665F3C70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38A6-C8FA-459C-9B89-D67562C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F6FFA-0ADC-474D-8FE7-81197E26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DE0F-8B1F-44E7-990B-31596F9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821E-FCBC-4B8A-B3EC-B34C704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3813-8E07-46CD-B146-55EE6AA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19E5-378E-4416-A6CC-78A9D53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2B8A-94B0-420E-8996-239351E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07CA-5717-4E75-8CB3-67F7ADA0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C76B6-A5F0-4C99-8FF3-C8C7FFE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3AD9-4830-4988-961B-CB23E3D4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A93-1FB5-46C5-90F4-7DC6A5B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5AF07-635D-41E2-9E32-8EA409A7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B82A-6B96-4D46-A965-15810365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E736-7A46-4EF5-946D-7D8A7FEC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1534D-6027-4DAB-BA4D-C298D396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BD4B-13FE-4A01-B7D3-F06EB0D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3E39-6159-48EF-BAB6-7EECA0F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11A1-18A2-4D7D-88F2-BC3F01B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768B-6459-49F8-BA20-B204002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58C3-31F6-4FAF-8115-676BEF4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F6D9-B10F-40E3-A21A-28B647D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85E-AD95-4F6D-89EA-2DA46B1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663E-7B68-4735-A11F-2DEB4A91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B11C-C939-4FC5-902E-D4AFDDF6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4233C-8B93-478D-AD40-C7966837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7D5D-8E0B-4EA3-A162-66AFF7EF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2DFE-256D-486A-BBAD-E9AE882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5C99-A75B-4B81-A2B2-50A3510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9C76-3F45-47FA-BB33-D7CA6F6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65FA1-8970-4812-9DF0-A578F4C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6ED6-3847-4796-AD4C-165D864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D1D5-6AA8-4199-9B99-8AD70AB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EC9-319A-4FBB-B355-E36A44F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AF6B-E48A-463C-B92D-51E1176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150F-BB0E-41CF-ABD1-524DF8A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208B-849E-4A5C-8619-D586D47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8390-C48E-4697-A9B8-FF772F29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1CA55-C791-439E-83F2-4AC47493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55AB7-5636-4585-8C1F-2EDDDCFA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843F-F326-4028-8E09-EFB32800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75F80-3726-4E1F-A4CC-18C1B85D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D58A-5535-4A1F-9397-1725F013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512E-A962-4311-9731-E21CDF6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FEF-0265-4548-A0C3-D15E6FE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3D914-16E6-4F7E-8662-E9B85C9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1792-219E-4631-A3DC-1D7E6B0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527D-2C28-49BA-BD2C-0444289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7EAE-C68C-4EF1-ABB8-2CEE006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9731-68A0-4F99-A3F2-B8C11A5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93EB-2FCB-4F63-A022-45ED038A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8C4A-259F-4294-BDB2-6243C1D3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7C34-A197-4112-98F2-D7EBF4C9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C5F27-C8C3-4EAA-8C96-A601C828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87926-2A83-41CB-8BAD-00C662F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5DCA-C05E-421F-A45B-9FB1FF54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5F37-45E1-4EA4-915A-9116142B47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3C2-1B5D-4ED7-A5CF-917F1E2A48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D53-D04F-41AE-9901-1BDA473537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85B-95A2-4CD2-9820-CC15DC3284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C4BA-33BE-4F7E-9088-5515A43E22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104-F9F0-4559-A24E-0744E57FBE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AEA7-6E88-46D8-A9B3-62EEE368F9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FCE-7FE7-4893-A863-601963D05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DF4-2010-461A-92FA-2DE8359306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205C-15FD-4687-9DA1-565BA3736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AC75-2576-4A88-96E8-3E81FE6A34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E21-B787-4C62-B5FE-73D5F69EE9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E5F7-7765-4BA3-B2A8-2BE1A840C5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F02-324B-4B57-AE88-C12EE0D0D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5CE-0E5E-4816-8D10-41DEE8E23B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2A5-4BF9-4BC3-A82C-D77A88B369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AEC9-ACFE-46C1-BAE3-32FD078D90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20CA-31F0-43F6-8EF9-DA29494BB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EAC-EA50-434D-85ED-ED2059C45A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DCF-163F-4846-9CA2-75AA8328C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DC3-805C-498D-A332-39271E62DE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5D6-D6E1-4CC9-BE8A-BA3E047A7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205E-1345-4451-AB17-C8978CCCD4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7E3-F9BC-45A0-A787-C338B5766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image" Target="../media/image5.gif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414360" y="63360"/>
            <a:ext cx="156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北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京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起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来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2308680" y="603396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生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863160" y="603576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5932440" y="6097680"/>
            <a:ext cx="1155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图片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7702920" y="615636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2" descr="王府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8246520" y="228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396240" y="17136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繁华的大街变成了比白天更美的“不夜城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西单路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8322840" y="2239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2" descr="古老的紫禁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8398800" y="4876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903680" y="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长长的城墙和美丽的角楼倒映在河面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银光闪闪，十分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2" descr="北京夜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1992240" y="115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你想对北京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2" descr="梅地亚中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8459280" y="39672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前门箭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8246520" y="29988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" descr="人民大会堂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9000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人民大会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2" descr="天安门石狮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550440" y="-15732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中华世纪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8170200" y="15228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3" descr="中央电视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8246520" y="38088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168920" y="990720"/>
            <a:ext cx="6748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夜幕降临       长安街         灯光闪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光彩夺目       勾画             喷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王府井           紫禁城         一束束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金碧辉煌       一幢幢         繁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NA01441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1721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260000" y="380880"/>
            <a:ext cx="7195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写出下面字的偏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夺（        ）       禁（       ）     府（       ）    闪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在括号里填上合适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幢幢（                      ）         一座座（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束束（                        ）       一条条（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8165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41025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623628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82173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04272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房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7382520" y="3657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27378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灯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7160760" y="45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1" descr="3"/>
          <p:cNvPicPr/>
          <p:nvPr/>
        </p:nvPicPr>
        <p:blipFill>
          <a:blip r:embed="rId2"/>
          <a:stretch/>
        </p:blipFill>
        <p:spPr>
          <a:xfrm>
            <a:off x="304920" y="5592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835280" y="422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" descr="北京夜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748440" y="113832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灯的海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光的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2" descr="aa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4343400"/>
            <a:ext cx="2194200" cy="21938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2313000" y="540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由朗读课文的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—5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然段，找一找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中主要描写了北京的哪些夜景？你喜欢哪个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景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2616120" y="1752480"/>
            <a:ext cx="53150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长安街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天安门城楼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广场四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环形路 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街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王府井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西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紫禁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2" descr="长安街夜景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8595720" y="472428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1276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东西长安街华灯高照，川流不息的汽车，灯光闪烁，像银河从天而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天安门城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8636400" y="22860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852720" y="7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天安门城楼金碧辉煌，光彩夺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2" descr="天安门广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626400" y="2286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3736080" y="5438880"/>
            <a:ext cx="18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广场四周，彩灯勾画出一幢幢高大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筑的雄伟轮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" descr="复兴门立交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474120" y="4876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953520" y="15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环形路上，一座座立交桥犹如道道彩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街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8595720" y="15228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3774600" y="54100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街道上，照明灯、草坪灯、喷泉灯、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花灯装点着美丽的北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09:21:0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10:00:27Z</dcterms:modified>
  <cp:revision>16</cp:revision>
  <dc:subject>第一PPT模板网-WWW.1PPT.COM</dc:subject>
  <dc:title>第一PPT模板网-WWW.1PPT.COM</dc:title>
</cp:coreProperties>
</file>