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6ED-89F1-4039-8BD6-DE09033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A08-287D-4510-A45F-B32DFC7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6C759-43EB-4DEC-8E0E-F03F696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9661B-8BBD-446C-A2B4-8CF167DF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EF479-03F2-4CC4-B07E-4AD10820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CB143-31EF-43B6-B89B-953F7C1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1480-DF96-4E08-A97F-D604552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175FC-BA4C-4DB4-92EC-237C4D8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50CE-3B66-496A-9BBA-B771E049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CA6EE-B3BC-40DB-AB1E-933DC66F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A1F03-664A-4924-8270-5EA85BE7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7305-DC55-4F53-9929-4035857A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D7A-DFE4-42ED-9DB5-9ED42D81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8397E-9506-480C-BA1D-4378039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33E0D-DB26-43BE-9453-3734F14E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72251-D6B7-45DF-89AE-4F2F2929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0B5E-C2D4-42EE-820E-93776AAA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A15BF-2B99-4D07-8AC9-512D47F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EEB3F-82C7-4453-82FC-59049DF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AD39A-4EF7-4580-89BC-200E3B97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F2B0-BE7E-4D11-8260-892CE05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76060-4F69-4CFB-A4B4-66F587F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F1A0-D608-4A14-91B9-0259CCF2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387-8ECE-4964-9197-EAB47EB0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6F3F-E27B-43C1-9AA4-1A1BF7FA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E195B-07FA-44D9-A8A2-AA35DE72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15284-B3C3-468D-A322-476B0C45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1DD40-6504-42DF-B61E-511044E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95AC4-3617-4BE1-AFA4-7014953A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4867C-32C1-4DD7-9021-2722352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5310-472E-4C4A-8BE2-ECF4D4F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65E5-7DA1-4165-AB44-696DB6F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E2B8C-36C2-4648-9B77-45B91C3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CE2A-2CC2-4A97-A83A-59424252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75D7-ACF2-4078-9C11-F49D1B4D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B4DF-1DF2-47B4-9306-2E9B3E83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4816-DA3B-4515-A7AB-EEF00A87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69D97-AF0A-47E0-987D-EC9C8C7C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FA84E-B4AF-4E9C-A378-CBC0663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B15B8-CB7A-4BED-B905-6C85F29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3BF0-72B8-4D1C-A9B0-D55A0372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7CF5B-5D37-47C4-B00B-F9903F2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1016D-8DFE-4894-B8E7-BB793633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3607C-B036-4E07-BD55-90C8F0CB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AAC9C-9756-4ECF-B149-12F2727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F95E-9190-48CC-9911-11FFC17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6D045-E40E-41D8-B281-ACFAF74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47586-20A3-4CAC-9E83-652A470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7D5B-0274-4B63-932C-FE85AE1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20A84-8D46-4797-97EB-1F6FAA94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AF227-2D65-4293-B775-931DF7DD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F8237-292A-4A88-BA06-426E8B70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F37C0-CD8E-4D84-A166-8870AD8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0C742-8D9B-4FEB-BC74-A41080F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1B5E2-BAFE-4E9E-983D-D7A0BD2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761B9-4C64-47B4-87B4-0B16137A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BA6-974F-42DF-9C09-EF207F2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315DA-4B99-473C-A328-BD27703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C20B5-AED3-4C49-B1E3-31C476EA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0F819-8EB0-446A-8BBF-B5BE4CD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7ACAE-0AF4-4AFA-931D-82A6C8C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B733D-8971-43B1-880F-CFFB8D6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65819-39F4-4EB7-B1E9-35E3B858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DB68A-39F3-4693-8A99-196675C7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75A5-5E67-4E4F-B7FC-33208FC1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6920-CF15-47F3-978E-D1656D44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E63D-9A5C-4EAF-A818-1CADE64D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5B1-2264-4FB3-8697-DE02EA0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E2A-C70A-45A0-B81B-85316EC1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682E-508A-48E8-97C9-C2D5CE1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92D-B04C-4A40-A0E8-5F2B845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8228-09DB-48CB-9271-B9DD5600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462E-6834-4279-A9BB-AEBD3633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8053-A891-4E79-B83F-5F4E3743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80C3-C3C0-40C1-B025-6D07030F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F753-796B-49BC-8470-D0134FDF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2944-6FF9-48A5-B4A8-B4FEAB37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7151-4BDA-4214-A908-6F934AAC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A1B5-C622-4957-8BAF-9E6F992E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984-34A0-4967-BEA9-9A0E904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9605-2EE8-4AFD-9BE0-E29D4A4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7ABA-41BD-4AE3-8A67-AAFB672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78D6-1BBE-42B0-8317-0B018B2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4C79-8DCE-4492-AC1D-2B94EAC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BF32-97E8-4E40-A0DA-4BBC19F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EB24-3A1D-4A15-BD71-C5E6C1DE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3C7A-B58D-46DB-9B4E-852462F1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3E67-6ADE-4C1D-AB15-6B4FD1C9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B9A6-6561-419D-9DDB-D3E949A8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610A-5F5F-418C-A3DF-E32F818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DEB-B860-4946-8209-58EE119B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5FEE-338D-48B8-B4E5-FFDCDE8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9E62-ADAE-48B3-A5F6-04EEF8B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69D4-9105-42DA-8347-80A30E3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E55A-E225-4E85-AA8E-54A3A20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B1AC-D557-4FC2-B4DD-690502B9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6D4E-406F-4FE8-ACDE-CFC6C1D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C152-5A55-4ACA-BCBA-B1718967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CA8C-C213-445C-8D62-16DD1722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0E3B-08E6-43CF-B1B9-CE4F6210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D0A7-8B46-48AC-905A-C79F7262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20E-AB99-4002-BF6B-90BBF3F8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DCAB-AD68-42C4-9BCA-7190CFC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30A8-7B80-4927-B30A-F5D4D5B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8A40-BE01-4C43-901A-892FE7BA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379C-AA76-4160-8D20-D2A93440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0E11-B06C-44A8-8A59-C2C9421B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DA3A0-0F1B-4ECE-A313-A81B32A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DA44-93DB-401E-B46B-98F79FF0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EC51-DDCD-4C9B-884C-6164EA0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C2BA-318A-4EE3-8490-2373794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BCC1-8195-452D-A703-9D9A4A0A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44E-CB6D-42CA-816F-6D0E05A4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754E-4CBF-4ED7-8814-2C579374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1703-143C-4EA7-982E-100D87CC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4A6E-4D35-4E63-B71E-F5BBC9D3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37BF9-AD23-4F9E-B486-6715800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19FB-3647-4A48-8660-13EED333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AA3B-30D5-4E8C-82F1-B55775C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3926-03B4-42CA-BEB8-0E5BAD4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A2D54-3F0B-46D3-B377-29CD044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DB04-0B03-4913-A998-30A1BD2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893BC-60D3-47F8-8E2E-245C01C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E77-72BE-4DD6-B942-BA3BC95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F310-C204-4906-8436-BC53B5B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85035-36B3-4C11-9FA1-8D2F9E4B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3115-458B-4F5D-89EC-65CE95B8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F83E-9421-40F2-921B-69B80135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BA7C-F219-41B4-94B9-9FDDEE6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1C73-A304-4024-9ADA-55A2138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282D-E6B7-4EBC-A9B1-5159E2FA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4203-0DE4-4520-AB84-8D4D704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42A1-5755-4B48-A40C-388B961C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5E399-E69B-43CF-957F-617A6C4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A84-9E54-4F1C-84A1-A327371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0F7B-C234-4B4B-8FDF-A8630B4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BFED-D2F1-4E70-865E-6A409DBF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52AB-4E6E-4EF2-9852-116ED9E6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6E303-8BF5-461A-8479-5E6B3673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D4C3-961F-476B-B071-1388ACF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82DC-F6D0-4FD4-AF3A-F5045575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BEE4-1370-41D9-A069-39F613D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A88E-0A04-4830-814E-2A3F47D7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B27B-C634-420F-868D-1E2BB6B8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3A9A6-9B00-4D04-9FA9-C9FCC73E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E8C-C56F-4530-B911-3FEBE9E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FD9E-C603-4201-8957-A830B59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2600-D04D-4B3E-9D9E-5D2AC1C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C5F3-E4C8-4A05-8EA3-65F51DA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4AB8-EFF4-4A92-BC19-3420EF8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B6379-1E84-494E-8185-6F70EE7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DC9D1-E449-4742-8F27-88E29895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DE1A-A082-444F-AD19-47CB4576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92B3-BB81-4E9B-9DCA-2741EA35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B1B5-A37C-4366-91FD-30EF2AD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9850-91AA-49E6-8FB4-8686D9E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598-4783-4569-BDA2-572AB7376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2BAF-939B-416C-B393-6062D8FE1D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BC2E-7A0D-4640-8417-54CB50258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F7E-D84A-4864-83A5-C040BB02E3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C3BE-A6B2-45EA-976F-9D383781F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9F2A-5D89-460F-B815-584FC6A730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0653-9022-46B6-B429-C62C662C8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728-751A-4A72-9BA8-D149555707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CA0D-4E67-4024-BF65-7985082B1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C7C-7871-41D0-9D79-00BCD40A2D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235-AD8B-4CF1-BF9B-F33AA0054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83CB-A6FF-447C-B59C-F71BCB42FE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6F80-F977-4CF6-B581-FEB445AF5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B60-E3DA-43BD-9078-088CB28A19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816-3A82-477F-A6AB-6EE8FA179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ABAC-3D9D-4AAA-93F3-2A9621C036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F5B-AE7D-4749-88C4-5CA0F2052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4F5A-C977-4769-86F6-DBD0A048F3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29B-8BFD-47A4-ADE4-DAFEFCF35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E5AC-7B82-47A1-9D26-94F5F1E2FE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679-9876-49C5-B683-7BB7306FEE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AC9-DBB2-441F-9854-0F61F47FA5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50BD-BE3F-46D3-8A12-6F6624D07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C17-7502-49EB-BCEC-7405D6C099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28AD-0861-493B-8ECE-E34B430CD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4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K1.gi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2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36.gif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zq-xy.com/wl/sucai/xiank/X36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立交桥1"/>
          <p:cNvPicPr/>
          <p:nvPr/>
        </p:nvPicPr>
        <p:blipFill>
          <a:blip r:embed="rId1"/>
          <a:stretch/>
        </p:blipFill>
        <p:spPr>
          <a:xfrm>
            <a:off x="3932280" y="3173400"/>
            <a:ext cx="5211720" cy="3684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夜景"/>
          <p:cNvPicPr/>
          <p:nvPr/>
        </p:nvPicPr>
        <p:blipFill>
          <a:blip r:embed="rId2"/>
          <a:stretch/>
        </p:blipFill>
        <p:spPr>
          <a:xfrm>
            <a:off x="0" y="0"/>
            <a:ext cx="40179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179280" y="1217880"/>
            <a:ext cx="8785440" cy="76428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近年来，北京新修了许多条宽阔的快速干道，一座座高大的立交桥，成了北京又一道风景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250920" y="4491720"/>
            <a:ext cx="8713800" cy="764280"/>
          </a:xfrm>
          <a:prstGeom prst="rect">
            <a:avLst/>
          </a:prstGeom>
          <a:solidFill>
            <a:srgbClr val="ffcc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道路两旁，一座座崭新的高楼大厦像树林一样排列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92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755640" y="1651320"/>
            <a:ext cx="7667640" cy="1434600"/>
          </a:xfrm>
          <a:prstGeom prst="rect">
            <a:avLst/>
          </a:prstGeom>
          <a:solidFill>
            <a:srgbClr val="0000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年不到北京，再去北京看看，就会发现，北京的变化真大呀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X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5084640"/>
            <a:ext cx="62276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k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WordArt 5"/>
          <p:cNvSpPr txBox="1"/>
          <p:nvPr/>
        </p:nvSpPr>
        <p:spPr>
          <a:xfrm>
            <a:off x="1979640" y="1268280"/>
            <a:ext cx="4753080" cy="272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写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4"/>
          <p:cNvSpPr/>
          <p:nvPr/>
        </p:nvSpPr>
        <p:spPr>
          <a:xfrm>
            <a:off x="4572000" y="350208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5"/>
          <p:cNvGrpSpPr/>
          <p:nvPr/>
        </p:nvGrpSpPr>
        <p:grpSpPr>
          <a:xfrm>
            <a:off x="250920" y="3502080"/>
            <a:ext cx="8640720" cy="1727280"/>
            <a:chOff x="250920" y="3502080"/>
            <a:chExt cx="8640720" cy="1727280"/>
          </a:xfrm>
        </p:grpSpPr>
        <p:grpSp>
          <p:nvGrpSpPr>
            <p:cNvPr id="585" name="Group 6"/>
            <p:cNvGrpSpPr/>
            <p:nvPr/>
          </p:nvGrpSpPr>
          <p:grpSpPr>
            <a:xfrm>
              <a:off x="250920" y="3502080"/>
              <a:ext cx="8640720" cy="1727280"/>
              <a:chOff x="250920" y="3502080"/>
              <a:chExt cx="8640720" cy="1727280"/>
            </a:xfrm>
          </p:grpSpPr>
          <p:sp>
            <p:nvSpPr>
              <p:cNvPr id="586" name="Rectangle 7"/>
              <p:cNvSpPr/>
              <p:nvPr/>
            </p:nvSpPr>
            <p:spPr>
              <a:xfrm>
                <a:off x="25092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8"/>
              <p:cNvSpPr/>
              <p:nvPr/>
            </p:nvSpPr>
            <p:spPr>
              <a:xfrm>
                <a:off x="197964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9"/>
              <p:cNvSpPr/>
              <p:nvPr/>
            </p:nvSpPr>
            <p:spPr>
              <a:xfrm>
                <a:off x="543564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0"/>
              <p:cNvSpPr/>
              <p:nvPr/>
            </p:nvSpPr>
            <p:spPr>
              <a:xfrm>
                <a:off x="7164720" y="3502080"/>
                <a:ext cx="172692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1"/>
              <p:cNvSpPr/>
              <p:nvPr/>
            </p:nvSpPr>
            <p:spPr>
              <a:xfrm>
                <a:off x="370692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Line 12"/>
            <p:cNvSpPr/>
            <p:nvPr/>
          </p:nvSpPr>
          <p:spPr>
            <a:xfrm>
              <a:off x="111456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3"/>
            <p:cNvSpPr/>
            <p:nvPr/>
          </p:nvSpPr>
          <p:spPr>
            <a:xfrm>
              <a:off x="802836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4"/>
            <p:cNvSpPr/>
            <p:nvPr/>
          </p:nvSpPr>
          <p:spPr>
            <a:xfrm>
              <a:off x="629928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>
              <a:off x="284328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6"/>
            <p:cNvSpPr/>
            <p:nvPr/>
          </p:nvSpPr>
          <p:spPr>
            <a:xfrm>
              <a:off x="250920" y="4365720"/>
              <a:ext cx="864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7"/>
          <p:cNvGrpSpPr/>
          <p:nvPr/>
        </p:nvGrpSpPr>
        <p:grpSpPr>
          <a:xfrm>
            <a:off x="250920" y="1125360"/>
            <a:ext cx="8640720" cy="1727280"/>
            <a:chOff x="250920" y="1125360"/>
            <a:chExt cx="8640720" cy="1727280"/>
          </a:xfrm>
        </p:grpSpPr>
        <p:grpSp>
          <p:nvGrpSpPr>
            <p:cNvPr id="597" name="Group 18"/>
            <p:cNvGrpSpPr/>
            <p:nvPr/>
          </p:nvGrpSpPr>
          <p:grpSpPr>
            <a:xfrm>
              <a:off x="250920" y="1125360"/>
              <a:ext cx="8640720" cy="1727280"/>
              <a:chOff x="250920" y="1125360"/>
              <a:chExt cx="8640720" cy="1727280"/>
            </a:xfrm>
          </p:grpSpPr>
          <p:sp>
            <p:nvSpPr>
              <p:cNvPr id="598" name="Rectangle 19"/>
              <p:cNvSpPr/>
              <p:nvPr/>
            </p:nvSpPr>
            <p:spPr>
              <a:xfrm>
                <a:off x="25092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20"/>
              <p:cNvSpPr/>
              <p:nvPr/>
            </p:nvSpPr>
            <p:spPr>
              <a:xfrm>
                <a:off x="197964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21"/>
              <p:cNvSpPr/>
              <p:nvPr/>
            </p:nvSpPr>
            <p:spPr>
              <a:xfrm>
                <a:off x="543564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22"/>
              <p:cNvSpPr/>
              <p:nvPr/>
            </p:nvSpPr>
            <p:spPr>
              <a:xfrm>
                <a:off x="7164720" y="1125360"/>
                <a:ext cx="172692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3"/>
              <p:cNvSpPr/>
              <p:nvPr/>
            </p:nvSpPr>
            <p:spPr>
              <a:xfrm>
                <a:off x="370692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Line 24"/>
            <p:cNvSpPr/>
            <p:nvPr/>
          </p:nvSpPr>
          <p:spPr>
            <a:xfrm>
              <a:off x="111456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5"/>
            <p:cNvSpPr/>
            <p:nvPr/>
          </p:nvSpPr>
          <p:spPr>
            <a:xfrm>
              <a:off x="802836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6"/>
            <p:cNvSpPr/>
            <p:nvPr/>
          </p:nvSpPr>
          <p:spPr>
            <a:xfrm>
              <a:off x="629928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284328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250920" y="1989000"/>
              <a:ext cx="864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29"/>
          <p:cNvSpPr/>
          <p:nvPr/>
        </p:nvSpPr>
        <p:spPr>
          <a:xfrm>
            <a:off x="4572000" y="1125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0"/>
          <p:cNvSpPr/>
          <p:nvPr/>
        </p:nvSpPr>
        <p:spPr>
          <a:xfrm>
            <a:off x="713880" y="1052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1"/>
          <p:cNvSpPr/>
          <p:nvPr/>
        </p:nvSpPr>
        <p:spPr>
          <a:xfrm>
            <a:off x="41680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2"/>
          <p:cNvSpPr/>
          <p:nvPr/>
        </p:nvSpPr>
        <p:spPr>
          <a:xfrm>
            <a:off x="582552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3"/>
          <p:cNvSpPr/>
          <p:nvPr/>
        </p:nvSpPr>
        <p:spPr>
          <a:xfrm>
            <a:off x="76258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4"/>
          <p:cNvSpPr/>
          <p:nvPr/>
        </p:nvSpPr>
        <p:spPr>
          <a:xfrm>
            <a:off x="71208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5"/>
          <p:cNvSpPr/>
          <p:nvPr/>
        </p:nvSpPr>
        <p:spPr>
          <a:xfrm>
            <a:off x="409680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6"/>
          <p:cNvSpPr/>
          <p:nvPr/>
        </p:nvSpPr>
        <p:spPr>
          <a:xfrm>
            <a:off x="23680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5825520" y="3502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8"/>
          <p:cNvSpPr/>
          <p:nvPr/>
        </p:nvSpPr>
        <p:spPr>
          <a:xfrm>
            <a:off x="7552800" y="35305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9"/>
          <p:cNvSpPr/>
          <p:nvPr/>
        </p:nvSpPr>
        <p:spPr>
          <a:xfrm>
            <a:off x="251244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8" descr="X63"/>
          <p:cNvPicPr/>
          <p:nvPr/>
        </p:nvPicPr>
        <p:blipFill>
          <a:blip r:embed="rId1"/>
          <a:stretch/>
        </p:blipFill>
        <p:spPr>
          <a:xfrm>
            <a:off x="-36360" y="299880"/>
            <a:ext cx="5448240" cy="5367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9" descr="X64"/>
          <p:cNvPicPr/>
          <p:nvPr/>
        </p:nvPicPr>
        <p:blipFill>
          <a:blip r:embed="rId2"/>
          <a:stretch/>
        </p:blipFill>
        <p:spPr>
          <a:xfrm>
            <a:off x="3003480" y="5359320"/>
            <a:ext cx="6105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碑文"/>
          <p:cNvPicPr/>
          <p:nvPr/>
        </p:nvPicPr>
        <p:blipFill>
          <a:blip r:embed="rId1"/>
          <a:stretch/>
        </p:blipFill>
        <p:spPr>
          <a:xfrm>
            <a:off x="826920" y="1197000"/>
            <a:ext cx="2306880" cy="417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大会堂"/>
          <p:cNvPicPr/>
          <p:nvPr/>
        </p:nvPicPr>
        <p:blipFill>
          <a:blip r:embed="rId2"/>
          <a:stretch/>
        </p:blipFill>
        <p:spPr>
          <a:xfrm>
            <a:off x="3995640" y="404640"/>
            <a:ext cx="5148360" cy="2865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长城"/>
          <p:cNvPicPr/>
          <p:nvPr/>
        </p:nvPicPr>
        <p:blipFill>
          <a:blip r:embed="rId3"/>
          <a:stretch/>
        </p:blipFill>
        <p:spPr>
          <a:xfrm>
            <a:off x="4067280" y="3665520"/>
            <a:ext cx="5076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K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39" name="WordArt 5"/>
          <p:cNvSpPr txBox="1"/>
          <p:nvPr/>
        </p:nvSpPr>
        <p:spPr>
          <a:xfrm>
            <a:off x="1619280" y="2349360"/>
            <a:ext cx="47862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33ff">
                        <a:alpha val="48235"/>
                      </a:srgbClr>
                    </a:gs>
                    <a:gs pos="100000">
                      <a:srgbClr val="cf9e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琥珀"/>
              </a:rPr>
              <a:t>北京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33ff">
                      <a:alpha val="48235"/>
                    </a:srgbClr>
                  </a:gs>
                  <a:gs pos="100000">
                    <a:srgbClr val="cf9e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5824080" y="6124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沙市燕山小学   李妹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827280" y="38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人教版实验教材小学语文第三册第十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X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134040"/>
            <a:ext cx="9144000" cy="72396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8"/>
          <p:cNvGrpSpPr/>
          <p:nvPr/>
        </p:nvGrpSpPr>
        <p:grpSpPr>
          <a:xfrm>
            <a:off x="818640" y="4869000"/>
            <a:ext cx="6406560" cy="1312920"/>
            <a:chOff x="818640" y="4869000"/>
            <a:chExt cx="6406560" cy="1312920"/>
          </a:xfrm>
        </p:grpSpPr>
        <p:sp>
          <p:nvSpPr>
            <p:cNvPr id="544" name="Text Box 5"/>
            <p:cNvSpPr/>
            <p:nvPr/>
          </p:nvSpPr>
          <p:spPr>
            <a:xfrm>
              <a:off x="81864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我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6"/>
            <p:cNvSpPr/>
            <p:nvPr/>
          </p:nvSpPr>
          <p:spPr>
            <a:xfrm>
              <a:off x="355536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会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643500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读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9"/>
          <p:cNvSpPr/>
          <p:nvPr/>
        </p:nvSpPr>
        <p:spPr>
          <a:xfrm>
            <a:off x="250920" y="954000"/>
            <a:ext cx="8569080" cy="3416040"/>
          </a:xfrm>
          <a:prstGeom prst="rect">
            <a:avLst/>
          </a:prstGeom>
          <a:solidFill>
            <a:srgbClr val="00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央    瓦片  庄严  宽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念碑  四周  似的  拼成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案    花坛  古迹  大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00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310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Arial"/>
                <a:ea typeface="方正舒体"/>
              </a:rPr>
              <a:t>摘白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1" descr="X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515280"/>
            <a:ext cx="4572000" cy="3427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5"/>
          <p:cNvSpPr/>
          <p:nvPr/>
        </p:nvSpPr>
        <p:spPr>
          <a:xfrm>
            <a:off x="0" y="1484280"/>
            <a:ext cx="2089080" cy="1079640"/>
          </a:xfrm>
          <a:prstGeom prst="cloudCallout">
            <a:avLst>
              <a:gd name="adj1" fmla="val -19300"/>
              <a:gd name="adj2" fmla="val 105439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924360" y="3357720"/>
            <a:ext cx="2089080" cy="1079280"/>
          </a:xfrm>
          <a:prstGeom prst="cloudCallout">
            <a:avLst>
              <a:gd name="adj1" fmla="val -66259"/>
              <a:gd name="adj2" fmla="val 49115"/>
            </a:avLst>
          </a:prstGeom>
          <a:solidFill>
            <a:srgbClr val="ffffff">
              <a:alpha val="1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95076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09548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6443640" y="2565360"/>
            <a:ext cx="2089080" cy="1079640"/>
          </a:xfrm>
          <a:prstGeom prst="cloudCallout">
            <a:avLst>
              <a:gd name="adj1" fmla="val -66259"/>
              <a:gd name="adj2" fmla="val 49115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/>
          <p:cNvSpPr/>
          <p:nvPr/>
        </p:nvSpPr>
        <p:spPr>
          <a:xfrm>
            <a:off x="7054920" y="1052640"/>
            <a:ext cx="2089080" cy="1079280"/>
          </a:xfrm>
          <a:prstGeom prst="cloudCallout">
            <a:avLst>
              <a:gd name="adj1" fmla="val 40425"/>
              <a:gd name="adj2" fmla="val 8382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/>
          <p:cNvSpPr/>
          <p:nvPr/>
        </p:nvSpPr>
        <p:spPr>
          <a:xfrm>
            <a:off x="3708360" y="0"/>
            <a:ext cx="2089080" cy="1079640"/>
          </a:xfrm>
          <a:prstGeom prst="cloudCallout">
            <a:avLst>
              <a:gd name="adj1" fmla="val -59421"/>
              <a:gd name="adj2" fmla="val 61912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3"/>
          <p:cNvSpPr/>
          <p:nvPr/>
        </p:nvSpPr>
        <p:spPr>
          <a:xfrm>
            <a:off x="6372360" y="0"/>
            <a:ext cx="2089080" cy="1079640"/>
          </a:xfrm>
          <a:prstGeom prst="cloudCallout">
            <a:avLst>
              <a:gd name="adj1" fmla="val -59347"/>
              <a:gd name="adj2" fmla="val 66615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4"/>
          <p:cNvSpPr/>
          <p:nvPr/>
        </p:nvSpPr>
        <p:spPr>
          <a:xfrm>
            <a:off x="1187280" y="2997360"/>
            <a:ext cx="2089440" cy="1079280"/>
          </a:xfrm>
          <a:prstGeom prst="cloudCallout">
            <a:avLst>
              <a:gd name="adj1" fmla="val -47111"/>
              <a:gd name="adj2" fmla="val 68236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5"/>
          <p:cNvSpPr/>
          <p:nvPr/>
        </p:nvSpPr>
        <p:spPr>
          <a:xfrm>
            <a:off x="2340000" y="1413000"/>
            <a:ext cx="2089080" cy="1079280"/>
          </a:xfrm>
          <a:prstGeom prst="cloudCallout">
            <a:avLst>
              <a:gd name="adj1" fmla="val -14587"/>
              <a:gd name="adj2" fmla="val 82500"/>
            </a:avLst>
          </a:prstGeom>
          <a:solidFill>
            <a:srgbClr val="ffffff">
              <a:alpha val="8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6"/>
          <p:cNvSpPr/>
          <p:nvPr/>
        </p:nvSpPr>
        <p:spPr>
          <a:xfrm>
            <a:off x="6588000" y="3716280"/>
            <a:ext cx="2089440" cy="1079640"/>
          </a:xfrm>
          <a:prstGeom prst="cloudCallout">
            <a:avLst>
              <a:gd name="adj1" fmla="val -20518"/>
              <a:gd name="adj2" fmla="val 67060"/>
            </a:avLst>
          </a:prstGeom>
          <a:solidFill>
            <a:srgbClr val="ffffff">
              <a:alpha val="7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2484360" y="4653000"/>
            <a:ext cx="2089080" cy="1079640"/>
          </a:xfrm>
          <a:prstGeom prst="cloudCallout">
            <a:avLst>
              <a:gd name="adj1" fmla="val 68921"/>
              <a:gd name="adj2" fmla="val -61763"/>
            </a:avLst>
          </a:prstGeom>
          <a:solidFill>
            <a:srgbClr val="ffffff">
              <a:alpha val="6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8"/>
          <p:cNvSpPr/>
          <p:nvPr/>
        </p:nvSpPr>
        <p:spPr>
          <a:xfrm>
            <a:off x="179280" y="4365720"/>
            <a:ext cx="2089080" cy="1079280"/>
          </a:xfrm>
          <a:prstGeom prst="cloudCallout">
            <a:avLst>
              <a:gd name="adj1" fmla="val 14819"/>
              <a:gd name="adj2" fmla="val 74560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9"/>
          <p:cNvSpPr/>
          <p:nvPr/>
        </p:nvSpPr>
        <p:spPr>
          <a:xfrm>
            <a:off x="4932360" y="4870440"/>
            <a:ext cx="2089080" cy="1079640"/>
          </a:xfrm>
          <a:prstGeom prst="cloudCallout">
            <a:avLst>
              <a:gd name="adj1" fmla="val -39287"/>
              <a:gd name="adj2" fmla="val 65439"/>
            </a:avLst>
          </a:prstGeom>
          <a:solidFill>
            <a:srgbClr val="ffffff">
              <a:alpha val="9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0"/>
          <p:cNvSpPr/>
          <p:nvPr/>
        </p:nvSpPr>
        <p:spPr>
          <a:xfrm>
            <a:off x="4427640" y="1773360"/>
            <a:ext cx="2089080" cy="1079280"/>
          </a:xfrm>
          <a:prstGeom prst="cloudCallout">
            <a:avLst>
              <a:gd name="adj1" fmla="val -2736"/>
              <a:gd name="adj2" fmla="val 6338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3" descr="X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6515280"/>
            <a:ext cx="4572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tian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37861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12"/>
          <p:cNvSpPr/>
          <p:nvPr/>
        </p:nvSpPr>
        <p:spPr>
          <a:xfrm>
            <a:off x="287280" y="4937400"/>
            <a:ext cx="8893080" cy="764280"/>
          </a:xfrm>
          <a:prstGeom prst="rect">
            <a:avLst/>
          </a:prstGeom>
          <a:solidFill>
            <a:srgbClr val="ffff99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安门在北京城的中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红墙、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庄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美丽。天安门前面是宽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广场。广场中间矗立着人民英雄纪念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lijiao"/>
          <p:cNvPicPr/>
          <p:nvPr/>
        </p:nvPicPr>
        <p:blipFill>
          <a:blip r:embed="rId1"/>
          <a:stretch/>
        </p:blipFill>
        <p:spPr>
          <a:xfrm>
            <a:off x="1187280" y="3213000"/>
            <a:ext cx="6301080" cy="26193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1418760" y="906840"/>
            <a:ext cx="6014160" cy="1434600"/>
          </a:xfrm>
          <a:prstGeom prst="rect">
            <a:avLst/>
          </a:prstGeom>
          <a:solidFill>
            <a:srgbClr val="ccffcc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立交桥的四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绿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草坪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图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花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250920" y="427320"/>
            <a:ext cx="8642160" cy="1434600"/>
          </a:xfrm>
          <a:prstGeom prst="rect">
            <a:avLst/>
          </a:prstGeom>
          <a:solidFill>
            <a:srgbClr val="ff99cc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是著名的旅游城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有许多名胜古迹和公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813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252360" y="4378680"/>
            <a:ext cx="8567640" cy="764280"/>
          </a:xfrm>
          <a:prstGeom prst="rect">
            <a:avLst/>
          </a:prstGeom>
          <a:solidFill>
            <a:srgbClr val="cc99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举世闻名的天安门城楼和天安门广场位于北京城的中央，毛泽东主席题词、周恩来总理书写碑文的人民英雄纪念碑，庄严地矗立在天安门广场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216000" y="1194120"/>
            <a:ext cx="8677080" cy="76428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长城、十三陵、颐和园、故宫、北海公园等都是北京有名的风景名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92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250920" y="4491360"/>
            <a:ext cx="8713800" cy="764280"/>
          </a:xfrm>
          <a:prstGeom prst="rect">
            <a:avLst/>
          </a:prstGeom>
          <a:solidFill>
            <a:srgbClr val="ff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还有天坛、地坛、日坛、月坛以及新建的中华世纪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36:13Z</dcterms:created>
  <dc:creator>ray</dc:creator>
  <dc:description/>
  <dc:language>en-US</dc:language>
  <cp:lastModifiedBy>a</cp:lastModifiedBy>
  <dcterms:modified xsi:type="dcterms:W3CDTF">2015-03-17T05:34:28Z</dcterms:modified>
  <cp:revision>6</cp:revision>
  <dc:subject/>
  <dc:title>幻灯片 1</dc:title>
</cp:coreProperties>
</file>