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90E-5322-4DD1-AB4C-BCC19091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E67-6BD1-46C7-AAEC-2DCEB362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16FAD-5DD9-4788-B9CD-8CFE40AC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FA4C4-6DEB-4A92-B4DD-2AE5CDA3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04501-396B-4E54-8CC9-65C2810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60785-477A-4376-9EC9-BF965D8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3A85-2D19-4ECE-95FE-5B7C78C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98D64-92BB-4513-AFC3-386E7552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9DA2F-87B4-4821-8E50-884BCD4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F2FC3-3559-4E78-A7F2-BC704DFA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1998E-CD7A-4DD6-9526-A1DAD296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D58E4-AB5B-44E1-8D93-85A11FE1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542-4716-4E7F-86FB-1C604E16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A8D0E-B97B-4B68-B8D2-1688E3A2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96E6E-0A03-477F-908D-16908760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2A628-A586-46B5-9051-81B2941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7DBD8-5621-4607-BAAB-C8F9C6F3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F26FE-1E70-4CB2-9CFB-6FC445AF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9E90B-B0BD-40F3-8156-C7845ACD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2897E-6615-4D0B-B421-7149C7C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4B2FA-4873-4604-8835-A2E16BCE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ACD50-3B14-4B26-8538-A3ACFF0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7AE4E-7367-4CA8-9386-94D6C7A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D04-049D-497E-985C-B24B4F7D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4B32D-3F23-4673-B081-823C983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95CED-F317-451D-93D7-4738EF5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A524C-72F8-4188-8864-17D10CFF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7A53-95A1-4E26-BC43-2377309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FE478-E81E-4EB0-B80D-D35B8327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108D-BE30-4CD4-82E2-EA4FA9C2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D8ACB-568E-4106-B9AF-12699FF0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7FAC5-9B94-4A11-B043-43B57F00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B262A-0299-4C3E-85E0-6336CF3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A8312-1D4B-4973-8FC4-BF463388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08F4-1EC6-423B-B785-0988BA46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6CAAE-E0B7-438B-9276-98A1D5D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2C8CC-AFBC-41A1-84D7-233005A1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65F06-9EF3-4A99-AEB5-57E1CB7C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67BC1-FB6F-4046-81A0-8ECFCE8C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E6FA6-67E9-41F9-972C-8F442C0D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8BF50-056F-4AAD-9CA6-63A27299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207BB-75D3-4AB3-9230-91EF03F8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46E84-20E9-4824-890A-84E19C2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2B084-40F6-4BB8-BCDD-95BDE7E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D1E71-4964-4ACC-83B4-91EE0CD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792-8E97-419D-A904-1879E37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A45FE-02A8-43D1-B694-7F47386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C00A4-3409-4A3A-B065-B47AA66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95402-03F4-40AA-956D-35DA4C5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75DBC-7690-40CB-B114-32D0AD91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866DA-CD64-407A-9B1F-E57B1483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B9962-9E09-4AE5-9074-D4D6374C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F8724-FB9A-41FF-964B-D8A93187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09FD9-FDE9-4E34-BC88-E4429252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D5C64-887A-4A10-9CC0-F10C679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38D78-58D0-436E-8ABC-45A27421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51B9-5BC9-4D3D-8485-DCF4F36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42A0B-4586-4881-95F2-697E5766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73ED2-57C4-4F29-9C54-BABC9F6E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B579D-0D73-4273-A1C8-9F9E959F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571FF-194C-4E8E-88E8-65028AC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BA2D8-4DAA-4466-BEFC-DD223457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0DCE6-6906-41B8-AF33-F4136840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2DEFB-595E-449F-AECF-E83FD2A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2E0-CFC7-4C5B-AA77-869D4DF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8592-1136-4223-8B68-99CCDC07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EEA7-43C5-4504-BB83-C30360B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9F9D-3C5F-4298-B1EC-9D2F7B53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687-6993-45F6-98D6-B7EBB224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AE28-CC40-4D37-9335-7DA467A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F258-D188-455C-9145-5B741E7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407A-C547-4FBF-8D05-F2742D3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C14-89A6-4F66-A50F-27370D87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00EF-F7B8-4D13-BC7A-66CC5513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107AD-6EFF-459E-B9C4-C11EACD8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B8B2-AFC2-451B-8686-B5019116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F7261-E6F6-4F45-8EF7-DA35C2E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CD6B-F6B8-4D44-9C77-592FB77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4B42B-635D-4340-879D-D66073A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514-36E7-4AF0-A5CC-E58EEAD7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F63D-FA94-40DE-9403-5F872698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0EE43-C1C7-43D6-9FB3-32D25A4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CDB4-7720-44E7-8586-B7C6A7D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A0056-FF5F-4BD2-941D-6FBB2E0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354F-493C-45BC-AF22-5571F789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58AE8-A5CA-4E8A-AE95-0BA0DC78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F91D-8DE5-4974-9338-F737FFA8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82EA-213E-41F9-BF01-766FB72D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F222-4C32-42C8-9909-0B013C0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C8219-17B9-4C65-B7F5-47C1E14A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F5E-8626-494B-9161-04A25311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8655-AACF-4E30-99B4-0CE24399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94A0-4821-47F4-AA67-3A5F1DD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E0404-5D77-4977-A752-FAADDADB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0AB89-92D5-4909-80CF-3018E110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4F12-2DC9-4310-9DA3-E139896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BD7D-E17C-4BA9-8EAD-C6161C6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0733D-50CB-4FF3-8EE4-0C7373C7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1A66-24B2-4839-8BF7-47C93E2F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F617-310A-4F02-A337-42F783A8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0193B-E5F9-4FAA-8323-D5618F16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38B-794E-4AC2-AE17-5DBF665F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3BF31-E676-440A-89FE-19769E4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C479-367C-4A22-B16F-39A92A5B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E8B0-7F83-487A-8539-389880E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B8AB4-E978-469D-9747-2414F41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2EDA-5FCC-49A4-9877-DA12D13B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ECE9-7C56-4BAB-9134-4517C448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FF57-F6CE-4D27-A515-689EC82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D3648-FC0F-4CF6-9205-02D92919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6014-8B6D-476C-9995-961C9F34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A773-ED2A-4489-91DD-BBF20913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6BD-CA59-42B2-B863-A05A9080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84938-B61F-41F6-88FB-DEF3E1B0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9408-5EDF-4B52-AB5D-548EC703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0FF0A-4D83-4DBF-B352-B36247C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934DE-DD92-4A92-ABC4-94645D5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22EE-552B-4A5C-A452-D12855D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4FC7-AE17-4A1B-B5F1-7ADCEB2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5307-CFB5-4D86-A37E-53331858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95A6B-CDC1-4D29-9060-F78FCF4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8DE5-CCB3-4FF4-9EAA-B5CB1DD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AF8D9-D795-45F2-8DD9-306F2B2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2CF-E496-43D5-8806-03B234EB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98E3-8E1C-4968-B1AA-703F3005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4E5A1-21EC-4B18-A324-EA2F4DC1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ADE10-C2D9-406D-89D9-4DB88FDF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23A2F-E0E0-4C89-BB92-1840DBF7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5B3D-C94B-4915-9379-B6185E79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35A5-156E-4A31-8FD9-2256D8F9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EC948-018F-40D8-A93B-7BB6BE04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33612-D71F-48FB-9FA1-4F79CB8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30FAB-8678-45C2-AD56-CCC2EE80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8355-F913-445D-BAC9-4D5A437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FA7-C598-426F-A8D7-8B3C53C8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4522-95CE-45EC-B169-57ED4E0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FE8E-C6AD-44BA-B36F-D95418C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7886-7248-4F0D-9E9F-D467E40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5FF9A-D3BF-4C7E-B715-850BB852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39E9-E036-43EF-9390-82C86C0C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3303-53A7-4C7B-8834-BE85E3CF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3D611-46E6-4590-8760-D8C71B1A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5BA8-2218-4341-9E26-E954D55D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036CA-05B4-45F9-B65C-18EEA3B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6270E-940E-4E3D-97EA-4F6A5402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0B0-9521-4EF4-9F3F-4228B83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3160-973D-4D9C-9688-2B30375A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0EF8A-6700-4174-9F9B-D631B14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41B3-0775-4D2C-8D4E-39CC71F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CE46E-39AB-4940-9A4A-334A6352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CD9C3-42A8-4732-90FC-1EC7FC2D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D746B-4A08-491D-87CB-B66B42A6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CD1A2-C366-43F8-8194-2223B497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8EE9F-50B3-4298-BA27-E034D536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358B2-FD68-494F-B64A-650D876F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ACB1-7A63-4BB4-9DE8-0A642028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8881-C90C-4288-9A37-A64C3720F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4A78-4866-4F2E-929F-BFDAE96EDE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9F3-FE03-43AA-89CF-82737FE9C5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7B1-0A8B-4F16-87E3-2BB8E8A08B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224-764B-498D-A816-B54D81E48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001-EC4F-41BB-9CB5-8A9890AE13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232A-22DA-49BF-8E6D-FEE6737AB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2633-0E12-4DA8-A9D2-278AB15552F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8DC-9057-4B1B-9389-D4789499E0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17DC-8477-4091-A75B-467E9A8F79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1842-6CAB-4165-94E6-7754FA1FB4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40D-6CF0-43D4-A660-5DDEE504BA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DBC-12A3-4E66-A718-E659121C9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F69-295A-4138-8C6C-842CB2DE96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A505-4EEA-4ED1-9084-E0E8D441CC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02FD-D4E3-4D5D-A4A3-6593CBFED9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E820-8A3A-4E03-85F2-4C7C01573A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CCE-D5F5-4549-AFFA-CDA3068E8A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2D9-95A2-4C7C-9F33-F246292D8B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3E22-AB01-470C-B2F2-F9E94B8DC3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6549-75CA-4DFD-9FE5-A562F91C7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681-FC14-4DA2-B312-46059ED249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939-795E-4EF3-B595-5987DCAF3B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F8A-EE17-4546-9E95-157F2DBCE8D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ED7C-115B-4DC9-A3E7-5BAEC3D9F4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609480" y="533520"/>
            <a:ext cx="28958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比例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3" descr="C:\Program Files\Common Files\Microsoft Shared\Clipart\cagcat50\BD07311_.WMF"/>
          <p:cNvPicPr/>
          <p:nvPr/>
        </p:nvPicPr>
        <p:blipFill>
          <a:blip r:embed="rId1"/>
          <a:stretch/>
        </p:blipFill>
        <p:spPr>
          <a:xfrm>
            <a:off x="3733920" y="609480"/>
            <a:ext cx="3809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8088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一、什么叫比例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Object 3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705360" cy="13809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533520" y="2514600"/>
            <a:ext cx="8229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二、在一幅中国地图上，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厘米的线段表示实际距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千米。求这幅地图的比例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2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000000=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这幅地图的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304920" y="22860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三、说说下列比例尺的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      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000     4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四、解答下列各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在一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图上量得甲乙两地相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，甲乙两地的实际距离是多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甲地到乙地的实际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在一幅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图上应画多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在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图上量得南京到上海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，如果把它改画在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地图上，应画多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地的实际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画地一幅地图上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地的实际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千米，画在这幅地图上应画多长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04920" y="380880"/>
            <a:ext cx="845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在一幅比例尺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的平面图上量得某小学长方形阅览室的长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厘米，宽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厘米。这个阅览室的实际面积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533520" y="1371600"/>
            <a:ext cx="1752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58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1999440" y="13716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685800" y="327672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实际的长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3×400=1200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（厘米）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12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实际的宽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×400=800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（厘米）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=8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实际面积：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2×8=96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答：这个阅览室的实际面积是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96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7:39:00Z</dcterms:created>
  <dc:creator>赵幸龙</dc:creator>
  <dc:description/>
  <dc:language>en-US</dc:language>
  <cp:lastModifiedBy>a</cp:lastModifiedBy>
  <dcterms:modified xsi:type="dcterms:W3CDTF">2015-03-17T07:09:10Z</dcterms:modified>
  <cp:revision>2</cp:revision>
  <dc:subject/>
  <dc:title>PowerPoint 演示文稿</dc:title>
</cp:coreProperties>
</file>