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8.jpeg" ContentType="image/jpeg"/>
  <Override PartName="/ppt/media/image9.jpeg" ContentType="image/jpeg"/>
  <Override PartName="/ppt/media/type.wav" ContentType="audio/x-wav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9EB-80A7-4F59-B11A-6DCC696A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5E8-BE27-40ED-9097-0913CC4F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DABAD-FBD8-49E4-B205-3CD36798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8D79A-377F-41E5-A5EB-6A5F4706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49D5E-6050-42F7-B8CE-424B91C1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5FE5C-E540-4789-9343-C2596237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8A220-F58C-4DB2-8736-0C3CD474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E5A99-00FE-419A-A8C2-282F3BA7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0DD94-039E-4F37-BC7A-9E97671A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D2DC7-B07D-4D31-9562-63A098F1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A2D37-C4FC-41FE-B5E8-BC0F4C86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99F04-C81B-4DF9-A2F8-035F5DA0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AA1-3050-498F-AD5B-D888DB67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D0E33-28A1-4D2E-AD9E-8D29B515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083A6-A13C-4506-B084-EC5AB398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5EFF5-698A-4A6E-8EF2-52F34D3C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3B518-9627-4BD3-96B2-23979C40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82066-4F07-438F-9A68-534AEEEC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A9A88-B883-4D5B-8C10-C62AB73C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474FB-77EA-4336-B3E0-9484B2BE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F834C-0E8C-4047-BA1E-DA6D97C5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82CFE-6E35-49C6-9F59-77F64A68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315CA-8935-4EE8-9C55-F2F41126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8E8-4DB6-40D7-8637-EAD18E2C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32B35-2B36-4CB0-99DA-1FD45471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46CFF-A25D-408F-99D6-2871DC25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CEBD3-03FD-459A-9FAB-00606F53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AD6C5-699D-465F-AB45-B844884F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1B348-1862-482E-8AE7-344049E2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4FF3B-4ABB-4EE9-B937-CA20024C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191D7-A9C2-4703-BCC4-E461E74E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AE791-006A-4041-9CDA-E65F6AEE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F107F-8403-4B52-ADBA-84BDEE1A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AF257-1527-4FEF-90B3-FC454226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5590-6EED-4126-9801-41973882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C1247-05D1-4DDA-A4AB-409CF104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17338-7308-4992-9CAC-99D629B3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DB655-595B-4CF7-939F-AE51E87E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7C60F-B34B-473B-ABF4-4D2CBD78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2DC58-83C1-499F-A0D9-A3983B4F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C63D1-FA6F-43B2-A417-E9922AB8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99D45-0F04-426B-9281-E1965F59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96A9D-4516-47DD-8191-1AE6A129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3EB6C-5EB9-42C9-8B9C-B44F0852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259FF-4C62-4532-9A0A-7A0B3BF0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861D-B047-4415-907E-3184F7DA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61D00-7383-48DB-875E-FB351C89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BB032-E7B4-41C7-A3B3-28EE1F98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5637C-2F72-4BC9-A118-611E7D9E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775DB-3DEC-44A1-89AD-CA704784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04003-D67B-4AE9-815E-AEBE70C1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63A56-A56A-4BB0-BA37-32C38D93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622313-1299-4419-9A19-61BAEFFB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88638E-E758-4ABF-B58F-287FA4DC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027041-D901-4426-BBBF-4733BC5A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FBB526-DF4C-4382-932F-F38C6F77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AA7D-BF49-4B67-801F-2647C565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AFBAE-1CAF-46E8-B45F-E95A9714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736A9-0AB3-406A-8B16-F94E6E20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1D63E-C453-4359-AEDE-C7B57B7B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C47B4-B530-461C-A810-4D6B7684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B0A27-E1AD-45B5-924F-B2DBAB12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FD71B-256C-416D-A80B-035F0DD6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41068-B821-410B-94B3-024F4016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A394-964B-42F8-899D-AAE645DD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EA72-7FFF-4CCD-9F84-B26F242B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8D4E-C576-4D07-B7DE-C769CBD0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11DB-0145-4457-B648-4121D8C4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093-8F95-48E5-B959-C42EC20F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4484-BB57-4AF0-BBC6-39887DA5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FD41-F085-44D2-AAE9-9B128BDA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71D8-63E9-4AE0-A17F-0FC8F603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46B5-5953-480E-8E0A-C621B648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4E17-CAFD-489A-8A39-0F8F7916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ED40D-D3F3-43B0-BBF7-CC9C4FA2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883D2-74BC-4F94-8B81-019DAF2C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7526B-F4FF-41A1-82A3-AD688747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BDF25-C5DF-4D9B-A1FB-6BA3CBBF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6403B-1F5A-40CB-B4B9-8D3D2D3C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F54-41D5-48D7-802D-00DDC70B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CB087-0547-49C4-BB4A-F9793CA1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5F1A3-005F-446C-A683-2824E22B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45CC-48CA-45F7-8C4C-9B8064F0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0FA31-3AD5-4F8A-B32A-CA8395D8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3AF81-6C64-443F-8C0D-6442F09A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C70B2-A27F-4D09-AEEF-0D30D48F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D20C1-01AF-4E93-B734-4181BF19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383EB-C8F8-4EFC-82C1-4A0FB0A2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699CD-E636-46C6-B21F-8EA2E484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B5E2E-CB07-4790-8961-2F9707DC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4F2A-C3FF-49B8-BE0F-3EC493E0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FA039-5217-4A77-B3CE-762894F7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61401-971D-4D17-B458-2974348F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F8A08-718D-42A8-B8C0-5EF94C31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7A6B5-2222-4CBF-9853-A95EAA9B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723CD-4C63-49AE-B567-FAE0C64F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988E8-5567-4B28-9136-EF811F19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34FB9-210D-4D52-B8D4-A0AC27BC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50FE7-69A7-48D4-9803-145B4B8F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ECEC4-45EA-4563-B775-760C3218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9D1B0-4F1F-4012-9348-6945503E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25D-8356-4BA8-8058-CAE370B0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FD28C-8806-41DF-AAD1-9DA93008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46FB8-4BC1-42BC-B4E4-ADAA0FF6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1D9E6-7319-427E-A797-94B4BB78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0842F-BAD1-4CC3-99A2-CFDD317F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EB87F-1DEF-4CB8-98F8-D8312378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4A428-79A1-4511-9176-10D3382F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B73B6-E7D5-45C7-AEB5-3FAC19B1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2463B-DACE-4278-9C6D-47DAAD66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847CE-A5C0-4B3F-93CA-32D87EA4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F4842-1C8C-4518-B4EF-FC18F18E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9F0-839F-4E55-A760-6BFF1DF1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0D43B-77C3-4AC6-810C-9F3EAE36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66323-8E2E-420F-BA05-58C985EB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E1733-D994-47EA-8166-0B0AC49C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4EF2D-B201-4FB4-AB7F-A9644C25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A5366-0FCD-4607-83E4-76C369FF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241C4-5235-4565-841F-E33D19AB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224E2-E52F-45AC-994A-1F589543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73EEB-E741-450F-A4F3-91DD5528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DA73B-254C-4F9B-9141-8C397A9A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D8554-BDA2-4E27-9EA7-BDBFDE35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9D6-ED1C-4D3D-91F4-93270F51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F7698-3880-4490-B560-58948214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E5052-6802-40EE-B718-926FAD91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C5DE3-4C6D-4701-AAE0-AB4C3B78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14F0C-CBA4-489A-B988-E22D9388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6C317-42FE-4398-97F4-F06F069F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721F6-1212-413D-85FA-F3B59F65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99774-2551-454B-BDBA-1A7E3F4B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07956-5855-48BB-8D84-1693D252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D0188-571D-444F-931B-BF2D04EC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6980A-386B-451F-8DD0-4B00C294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6376-F65F-4F80-95AF-7106F581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58EB7-69D2-44A9-A66B-64F962F9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616ED-F87F-4710-B61D-F92F52E0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EE2B1-BF63-49AC-B835-3BFC354F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E0E43-EEE4-48BD-9380-D4ED8847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79FDE-6D1C-440C-AE52-5D21EEF3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1696B-F244-4E5C-881E-02947062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1A3F0-F4A4-49CD-B2F7-32132F5C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D362B-6969-425E-8F7A-08751257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48345-EE77-406F-BFE1-B4360067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288EF-ADCE-4E02-9643-22472454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B53-53A4-42A0-A5FE-474CB2AE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28279-1346-407F-A5FE-E0876E6E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F28BC-2D53-46CB-BCC5-F8955A05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DD37C-428D-49A3-88F1-DCA0887D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55300-27F8-43DE-8648-40D67EAF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36622-3405-4108-B1C9-236199DE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09360-AF80-4203-B744-E5A51F81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38869-8105-423F-AB17-EB2F7740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2FFA9-E82C-484D-9DFE-7AAB58CA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B1443-ACB5-4D3C-AA84-DC86EECF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74250-1EB4-448B-A94C-9AE2C77D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CA5F-229D-46C8-81F4-C29BE830C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6936-3A72-49D5-A534-77CF0BDD2A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89E2-7018-453D-8077-BD8612C730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A15A-6E85-4545-85C5-8FCD434AAF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C221-DCA9-4213-A307-1D415F0C1C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814C-BBEC-4834-BB80-C389FA80687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5F99-7B5F-4E19-ABF0-7637E77E1D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882D-7868-493E-87BD-612B6ED603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376E-2F38-4B29-A3BE-FCD120479F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6CD4-3AFE-492F-AEE3-11140C5471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E932-118D-4744-8BD4-25CFCD7C8A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7E08-F372-4378-BF1D-23A7B6FC6C5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6695-D157-4F21-96CE-CF3717ADB3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8322-1E2B-435D-A275-5273F94ACAD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2B3C-FA42-4AD2-A85A-976300E98B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A02B-A6EB-4A6C-B5DD-133AFE472DD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83C0-7C28-4F35-9C3D-536E1377D4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6CA9-5077-4DA6-BD0A-41CEF80EB3F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58E2-78B7-4156-B49A-9833884AE7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300A-6AED-4CC1-9001-31925C0DE96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01D1-99EA-46CF-8784-99FD7D612E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4048-2EF5-43E8-8E4F-A5023F54749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AC72-6CF4-48F0-B7C1-C9A818AC75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7CC0-1085-493A-A1D4-80FB493DEB8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A30E-A1AE-4C6D-B07E-AD4DA8DB8A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0" descr="20031124100332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9"/>
          <p:cNvSpPr/>
          <p:nvPr/>
        </p:nvSpPr>
        <p:spPr>
          <a:xfrm>
            <a:off x="708660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23968" y="10800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1"/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295057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3"/>
          <p:cNvSpPr/>
          <p:nvPr/>
        </p:nvSpPr>
        <p:spPr>
          <a:xfrm>
            <a:off x="1219320" y="914400"/>
            <a:ext cx="57909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6525720" y="2590920"/>
            <a:ext cx="26182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珍惜自然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-1337040" y="0"/>
            <a:ext cx="2618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关爱生命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75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75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6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tupian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tiankong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4"/>
          <p:cNvSpPr/>
          <p:nvPr/>
        </p:nvSpPr>
        <p:spPr>
          <a:xfrm>
            <a:off x="76320" y="144792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66"/>
              </a:buClr>
              <a:buSzPct val="1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cc00cc"/>
                </a:solidFill>
                <a:latin typeface="华文行楷"/>
                <a:ea typeface="华文行楷"/>
              </a:rPr>
              <a:t>站在猎人的角度的感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华文行楷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cc00cc"/>
                </a:solidFill>
                <a:latin typeface="华文行楷"/>
                <a:ea typeface="华文行楷"/>
              </a:rPr>
              <a:t>站在斑羚角度的感受（镰刀头羊、老斑羚、斑羚群体等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华文行楷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cc00cc"/>
                </a:solidFill>
                <a:latin typeface="华文行楷"/>
                <a:ea typeface="华文行楷"/>
              </a:rPr>
              <a:t>站在个人的角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华文行楷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cc00cc"/>
                </a:solidFill>
                <a:latin typeface="华文行楷"/>
                <a:ea typeface="华文行楷"/>
              </a:rPr>
              <a:t>站在任何动物的关系的角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WordArt 5"/>
          <p:cNvSpPr txBox="1"/>
          <p:nvPr/>
        </p:nvSpPr>
        <p:spPr>
          <a:xfrm>
            <a:off x="0" y="-152280"/>
            <a:ext cx="3124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</a:rPr>
              <a:t>畅谈感受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banl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WordArt 3"/>
          <p:cNvSpPr txBox="1"/>
          <p:nvPr/>
        </p:nvSpPr>
        <p:spPr>
          <a:xfrm>
            <a:off x="2133720" y="76320"/>
            <a:ext cx="4038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隶书"/>
              </a:rPr>
              <a:t>概要复述故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2241000" y="4216320"/>
            <a:ext cx="542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身陷绝境   主动分列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斑羚飞渡    头羊牺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3" descr="2004102110235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4"/>
          <p:cNvSpPr/>
          <p:nvPr/>
        </p:nvSpPr>
        <p:spPr>
          <a:xfrm>
            <a:off x="0" y="0"/>
            <a:ext cx="59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66"/>
                </a:solidFill>
                <a:latin typeface="Times New Roman"/>
                <a:ea typeface="隶书"/>
              </a:rPr>
              <a:t>详细复述故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0" y="1295280"/>
            <a:ext cx="87631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华文行楷"/>
              </a:rPr>
              <a:t>学会用词    如：逼、对峙 、进退维谷、骚动、（动词及感情色彩较浓的词语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华文行楷"/>
              </a:rPr>
              <a:t>善用比喻  （用喻和不用喻的区别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华文行楷"/>
              </a:rPr>
              <a:t>抒情议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华文行楷"/>
              </a:rPr>
              <a:t>环境描写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6"/>
          <p:cNvSpPr/>
          <p:nvPr/>
        </p:nvSpPr>
        <p:spPr>
          <a:xfrm>
            <a:off x="6248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7"/>
          <p:cNvSpPr/>
          <p:nvPr/>
        </p:nvSpPr>
        <p:spPr>
          <a:xfrm>
            <a:off x="731520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8"/>
          <p:cNvSpPr/>
          <p:nvPr/>
        </p:nvSpPr>
        <p:spPr>
          <a:xfrm>
            <a:off x="845820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026" descr="Land-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027" descr="bailu"/>
          <p:cNvPicPr/>
          <p:nvPr/>
        </p:nvPicPr>
        <p:blipFill>
          <a:blip r:embed="rId2"/>
          <a:stretch/>
        </p:blipFill>
        <p:spPr>
          <a:xfrm>
            <a:off x="6477120" y="990720"/>
            <a:ext cx="1346040" cy="13716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1028"/>
          <p:cNvSpPr/>
          <p:nvPr/>
        </p:nvSpPr>
        <p:spPr>
          <a:xfrm>
            <a:off x="457200" y="685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创造性复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29"/>
          <p:cNvSpPr/>
          <p:nvPr/>
        </p:nvSpPr>
        <p:spPr>
          <a:xfrm>
            <a:off x="457200" y="2819520"/>
            <a:ext cx="80773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“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我”从猎人的身上反思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“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我”从斑羚的种群意识中获得的启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“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我”对头羊的镇定、果敢、牺牲精神的景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对人与动物关系认识的升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12218732_20050405112512389670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4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一只貉（ｈ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é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）被棒击后仍然试图站起来，屠宰者将其狠狠地踩在脚下，貉凄惨地嘶叫着，直到不能动弹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"/>
          <p:cNvSpPr/>
          <p:nvPr/>
        </p:nvSpPr>
        <p:spPr>
          <a:xfrm>
            <a:off x="0" y="6095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被杀海豚的鲜血染红了整片海域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6786000" y="533520"/>
            <a:ext cx="20088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辽宁村民将冬眠的青蛙从土中掘出晾干炼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青蛙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7:28:10Z</dcterms:created>
  <dc:creator>dulianyong</dc:creator>
  <dc:description/>
  <dc:language>en-US</dc:language>
  <cp:lastModifiedBy>a</cp:lastModifiedBy>
  <dcterms:modified xsi:type="dcterms:W3CDTF">2015-03-17T07:08:38Z</dcterms:modified>
  <cp:revision>23</cp:revision>
  <dc:subject/>
  <dc:title>PowerPoint 演示文稿</dc:title>
</cp:coreProperties>
</file>