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gif" ContentType="image/gif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E92-FAC8-4BA0-877A-A28F9809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4A6-0DBC-46AA-8218-EFEDEDE9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43BE3-4CD0-4DCB-AEE9-7AF5746C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C6A59-AC86-4CA3-90EC-C37B3035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9F9DE-ED41-474F-912C-6746DE82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570D3-7F5F-40B3-889E-5893C85D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3119A-1294-4F33-8CC8-4D4171F4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F2CB4-AE86-4314-B531-4E9F2BCC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906F1-CEB7-49AC-8083-21535CBB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61024-0C80-466B-A3E4-59C56D98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2AAFE-2A45-4EF4-9128-C146AF79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1A14F-C623-4636-9172-1A08E8DF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637-A1F6-4E1D-8170-5A00E647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72735-81EE-4AF2-BDCB-085F67C5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01798-D3C5-4745-A4EF-FAB33177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6CD4A-4AE8-429A-BF7C-F6459277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31C18-5B76-4205-B76E-26B646B8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B508D-3E3C-4D92-A7D8-A8F36BA4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F2077-E566-4E80-A89D-027E9E1C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2E117-B269-4C48-8AF7-A4E8BB10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B2CCD-6332-4A58-A3D0-B02E0B6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11860-0850-4873-A88B-0581C999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35B11-46F8-4927-A33F-43182445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651-6541-4772-8219-2132F8D7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E5A9A-9BD1-4DBE-8867-E868E586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C1A74-5246-4EFC-9F9A-954851FA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3D3F8-D264-47B9-8305-2A86FD5F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CB0B0-343D-415F-85A4-E47AB9F4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4BC96-3665-4CF8-8D1B-B4BEAD08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3CA61-3187-4AE9-8CF8-C36C3CC9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8BB4F-041D-4F1D-B20C-41565AEE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E7694-E72C-4BFD-9217-1E746E02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C2847-907F-40D2-8490-04D87FA9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1CC54-ED4A-4944-BF26-AF739CB9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B4A7-138F-4DAA-AAFA-BBBAE8E6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E49B7-9544-46CE-A1AC-CAC10660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DD4A1-005C-4803-850F-BEFE88A2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32F02-D4B5-4C81-A1EE-94ACFD34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90D98-B673-4DA0-8AC7-0BDD9606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D27F0-2304-44FA-931A-259C4FC1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5E174-96BF-4BC0-961E-7F4E871E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2D970-4712-4AF9-BBEB-F22764B2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7BD77-3FB4-4389-BC4A-0275692C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23A60-6C1F-4450-9679-F3C1D247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0A00E-42B1-4268-8F49-748E882C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CA31-31A2-45DC-9AA5-A8D9651E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C43CC-CFDB-4930-BA7F-FEF25954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7C9A3-EF54-45BF-8DC6-A1AA52CA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5FA1C-EA49-4F4D-A641-9D45AF6E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75164-BBBE-4CF8-A6E6-480A5F27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CE9B2-97FA-418E-B1D3-BCE0F2EA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72253-C2C5-457F-A803-5D843659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51924-F0DB-4E2E-8004-AD0A8CC0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5B977-785C-4BA1-A87F-B17749C3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CE61C-0A86-476F-8CDC-6241AFF8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910D2-828F-40F1-8E66-BD6E5E54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115D-0667-4DB5-AEEC-37066C2E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595DD-BDAB-491E-B63B-3B3C2518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348E5-54A4-4FE2-9D3F-C48B3C03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F61CF-3E9C-4375-AE68-CCE588FC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69011-920C-4585-A7F3-22226E34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E7B4A-039C-49D6-A6D2-BE9ABFBB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BFBF8-9CAD-4BAF-B993-64C92C69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9AB0B-ACD4-44EC-9E55-9225311A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2C5A-76AD-490C-859E-8DBD9490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7465-B2FE-4776-AE46-952D392E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CFB5-4D4A-4522-B543-17927DAE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1BE6-DAAB-404B-8A9A-7CC19C6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838-E770-4DD2-9D36-2792E123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BDD9-1646-442D-AB88-C0F874A6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DE97-8E2D-4266-B8FF-381EFC0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8D65-4436-40E5-9218-531C8C46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0658-7870-4563-A75E-859D9D13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75D5-0ECA-4301-AA32-DA9C47CD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C3C1-E498-4128-B75E-80D4A425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4039-92D4-4CE2-B083-28A44A45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02D2-07CD-4E45-BF5F-6A549FC5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1C58D-C641-4EE2-9018-7799F853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9744-E354-4076-AD38-3CEFF9F9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012-428B-4E1F-9829-A88E9CEE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7FB9-6948-4681-A820-9E9E9035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2F90-EA87-4774-9458-BF53F315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47AA9-26AA-4E76-843E-4D2BE91D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B922-8AA0-4936-BEF3-891AA1A3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C75A-F7F8-4CAF-A2EC-7F8257D9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F263-BCC3-4180-9489-8E750210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7C4D-FA86-471C-8E59-5F6626BE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37DF7-F530-4EEA-AD3C-EC3786DE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6E057-46CC-4A26-A5C0-905C6FE3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1F95-A950-4327-9AAF-6577D157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95B-0AA5-452E-8D97-099E1828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4FBA4-9B26-4A2F-A6AD-C5A9D181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98870-DA2D-409A-B113-6BEE0E69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F7F6-353A-4374-B32D-66F12489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265A-3532-4629-952F-108BFE2A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1AFC-AF93-46C4-A7BD-31BFBE80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CA14-727F-4F7E-AC4A-3689C74D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02BD6-2D66-44C5-B98D-6CDAFC05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3179D-3233-40A1-8F6A-76C69376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18C88-D4EF-4B2C-84C1-474933F2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8093B-4288-4198-A445-C76B1159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F32-4142-4A7E-B609-ADABBE4E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8707-0EDC-4231-9B9A-97A1DC58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7357C-B022-43CA-BE44-A8DB6372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1879-BFAF-4587-A238-F7D096EB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6670-B54F-44C0-AE6F-E2EC2F10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7B8C7-E9FD-4048-9646-109529D1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0F7E-075B-4418-BCC1-D4E69FC8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35C4A-5790-4940-81B5-3768D32F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7514D-7568-480D-A8A6-F1C10791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05A3-514D-437A-9E7A-FB2BD305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7A670-7740-46D2-A415-3AC6360D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B8A-F27D-4C48-AB27-A703D50A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BE5BF-E761-4AC2-88E6-9DB0724E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52ED0-A843-4DA6-A97F-48E862C0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11C1-9A9C-4406-AAE6-84156C35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551B0-B563-4028-A826-4C3003B7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B24F3-ED53-44F0-BC6D-736709EF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80BC2-A0AC-4B60-91AE-BA6A3411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7830A-8C1E-40B3-9080-49199F3D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CF10-08BE-42C7-9271-FADC9000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2A332-528A-4163-A7FC-EF08BF4B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C485-0D8B-4F5E-A3DA-3AF6DA99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FD4-8D94-433E-B030-BAF9F3E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911CF-6A9F-4CDF-A53A-D17415D1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EE922-F251-4D94-B584-71E45AFE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560FF-4FFB-44C4-8FA0-90F51E97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B04D-A1CB-4ECF-8C6E-BC390EE1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0E7DA-ECB2-4028-AD4E-467ED52F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CA646-929D-46A7-8FA1-801E63D4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CACEC-A0D6-4DBB-89F6-55652BC7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70D98-7A98-4AAE-966F-8507B964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CB47E-28C5-45DD-9745-FE9BF4AB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B6AD5-A938-4B32-91AE-9B7329E5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3D2-8AB5-4571-944A-A5D54947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A4AA2-CEE4-463E-9054-854C1BCD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38E55-DB1B-4C7B-AC8A-0C6F04DC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57D96-77D1-4F80-830D-7623E0A3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482A-A976-4865-BEA4-00AEF9BA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BAD86-8175-44EC-902C-C2FFC576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FF51A-7010-45A4-9A98-E71D8EB2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C40CF-E2E9-4340-93BA-E93A565D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D4740-1776-4B93-AAB0-969CA269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C8548-3910-4B1F-8F41-F3E9E4A2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23770-46B8-4930-8215-4FC7A357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FB0-EE09-445A-BF5E-4CA86A51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6FDA7-4E6B-4169-A44F-E7AAB432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19000-3CCD-4865-A30D-3BC2B6A3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14727-E66B-4ED9-99CA-1DA0D951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9BC2E-54AE-4C69-86CC-D532F194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77881-2EFC-4A5F-9EF6-C072A3D0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8CC69-1483-4459-80C1-F5496C80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71A1F-31DD-43E6-9CC3-2CF6F32E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5766C-CA7F-4842-ACFC-81ED3118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D614D-480F-4282-A3DE-4FE41EAC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1401A-1D3F-4343-AE0F-914AAFF4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BCE6-067C-4D6A-8076-508C39596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0BCC-1D75-416B-BD60-FDEB6B116C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BA17-067F-45E2-AA5D-976A733E4E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97FA-070D-4E74-9019-3566CE6C79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6E4D-B4FA-47E1-BA0E-45A400A6A2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50D8-8A81-46A6-9FFC-8FBF54032C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C9B1-DBB8-4B90-A812-2A71B80CB7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F46A-A97B-4B4C-95B9-992942ADB5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4C9F-711F-4466-AE9E-6F9CBDFCAF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4A22-9359-40A7-B2F7-4E499F29EC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7AF7-8042-48CF-86E4-A150A19FD1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EFBF-E1DD-4182-9113-5399A25DA3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5933-D4A0-432A-A752-2AE556AC41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A038-0634-4D39-9546-84BDBED075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B9B4-B9A5-4563-94AF-26A366ED5E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2811-E156-467E-9386-92907D0C12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3157-EF71-4133-9B7E-70EEC4E3FE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8521-9727-482C-BC4E-62A74C63CB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97CC-3386-409A-9D07-6D89D1DC93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F186-23CB-47B9-81C8-2C5DE0E980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20D4-F162-4114-B4F1-1CB9273F83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D0E5-9853-43AA-85E3-1C0CF7AF32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21A1-F0A0-453E-8BA5-27BF14EAF3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1FD7-C7BB-4DB3-B117-1199B36A71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18E1-9C27-456C-A0A2-086501900B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2"/>
          <p:cNvSpPr txBox="1"/>
          <p:nvPr/>
        </p:nvSpPr>
        <p:spPr>
          <a:xfrm>
            <a:off x="1523880" y="1295280"/>
            <a:ext cx="67820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笔算乘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33"/>
          <p:cNvSpPr/>
          <p:nvPr/>
        </p:nvSpPr>
        <p:spPr>
          <a:xfrm>
            <a:off x="57150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笔算乘法例1"/>
          <p:cNvPicPr/>
          <p:nvPr/>
        </p:nvPicPr>
        <p:blipFill>
          <a:blip r:embed="rId1"/>
          <a:stretch/>
        </p:blipFill>
        <p:spPr>
          <a:xfrm>
            <a:off x="1676520" y="609480"/>
            <a:ext cx="6933960" cy="312732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3"/>
          <p:cNvSpPr/>
          <p:nvPr/>
        </p:nvSpPr>
        <p:spPr>
          <a:xfrm>
            <a:off x="487440" y="4287960"/>
            <a:ext cx="21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1669320" y="4759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2060280" y="5442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1022040" y="5459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2043000" y="6107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1697040" y="611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9"/>
          <p:cNvSpPr/>
          <p:nvPr/>
        </p:nvSpPr>
        <p:spPr>
          <a:xfrm flipV="1">
            <a:off x="2251080" y="5246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"/>
          <p:cNvSpPr/>
          <p:nvPr/>
        </p:nvSpPr>
        <p:spPr>
          <a:xfrm flipH="1" flipV="1">
            <a:off x="1980720" y="52574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1760400" y="56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333684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3"/>
          <p:cNvSpPr/>
          <p:nvPr/>
        </p:nvSpPr>
        <p:spPr>
          <a:xfrm>
            <a:off x="4533120" y="4738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4"/>
          <p:cNvSpPr/>
          <p:nvPr/>
        </p:nvSpPr>
        <p:spPr>
          <a:xfrm>
            <a:off x="4538160" y="5421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5"/>
          <p:cNvSpPr/>
          <p:nvPr/>
        </p:nvSpPr>
        <p:spPr>
          <a:xfrm>
            <a:off x="38858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492408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456084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8"/>
          <p:cNvSpPr/>
          <p:nvPr/>
        </p:nvSpPr>
        <p:spPr>
          <a:xfrm flipV="1">
            <a:off x="4765680" y="5226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9"/>
          <p:cNvSpPr/>
          <p:nvPr/>
        </p:nvSpPr>
        <p:spPr>
          <a:xfrm flipV="1">
            <a:off x="4807080" y="5257440"/>
            <a:ext cx="257040" cy="2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0"/>
          <p:cNvSpPr/>
          <p:nvPr/>
        </p:nvSpPr>
        <p:spPr>
          <a:xfrm>
            <a:off x="419400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1"/>
          <p:cNvSpPr/>
          <p:nvPr/>
        </p:nvSpPr>
        <p:spPr>
          <a:xfrm>
            <a:off x="638496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2"/>
          <p:cNvSpPr/>
          <p:nvPr/>
        </p:nvSpPr>
        <p:spPr>
          <a:xfrm>
            <a:off x="7612920" y="4952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3"/>
          <p:cNvSpPr/>
          <p:nvPr/>
        </p:nvSpPr>
        <p:spPr>
          <a:xfrm>
            <a:off x="7204320" y="5421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4"/>
          <p:cNvSpPr/>
          <p:nvPr/>
        </p:nvSpPr>
        <p:spPr>
          <a:xfrm>
            <a:off x="67784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5"/>
          <p:cNvSpPr/>
          <p:nvPr/>
        </p:nvSpPr>
        <p:spPr>
          <a:xfrm>
            <a:off x="6832440" y="605484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797220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762624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8"/>
          <p:cNvSpPr/>
          <p:nvPr/>
        </p:nvSpPr>
        <p:spPr>
          <a:xfrm>
            <a:off x="727704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9"/>
          <p:cNvSpPr/>
          <p:nvPr/>
        </p:nvSpPr>
        <p:spPr>
          <a:xfrm>
            <a:off x="920880" y="6051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0"/>
          <p:cNvSpPr/>
          <p:nvPr/>
        </p:nvSpPr>
        <p:spPr>
          <a:xfrm>
            <a:off x="3784680" y="605484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5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6"/>
          <p:cNvSpPr/>
          <p:nvPr/>
        </p:nvSpPr>
        <p:spPr>
          <a:xfrm>
            <a:off x="270180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282348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8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6450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2579760" y="114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2964600" y="1860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2276280" y="1878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336840" y="25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974680" y="25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2593800" y="25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20574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2974680" y="3062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2574720" y="3062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2212920" y="3062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2"/>
          <p:cNvSpPr/>
          <p:nvPr/>
        </p:nvSpPr>
        <p:spPr>
          <a:xfrm>
            <a:off x="20574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3279600" y="3657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2955600" y="36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2574720" y="36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2193840" y="36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9" descr="老师"/>
          <p:cNvPicPr/>
          <p:nvPr/>
        </p:nvPicPr>
        <p:blipFill>
          <a:blip r:embed="rId1"/>
          <a:stretch/>
        </p:blipFill>
        <p:spPr>
          <a:xfrm>
            <a:off x="7010280" y="4343400"/>
            <a:ext cx="1086120" cy="1219320"/>
          </a:xfrm>
          <a:prstGeom prst="rect">
            <a:avLst/>
          </a:prstGeom>
          <a:ln w="0">
            <a:noFill/>
          </a:ln>
        </p:spPr>
      </p:pic>
      <p:sp>
        <p:nvSpPr>
          <p:cNvPr id="589" name="AutoShape 20"/>
          <p:cNvSpPr/>
          <p:nvPr/>
        </p:nvSpPr>
        <p:spPr>
          <a:xfrm>
            <a:off x="4800600" y="220968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笔算应这样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gslc"/>
          <p:cNvPicPr/>
          <p:nvPr/>
        </p:nvPicPr>
        <p:blipFill>
          <a:blip r:embed="rId1"/>
          <a:stretch/>
        </p:blipFill>
        <p:spPr>
          <a:xfrm>
            <a:off x="2514600" y="304920"/>
            <a:ext cx="3645000" cy="16761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326484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1" descr="fencai2"/>
          <p:cNvPicPr/>
          <p:nvPr/>
        </p:nvPicPr>
        <p:blipFill>
          <a:blip r:embed="rId2"/>
          <a:stretch/>
        </p:blipFill>
        <p:spPr>
          <a:xfrm>
            <a:off x="1828800" y="2819520"/>
            <a:ext cx="3352680" cy="15238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2"/>
          <p:cNvSpPr/>
          <p:nvPr/>
        </p:nvSpPr>
        <p:spPr>
          <a:xfrm>
            <a:off x="2121840" y="4572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3" descr="老师"/>
          <p:cNvPicPr/>
          <p:nvPr/>
        </p:nvPicPr>
        <p:blipFill>
          <a:blip r:embed="rId3"/>
          <a:stretch/>
        </p:blipFill>
        <p:spPr>
          <a:xfrm>
            <a:off x="7696080" y="5334120"/>
            <a:ext cx="1086120" cy="121896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14"/>
          <p:cNvSpPr/>
          <p:nvPr/>
        </p:nvSpPr>
        <p:spPr>
          <a:xfrm>
            <a:off x="5638680" y="327672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各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xsgs388"/>
          <p:cNvPicPr/>
          <p:nvPr/>
        </p:nvPicPr>
        <p:blipFill>
          <a:blip r:embed="rId1"/>
          <a:stretch/>
        </p:blipFill>
        <p:spPr>
          <a:xfrm>
            <a:off x="1828800" y="1828800"/>
            <a:ext cx="676440" cy="1314360"/>
          </a:xfrm>
          <a:prstGeom prst="rect">
            <a:avLst/>
          </a:prstGeom>
          <a:ln w="0">
            <a:noFill/>
          </a:ln>
        </p:spPr>
      </p:pic>
      <p:sp>
        <p:nvSpPr>
          <p:cNvPr id="597" name="AutoShape 3"/>
          <p:cNvSpPr/>
          <p:nvPr/>
        </p:nvSpPr>
        <p:spPr>
          <a:xfrm>
            <a:off x="2819520" y="609480"/>
            <a:ext cx="3276360" cy="1447920"/>
          </a:xfrm>
          <a:prstGeom prst="wedgeEllipseCallout">
            <a:avLst>
              <a:gd name="adj1" fmla="val -57462"/>
              <a:gd name="adj2" fmla="val 62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口算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×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再在积的末尾添两个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3412800" y="2635200"/>
            <a:ext cx="36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80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7" descr="女孩"/>
          <p:cNvPicPr/>
          <p:nvPr/>
        </p:nvPicPr>
        <p:blipFill>
          <a:blip r:embed="rId2"/>
          <a:stretch/>
        </p:blipFill>
        <p:spPr>
          <a:xfrm>
            <a:off x="7391520" y="4419720"/>
            <a:ext cx="1000080" cy="157140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9"/>
          <p:cNvSpPr/>
          <p:nvPr/>
        </p:nvSpPr>
        <p:spPr>
          <a:xfrm>
            <a:off x="4648320" y="3352680"/>
            <a:ext cx="2438280" cy="1067040"/>
          </a:xfrm>
          <a:prstGeom prst="cloudCallout">
            <a:avLst>
              <a:gd name="adj1" fmla="val 78648"/>
              <a:gd name="adj2" fmla="val 98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这样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2617920" y="3733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3009240" y="4416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3027240" y="5081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2681280" y="508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4"/>
          <p:cNvSpPr/>
          <p:nvPr/>
        </p:nvSpPr>
        <p:spPr>
          <a:xfrm>
            <a:off x="2286000" y="50292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2352240" y="4357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3336840" y="510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3641400" y="510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2212560" y="5867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6915600" y="609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3"/>
          <p:cNvSpPr/>
          <p:nvPr/>
        </p:nvSpPr>
        <p:spPr>
          <a:xfrm>
            <a:off x="3083040" y="533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因数和积的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ShockwaveFlash1"/>
          <p:cNvGraphicFramePr/>
          <p:nvPr/>
        </p:nvGraphicFramePr>
        <p:xfrm>
          <a:off x="1676520" y="1219320"/>
          <a:ext cx="70102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70102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WordArt 2"/>
          <p:cNvSpPr txBox="1"/>
          <p:nvPr/>
        </p:nvSpPr>
        <p:spPr>
          <a:xfrm>
            <a:off x="2666880" y="228600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9:41:58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