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BD4-D75E-403C-AB46-1DD9E872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093-DDE5-4553-8DA5-51E62A07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683AE-7800-48C0-ACFD-DF0D139E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0B73D-C453-45C4-ACEA-7B9499BA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81B1E-C2C0-41D7-BA16-8F2BBBB1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3FFC6-9E6B-4931-A18A-39DFF317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EE7E8-6AB1-4255-A74F-36F3EF42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A0549-A4E8-43D7-B126-87485A8D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E08C5-1AC6-410B-9ED0-CD8859A1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23034-A6DE-4B94-9FF3-42CDD15A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6D66F-9C7B-4513-9B72-0C609780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3914E-E6C3-4113-892D-1F2D476B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24C-0C63-43BC-960F-59DED34B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7E363-EA02-4C83-98B0-D711E3D1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0B618-2E17-4729-88FA-FBE54309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17DB3-3CE7-477A-A8BC-014E73C3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FCF5B-13EC-432A-91FE-091AB837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5D80C-CC93-4E12-ABC9-9122885B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2B6A2-42FE-4B58-A9EC-885BB214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D8BF9-BFFA-4DF6-A8D7-C8F7849F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F3250-0DF7-484C-9200-6467E67B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B3BB9-271B-4225-AC86-196C98EA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4C869-B2E0-401C-9E0E-9210AF51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806-F84C-4B95-ACF0-C6BED711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6236D-A8CD-4C8A-B96A-F4BFCE00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DC4FB-0B5F-453B-A685-2D98573B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CBD21-62BA-4F95-A2D4-13E50D5A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2B9AD-C48E-46D7-B76F-65BF1039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81B00-B8BA-4CAC-97B9-5B405DBE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10F32-CB87-43F5-B3A9-ECDC64B2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A6935-A7A5-4F36-8855-E1E36F5E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7380F-C585-4A54-8278-EB3B01AC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83569-D7FD-419A-9AFE-3BD80B34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83A43-4AA1-4250-9AD2-D62BFAA3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D9E5-7764-4A88-A176-66A43C30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72E3C-2A91-47FB-BC39-A64708EA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23A98-ED2C-4380-B017-1D5863E9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BE293-DBB7-491C-9518-49E0C803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F1CA9-0039-43EC-ACD2-588DAA57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DF9D9-D6E5-4289-AF94-4C70C7B3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0D8A3-2CEC-4CEC-ABEC-B5C70626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6D94B-07A4-4180-ADB4-76F0DE33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C3FCB-E08A-42DA-AC34-8FD9F0E0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FEA24-39DB-409B-89D5-CC186C9F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917A8-1E57-4A49-A7E3-DA495778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A73A-D146-42CB-98F3-D869BABB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98A1F-66B1-4504-B37C-7412EDE7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6336C-E005-4B2E-BC43-7FEAC130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E65F6-42D5-4DD4-89BE-992C7EA3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69DAA-745B-4CE4-B636-3973ABB1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84C5C-6ADD-4601-8CDE-DF73319E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57024-AE98-4D4D-9193-EA41B0C6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72599-E107-45A9-A817-3E9C60A0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946E7-8071-4E8D-8C13-B7C0A785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8C4A3-4B57-4278-93A8-365F03A6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29EC7-B60A-463A-8E71-0638BF53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5248-492B-461E-B430-ED1024F9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64750-C9D4-4E22-90C1-AB395C73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973D6-844E-4EA2-BFBE-002FADC5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18939-6995-4933-83C6-5BB27AF1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3C770-37D9-4C7F-A3B0-CD9AB70F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1C7DF-19AF-4BEB-8406-B680F6F1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F2CCC-25B8-4B03-A135-D9B0AFC2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DC1D7-144B-4B32-90AD-4D13886D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3581-9D0D-402F-AF22-E72C8F82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4AE9-BA6D-4FF5-AD66-CAE4B303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508E-432F-4E20-AB7D-68464558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E642-DD94-4B6A-8A92-C7AC51A5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89B-5CCE-49A4-8923-23448074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B97E-14FF-4B1A-8A1E-7969AA73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F688-6498-4048-955B-1C72F76D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66B3-6A4F-48D0-B97A-703FD09B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84C4-10FB-4BF7-84C8-FC466077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F2CC-25AD-46F8-841D-3D8CD2A6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65FF3-B6DE-4AB6-8EB9-B409204E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92EB3-6715-43E0-9DAE-DBC48685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EA9FC-5F0A-4DAE-8DE9-1B5C8071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A9F9-4AEB-42BA-B44A-50DA287D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9B40-3A43-4DA7-A306-D95A787E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016-AD89-47ED-8400-83A1BA8F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78BD-8170-4570-9186-FBE4D59A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D02E-6510-4DD7-B1E6-638E0E2F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FC252-EC2B-4091-9335-07D19A97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729E-1E29-4CB4-8BC3-CE3B477C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6BECB-5EDD-4174-B20F-E1F81213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67317-9185-43FE-BCC8-79307ACD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3ACEC-0A2A-4A16-AA13-5EAA4D52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42766-6FC8-4C3D-83E7-C910F6BA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74C5B-58D2-43BA-87FC-3CF5FA04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1566-5788-41E4-B58E-AF806DB6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A7B-4B7E-4094-BEBA-C7ABDAF6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C6F9-40CF-4E1F-B2D8-023322FE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B2C65-EFFF-4B0F-9141-D77A2E54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40AF1-EC04-4C2F-90DB-DB087963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93C4-9419-4056-B361-2853A7A2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3359E-8C04-463A-8B21-50071283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36334-6B34-4962-8AC0-5DBDD4C4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2D4D8-14F0-448A-9CB9-6B58FC13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B2D2-7EB5-4F4E-A0B4-AA253EB7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91271-8FC9-498B-BA7E-4759E3B8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F6E8B-AB94-4952-982B-5910CC5F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0CB-09BC-440A-B97B-8FFD30BD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31C98-B002-401A-AEE9-ECB3BD8A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3D6E-9610-4E43-BC5F-0E324986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3A7B8-4FB5-44A3-99BA-0BEF161D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76366-C64E-448B-841F-AC25C7D1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E5F4B-11E5-4469-9510-C4A8BA3A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9AFBE-40BB-4FA4-83D0-465F4FF4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0AC8C-DD39-4E1C-B0CF-4E31BAC4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B24F5-8668-4424-849D-D8E59138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017A8-DA8D-4619-BC31-242FFF42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05661-D2F1-4B05-B260-D88701CA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BB5-901A-4A7C-A78E-67CFC3C9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F6145-8646-4ED9-B579-9545B59C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7E396-7DA1-42D6-B2DA-CEF56285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EDBD-7D8B-4258-905F-2A3DD24C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D9090-541A-4966-ADD2-67FB907E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2B5E0-6188-4827-8C72-F2C520E3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15C8B-4BB8-4F46-865F-ED1FB919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CA36F-7AEC-4819-8FD0-0E9F9014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34B0A-67C8-4043-921C-C4FED62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F035-8666-476E-9B6A-21A985A8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880E6-D211-4B81-801B-2945AF5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0A3-827A-4B18-BB3D-A8C1D5B6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A3714-13DA-4914-9613-63FF988E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D45C4-4B75-4D5E-B38C-1CF15011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E4308-C4AB-4732-9B15-FB65C89E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FF783-7D07-4329-A55D-BEE89E80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B990C-D66D-467D-8346-3EF27120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FCED-102D-46CC-8F57-89A51A96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BB07E-BB1C-4C7E-B78B-7C8BFE8C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0F3A3-05F2-4FE6-94F2-7DF39C95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AEF76-9306-48DC-8A27-10F7C71D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12FBB-6C57-4799-AB9B-E2DC8C93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81C-E70C-48E7-9E3F-E73D5AAC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F7A98-7618-4057-B936-44F390E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ED333-401C-413E-A4CA-71471160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34A66-C20C-4E6B-85B7-0F1E7D26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5FA9C-9AE9-481C-96EA-ABDF464F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D7BF2-27DD-4AC7-8CCB-8C1E58AF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66D9B-9F89-43B0-870B-2B1933EE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DEC27-8E65-447D-839A-925F1DBC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BEF3D-3018-4A52-B56A-14C97BB1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A6458-C6D4-4525-A869-5F02DEAF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A087A-AFE6-4B7F-A491-779469F5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F32-2120-415A-94AC-69B2AEC4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6A606-A524-4A05-A101-F6B8D25F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B57C1-2100-4BCA-A85D-A379C132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ED40F-50D0-4D52-A12E-14BB9277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A987D-982A-4D3F-B24D-5C0EF68D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E30A1-BE6B-4F2D-BBF5-A9C25A78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EB2A3-7C56-4F99-A785-989C54EE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74142-1403-4AEA-9F97-11C10138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B066F-3DAC-4256-AA7D-8C9B1F78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9B462-157A-40A2-AB36-334C2100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8A50E-80BC-4B83-806D-12FF815B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6C79-294B-4107-AEDF-604A15605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7726-31E0-441D-A95C-AD8E3A499D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E641-5C9C-4A0E-83B2-BB5561C3B8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3958-13C3-425F-9A3E-B6D41581FA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8C20-1ABA-43E9-93CF-5B559DC2F4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496B-078A-48C1-BAB3-045838DD22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437A-A4A6-40DF-A1DA-7CCA9E36F2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F6C3-F0A4-4215-A555-6C0070F32F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725B-6382-4CD6-9A8B-5B33914C26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B5E0-6032-4AF1-B66C-02E185A482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0207-735A-4C9F-9AEA-0CBC077CE8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72AB-5CDC-4699-B906-04ADED66E1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B739-A54C-4E2B-B6E8-A970172F81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9433-8DE0-4C37-827B-48B748A77C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E48F-2C93-4C47-94C7-1F3B421D88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C40F-B516-400F-A779-A3B72BA16C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1333-B865-43B1-A234-AF85F4B5B4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9307-CD8D-4F58-B011-293C7A24C5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E2C3-73C9-4CDA-B87F-70ED314B9B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4B9E-2AE7-4AC4-BE7B-0EE242466F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95CF-EF72-46A7-8F7B-4DEB5D192B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1985-0CC6-4539-8173-E98B7FD3B4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9484-4381-4AE5-B3C0-74B9E9A84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6BE7-0C18-4014-BB36-6A85856EFC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1AF7-387E-4B33-991D-899388B06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028" descr="tu2"/>
          <p:cNvPicPr/>
          <p:nvPr/>
        </p:nvPicPr>
        <p:blipFill>
          <a:blip r:embed="rId1"/>
          <a:stretch/>
        </p:blipFill>
        <p:spPr>
          <a:xfrm>
            <a:off x="-1692360" y="-2481120"/>
            <a:ext cx="10836360" cy="933912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031"/>
          <p:cNvSpPr/>
          <p:nvPr/>
        </p:nvSpPr>
        <p:spPr>
          <a:xfrm>
            <a:off x="1763640" y="162864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032"/>
          <p:cNvSpPr/>
          <p:nvPr/>
        </p:nvSpPr>
        <p:spPr>
          <a:xfrm>
            <a:off x="2133720" y="1295280"/>
            <a:ext cx="5184720" cy="46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白  杨  礼  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cc"/>
                </a:solidFill>
                <a:latin typeface="华文行楷"/>
                <a:ea typeface="华文行楷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3049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杨树实在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1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平凡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我赞美白杨树！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那就是白杨树，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西北极普通的一种树，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然而实在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1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平凡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种树！</a:t>
            </a:r>
            <a:br>
              <a:rPr sz="1600"/>
            </a:b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这就是白杨树，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西北极普通的一种树，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然而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</a:t>
            </a:r>
            <a:r>
              <a:rPr b="1" lang="zh-CN" sz="1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是平凡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树！</a:t>
            </a:r>
            <a:br>
              <a:rPr sz="1600"/>
            </a:b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　          白杨是</a:t>
            </a:r>
            <a:r>
              <a:rPr b="1" lang="zh-CN" sz="1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平凡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树。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它在西北极普遍，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不被人重视，就跟北方农民相似；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它有极强的生命力，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磨折不了，压迫不倒，也跟北方的农民相似。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1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我赞美白杨树，就因为它不但象征了北方的农民，</a:t>
            </a:r>
            <a:br>
              <a:rPr sz="1600"/>
            </a:br>
            <a:r>
              <a:rPr b="1" lang="zh-CN" sz="1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         尤其象征了今天我们民族解放斗争中</a:t>
            </a:r>
            <a:br>
              <a:rPr sz="1600"/>
            </a:br>
            <a:r>
              <a:rPr b="1" lang="zh-CN" sz="1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         所不可缺的朴质，坚强，以及力求上进的精神。</a:t>
            </a:r>
            <a:br>
              <a:rPr sz="1600"/>
            </a:br>
            <a:r>
              <a:rPr b="1" lang="zh-CN" sz="1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　</a:t>
            </a:r>
            <a:br>
              <a:rPr sz="1600"/>
            </a:br>
            <a:r>
              <a:rPr b="1" lang="zh-CN" sz="1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         让那些看不起民众，贱视民众，顽固的倒退的人们</a:t>
            </a:r>
            <a:br>
              <a:rPr sz="1600"/>
            </a:br>
            <a:r>
              <a:rPr b="1" lang="zh-CN" sz="1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         去赞美那贵族化的楠木（那也是直干秀颀的），</a:t>
            </a:r>
            <a:br>
              <a:rPr sz="1600"/>
            </a:br>
            <a:r>
              <a:rPr b="1" lang="zh-CN" sz="1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         去鄙视这极常见，</a:t>
            </a:r>
            <a:br>
              <a:rPr sz="1600"/>
            </a:br>
            <a:r>
              <a:rPr b="1" lang="zh-CN" sz="1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         极易生长的白杨罢。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我要高声赞美白杨树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447920" y="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礼赞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白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8" descr="1"/>
          <p:cNvPicPr/>
          <p:nvPr/>
        </p:nvPicPr>
        <p:blipFill>
          <a:blip r:embed="rId1"/>
          <a:stretch/>
        </p:blipFill>
        <p:spPr>
          <a:xfrm>
            <a:off x="6095880" y="228600"/>
            <a:ext cx="2397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343400" y="0"/>
            <a:ext cx="50292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华文行楷"/>
              </a:rPr>
              <a:t>仿写抒情句：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你在茫茫的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竹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深林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雪原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高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走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Arial"/>
              </a:rPr>
              <a:t>难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400"/>
            </a:br>
            <a:r>
              <a:rPr b="0" lang="zh-CN" sz="2400" spc="-1" strike="noStrike" u="sng">
                <a:solidFill>
                  <a:srgbClr val="ff0066"/>
                </a:solidFill>
                <a:uFillTx/>
                <a:latin typeface="Arial"/>
              </a:rPr>
              <a:t>难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Arial"/>
              </a:rPr>
              <a:t>难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Arial"/>
              </a:rPr>
              <a:t>难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zhu2"/>
          <p:cNvPicPr/>
          <p:nvPr/>
        </p:nvPicPr>
        <p:blipFill>
          <a:blip r:embed="rId1"/>
          <a:stretch/>
        </p:blipFill>
        <p:spPr>
          <a:xfrm>
            <a:off x="762120" y="533520"/>
            <a:ext cx="35049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3505320" y="2895480"/>
            <a:ext cx="42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赞美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莲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菊花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梅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Arial"/>
              </a:rPr>
              <a:t>就因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Arial"/>
              </a:rPr>
              <a:t>不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Arial"/>
              </a:rPr>
              <a:t>尤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4" descr="lianhua 6"/>
          <p:cNvPicPr/>
          <p:nvPr/>
        </p:nvPicPr>
        <p:blipFill>
          <a:blip r:embed="rId1"/>
          <a:stretch/>
        </p:blipFill>
        <p:spPr>
          <a:xfrm>
            <a:off x="609480" y="1219320"/>
            <a:ext cx="2286000" cy="1409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lianhua 2"/>
          <p:cNvPicPr/>
          <p:nvPr/>
        </p:nvPicPr>
        <p:blipFill>
          <a:blip r:embed="rId2"/>
          <a:stretch/>
        </p:blipFill>
        <p:spPr>
          <a:xfrm>
            <a:off x="609480" y="2819520"/>
            <a:ext cx="2286000" cy="14079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lianhua 4"/>
          <p:cNvPicPr/>
          <p:nvPr/>
        </p:nvPicPr>
        <p:blipFill>
          <a:blip r:embed="rId3"/>
          <a:stretch/>
        </p:blipFill>
        <p:spPr>
          <a:xfrm>
            <a:off x="609480" y="4419720"/>
            <a:ext cx="2286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143000" y="2438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让那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们</a:t>
            </a:r>
            <a:r>
              <a:rPr b="0" lang="zh-CN" sz="2400" spc="-1" strike="noStrike" u="sng">
                <a:solidFill>
                  <a:srgbClr val="ff0066"/>
                </a:solidFill>
                <a:uFillTx/>
                <a:latin typeface="Arial"/>
              </a:rPr>
              <a:t>去赞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牡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Arial"/>
              </a:rPr>
              <a:t>去鄙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莲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要高声赞美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莲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lianhua 3"/>
          <p:cNvPicPr/>
          <p:nvPr/>
        </p:nvPicPr>
        <p:blipFill>
          <a:blip r:embed="rId1"/>
          <a:stretch/>
        </p:blipFill>
        <p:spPr>
          <a:xfrm>
            <a:off x="6934320" y="1447920"/>
            <a:ext cx="1676160" cy="10317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lianhua 5"/>
          <p:cNvPicPr/>
          <p:nvPr/>
        </p:nvPicPr>
        <p:blipFill>
          <a:blip r:embed="rId2"/>
          <a:stretch/>
        </p:blipFill>
        <p:spPr>
          <a:xfrm>
            <a:off x="6934320" y="2743200"/>
            <a:ext cx="1676160" cy="1028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lianhua 7"/>
          <p:cNvPicPr/>
          <p:nvPr/>
        </p:nvPicPr>
        <p:blipFill>
          <a:blip r:embed="rId3"/>
          <a:stretch/>
        </p:blipFill>
        <p:spPr>
          <a:xfrm>
            <a:off x="7010280" y="4267080"/>
            <a:ext cx="16765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华文行楷"/>
              </a:rPr>
              <a:t>仿写扩展句：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扑入你的视野的，是黄绿错综的一条大毯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黄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土，未开垦的荒地，几百万年前由伟大的自然力所堆积成功的黄土高原的外壳；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绿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呢，是人类劳力战胜自然的成果，是麦田 。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那是力争上游的一种树，笔直的干，笔直的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 它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常是丈把高，象是加过人工似的，一丈以内，绝无旁枝；它所有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丫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呢，一律向上，而且紧紧靠拢，也象是加以人工似的，成为一束，绝无横斜逸出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594036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5867280" y="213372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7"/>
          <p:cNvSpPr/>
          <p:nvPr/>
        </p:nvSpPr>
        <p:spPr>
          <a:xfrm flipH="1">
            <a:off x="6172200" y="426708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华文行楷"/>
                <a:ea typeface="华文行楷"/>
              </a:rPr>
              <a:t>结语</a:t>
            </a:r>
            <a:r>
              <a:rPr b="1" lang="en-US" sz="4000" spc="-1" strike="noStrike">
                <a:solidFill>
                  <a:srgbClr val="ff66cc"/>
                </a:solidFill>
                <a:latin typeface="华文行楷"/>
                <a:ea typeface="华文行楷"/>
              </a:rPr>
              <a:t>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学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篇优秀的散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如一幅无形的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又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恰似一首读不尽的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茅盾先生的散文达到了如诗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画的艺术境界。白杨在特定的历史时期被赋予了特定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内涵。今天，你们都是祖国的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小白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愿你们能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白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样在神州大地上茁壮成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Arial"/>
                <a:ea typeface="华文行楷"/>
              </a:rPr>
              <a:t>关于茅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茅盾图"/>
          <p:cNvPicPr/>
          <p:nvPr/>
        </p:nvPicPr>
        <p:blipFill>
          <a:blip r:embed="rId1"/>
          <a:stretch/>
        </p:blipFill>
        <p:spPr>
          <a:xfrm>
            <a:off x="684360" y="1916280"/>
            <a:ext cx="2422440" cy="388908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9"/>
          <p:cNvSpPr/>
          <p:nvPr/>
        </p:nvSpPr>
        <p:spPr>
          <a:xfrm>
            <a:off x="3492360" y="1844640"/>
            <a:ext cx="48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茅盾原名沈德鸿，字雁冰，１８９６年７月４日生于浙江桐乡县乌镇。这个太湖南部的鱼米之乡，是近代以来中国农业最为发达之区，它紧邻着现代化的上海，又是人文荟萃的地方，这造成了茅盾勇于面向世界的开放的文化心态，以及精致入微的笔风。 茅盾是我国现代进步文化的先驱者，伟大的革命文学家和中国共产党最早的党员之一。中华人民共和国成立后，他担任第一任文化部长，还担任过作家协会主席、全国文联名誉主席等职务。    茅盾一生写了大量的文学作品，主要有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66cc"/>
                </a:solidFill>
                <a:latin typeface="Arial"/>
              </a:rPr>
              <a:t>子夜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ff66cc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66cc"/>
                </a:solidFill>
                <a:latin typeface="Arial"/>
              </a:rPr>
              <a:t>蚀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ff66cc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66cc"/>
                </a:solidFill>
                <a:latin typeface="Arial"/>
              </a:rPr>
              <a:t>虹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ff66cc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66cc"/>
                </a:solidFill>
                <a:latin typeface="Arial"/>
              </a:rPr>
              <a:t>春蚕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ff66cc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66cc"/>
                </a:solidFill>
                <a:latin typeface="Arial"/>
              </a:rPr>
              <a:t>林家铺子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ff66cc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66cc"/>
                </a:solidFill>
                <a:latin typeface="Arial"/>
              </a:rPr>
              <a:t>霜叶红似二月花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ff66cc"/>
                </a:solidFill>
                <a:latin typeface="Arial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457200" y="22096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题白杨图</a:t>
            </a:r>
            <a:br>
              <a:rPr sz="2800"/>
            </a:b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茅盾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北方有佳树，挺立如长矛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叶叶皆团结，枝枝争上游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羞与楠枋伍，甘居榆枣俦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丹青标风骨，愿与子同仇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2"/>
          <p:cNvPicPr/>
          <p:nvPr/>
        </p:nvPicPr>
        <p:blipFill>
          <a:blip r:embed="rId1"/>
          <a:stretch/>
        </p:blipFill>
        <p:spPr>
          <a:xfrm>
            <a:off x="5867280" y="1773360"/>
            <a:ext cx="2449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610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Arial"/>
                <a:ea typeface="华文行楷"/>
              </a:rPr>
              <a:t>学习目标：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一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</a:rPr>
              <a:t>理</a:t>
            </a:r>
            <a:r>
              <a:rPr b="0" lang="zh-CN" sz="4400" spc="-1" strike="noStrike">
                <a:solidFill>
                  <a:srgbClr val="ff66cc"/>
                </a:solidFill>
                <a:latin typeface="Arial"/>
              </a:rPr>
              <a:t>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文；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</a:rPr>
              <a:t>品</a:t>
            </a:r>
            <a:r>
              <a:rPr b="0" lang="zh-CN" sz="4400" spc="-1" strike="noStrike">
                <a:solidFill>
                  <a:srgbClr val="ff66cc"/>
                </a:solidFill>
                <a:latin typeface="Arial"/>
              </a:rPr>
              <a:t>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美点；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三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</a:rPr>
              <a:t>写</a:t>
            </a:r>
            <a:r>
              <a:rPr b="0" lang="zh-CN" sz="4400" spc="-1" strike="noStrike">
                <a:solidFill>
                  <a:srgbClr val="ff66cc"/>
                </a:solidFill>
                <a:latin typeface="Arial"/>
              </a:rPr>
              <a:t>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佳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黄绿错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8" descr="tu16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Arial"/>
                <a:ea typeface="华文行楷"/>
              </a:rPr>
              <a:t>白杨树的外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白杨树2"/>
          <p:cNvPicPr/>
          <p:nvPr/>
        </p:nvPicPr>
        <p:blipFill>
          <a:blip r:embed="rId1"/>
          <a:stretch/>
        </p:blipFill>
        <p:spPr>
          <a:xfrm>
            <a:off x="2771640" y="1413000"/>
            <a:ext cx="5904000" cy="48974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7"/>
          <p:cNvSpPr/>
          <p:nvPr/>
        </p:nvSpPr>
        <p:spPr>
          <a:xfrm>
            <a:off x="708120" y="1916280"/>
            <a:ext cx="125568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笔  直  的  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笔  直  的  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行楷"/>
              </a:rPr>
              <a:t>白杨树的外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3"/>
          <p:cNvPicPr/>
          <p:nvPr/>
        </p:nvPicPr>
        <p:blipFill>
          <a:blip r:embed="rId1"/>
          <a:stretch/>
        </p:blipFill>
        <p:spPr>
          <a:xfrm>
            <a:off x="1371600" y="22096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7"/>
          <p:cNvSpPr/>
          <p:nvPr/>
        </p:nvSpPr>
        <p:spPr>
          <a:xfrm>
            <a:off x="838080" y="2819520"/>
            <a:ext cx="30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5364000" y="3213000"/>
            <a:ext cx="31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3962520" y="26668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丫枝一律向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紧紧靠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叶子片片向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没有斜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1" descr="2"/>
          <p:cNvPicPr/>
          <p:nvPr/>
        </p:nvPicPr>
        <p:blipFill>
          <a:blip r:embed="rId2"/>
          <a:stretch/>
        </p:blipFill>
        <p:spPr>
          <a:xfrm>
            <a:off x="6324480" y="2057400"/>
            <a:ext cx="2438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Arial"/>
                <a:ea typeface="华文行楷"/>
              </a:rPr>
              <a:t>白杨树的气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白杨树1"/>
          <p:cNvPicPr/>
          <p:nvPr/>
        </p:nvPicPr>
        <p:blipFill>
          <a:blip r:embed="rId1"/>
          <a:stretch/>
        </p:blipFill>
        <p:spPr>
          <a:xfrm>
            <a:off x="2895480" y="2057400"/>
            <a:ext cx="5410440" cy="25923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1"/>
          <p:cNvSpPr/>
          <p:nvPr/>
        </p:nvSpPr>
        <p:spPr>
          <a:xfrm>
            <a:off x="990720" y="2438280"/>
            <a:ext cx="180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倔强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参天耸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不折不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美点追踪：</a:t>
            </a:r>
            <a:br>
              <a:rPr sz="3600"/>
            </a:br>
            <a:br>
              <a:rPr sz="2400"/>
            </a:b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用词美</a:t>
            </a: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伟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朴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严肃        温和        坚强不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挺拔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句式美</a:t>
            </a: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难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难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难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难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段式美</a:t>
            </a: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抑              扬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情感美</a:t>
            </a: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浅              深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66cc"/>
                </a:solidFill>
                <a:latin typeface="Arial"/>
              </a:rPr>
              <a:t>象征美</a:t>
            </a: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物         人          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428472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3"/>
          <p:cNvSpPr/>
          <p:nvPr/>
        </p:nvSpPr>
        <p:spPr>
          <a:xfrm>
            <a:off x="5580000" y="234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2627280" y="306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5"/>
          <p:cNvSpPr/>
          <p:nvPr/>
        </p:nvSpPr>
        <p:spPr>
          <a:xfrm>
            <a:off x="4284720" y="306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6"/>
          <p:cNvSpPr/>
          <p:nvPr/>
        </p:nvSpPr>
        <p:spPr>
          <a:xfrm>
            <a:off x="6012000" y="306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0"/>
          <p:cNvSpPr/>
          <p:nvPr/>
        </p:nvSpPr>
        <p:spPr>
          <a:xfrm>
            <a:off x="2124000" y="3789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1"/>
          <p:cNvSpPr/>
          <p:nvPr/>
        </p:nvSpPr>
        <p:spPr>
          <a:xfrm>
            <a:off x="2124000" y="450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2"/>
          <p:cNvSpPr/>
          <p:nvPr/>
        </p:nvSpPr>
        <p:spPr>
          <a:xfrm>
            <a:off x="1908000" y="522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3"/>
          <p:cNvSpPr/>
          <p:nvPr/>
        </p:nvSpPr>
        <p:spPr>
          <a:xfrm>
            <a:off x="2987640" y="522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4"/>
          <p:cNvSpPr/>
          <p:nvPr/>
        </p:nvSpPr>
        <p:spPr>
          <a:xfrm>
            <a:off x="0" y="2276640"/>
            <a:ext cx="324000" cy="3311280"/>
          </a:xfrm>
          <a:custGeom>
            <a:avLst/>
            <a:gdLst>
              <a:gd name="textAreaLeft" fmla="*/ 207000 w 324000"/>
              <a:gd name="textAreaRight" fmla="*/ 324360 w 324000"/>
              <a:gd name="textAreaTop" fmla="*/ 86040 h 3311280"/>
              <a:gd name="textAreaBottom" fmla="*/ 322524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1:43:05Z</dcterms:created>
  <dc:creator>JY</dc:creator>
  <dc:description/>
  <dc:language>en-US</dc:language>
  <cp:lastModifiedBy>a</cp:lastModifiedBy>
  <dcterms:modified xsi:type="dcterms:W3CDTF">2015-02-10T02:42:26Z</dcterms:modified>
  <cp:revision>21</cp:revision>
  <dc:subject/>
  <dc:title>幻灯片 1</dc:title>
</cp:coreProperties>
</file>