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jpeg" ContentType="image/jpeg"/>
  <Override PartName="/ppt/media/image9.jpeg" ContentType="image/jpeg"/>
  <Override PartName="/ppt/media/image10.gif" ContentType="image/gif"/>
  <Override PartName="/ppt/media/image8.gif" ContentType="image/gif"/>
  <Override PartName="/ppt/media/image18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669-07A7-4C03-BADD-98FA576A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164-F9A1-44AC-B6AE-84852F1C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5C233-7888-4837-90A3-BC5DD6B3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59263-6B05-434E-B4BC-A0DFA085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8890B-E2DC-4EC0-A956-AD703B29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64D1D-4DC6-4DCC-8466-FB5DEEA7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3D32B-4860-4D43-A5E4-67D2794A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C6A2D-67AC-41C3-957C-5020B38D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B0C43-7558-4351-8D60-7D7D950A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5F3C5-51BC-431B-ABB0-0B3BAC98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F9A79-8D40-4C50-AC06-6F230D98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F7120-B40D-44E2-8B8B-CF1FBF16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5B9-29EE-4FB1-A2D3-F83980C2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BCD1D-0816-4CEC-AB8B-251F6A9A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99649-9639-4475-9E02-C50906C2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E1F43-2183-48EE-AC20-AF44DA91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16AA8-FFAE-41BD-85D7-639C9CDF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42CB3-F5AA-4AF6-9E70-933FB4DD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0A450-C63D-4492-8F18-8F6332AC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34626-B30B-4279-B4A3-002D5B2E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E2381-9B67-4B74-8000-ABFC8DA3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A754B-6A8D-4322-AB6D-E12B7D35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6C95B-11B8-466B-8450-B07E8729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214-7DE4-43B8-909C-A010C9BC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BF707-ECE1-492B-8054-D8061989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86993-3C5D-42BD-9FE3-C14E3BF3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14B40-237F-47D8-AAD1-D33865BC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0EC5F-5876-44C5-B09A-5EA0418E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88973-2F75-4611-8933-8A47AF9D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20957-D717-4A29-BA7E-79438864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374DA-9C04-450C-A255-99B408C9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EDB9D-A97E-4268-A14C-6B4355E1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5A330-57A9-4AD0-A448-EF0F5047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AA4EE-906B-4C7D-B593-1B7B610D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5F10-FD19-42A4-8E2A-8899BE56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F2FAA-1660-4E5F-938E-5A461F0E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E6EFF-8516-40F6-B089-26D42490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F5E5C-0440-4026-8055-58655710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8485A-2019-4FB1-B437-29F09892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93828-8D52-4D17-9F10-33705938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29981-5885-45AE-866F-7A51A877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80D8A-7CD4-4EFD-801E-879131AB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00741-6711-47C0-9633-02A71E1B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26477-B49B-4735-A375-F4CF59C4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5CD00-2B80-448D-B40B-8F6DD408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0611-6B89-4768-9CC6-1D4A17B6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4794A-4E2C-49C0-9DDF-743C6004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0ACB6-6F0C-4B8A-8BB0-7080F6BA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240E5-7283-4D64-956E-C128FD4B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DD405-CD2A-404C-AFF3-9EEDDAC9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E1913-FC0C-4750-86F8-C0B34A68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A46A6-CC8F-44D7-B409-A63F3109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95D33-065C-44D6-87DB-8CA67BB1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8DC8E-498E-4BBC-A383-EBFCCB26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32AB61-C5CE-45F8-AECC-74ED7ABC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54C3B-ABC0-45E1-9781-8AED3D5A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CE47-325A-411C-AA1B-ED13B690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2CEF8-D83F-4E64-8FA2-9C340F0F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2A55FB-6E4F-4118-AAD9-AFA9E373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2238A-46C0-4FFD-8E12-2E34B6D6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0C5A6-DF59-4DA4-B02C-E5480C25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27570-33D6-45B7-A364-311E9B20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BFA18-D0F8-4B7D-9851-C2E1B398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1955B-0C93-4DA8-A0FD-12BE1D3F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AE6906-AC04-4D50-BA7A-887DF064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C9D23-AFF9-4261-95EE-130143EC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BFF77-1284-442A-AD9C-91C56AE1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1481-82DD-40CB-9CBA-810F673D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7F0C7B-DF9E-46B4-9070-B7CF817A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76257-523A-4AAB-9A17-5151A22B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32F19-E74D-454D-96AE-FBF6D2B0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52D86-0BC7-462E-B6C4-9D703E7D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8C0860-C907-45AF-8A50-26886A24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61B8B-2CDB-4FDD-A06D-3CDAA117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3129CE-F9CA-435F-A796-3ACBE470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64490-EBC2-4526-9474-90AAC605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4A3997-0F66-4AD3-953C-AC926C96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7BEC-3AE6-4667-9E91-04DFBC53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C6EB-82C5-4C2B-A412-2B1E7F1B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4D64-4E19-45E7-84EC-A3287A02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6D9-9A83-4F58-84C7-27C61610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E30B-C714-4537-87E0-9C5944ED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6675-074B-48D3-8BE0-30EF2E2B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2C92-86CC-4494-A98D-C5980910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A102-2662-4300-A12F-F326F080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3F22-409A-4300-9E07-D06661EE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D7ED7-38D9-41DB-ABDA-C3E39715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0371E-272A-434C-9EFE-EBD45D01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BDF70-B026-4F69-A13A-B45FB8BE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F879F-25CF-4320-BB49-4E26D202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7C771-BA15-4B25-874A-4C283F23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FBF-5FF9-49CB-8B42-77425101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16F25-98AF-4210-AB43-1EF17F7F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3DC26-2186-4C64-9B5C-4510C142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31CB5-7016-4F7A-B870-968945DC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E20D5-8C37-4977-A4A0-1FC5B00C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745C-5536-4690-A878-25B39133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DC225-E216-4957-BD96-235FA15F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0072-F674-4FEC-AE4B-378C3537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54A44-80B2-4DA7-9DB6-4AF1552E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BFDFD-0047-4329-9C83-AE38D99B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B3E12-37DF-4631-AC19-58FBD2D0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1F6-B2B7-4A56-ACD0-23BEEE9E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75BAC-421D-491E-87D5-086C7233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FE85D-11B8-4889-9752-0C4DB521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47AE6-5DEF-40BE-95C5-FB89F846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BF6E3-992F-4CEE-94FE-54667198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F055F-69CF-4BF5-A384-4A569D79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4A8C2-2A8D-412D-88F0-2150794F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5D315-E501-4C63-BF41-2703DF26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87D0D-7E32-4014-AD2B-6DB3FA67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FD680-8758-4721-890B-D40936D7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7DBA1-85EF-4C3A-905B-99FD0977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914-CD27-4EBE-AD47-33B93DBF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37343-D44F-4FC6-984D-3456EE1D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2394F-265E-4777-9C29-24AF3847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88B6D-0F79-44E3-B2B0-D152C605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DEFDE-6086-40CB-9BDF-3FE1446F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B726A-9E8C-4839-80FA-2DEB3AC4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F6DBA-2755-4990-B6D3-2DD12457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5661A-B932-40C3-AC8F-FECBDCF3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69B6A-A620-4ECE-AE69-12B1A55E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1C334-03E0-4A97-A1E3-384E7DAD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5A667-2F78-4FC4-BCA6-B3AF4F9E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76A6-6FF0-493E-8E2E-61C808D5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C11E5-0327-4E23-8C16-EF8B04A1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369D6-158B-486A-90F1-D60BB162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7EC22-1AF6-45D3-86A8-133E666C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92875-DED7-413D-999E-556E7D6B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4F983-C4F4-4FCD-A791-68EBD1FA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26949-A13F-42C0-9209-129817B8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2E1CE-D1EB-4C58-B79A-A4FDDF20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CFF1E-AC64-4311-9AD9-411798BF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708D1-4D77-432A-82F3-A7C2009E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848BE-6DA4-4631-A483-96A8065D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296-3395-4C47-9A19-066778B6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7CD31-A551-4710-920D-446F1B63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04585-E82A-406B-8877-78737EBC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B2708-36EF-4B00-BD91-6079033B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7FF6C-A56A-4897-BA6F-1419CC3B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43BA0-1D32-444C-872E-1E820490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42D76-F586-44A8-A3EF-46062F96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E5BE0-E4AD-4859-B001-4A8BD3A0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BD0B1-31EB-482C-96EC-CBDE38B5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305FD-773C-43A6-871F-E7CB9E3F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000DC-3950-419A-BDFA-57336AAC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F76-33C3-4458-B2C3-C8D54CB8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3C486-3EED-470F-A8BB-41AEF3F4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A53A1-896F-4D77-8C93-6FDD5860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3832B-5BA4-4D40-BD01-1B558DDE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B2D70-27E4-4B60-BAAF-CB6DEF48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A2EAA-A113-4E3E-85BA-2F809CAE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A454C-035B-412B-AAD4-8AF375CD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2A60C-71BC-434C-B033-6CC6B43B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42BF4-79BF-49ED-A19C-89C988BB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0FBF6-B71A-4391-83AE-CD6F0D75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40462-EB3F-4EC2-803D-7BCE1495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7EB6-5A3B-4705-A44B-652A94A4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E0C6A-36A5-45C7-A2C3-D8B4527C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21FCE-3740-40EE-B380-BEFFEC6F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370F5-154D-4FDD-A2E9-E83AC557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5CD05-EB6F-49B9-B859-236B1250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B9D00-EFED-459E-AA8F-1DBE1BD0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43E03-9B8E-42B5-8837-1DE76979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2F0F8-6C74-407A-A49E-E1AE9FE5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AF717-6F66-44D6-BDB6-F6E39B04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63CDE-7641-4C99-9FE9-C56ABA96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B1882-D6AA-4F30-ADF3-61EA7F40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31AD-6DD9-4C30-BC6A-4B42FAB58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4EFB-ADA7-4BEF-8CC9-A669CBBF392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9DD3-25A9-49B7-B807-EF246DE241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3A6A-63FD-4F62-9115-6D65A546171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042A-1B59-4508-A784-8A93F6E3FD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9BA2-5FDC-4465-9E57-03C5B6D41B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ABA8-6D18-4A86-8F6D-CC29CA096A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45C5-A76D-4D8A-A967-25E8EF93016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444E-5FA7-4750-8748-73AF4E3889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E012-7BFA-46B9-A8C3-0C4C70E5F9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CBBB-8D39-4505-84CF-5518789568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D2C3-1FAB-450C-9C36-62C8552BBCE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B209-8E18-4AE9-ACB9-B6B2E78B53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B8B8-A37C-489D-BC0F-CF06295FE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790E-1B38-4527-BF0F-264C68E42D2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F277-7F45-42E7-80DF-81B3A9C3C5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51E1-5EDB-4E13-BCCB-B62DE2A5EE5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6DF4-55C8-42E0-819F-66F1BCA331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C16A-FE95-4762-B7B9-68E88CA0985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DBDF-9230-447A-8D97-31B352D176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41A6-A718-4027-BF7A-B157BCC51E9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1701-E475-49DD-9670-872FEB8B5F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36B2-7F03-4F2E-B2F8-E10B3F6F105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91DB-661B-4DE3-B51F-B14A33669C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1C97-79CA-4B5D-92E9-FAEDB162E26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D203-310B-4A4F-A554-B4E1FD5DC2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WordArt 5" descr=""/>
          <p:cNvPicPr/>
          <p:nvPr/>
        </p:nvPicPr>
        <p:blipFill>
          <a:blip r:embed="rId2"/>
          <a:stretch/>
        </p:blipFill>
        <p:spPr>
          <a:xfrm>
            <a:off x="1474920" y="907920"/>
            <a:ext cx="5906880" cy="28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6" name="Picture 4" descr="2473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WordArt 5"/>
          <p:cNvSpPr txBox="1"/>
          <p:nvPr/>
        </p:nvSpPr>
        <p:spPr>
          <a:xfrm>
            <a:off x="395280" y="404640"/>
            <a:ext cx="76215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白杨树实在不是平凡的，我赞美白杨树！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18" name="WordArt 7"/>
          <p:cNvSpPr txBox="1"/>
          <p:nvPr/>
        </p:nvSpPr>
        <p:spPr>
          <a:xfrm>
            <a:off x="2124000" y="3573360"/>
            <a:ext cx="3529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再见！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621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8"/>
          <p:cNvSpPr/>
          <p:nvPr/>
        </p:nvSpPr>
        <p:spPr>
          <a:xfrm>
            <a:off x="622764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7" name="Picture 5" descr="xingsebiankuang2_0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54064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默读课文，想想作者是怎样描绘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2" action="ppaction://hlinksldjump"/>
              </a:rPr>
              <a:t>大戈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和生长在那里的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白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；把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4" action="ppaction://hlinksldjump"/>
              </a:rPr>
              <a:t>爸爸谈论白杨的话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划下来，谈谈自己的理解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思考爸爸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5" action="ppaction://hlinksldjump"/>
              </a:rPr>
              <a:t>神情变化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过程是怎样的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从课文中找出相关词语，并思考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6" action="ppaction://hlinksldjump"/>
              </a:rPr>
              <a:t>为什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会发生这样的转变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思考课文的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7" action="ppaction://hlinksldjump"/>
              </a:rPr>
              <a:t>写作手法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有何特点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9" name="WordArt 4"/>
          <p:cNvSpPr txBox="1"/>
          <p:nvPr/>
        </p:nvSpPr>
        <p:spPr>
          <a:xfrm>
            <a:off x="755640" y="549360"/>
            <a:ext cx="44578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初读课文 整体感知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80" name="Picture 6" descr="HaoSc25_1047_200525113919360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524720" y="5516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79945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车窗外是茫茫的大戈壁，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没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，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没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，也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没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烟。天和地的界限并不那么清晰，都是浑黄一体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3" name="Picture 7" descr="HaoSc25_1053_20052511434873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5157720"/>
            <a:ext cx="9367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WordArt 6"/>
          <p:cNvSpPr txBox="1"/>
          <p:nvPr/>
        </p:nvSpPr>
        <p:spPr>
          <a:xfrm>
            <a:off x="826920" y="1916280"/>
            <a:ext cx="369576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高大挺秀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86" name="WordArt 7"/>
          <p:cNvSpPr txBox="1"/>
          <p:nvPr/>
        </p:nvSpPr>
        <p:spPr>
          <a:xfrm>
            <a:off x="5796000" y="1916280"/>
            <a:ext cx="184788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卫士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87" name="Picture 8" descr="HaoSc25_1056_200525114538360"/>
          <p:cNvPicPr/>
          <p:nvPr/>
        </p:nvPicPr>
        <p:blipFill>
          <a:blip r:embed="rId2"/>
          <a:stretch/>
        </p:blipFill>
        <p:spPr>
          <a:xfrm>
            <a:off x="7740720" y="58053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69120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出神、沉思→微笑→严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↓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沉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微笑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WordArt 29"/>
          <p:cNvSpPr txBox="1"/>
          <p:nvPr/>
        </p:nvSpPr>
        <p:spPr>
          <a:xfrm>
            <a:off x="1116000" y="3213000"/>
            <a:ext cx="381636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神情变化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591" name="Picture 33" descr="HaoSc25_1067_200525115459580"/>
          <p:cNvPicPr/>
          <p:nvPr/>
        </p:nvPicPr>
        <p:blipFill>
          <a:blip r:embed="rId2"/>
          <a:stretch/>
        </p:blipFill>
        <p:spPr>
          <a:xfrm>
            <a:off x="7812000" y="5734080"/>
            <a:ext cx="87804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出神、沉思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看到车窗外高大挺秀的白杨树触景生情，想到环境，想到了自己和战友，浮想联翩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微笑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听到孩子关于白杨的争论是那么天真幼稚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严肃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与孩子们谈白杨特点，尽管孩子们还不懂，而实质是在借树喻人，抒怀言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沉思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由白杨树想到了子女，从自己想到孩子的未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微笑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想到孩子们也将扎根边疆，为事业后继有人而感到欣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4" name="WordArt 5"/>
          <p:cNvSpPr txBox="1"/>
          <p:nvPr/>
        </p:nvSpPr>
        <p:spPr>
          <a:xfrm>
            <a:off x="900000" y="765000"/>
            <a:ext cx="4172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神情变化深探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95" name="Picture 7" descr="HaoSc25_1071_200525115721621"/>
          <p:cNvPicPr/>
          <p:nvPr/>
        </p:nvPicPr>
        <p:blipFill>
          <a:blip r:embed="rId2"/>
          <a:stretch/>
        </p:blipFill>
        <p:spPr>
          <a:xfrm>
            <a:off x="7164360" y="5589720"/>
            <a:ext cx="7984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5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托物言志（借物喻人），即讲个人之“志”依托在某个具体之“物”上。于是，这个“物”便具有了某种象征意义，成为作者的志趣、意愿或理想的寄托者。作者的个人之“志”，借助于这个具体之“物”，表达得更巧妙、更完美、更充分、更富有感染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白杨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｛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不择环境，不惧困难，坚强执着，无私奉献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边疆建设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WordArt 5"/>
          <p:cNvSpPr txBox="1"/>
          <p:nvPr/>
        </p:nvSpPr>
        <p:spPr>
          <a:xfrm>
            <a:off x="324000" y="260280"/>
            <a:ext cx="69530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托物言志  借物喻人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599" name="Picture 6" descr="HaoSc25_1071_200525115720580"/>
          <p:cNvPicPr/>
          <p:nvPr/>
        </p:nvPicPr>
        <p:blipFill>
          <a:blip r:embed="rId2"/>
          <a:stretch/>
        </p:blipFill>
        <p:spPr>
          <a:xfrm>
            <a:off x="7740720" y="5734080"/>
            <a:ext cx="108108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685800" y="3808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他们只知道爸爸在新疆工作，妈妈也在新疆工作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685800" y="2514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他们只知道爸爸这回到奶奶家来，接他们到新疆去念小学，将来再念中学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755640" y="45813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他们只知道新疆是个很远很远的地方，要坐几天火车还要坐几天汽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685800" y="1447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	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可是他们不知道爸爸妈妈为什么去新疆工作？做什么工作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09480" y="3581280"/>
            <a:ext cx="8305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可是他们不知道爸爸妈妈为什么要把他们接到新疆念书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762120" y="559260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可是他们不知道新疆具体是个什么样的地方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2362320" y="380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只知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2286000" y="2514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只知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2362320" y="4572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只知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0" name="Picture 11" descr="HaoSc25_1066_200525115344371"/>
          <p:cNvPicPr/>
          <p:nvPr/>
        </p:nvPicPr>
        <p:blipFill>
          <a:blip r:embed="rId1"/>
          <a:stretch/>
        </p:blipFill>
        <p:spPr>
          <a:xfrm>
            <a:off x="8172360" y="5805360"/>
            <a:ext cx="71928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2" name="Picture 5" descr="264_106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488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突然，他的嘴角又浮起一丝微笑，那是因为他看见火车前进方向的右面，在一棵高大的白杨树身边，几棵小树正迎着风沙成长起来。</a:t>
            </a:r>
            <a:br>
              <a:rPr sz="40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02920" y="3428640"/>
            <a:ext cx="648180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爸爸自己扎根边疆，献身边疆，他希望自己的子女如小树一样经受锻炼，成为建设边疆的栋梁之才，反映了老一辈的西部开拓者“献了青春献终身，献了终身献子孙”的博大胸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00:12:34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10T02:42:09Z</dcterms:modified>
  <cp:revision>30</cp:revision>
  <dc:subject>第一PPT模板网-WWW.1PPT.COM</dc:subject>
  <dc:title>第一PPT模板网-WWW.1PPT.COM</dc:title>
</cp:coreProperties>
</file>