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7689-6AEC-4028-BDF1-89994FC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1CE7-A747-4F88-9BE7-3449F2BB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0E48-042C-48C0-B8C0-A51572E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A845-82A6-4B74-8726-8AB39C4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0393-DFC9-476F-A14D-0EEE929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7B66-742C-4D9F-83A1-D13CDD2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F6C0-6079-4196-A98D-84ADDB66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E321-EF18-4290-BD75-36C73AED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C93FA-76BA-4565-9055-31E2BDA0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DAD04-62B6-49F6-819A-FCC7B077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9EBF6-355E-4500-A437-2527E23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5DE6-C1DA-4B51-A80D-965A4AB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8B7BD-F71C-4344-8D0A-B64DFA0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E37CF-994C-4A42-933E-4197E09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7FACF-BFD7-4C8C-8D1C-937FF2A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081EC-674F-4728-ACB3-74CAAA9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63DA8-2100-4AF4-9038-FEF183C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DE3A9-1471-4BCF-BE80-C1DCCC4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DFD8-BA4B-4F47-9232-FE2E1347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DFE5E-FA08-4125-9434-DCF658E2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66DE9-59C5-42AE-8041-89FC1CE0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4787-E9F1-477D-ACC9-60F8C6E0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E5A9A-08B0-49F1-966F-3F68838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5E7C-D4AF-4BD8-8B75-F452AE4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886A5-6B0D-4839-9291-1861AE3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ABFA-D39F-472F-A8A9-490C40F0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9367-6FE6-48E4-83DD-D82E7FB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B551-A87A-4E35-822D-D12E7F2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999D-ECB8-4044-82A0-3FA5766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23028-B6FF-4CCF-B77A-93B5E3F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9C7-FD7B-4AC8-BB46-67CE260F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61453-5A18-44DB-9726-E4FB7FD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8C86E-A1C5-422A-88BA-E4531D46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AB59F-EF5D-4D86-95D8-848812A5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5A9D3-A724-4C0F-BAFB-053D165F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8B960-776A-4F17-83FA-9F7B4A9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030FC-9D9D-45B7-A190-815DB61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14CF9-E1F6-4D2D-A242-B284474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9D9F6-9877-4201-BB47-ED7622DB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C56ED-0676-417B-A59D-4D8960C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3DEAA-005A-425A-A80D-EEB1427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1A2-A3F4-4CC4-9F60-3330871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D0B71-A9D1-436B-9077-AA2EF7B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0630B-D6BF-46AA-ACF7-BA923C4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F142-1413-4C6D-8700-B3D50D14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F7F11-BBC0-4F89-AEC5-82009251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FDEC4-DC39-4C43-A125-7E39FEDB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55105-29EA-4E35-A20D-2058690F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CC5A3-58E3-4849-87C6-19D47A8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B617-6753-4FBD-8B43-16918CA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4E2F1-1A13-4088-BFEB-BAA3A21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25E8-4676-4246-A851-732EAB4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EF0-0D77-4726-8F76-A680941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0B22-E064-46C3-8A02-C9D0E678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B179D-9DE1-4050-92A3-FEE15B2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60825-6C63-400B-9D22-B2D0F64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07AA9-9F7A-4096-9411-04D6074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B6228-F889-4CEB-9775-C7250BB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AD69E-F1A8-417D-A1A4-C5420B7A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13217-716D-408B-865E-B3748C9B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80D20-06AA-4A3B-A5DE-06F0CDAE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5E90E-D1E3-42F2-A9D4-6F5BF8E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7D58F-080C-4295-9EC0-C659DED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014-27A9-4F57-A26F-CD879FF5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C8397-17F5-46F8-8330-740F2AFB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66F9A-8B30-47AE-ABE1-BAA14739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6F95E-0EEE-4AC7-91C4-B18A894A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A8B09-1759-4CD3-BBD7-C95E79C3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60DC0-908F-4B39-BDEA-C925785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78EC7-B1F6-4969-A3ED-210A90C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28DD8-4106-439F-9146-E36B4BA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59892-8420-4F24-A265-4278F063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958EB-D6B6-4842-8C31-87F3777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9D7B0-9D82-4D70-B489-F0330719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C04-DDF9-4547-8408-20BBF7D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E32DE-48F5-4A7D-8CCC-D20701D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D7E87-7FAE-45A7-B334-BB00D6D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F10A5-9238-4428-9E49-8BF2B63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BA7D9-7792-4F14-9E2B-D3E48AE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8FB9A-8800-4C0A-900C-A1B0AC16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942C3-E368-4BC9-975D-0D7F113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6B113-08D1-4B2B-8616-4DB8636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96F93-45E9-431E-A556-6E6804C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B97F1-8C93-4B49-87BB-16073B9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A83A8-12F2-4726-B424-9F116B4B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473-38FE-4907-9848-CE8AFD5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BADCA-3617-4524-A266-4994D3C4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0182D-A9C6-488A-85FF-C520414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F6C4C-41D5-4185-9A92-6A594643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081E6-9417-4317-A215-823EB10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5D920-C44A-4AF6-A4B1-F5A8848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FD731-147E-493C-9912-F89A72E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3E51D-D7ED-4F2B-B616-FB3B600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975E2-8CC8-427B-80CE-A31EFE0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77CAD-30F9-4517-BDA3-84C168D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D2FAF-44B6-4753-B0D4-E12F52FB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67B-A0E5-4806-9301-9699B3BA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61654-7D57-4BB5-87E2-AC07C03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4CB45-548D-4643-B8AC-0C54DD5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ACCDA-23A5-48BC-AA4A-0251C288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F33EA-38AA-4216-BC11-B6590F6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CB609-B0CB-4EFA-9D1E-DA459BC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CE13C-335A-413F-92D3-724AA1E2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90288-956E-4519-A3CA-C82B8DEE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A9BFE-C34F-4E70-AC23-708BE833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7A7CB-3F56-4323-A3F9-C0E3DB76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7F26D-AD97-482A-A8E0-AD8C783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075-ABDE-4A14-9A3A-0784197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58C76-4CDD-4FF7-8C71-A1FFF05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E01C1-0AA1-4AB1-A9B2-600EB72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D999B-90C0-497F-A0AD-46D169EA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EA46F-B159-47B8-80F8-FF26CE58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7B0BA-435E-4EFF-A751-FB13F7AD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A27E3-9BD0-42E2-A417-ADF28DA7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9E95B-E342-4F2C-BED7-B8F4953A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0F2A7-8F9E-4A38-B093-EC0787AF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AFABA-1981-4F89-AB0D-DA47304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9AB50-8DBB-4AE8-B7F3-F0F71D3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E93-CBDD-4869-A564-4B85515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A3543-2B7F-4A87-9B78-500DF00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46E8F-432C-4E43-809C-4993DBC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3DF14-0E63-4BD4-81FB-5FA5FCA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2771C-ACD2-4326-B488-5322A1C9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1971C-B695-4F7A-8D60-97DD73C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97876-FE4E-44B6-9CFF-2B9C18CE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A1221-4297-48A9-B8F6-AA766A58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89D42-1137-40BD-BA5D-2DDC390D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105A4-8DEF-48D7-91D4-4C45046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7CE4D-D1CF-406B-8DE1-7F0A01E0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E94-4F2F-4C45-91F0-DB88668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0464F-D0B7-4A13-BEF6-163DFA30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45DDE-4E0F-4ABA-823D-07AED95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15052-0848-41B1-8C21-8781ED9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26613-3F6B-4FDD-A12D-438D0AA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F12EB-5F97-4990-A4D8-82D89FD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FF355-B025-4634-919D-3F1F9B7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33641-D86F-40A2-84C7-1EBE3DE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FE39F-B53C-4FE2-8F38-BAB648F0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398BC-314D-4E5C-A904-BBCEBA7A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395C7-FE9B-47DC-9597-6EE367E8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D00-5ED0-406D-A3A6-C4FB561C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347A3-84FF-4F18-B838-A32DEAB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F83068-1C49-4B01-8E2F-6176248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5BD0E-B583-4CB5-BBEF-A476265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2CC69-C7AE-425D-94FD-8F9B8D79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3EE7D-7C82-495D-9216-464BBE1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5FAAD-4716-4145-9CC3-0055AF6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23551-02C4-4107-A280-30A2EA5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9A74D-D007-40FC-9487-4309E1B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896B1-152C-489E-B370-4AAE019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31586-EA39-43C4-A67C-37DFF5A0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888-9393-443A-932A-FF8427AD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19BEE-8EE7-41FC-BC4A-D6B2A18F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5E59B-28CF-419A-8F83-045F60A1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2F6DA-AA57-4FBF-85EA-C6FD5CFC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B1467-1471-43BA-B21F-D81D1D95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3A034-0961-48F3-AEF5-4F01ACC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0A955-53E1-432C-984C-35E03D2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76E36-BBC4-4781-A514-E37058B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8F07E-1F11-4AAA-9BCD-B79D72D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C1D34-4AFD-4ED8-B52F-AB9D82A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11719-4FEC-4295-B30A-9665109A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23B-B3D4-4D5C-B4EC-0891D874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65C4B-6AB0-4071-80D2-4C5CCA6E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F3BFA-DBEB-4559-8589-621A322F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EDA12-C7EE-48D7-AD19-6CA96250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29D1D-6779-44FF-AD48-6E5D114F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93B2B8-A7C6-4C6A-9FAC-416582A1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B5932C-B4A2-4B9A-8803-8DA01155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83CFD-F597-4B3B-8677-2ED58BA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615D9-A9AB-4965-AAD2-64D74D8D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7F297-33AE-46AE-B4AD-72F94AB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DB088-31FA-4BA8-B085-FDE9165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D04D-E488-46EE-9506-5F2354D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DED19-5343-4707-ADF0-7114E12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BFD0E-D457-4CC8-82CF-A62B0F7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2A5F5-3A9A-445A-BB7F-AD5C2C9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2FAA8-09FF-47FB-A21D-3C30BAD5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29A41-BC08-4826-B3EF-59C77C8A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850D23-95C8-45FA-BA86-D9242858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AE0425-08DC-4C60-A88D-AF3AD01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011AF2-E21A-455A-ABBD-1A79F59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964A7-7B9A-4286-9DED-AE9F05CD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C7FFC-40E7-4BF8-B607-B115A546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F05-0E51-48A7-A4E8-3E0168C1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0F6DB-6740-4FB4-BADE-FFD4D07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CC2A9-F516-45C8-9DD3-1ADDB86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F755A-C27A-4CA4-883F-035C239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453EA-6955-45A3-AC71-34F78E9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46474-2977-4A38-BB78-EC5ACC12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F5FCA-E555-4123-AB60-8D205706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84EA9B-EB2C-4973-AE4A-60DF239A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77350-6559-42CE-AFD1-262EA7F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8F8E45-ECC1-426F-A0CC-174A638C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B99B0-DB6A-46F4-A871-74214195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5C9-7921-40FF-890B-57DE1A8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FD333-68D3-4F66-8583-CA0751F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BC21E-8CCC-49FB-BD19-F2443591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724DD-D916-4E92-B076-8D9A14B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A7B0A9-1226-467D-8D42-0A17D2E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40501-7B17-44C1-86F0-B3FC3DD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BDA1F-A0C5-4E6F-8CAD-B90C52AB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DEF104-CC12-44DE-B581-456A08A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9A533-B30E-40FA-91E7-E1F0093D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F7B10-AE58-42EC-B918-6B36E30B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BF79-37CA-4BCE-9CEB-128705A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6357-9EFA-4080-B8A3-639FF31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8BC1-1ED3-4203-8416-EE32AA1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546C-1223-40DF-B713-0DF02DE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9FD-DD1D-48BD-BD81-CAB48D6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FCB-25B9-44AA-853C-21156A1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CFD4-C2C8-4762-8A27-AB93ED24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1065-FC7F-4E89-8A63-5D4CF3EB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BD07-D40D-4F00-B33B-B36D1F1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683A-D622-4E3F-AEF3-5FDD545E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3FFE-8DF5-4151-8A9D-3781F86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FA85-DB2C-4730-90B0-6B0549B3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D601-CFFD-4E09-BF09-C42BE9E8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C468-0C35-468D-BE1C-0E8702C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AA44-F38D-43D5-8482-0DC7B76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2C5C-44BC-41D7-863B-932C7263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6086-2FAB-465A-BD61-4FC8D116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7111-29A3-4C21-8D2B-A9B6977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7ABE-6579-4741-A559-7B2A10B2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1567-A5A6-4F39-BE69-2F9D5FAD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0275-5B56-4E36-8298-41B519F5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68BD-F3D7-4BBF-BD66-7662C9D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D301-B1D4-49B3-A146-EF2601C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46F9-4865-431A-B602-77C72633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046E-1795-49A1-AC66-7E0FBFD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2B10-D29D-4C00-BF8C-061C887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D462-3B5D-46AC-BD71-72824F0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5E2C-6054-4A63-AB0F-2DA389B9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4802-BB1B-4AF5-A762-AEC9D99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7738-A4DF-4D1E-ABB8-8E693C1C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400F-52A7-4055-9372-0399BF0C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897D-60AD-495A-913B-79D5ED03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58B6-EB38-403C-8A36-CCDFA7A1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5D18-E2C3-4D29-8104-032CA90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FE50-15DD-42C4-A80D-511C88C6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FF11-94A4-4575-B75A-2C86DFF1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6096-A593-48C2-AC31-1228A7F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DBE7-7F18-44B8-A51F-CFD1453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475B-BEC5-4AAC-881B-AACEE60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EF51-17E7-48FF-8D1D-2820FA9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54D6-A5DA-4711-B458-E699620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30E4-0B0D-41A3-BAE6-FEF56D7C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B235-C023-4418-AED5-5A92FC07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9CF5-2910-49BD-99ED-68A0FCA8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C0A9-2DFF-41BC-B274-A86FB738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9455-6C5C-41F5-9D1A-7718C43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91B5-E6E6-4F08-AC4A-A74B56DF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CE408-448F-4D74-9023-A5BC473E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890B-994F-4EC3-967C-76F910CB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02B0-0551-43C4-BC5C-7AB2CF2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B387-819B-42E3-90AD-52DD23F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C3DB-5387-4AFF-A22E-2CC2DF8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D58B-DC9E-404E-8BD1-C40FE93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D04BF-085F-4F13-BB2B-413239D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40ED-70BD-4343-8EFE-E400B40D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E436-1188-4FE6-AAC0-7E5B0D43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75FC8-3E21-4CC6-829A-F476294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E8F7-FEFF-4D05-A480-9749FD1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AF36-A292-43F4-A1DB-55871DF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EBF6-C01E-4600-A746-6F3FC17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6127A-1FB3-4FB9-BD65-E6B08E6F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924A-4BB2-403C-91F7-9B14899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073D-A891-4E13-9C49-C0BD815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9E4D-0693-4BCD-B3E5-C950DA9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A02C-29C4-4EAD-A54D-28729DF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D4C7-25E2-4ABC-9CD8-B613015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C1754-0840-40C4-9387-49BF2582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5886-124C-4132-B414-CEA1DAEF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D79D-82CD-49B8-921E-2E2D8D5B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3F0A-A015-461D-9A82-18290A7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E3DE-946A-45FF-81A3-0EDFA132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EC20-42C1-4F17-BFF8-4C9CA50C227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60C-FFA4-4FA8-B07A-C6CE461387D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593-F3AB-4A1D-AB3D-BC90E5C7F93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379-7B5F-4AEC-8432-53CB64212AA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6425-9A3B-4390-9EFE-D0ACFDAC353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C2E-0C5E-459E-8940-9D2B9231F6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EB7-4AF8-478E-9021-C298683D8A4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CE4-AC3B-49DE-9D05-384D7FB8F5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998-2BA4-45D5-9675-3F62C3E2BF1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4ED-C06E-4EC9-A57C-EB5F740583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C1E-D615-469D-9B08-D52E0E6E19E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030-D2B6-435A-842E-565F47A058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CDF-1A75-4770-A429-D10283D5A24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1FE-7E01-4633-A8E8-7C7EB2D9E4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47BC-A2B8-46AE-A6F9-51DEDBDB72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B96-8CE9-4E1B-9E03-3778E86B97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69C-C58C-48F8-AE2E-735E689F748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F533-DDC5-4087-94E3-11EB118E37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A80-8D9E-44E5-ABC1-FE55A074B92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DA2-7E02-4574-B1B1-547A535753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E9D-3368-4370-B8C9-F7ECCECDD8F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A4B-77B7-4360-A608-03A2C34A4B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72EA-E4CC-4719-A21E-A48ABBF5839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C7E-C1A6-4C6D-92CB-1A2A60D954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A02-E24A-45B9-B56D-24B39E8A753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CDD-AD8A-4413-9BC0-35DBE46ADD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EEBF-5285-4EF5-BB11-47E610CAC19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F5CA-7583-4634-9B5D-46CC6E51A8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B80-07E7-4D86-9380-C66DECC8C06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C8A-459E-4E59-A75B-04DC65479AE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4FD-DEAA-482F-89E6-4A00C2FA547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925D-7E9A-4337-9726-03B61F429A5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F5D-644E-42CD-B6C0-F5A440DA529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BD36-7A6F-40D0-8651-081CE698EAE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811-3905-4A15-8013-786F49B6D58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95640" y="551664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蓝色毕业答辩</a:t>
            </a:r>
            <a:r>
              <a:rPr b="1" lang="en-US" sz="3600" spc="-1" strike="noStrike">
                <a:solidFill>
                  <a:srgbClr val="025198"/>
                </a:solidFill>
                <a:latin typeface="黑体"/>
                <a:ea typeface="黑体"/>
              </a:rPr>
              <a:t>PPT</a:t>
            </a: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2-10T02:43:23Z</dcterms:modified>
  <cp:revision>620</cp:revision>
  <dc:subject/>
  <dc:title>Diapositiva 1</dc:title>
</cp:coreProperties>
</file>