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projctor.wav" ContentType="audio/x-wav"/>
  <Override PartName="/ppt/media/image9.jpeg" ContentType="image/jpeg"/>
  <Override PartName="/ppt/media/image11.jpeg" ContentType="image/jpeg"/>
  <Override PartName="/ppt/media/cashreg.wav" ContentType="audio/x-wav"/>
  <Override PartName="/ppt/media/image12.jpeg" ContentType="image/jpeg"/>
  <Override PartName="/ppt/media/image10.wmf" ContentType="image/x-wmf"/>
  <Override PartName="/ppt/media/camera.wav" ContentType="audio/x-wav"/>
  <Override PartName="/ppt/media/image7.jpeg" ContentType="image/jpeg"/>
  <Override PartName="/ppt/media/chimes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applause.wav" ContentType="audio/x-wav"/>
  <Override PartName="/ppt/media/type.wav" ContentType="audio/x-wav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CF22-E9F0-494A-97E7-670F5C4D4EBF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5AE5-8EA1-43BA-B108-B173E71F6C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5DA4-D960-4C50-9F9E-9B1729096B82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0A95-8837-4A2C-80B8-67657BE1B6D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7A511-3E2A-4A0A-8BDB-E195E033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DFFD5-FC04-43FF-ABDB-211D650C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DA2E8-89A3-43E6-98BC-B00AE3FF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3115F-13B7-4473-AB99-C6E12B04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7E7FF-EAE6-4580-8B39-AB4442E7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CDEC8-E9C5-458C-8559-691E7B0C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F0A11-2FAF-4792-A0A9-5DF3D951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9BCAC-0643-4BE1-88C0-D1E0A614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39BBC-5207-44EC-BB72-D2BE4532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2452F-B15B-428C-BE28-40110178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1C2CB-8B82-40F2-AE06-7D67C75C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D9FF6-45CF-48A6-AD7F-48A5C3B7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86D24-9851-4A66-B13B-218DEA9C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B1CD6-81B7-4A3A-98E4-91C5E2AC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49131-A754-4F7F-BA90-5DFB1625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05DCF-B319-4E96-B2CB-9FDD569A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DA939-1A89-4DF5-95E6-B39E3BFC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93A41-D8B5-4149-B346-3A8D02FB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E1254-87E6-4E0D-8AFB-31B7D6F2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8DAA5-E986-4462-BE2D-E81D1B9E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36ABA-E915-4740-B0E5-85C66805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ABD82-FB94-434F-BA71-3B016559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BF14A-FE76-4891-B9AC-2CFA974C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7596C-4BC5-493E-9A19-3B4DFD81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DA56C-F747-4319-B3E3-F59611E1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D2934-E8F1-4DD9-B819-E16A503F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0900D-C32D-4912-8040-0F49A27D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A08FC-53B7-4BF6-BEE0-296E8A8F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E7E5D-8CBB-4507-8AEE-9A4C30E1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FC677-A6D9-48BB-ABBD-A3C81559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525-9CD1-4960-9922-9CAC8A20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CF89E-0A68-48FB-B75D-D4CF3154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237C1-48EA-4CC3-B9EE-DBBCD284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14F0F-F3C1-4337-8644-9D4C6A27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64F50-1C2F-44CB-A734-F8F26021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EB827-8108-4A9E-8C85-32273138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738F0-21E7-4B86-908F-C3BA5E7C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21242-5829-435E-9022-74B140C6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66CAD-DEA9-4119-96CE-8D101D54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6033B-B4D1-4E85-9CB7-FDBC916E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27D9A-4944-4802-B58D-1BFC0BD6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540-917D-4AFF-84D6-52631DCF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57495-9135-4F60-81DA-56D03034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79CDF-DACC-4E71-A19D-B1DB67F3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2A01B-1901-4F72-B95A-7181F14B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CE36D-DB0A-4D80-B10B-BD2A8C03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62606-D526-4A5B-A01B-2054641D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27015-1681-4DA7-AB90-6CB19599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17025-195F-47A1-9BA3-4528D209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74BD8-C64A-4BDF-8518-588BA559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2BA6D-D627-4A14-B260-014351DC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A9946-8D76-4D15-8DFB-0A9FF4CD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279-CB8F-4F53-825F-D5977D31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DA170-18B5-4557-B4D6-C4CAAFBF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7607D-F0B4-459B-A68C-066D25EE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5AB6F-4ABF-45A0-BA7B-01B59273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9D76A-606D-4A30-9B62-3117B80E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1371B-C617-464C-8A69-8E3B07C3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89264-1497-487F-83E2-6EAFB01F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C01F6-71C0-409D-A35D-D1DDD448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F56E9-57E1-46FA-842F-8635FDEC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3546A5-4E37-43BF-9E4B-D20F0A72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42540-6A27-4EF0-B686-AD063035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3AE-ACC8-4D0C-9DC1-ECBB289C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E64B7-2DE6-4615-AD3B-EAF0DAC9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E24E1-8A5D-43CF-836B-48E215DD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9FA48-9E31-42D4-824D-5A9CE9E6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4D35A-5B41-412A-90F5-8F055F8C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965EB-D17D-4660-A1E7-D35F49FD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EDC0E-E3E3-437C-8D52-DE755DC2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F4DA0-1322-4B02-84C4-EE6DCD33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F5848-D0BA-4A63-8CEB-6FBD1478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DF492-F283-4F8A-BD2F-DF337722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8B9-552F-4C9F-9E59-484141A1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452-41F4-474F-95FC-E6465FCB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FFC-C240-433B-ACA3-1B17B937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68B4-F1DF-4170-994F-668EAFB0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F7F2-1F2D-413E-AA3D-DCC54C27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9CF-F455-4B36-A836-FDDE828D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829-444D-4EBD-BA90-087CAA4B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CE5-5DCF-4DEB-96EB-34C7B4E0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EA6E-4744-475D-A29F-EAF10A02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456C-0AB9-4BCD-A290-185BD325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3D55-37F5-47B5-A343-51153402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E45E-51D0-4B25-BE4B-BBEDA8A3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8FDA-B105-42AD-939F-C3ABCF1E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DE82-C673-48EC-98BF-985A16FE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F637-78E8-423B-BCE2-39718868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D64E-AD2D-4868-9207-B744CD5D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D3F4-81B2-4B74-919B-43A0A69D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0C29-A2D5-4F73-9375-59BA66B4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944A-0AEF-47AC-B0C2-60ED359C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F4EF-FB9D-47A2-BB56-791A77E5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32B65-8BF5-4B86-84ED-D262A938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058B-B513-4864-A43C-76874952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0C9A3-36D1-4DD9-9087-27D24DAD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1B463-C875-4DA0-92A8-871BCF8F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4308C-78FB-4315-B017-BD32ACB2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FD556-508F-4815-9210-69BEDCA7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8541D-B1AD-4594-98EC-F8F73FCC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05C7E-B178-446C-8ECB-1348169D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B2EC-7783-4CB0-A117-2C45C90F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940DD-0447-4B66-9981-6E7E4B2A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7010A-5607-4B61-A45D-433FC702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8530-D03D-4AF5-BD14-FFD9B789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D7283-8F6C-4646-BDA8-3D68D6BB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DAA0F-681D-4F3C-B4BF-88D91660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974F1-68D4-4946-8226-0EC9A3DE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E76B5-91C9-47FB-8630-C3F42638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03DBA-F0FC-4452-A4BD-0054E6FF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389CA-F527-479F-97E1-49599BFB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21674-1162-490C-A7B4-EA3D38D6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49E11-4F74-4B79-A210-97C5F328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DE2F3-C01A-4803-969E-E090E5AA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FE1D4-354A-4548-86DA-C6B5D507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63890-3246-489B-BD1A-34DF79CD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2E558-4A4D-4B17-B1D2-DC678243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FB1C5-E497-41C4-B041-F09FF02E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C64B2-A793-4993-AD4B-2B2294E3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BADEA-5613-4827-A9FE-CA30015F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E79D5-CE7D-455A-BA31-4BA23896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A1876-974A-46AC-8BB8-4B7F4D4D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DEFFE-4042-4418-8A8F-B398177E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B6D51-3E38-4798-9743-5F5670FD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730B8-0EFB-45BA-8AFD-32C22FDE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E13A9-E86C-4647-9E9D-6515CB4D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3F8E4-9BD5-4015-A0F8-38C109EA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B2F42-0D1F-40D1-ADF3-86096CF8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56452-B40E-4AC6-994F-ACAD1527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74F8F-CFED-46B7-879C-4C7A5FBB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5AE20-CE6D-4FB4-9F91-526A7AC9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CC2CD-A5FF-4DA0-B296-88244AA2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48972-14EA-4E1D-9CEE-6E604452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50D1D-3B2A-4486-A9FB-0A7E74D7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E06E1-B30C-44FA-851B-7891D117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2B67F-A593-48C6-854F-B7A6C0B7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30450-30EC-46D4-A92D-6AAF8DEF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18157-FBE5-4C0D-B4B5-84EF97A1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0340B-8661-475E-947D-6CFE65E0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141AC-F8A9-4242-8C62-48B511BE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9AA61-A12E-4389-98DB-A49E03B0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376A7-0D44-4882-BC9B-6ED8835F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11112-01DB-46E7-8C8B-A2C2D9ED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CCB91-42C3-4C6B-ABB9-4B3CC115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A12C5-1713-4FA2-80B8-4D722B7F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24531-BE7E-44DC-96C6-205D45A8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85A93-5C23-4AC4-83E5-F8B94F2A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EECA8-27DD-487C-9B0F-160B8A23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58A53-12B4-4B70-9E4D-774F8403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8BC50-2225-47F4-92FE-F99E446E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C044A-1525-4003-8058-F9C8DCCF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34BB6-C219-4D7C-A8E0-DF18D1E7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47331-26AB-4272-940A-B99C8D85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821BE-3EC1-4B4F-A190-0DD721AB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E7B4B-5CDD-4047-9868-64501C4E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9C136-F733-462C-885A-96994749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02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R04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4A91-0DFD-4EF7-9D35-55590BE1647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3582-82C0-4692-9CDB-88C7BE0330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3C59-8596-41CD-B95B-28FF3483065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A4E2-D474-45B7-A08F-CA73B964C2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105F-B935-4BAA-8749-0E3BAA65F67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A1CB-9995-40B8-9E8C-C146855B11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7D33-944F-452B-852A-9AC5BFE4C0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69EE-293D-4973-92B3-D4EF1EE10B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E515-6F7F-4B0E-AAEF-A5ADEA4559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627F-2E2F-44CC-903A-E185DDC5BD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BBD7-019E-4E77-B756-D295494B540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EF37-EC9F-48C4-A064-EB8EA2E041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2" name="Picture 3" descr="R02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4" descr="R0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R01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8A32-6F39-4341-AC32-A0CD4D98D78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7542-2989-4AE2-8FD2-5857C1DC9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601F-B69B-403E-AD1F-3A36C8F5C28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57C8-6950-4B50-A6A3-476E1772A8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09FC-BEE4-46B5-9833-DD9B6B0579A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D1ED-7373-4E0B-A505-F28F799696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E9AE-4063-43F5-84FD-EC6B6EC4FC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095C-B6C8-4E4F-9D55-238C29F55A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6201-E477-4718-88D6-F8F2BC2F49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2BDB-263D-40DE-86E2-1F264D9B8C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A6D9-9894-467D-BC62-3C61414ADC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EF77-5995-4428-A107-1FCCD970E3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F55E-9235-46C8-ABAF-CA63CC74128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FB86-2A9E-46BB-8DAD-99A2B6C00A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applause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WordArt 8"/>
          <p:cNvSpPr txBox="1"/>
          <p:nvPr/>
        </p:nvSpPr>
        <p:spPr>
          <a:xfrm>
            <a:off x="2411280" y="404640"/>
            <a:ext cx="3611520" cy="18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赤壁赋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585" name="WordArt 9"/>
          <p:cNvSpPr txBox="1"/>
          <p:nvPr/>
        </p:nvSpPr>
        <p:spPr>
          <a:xfrm>
            <a:off x="4114800" y="2438280"/>
            <a:ext cx="1542960" cy="17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苏轼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1066680" y="5029200"/>
            <a:ext cx="2713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攸县三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WordArt 11"/>
          <p:cNvSpPr txBox="1"/>
          <p:nvPr/>
        </p:nvSpPr>
        <p:spPr>
          <a:xfrm>
            <a:off x="3886200" y="4876920"/>
            <a:ext cx="32767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李瑞云制作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88" name="明月几时有.mp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22603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4"/>
          <p:cNvSpPr/>
          <p:nvPr/>
        </p:nvSpPr>
        <p:spPr>
          <a:xfrm>
            <a:off x="2209680" y="152280"/>
            <a:ext cx="7331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齐声朗诵第一自然段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月夜泛舟赤壁，写了哪些景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描写了怎样一幅图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面对秋江夜色之美，举杯诵诗生出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样的快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段的叙述和描写融入了作者怎样的情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2286000" y="2666880"/>
            <a:ext cx="16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4989600" y="320040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清风、白露、月色、水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3276720" y="3657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清风徐来，水波不兴，月出于东山之上，徘徊于斗牛之间。白露横江，水光接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8"/>
          <p:cNvSpPr/>
          <p:nvPr/>
        </p:nvSpPr>
        <p:spPr>
          <a:xfrm>
            <a:off x="3925440" y="4941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冯虚御风，羽化登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3032280" y="5486400"/>
            <a:ext cx="611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澄清幽美之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月夜荡舟之举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融入了作者陶然于自然怀抱中的惬意情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2455200" y="321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景物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2455200" y="371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图景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2396520" y="5005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快感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3"/>
          <p:cNvSpPr/>
          <p:nvPr/>
        </p:nvSpPr>
        <p:spPr>
          <a:xfrm>
            <a:off x="2396520" y="5538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情感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4"/>
          <p:cNvSpPr/>
          <p:nvPr/>
        </p:nvSpPr>
        <p:spPr>
          <a:xfrm>
            <a:off x="993960" y="2908800"/>
            <a:ext cx="85068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内容分析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4"/>
          <p:cNvSpPr/>
          <p:nvPr/>
        </p:nvSpPr>
        <p:spPr>
          <a:xfrm>
            <a:off x="3306600" y="31680"/>
            <a:ext cx="38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齐声朗读第二段，思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本段在全文中的作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2668680" y="1514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2362320" y="2362320"/>
            <a:ext cx="678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承上启下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承上即继续描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泛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的欢快心情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于是饮酒乐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”——</a:t>
            </a: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方正舒体"/>
                <a:ea typeface="方正舒体"/>
              </a:rPr>
              <a:t>启下写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方正舒体"/>
                <a:ea typeface="方正舒体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方正舒体"/>
                <a:ea typeface="方正舒体"/>
              </a:rPr>
              <a:t>托遗响于悲风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”</a:t>
            </a:r>
            <a:r>
              <a:rPr b="0" lang="zh-CN" sz="4000" spc="-1" strike="noStrike">
                <a:solidFill>
                  <a:srgbClr val="0000ff"/>
                </a:solidFill>
                <a:latin typeface="方正舒体"/>
                <a:ea typeface="方正舒体"/>
              </a:rPr>
              <a:t> （抒情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356000" y="4005360"/>
            <a:ext cx="79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4572000" y="47242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9"/>
          <p:cNvSpPr/>
          <p:nvPr/>
        </p:nvSpPr>
        <p:spPr>
          <a:xfrm>
            <a:off x="993960" y="920160"/>
            <a:ext cx="85068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内容分析（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8" dur="1" fill="hold"/>
                                  <p:tgtEl>
                                    <p:spTgt spid="6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4"/>
          <p:cNvSpPr/>
          <p:nvPr/>
        </p:nvSpPr>
        <p:spPr>
          <a:xfrm>
            <a:off x="2438280" y="228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齐声朗读第三段，理解课文意思，用文中句子或用自己的语言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2362320" y="1600200"/>
            <a:ext cx="678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客触景伤怀，由眼前所见“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”，联想到曹操的诗句“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”，进一步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到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事。又由一世之雄的曹操，尚且随大江东去而销声匿迹，联想到自身“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；”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“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；”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“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。 ”把人生与宇宙加以对照，一方面“哀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”，另一方面“羡 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”，产生了“挟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”的想法，抒发了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情感。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3388680" y="198108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月出于东山之上  徘徊于斗牛之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3687840" y="23623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月明星稀   乌鹊南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2743200" y="26668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历史上曹操被周郎困于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6253920" y="4495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吾生之须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3587040" y="4876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长江之无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4"/>
          <p:cNvSpPr/>
          <p:nvPr/>
        </p:nvSpPr>
        <p:spPr>
          <a:xfrm>
            <a:off x="3282120" y="5181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飞仙以遨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6"/>
          <p:cNvSpPr/>
          <p:nvPr/>
        </p:nvSpPr>
        <p:spPr>
          <a:xfrm>
            <a:off x="5477760" y="5181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抱明月而长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7"/>
          <p:cNvSpPr/>
          <p:nvPr/>
        </p:nvSpPr>
        <p:spPr>
          <a:xfrm>
            <a:off x="3449160" y="556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怀古伤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9"/>
          <p:cNvSpPr/>
          <p:nvPr/>
        </p:nvSpPr>
        <p:spPr>
          <a:xfrm>
            <a:off x="3444840" y="335268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渔樵于江渚之上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侣鱼虾而友麋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0"/>
          <p:cNvSpPr/>
          <p:nvPr/>
        </p:nvSpPr>
        <p:spPr>
          <a:xfrm>
            <a:off x="3870000" y="373392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驾一叶之扁舟        举匏樽以相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1"/>
          <p:cNvSpPr/>
          <p:nvPr/>
        </p:nvSpPr>
        <p:spPr>
          <a:xfrm>
            <a:off x="3798360" y="411480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寄蜉蝣于天地     渺沧海之一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2"/>
          <p:cNvSpPr/>
          <p:nvPr/>
        </p:nvSpPr>
        <p:spPr>
          <a:xfrm>
            <a:off x="1070280" y="1072800"/>
            <a:ext cx="85068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内容分析（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4"/>
          <p:cNvSpPr/>
          <p:nvPr/>
        </p:nvSpPr>
        <p:spPr>
          <a:xfrm>
            <a:off x="3108240" y="24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Object 5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6323040" cy="458496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6"/>
          <p:cNvSpPr/>
          <p:nvPr/>
        </p:nvSpPr>
        <p:spPr>
          <a:xfrm>
            <a:off x="3870720" y="24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逝者如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7"/>
          <p:cNvSpPr/>
          <p:nvPr/>
        </p:nvSpPr>
        <p:spPr>
          <a:xfrm>
            <a:off x="5623200" y="24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未尝往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8"/>
          <p:cNvSpPr/>
          <p:nvPr/>
        </p:nvSpPr>
        <p:spPr>
          <a:xfrm>
            <a:off x="3815640" y="33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盈虚者如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9"/>
          <p:cNvSpPr/>
          <p:nvPr/>
        </p:nvSpPr>
        <p:spPr>
          <a:xfrm>
            <a:off x="5568120" y="33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而卒莫消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7162920" y="259092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又何羡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3581280" y="41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地曾不能以一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5334120" y="41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物与我皆无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7010280" y="4114800"/>
            <a:ext cx="184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必哀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生之须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2438280" y="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四段作者以回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名义，用眼前的水月为喻，展开哲学般的议论，论述了变与不变的道理 。完成下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5"/>
          <p:cNvSpPr/>
          <p:nvPr/>
        </p:nvSpPr>
        <p:spPr>
          <a:xfrm>
            <a:off x="2362320" y="53341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本段实际上是苏轼对客消极的人生观和虚无主义思想的驳斥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又回到了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“</a:t>
            </a:r>
            <a:r>
              <a:rPr b="0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”</a:t>
            </a:r>
            <a:r>
              <a:rPr b="0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字上来了。（议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6"/>
          <p:cNvSpPr/>
          <p:nvPr/>
        </p:nvSpPr>
        <p:spPr>
          <a:xfrm>
            <a:off x="7391520" y="5638680"/>
            <a:ext cx="86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7"/>
          <p:cNvSpPr/>
          <p:nvPr/>
        </p:nvSpPr>
        <p:spPr>
          <a:xfrm>
            <a:off x="993960" y="914400"/>
            <a:ext cx="85068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内容分析（四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4"/>
          <p:cNvSpPr/>
          <p:nvPr/>
        </p:nvSpPr>
        <p:spPr>
          <a:xfrm>
            <a:off x="2362320" y="30492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第五段作结，写客被苏轼说服了。结尾一句跟文章开头的“泛舟”“月出”遥相呼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"/>
          <p:cNvSpPr/>
          <p:nvPr/>
        </p:nvSpPr>
        <p:spPr>
          <a:xfrm>
            <a:off x="3806280" y="41911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首：苏子与客泛舟游于赤壁之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6"/>
          <p:cNvSpPr/>
          <p:nvPr/>
        </p:nvSpPr>
        <p:spPr>
          <a:xfrm>
            <a:off x="3476520" y="3124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尾：相于枕藉乎舟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7"/>
          <p:cNvSpPr/>
          <p:nvPr/>
        </p:nvSpPr>
        <p:spPr>
          <a:xfrm>
            <a:off x="3459240" y="5943600"/>
            <a:ext cx="30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首：月出于东山之上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8"/>
          <p:cNvSpPr/>
          <p:nvPr/>
        </p:nvSpPr>
        <p:spPr>
          <a:xfrm>
            <a:off x="3481560" y="48006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尾：不知东方之既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9"/>
          <p:cNvSpPr/>
          <p:nvPr/>
        </p:nvSpPr>
        <p:spPr>
          <a:xfrm>
            <a:off x="30481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10"/>
          <p:cNvSpPr/>
          <p:nvPr/>
        </p:nvSpPr>
        <p:spPr>
          <a:xfrm>
            <a:off x="29718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1"/>
          <p:cNvSpPr/>
          <p:nvPr/>
        </p:nvSpPr>
        <p:spPr>
          <a:xfrm>
            <a:off x="993960" y="920160"/>
            <a:ext cx="85068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内容分析（五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4"/>
          <p:cNvSpPr/>
          <p:nvPr/>
        </p:nvSpPr>
        <p:spPr>
          <a:xfrm>
            <a:off x="2286000" y="304920"/>
            <a:ext cx="329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cc"/>
                </a:solidFill>
                <a:latin typeface="Times New Roman"/>
                <a:ea typeface="方正舒体"/>
              </a:rPr>
              <a:t>思考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　　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5"/>
          <p:cNvSpPr/>
          <p:nvPr/>
        </p:nvSpPr>
        <p:spPr>
          <a:xfrm>
            <a:off x="2286000" y="1371600"/>
            <a:ext cx="655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文表达了作者怎样的思想感情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种思想感情是如何转化的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"/>
          <p:cNvSpPr/>
          <p:nvPr/>
        </p:nvSpPr>
        <p:spPr>
          <a:xfrm>
            <a:off x="993960" y="533520"/>
            <a:ext cx="850680" cy="57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内容分析（六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1905120" y="-15228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分析</a:t>
            </a:r>
            <a:r>
              <a:rPr b="0" lang="zh-CN" sz="66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2209680" y="990720"/>
            <a:ext cx="69343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苏轼力图排遣政治打击而带来的苦闷从而听任自然，乐观旷达，作者力图从消极中超脱出来，其实是含蓄地向他的政敌暗示：我虽然遭贬，但我却超然世外，飘然欲仙，寄情山水，尽得其乐，不寂寞不烦恼，反而积极向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6"/>
          <p:cNvSpPr/>
          <p:nvPr/>
        </p:nvSpPr>
        <p:spPr>
          <a:xfrm>
            <a:off x="538560" y="457200"/>
            <a:ext cx="16426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本文表达了作者怎样的思想感情</a:t>
            </a:r>
            <a:r>
              <a:rPr b="0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6"/>
          <p:cNvSpPr/>
          <p:nvPr/>
        </p:nvSpPr>
        <p:spPr>
          <a:xfrm>
            <a:off x="2362320" y="1295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作者先写月夜泛舟，饮酒赋诗，沉浸在美好景色中而忘怀世俗的快乐心情；再从凭吊历史人物的兴亡，感到人生短促，变化无常，因而跌入现实的苦闷；最后阐发变与不变的哲理，表现了旷达乐观的人生态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538560" y="380880"/>
            <a:ext cx="1642680" cy="58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这种思想感情是如何转化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8"/>
          <p:cNvSpPr/>
          <p:nvPr/>
        </p:nvSpPr>
        <p:spPr>
          <a:xfrm>
            <a:off x="3156480" y="3808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感情变化过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9"/>
          <p:cNvSpPr/>
          <p:nvPr/>
        </p:nvSpPr>
        <p:spPr>
          <a:xfrm>
            <a:off x="6097680" y="380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乐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悲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－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0"/>
          <p:cNvSpPr/>
          <p:nvPr/>
        </p:nvSpPr>
        <p:spPr>
          <a:xfrm>
            <a:off x="2644920" y="1219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030"/>
          <p:cNvSpPr/>
          <p:nvPr/>
        </p:nvSpPr>
        <p:spPr>
          <a:xfrm>
            <a:off x="1288440" y="176040"/>
            <a:ext cx="10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写景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031"/>
          <p:cNvSpPr/>
          <p:nvPr/>
        </p:nvSpPr>
        <p:spPr>
          <a:xfrm>
            <a:off x="2286000" y="2286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清风徐来，水波不兴；月出东山，徘徊斗牛；白露横江，水光接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032"/>
          <p:cNvSpPr/>
          <p:nvPr/>
        </p:nvSpPr>
        <p:spPr>
          <a:xfrm>
            <a:off x="1269360" y="1916280"/>
            <a:ext cx="10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抒情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033"/>
          <p:cNvSpPr/>
          <p:nvPr/>
        </p:nvSpPr>
        <p:spPr>
          <a:xfrm>
            <a:off x="2362320" y="19162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哀吾生之须臾，羡长江之无穷；挟飞仙以遨游，抱明月而长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034"/>
          <p:cNvSpPr/>
          <p:nvPr/>
        </p:nvSpPr>
        <p:spPr>
          <a:xfrm>
            <a:off x="1269360" y="3213000"/>
            <a:ext cx="10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议论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035"/>
          <p:cNvSpPr/>
          <p:nvPr/>
        </p:nvSpPr>
        <p:spPr>
          <a:xfrm>
            <a:off x="2362320" y="3276720"/>
            <a:ext cx="6781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水，逝者如斯而未尝往也；      月，盈虚者如彼而卒莫消长也；      变，天地曾不能以一瞬；          不变，物与我皆无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036"/>
          <p:cNvSpPr/>
          <p:nvPr/>
        </p:nvSpPr>
        <p:spPr>
          <a:xfrm>
            <a:off x="4081320" y="5649840"/>
            <a:ext cx="14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景、情、理  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黑体"/>
              </a:rPr>
              <a:t>融为一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3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10"/>
          <p:cNvSpPr/>
          <p:nvPr/>
        </p:nvSpPr>
        <p:spPr>
          <a:xfrm>
            <a:off x="441360" y="0"/>
            <a:ext cx="83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全文梳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1"/>
          <p:cNvSpPr/>
          <p:nvPr/>
        </p:nvSpPr>
        <p:spPr>
          <a:xfrm>
            <a:off x="0" y="914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清风徐来              白露   遗世独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游                      月出                                                             写景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水波不兴              水光   羽化登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2"/>
          <p:cNvSpPr/>
          <p:nvPr/>
        </p:nvSpPr>
        <p:spPr>
          <a:xfrm>
            <a:off x="914400" y="104616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3"/>
          <p:cNvSpPr/>
          <p:nvPr/>
        </p:nvSpPr>
        <p:spPr>
          <a:xfrm>
            <a:off x="2362320" y="104616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3276720" y="112248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15"/>
          <p:cNvSpPr/>
          <p:nvPr/>
        </p:nvSpPr>
        <p:spPr>
          <a:xfrm>
            <a:off x="4038480" y="1046160"/>
            <a:ext cx="76320" cy="83808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16"/>
          <p:cNvSpPr/>
          <p:nvPr/>
        </p:nvSpPr>
        <p:spPr>
          <a:xfrm>
            <a:off x="5486400" y="112248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7"/>
          <p:cNvSpPr/>
          <p:nvPr/>
        </p:nvSpPr>
        <p:spPr>
          <a:xfrm>
            <a:off x="0" y="203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怨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乐        歌         箫声                        承上写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启下写“悲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泣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8"/>
          <p:cNvSpPr/>
          <p:nvPr/>
        </p:nvSpPr>
        <p:spPr>
          <a:xfrm>
            <a:off x="91440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9"/>
          <p:cNvSpPr/>
          <p:nvPr/>
        </p:nvSpPr>
        <p:spPr>
          <a:xfrm>
            <a:off x="182880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20"/>
          <p:cNvSpPr/>
          <p:nvPr/>
        </p:nvSpPr>
        <p:spPr>
          <a:xfrm>
            <a:off x="31240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21"/>
          <p:cNvSpPr/>
          <p:nvPr/>
        </p:nvSpPr>
        <p:spPr>
          <a:xfrm>
            <a:off x="3657600" y="218916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2"/>
          <p:cNvSpPr/>
          <p:nvPr/>
        </p:nvSpPr>
        <p:spPr>
          <a:xfrm>
            <a:off x="0" y="3103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苏子               客    孟德                        哀吾生之须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        问                           而今安在哉               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抒情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愀然               答    周郎                        羡长江之无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23"/>
          <p:cNvSpPr/>
          <p:nvPr/>
        </p:nvSpPr>
        <p:spPr>
          <a:xfrm>
            <a:off x="1066680" y="33526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24"/>
          <p:cNvSpPr/>
          <p:nvPr/>
        </p:nvSpPr>
        <p:spPr>
          <a:xfrm>
            <a:off x="1447920" y="3733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25"/>
          <p:cNvSpPr/>
          <p:nvPr/>
        </p:nvSpPr>
        <p:spPr>
          <a:xfrm>
            <a:off x="1981080" y="32558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26"/>
          <p:cNvSpPr/>
          <p:nvPr/>
        </p:nvSpPr>
        <p:spPr>
          <a:xfrm>
            <a:off x="2514600" y="32558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27"/>
          <p:cNvSpPr/>
          <p:nvPr/>
        </p:nvSpPr>
        <p:spPr>
          <a:xfrm>
            <a:off x="3429000" y="333216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28"/>
          <p:cNvSpPr/>
          <p:nvPr/>
        </p:nvSpPr>
        <p:spPr>
          <a:xfrm>
            <a:off x="5105520" y="3255840"/>
            <a:ext cx="75960" cy="83844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29"/>
          <p:cNvSpPr/>
          <p:nvPr/>
        </p:nvSpPr>
        <p:spPr>
          <a:xfrm>
            <a:off x="7010280" y="3332160"/>
            <a:ext cx="152640" cy="762120"/>
          </a:xfrm>
          <a:custGeom>
            <a:avLst/>
            <a:gdLst>
              <a:gd name="textAreaLeft" fmla="*/ 0 w 152640"/>
              <a:gd name="textAreaRight" fmla="*/ 5508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0"/>
          <p:cNvSpPr/>
          <p:nvPr/>
        </p:nvSpPr>
        <p:spPr>
          <a:xfrm>
            <a:off x="0" y="4495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水——逝者如斯             变：天地不能一瞬             清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                                                                                                议论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月——盈虚者如彼        不变：物与我皆无尽          明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31"/>
          <p:cNvSpPr/>
          <p:nvPr/>
        </p:nvSpPr>
        <p:spPr>
          <a:xfrm>
            <a:off x="2971800" y="4648320"/>
            <a:ext cx="76320" cy="83808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32"/>
          <p:cNvSpPr/>
          <p:nvPr/>
        </p:nvSpPr>
        <p:spPr>
          <a:xfrm>
            <a:off x="31240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3"/>
          <p:cNvSpPr/>
          <p:nvPr/>
        </p:nvSpPr>
        <p:spPr>
          <a:xfrm>
            <a:off x="3429000" y="48006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34"/>
          <p:cNvSpPr/>
          <p:nvPr/>
        </p:nvSpPr>
        <p:spPr>
          <a:xfrm>
            <a:off x="6324480" y="47242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35"/>
          <p:cNvSpPr/>
          <p:nvPr/>
        </p:nvSpPr>
        <p:spPr>
          <a:xfrm>
            <a:off x="647712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36"/>
          <p:cNvSpPr/>
          <p:nvPr/>
        </p:nvSpPr>
        <p:spPr>
          <a:xfrm>
            <a:off x="6858000" y="48006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37"/>
          <p:cNvSpPr/>
          <p:nvPr/>
        </p:nvSpPr>
        <p:spPr>
          <a:xfrm>
            <a:off x="7696080" y="4724280"/>
            <a:ext cx="152640" cy="762120"/>
          </a:xfrm>
          <a:custGeom>
            <a:avLst/>
            <a:gdLst>
              <a:gd name="textAreaLeft" fmla="*/ 0 w 152640"/>
              <a:gd name="textAreaRight" fmla="*/ 5508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8"/>
          <p:cNvSpPr/>
          <p:nvPr/>
        </p:nvSpPr>
        <p:spPr>
          <a:xfrm>
            <a:off x="0" y="579132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喜笑      更酌      狼籍       枕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39"/>
          <p:cNvSpPr/>
          <p:nvPr/>
        </p:nvSpPr>
        <p:spPr>
          <a:xfrm>
            <a:off x="121932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40"/>
          <p:cNvSpPr/>
          <p:nvPr/>
        </p:nvSpPr>
        <p:spPr>
          <a:xfrm>
            <a:off x="22860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41"/>
          <p:cNvSpPr/>
          <p:nvPr/>
        </p:nvSpPr>
        <p:spPr>
          <a:xfrm>
            <a:off x="34290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42"/>
          <p:cNvSpPr/>
          <p:nvPr/>
        </p:nvSpPr>
        <p:spPr>
          <a:xfrm>
            <a:off x="8077320" y="1731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43"/>
          <p:cNvSpPr/>
          <p:nvPr/>
        </p:nvSpPr>
        <p:spPr>
          <a:xfrm>
            <a:off x="8153280" y="3941640"/>
            <a:ext cx="0" cy="85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44"/>
          <p:cNvSpPr/>
          <p:nvPr/>
        </p:nvSpPr>
        <p:spPr>
          <a:xfrm>
            <a:off x="8763120" y="1731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45"/>
          <p:cNvSpPr/>
          <p:nvPr/>
        </p:nvSpPr>
        <p:spPr>
          <a:xfrm>
            <a:off x="8763120" y="3941640"/>
            <a:ext cx="0" cy="85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46"/>
          <p:cNvSpPr/>
          <p:nvPr/>
        </p:nvSpPr>
        <p:spPr>
          <a:xfrm>
            <a:off x="5940360" y="155736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47"/>
          <p:cNvSpPr/>
          <p:nvPr/>
        </p:nvSpPr>
        <p:spPr>
          <a:xfrm>
            <a:off x="72388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1295640" cy="65530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湖北黄冈赤壁（东坡赤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2362320" y="4419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宋代的黄州，就是今天的湖北黄冈。黄冈西北的长江边上，有一处风景胜地。那儿矗立着一座红褐色的山崖，因为形状很像鼻子，人们就称它为赤鼻矶；又因为山崖陡峭如一面墙壁，所以它也被称为赤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4"/>
          <p:cNvSpPr/>
          <p:nvPr/>
        </p:nvSpPr>
        <p:spPr>
          <a:xfrm>
            <a:off x="2707200" y="189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5"/>
          <p:cNvSpPr/>
          <p:nvPr/>
        </p:nvSpPr>
        <p:spPr>
          <a:xfrm>
            <a:off x="3201840" y="1006560"/>
            <a:ext cx="4622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完成课后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背诵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明月几时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gt;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有感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为题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写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字以内的文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明月几时有.mp3" descr=""/>
          <p:cNvPicPr/>
          <p:nvPr/>
        </p:nvPicPr>
        <p:blipFill>
          <a:blip r:embed="rId1"/>
          <a:stretch/>
        </p:blipFill>
        <p:spPr>
          <a:xfrm>
            <a:off x="5796000" y="242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30" dur="indefinite" restart="never" nodeType="tmRoot">
          <p:childTnLst>
            <p:seq>
              <p:cTn id="931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932" nodeType="clickEffect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5" dur="422603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6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4" descr="苏东坡像"/>
          <p:cNvPicPr/>
          <p:nvPr/>
        </p:nvPicPr>
        <p:blipFill>
          <a:blip r:embed="rId1"/>
          <a:stretch/>
        </p:blipFill>
        <p:spPr>
          <a:xfrm>
            <a:off x="4621320" y="0"/>
            <a:ext cx="4522680" cy="6858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苏轼游赤壁"/>
          <p:cNvPicPr/>
          <p:nvPr/>
        </p:nvPicPr>
        <p:blipFill>
          <a:blip r:embed="rId2"/>
          <a:stretch/>
        </p:blipFill>
        <p:spPr>
          <a:xfrm>
            <a:off x="0" y="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8"/>
          <p:cNvSpPr/>
          <p:nvPr/>
        </p:nvSpPr>
        <p:spPr>
          <a:xfrm>
            <a:off x="152280" y="45720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诗词文赋、书法、绘画样样精通。儒家和佛老思想。入世：积极进取，怀才不遇；出世：逃避现实，寄情山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9"/>
          <p:cNvSpPr/>
          <p:nvPr/>
        </p:nvSpPr>
        <p:spPr>
          <a:xfrm>
            <a:off x="3813840" y="142632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苏轼其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4" descr="3186_苏轼图像"/>
          <p:cNvPicPr/>
          <p:nvPr/>
        </p:nvPicPr>
        <p:blipFill>
          <a:blip r:embed="rId1"/>
          <a:stretch/>
        </p:blipFill>
        <p:spPr>
          <a:xfrm>
            <a:off x="0" y="0"/>
            <a:ext cx="492768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7"/>
          <p:cNvSpPr/>
          <p:nvPr/>
        </p:nvSpPr>
        <p:spPr>
          <a:xfrm>
            <a:off x="2987640" y="0"/>
            <a:ext cx="223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981e"/>
                </a:solidFill>
                <a:latin typeface="Times New Roman"/>
                <a:ea typeface="华文中宋"/>
              </a:rPr>
              <a:t>背景提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4140360" y="787320"/>
            <a:ext cx="50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宋神宗元丰五年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108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年），苏轼遭受政治迫害，被贬谪到黄州已经两年了。“长江绕廓知鱼美，好竹连山觉笋香” ，水中的鲜鱼，山间的竹笋，江城的一切风物，都给政治失意的苏轼带来莫大的慰藉。这时，他曾站立在江边赤壁之上，眺望如画江山，唱出了“大江东去”的豪放歌声。他还在七月十六日一个幽静的夜晚，驾舟畅游于赤壁之下的长江水面，写下了千古名作《赤壁赋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2556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7"/>
          <p:cNvSpPr/>
          <p:nvPr/>
        </p:nvSpPr>
        <p:spPr>
          <a:xfrm>
            <a:off x="3656880" y="43812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听课文录音朗读并注意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2916360" y="1341360"/>
            <a:ext cx="593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请同学们在文中标出押韵字并体会换韵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"/>
          <p:cNvSpPr/>
          <p:nvPr/>
        </p:nvSpPr>
        <p:spPr>
          <a:xfrm>
            <a:off x="2249640" y="3573360"/>
            <a:ext cx="66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一段       间   天   然   仙              第四段         往   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二段       桨   光   方                                          瞬   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慕   诉   缕   妇                                   主   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三段       稀   飞   诗                            月   色   竭   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昌    苍   郎                     第五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东    空   雄                                   酌   藉   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鹿    属   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穷    终   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赤壁赋.mp3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52996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4"/>
          <p:cNvSpPr/>
          <p:nvPr/>
        </p:nvSpPr>
        <p:spPr>
          <a:xfrm>
            <a:off x="4923720" y="434340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二、指出下列各字的通假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2484360" y="5445000"/>
            <a:ext cx="771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739f2"/>
                </a:solidFill>
                <a:latin typeface="Times New Roman"/>
                <a:ea typeface="华文中宋"/>
              </a:rPr>
              <a:t>1</a:t>
            </a:r>
            <a:r>
              <a:rPr b="0" lang="zh-CN" sz="3200" spc="-1" strike="noStrike">
                <a:solidFill>
                  <a:srgbClr val="f739f2"/>
                </a:solidFill>
                <a:latin typeface="Times New Roman"/>
                <a:ea typeface="华文中宋"/>
              </a:rPr>
              <a:t>、属——         </a:t>
            </a:r>
            <a:r>
              <a:rPr b="0" lang="zh-CN" sz="3200" spc="-1" strike="noStrike">
                <a:solidFill>
                  <a:srgbClr val="f739f2"/>
                </a:solidFill>
                <a:latin typeface="Times New Roman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f739f2"/>
                </a:solidFill>
                <a:latin typeface="Times New Roman"/>
                <a:ea typeface="华文中宋"/>
              </a:rPr>
              <a:t>、冯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4427640" y="5445000"/>
            <a:ext cx="7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7308720" y="5445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975960" y="836640"/>
            <a:ext cx="9115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基础检测（一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2590920" y="129528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赋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是一种有韵的文体，讲求声律、押韵、对比等形式。有辞赋、骈赋和律赋、文赋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0"/>
          <p:cNvSpPr/>
          <p:nvPr/>
        </p:nvSpPr>
        <p:spPr>
          <a:xfrm>
            <a:off x="2872080" y="3808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一、关于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风景1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4"/>
          <p:cNvSpPr/>
          <p:nvPr/>
        </p:nvSpPr>
        <p:spPr>
          <a:xfrm>
            <a:off x="1203840" y="620640"/>
            <a:ext cx="34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注意下列画线字词的读音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1047600" y="1676520"/>
            <a:ext cx="687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壬戌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 ）        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酾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酒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桂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棹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）         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横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槊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余音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袅袅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    ）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渔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樵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幽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壑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）         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扁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舟（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嫠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妇（       ）         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匏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樽（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愀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然（       ）         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蜉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山川相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缪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 ）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6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无尽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藏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舳舻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千里（           ）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7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狼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籍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旌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旗（       ）         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8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枕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藉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）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1981080" y="16002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rénx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198108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zh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2917800" y="2666880"/>
            <a:ext cx="11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n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2209680" y="3124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h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2209680" y="3581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l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1981080" y="4038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q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2"/>
          <p:cNvSpPr/>
          <p:nvPr/>
        </p:nvSpPr>
        <p:spPr>
          <a:xfrm>
            <a:off x="2879640" y="459252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l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3"/>
          <p:cNvSpPr/>
          <p:nvPr/>
        </p:nvSpPr>
        <p:spPr>
          <a:xfrm>
            <a:off x="2895480" y="50292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zhúl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1981080" y="5562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j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7086600" y="1676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h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7010280" y="213372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h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7"/>
          <p:cNvSpPr/>
          <p:nvPr/>
        </p:nvSpPr>
        <p:spPr>
          <a:xfrm>
            <a:off x="7010280" y="2590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q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8"/>
          <p:cNvSpPr/>
          <p:nvPr/>
        </p:nvSpPr>
        <p:spPr>
          <a:xfrm>
            <a:off x="701028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p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708660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7010280" y="35053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p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6858000" y="4114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fúyó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7391520" y="4572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z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23"/>
          <p:cNvSpPr/>
          <p:nvPr/>
        </p:nvSpPr>
        <p:spPr>
          <a:xfrm>
            <a:off x="70866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7162920" y="5562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j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4"/>
          <p:cNvSpPr/>
          <p:nvPr/>
        </p:nvSpPr>
        <p:spPr>
          <a:xfrm>
            <a:off x="1752480" y="1371600"/>
            <a:ext cx="480060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舞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幽壑之潜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泣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孤舟之嫠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侣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鱼虾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友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麋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正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襟危坐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乌鹊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南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击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空明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兮溯流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918720" y="914400"/>
            <a:ext cx="911520" cy="54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基础检测（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4121280" y="457200"/>
            <a:ext cx="17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三 </a:t>
            </a: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. </a:t>
            </a: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说一说加线词的活用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6451560" y="13716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使动用法，使……舞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5899320" y="2057400"/>
            <a:ext cx="32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使动用法，使……哭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5943600" y="26668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意动用法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以……为伴侣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朋友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6531120" y="3581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形容词作动词，整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6471000" y="4419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名词作状语，向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7"/>
          <p:cNvSpPr/>
          <p:nvPr/>
        </p:nvSpPr>
        <p:spPr>
          <a:xfrm>
            <a:off x="6270480" y="51055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形作名，明澈如空的清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2362320" y="1066680"/>
            <a:ext cx="662940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此非孟德之困于周郎者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而今安在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吾与子渔樵于江渚之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904680" y="549360"/>
            <a:ext cx="911520" cy="59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基础检测（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3796560" y="1668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被动句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9"/>
          <p:cNvSpPr/>
          <p:nvPr/>
        </p:nvSpPr>
        <p:spPr>
          <a:xfrm>
            <a:off x="4664880" y="152280"/>
            <a:ext cx="16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四</a:t>
            </a: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. </a:t>
            </a: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说一说下边句子是什么句式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3"/>
          <p:cNvSpPr/>
          <p:nvPr/>
        </p:nvSpPr>
        <p:spPr>
          <a:xfrm>
            <a:off x="3786840" y="314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宾语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8"/>
          <p:cNvSpPr/>
          <p:nvPr/>
        </p:nvSpPr>
        <p:spPr>
          <a:xfrm>
            <a:off x="3859920" y="472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状语后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4:54:59Z</dcterms:created>
  <dc:creator>Teller</dc:creator>
  <dc:description/>
  <dc:language>en-US</dc:language>
  <cp:lastModifiedBy>a</cp:lastModifiedBy>
  <dcterms:modified xsi:type="dcterms:W3CDTF">2015-02-09T02:30:11Z</dcterms:modified>
  <cp:revision>169</cp:revision>
  <dc:subject/>
  <dc:title>赤壁赋</dc:title>
</cp:coreProperties>
</file>