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ED4-8DF5-473A-9B52-38D642F1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6A0-5971-48A7-8D9C-8553F43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EB570-961C-494A-AF7C-5B5B2B50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1C3C2-5E08-44B9-A3CE-F7227DF8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6494-3F73-4FDB-9213-B382036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7F625-507F-4A9B-95DA-F8070688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C05C-B623-484C-AA30-5A04BCB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76274-53FC-4867-81FB-12E4C7D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DB993-BCBF-4EE1-BF8A-143753D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EEDB3-45BD-4CDC-A675-33CB6F14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53BE7-2F1B-43B0-8457-5FF53811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E9E38-D4F8-426B-9185-954BE656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4D-982D-4176-AE22-45BA3FA7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27F9D-C3C9-4F5C-BBB1-C5D8B189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22BBF-017A-4F6D-8C5A-918CD7F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F463-BF24-407E-88FC-7E330F8A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98BF2-3DA2-4B4E-B27F-A90BCAEE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3F47A-D959-4C36-95CB-CF0928F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7813-7A3E-42A4-834B-4402D48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959C-2F7B-412C-B144-ACF6522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D0409-C01C-4D18-A552-6DBB8B7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AA1E1-B268-418D-8FC4-EA4FDE45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C046D-E13E-4891-B443-F105A179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BDC-CB2D-40C2-A577-CAFB2ABE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AA9C9-44E6-4F3B-B0FC-AF3270CE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1F659-575E-47F4-B969-FF4DF3F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C43E1-8313-4831-AE59-2DAFA39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BC34-8AE4-4AA8-8262-7A81E8B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FA299-39ED-42D0-AD24-F1F46D11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8D2C-88EC-4546-8D00-702FD4A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3CA8-D89C-42BF-9ED4-35EFB476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8CF46-C912-4B94-BF65-64C3322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050DE-58DD-4FBF-A998-9CFAA83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2EB4-31F0-4DEB-A8D2-2ED7026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0EE-6425-48B7-A39F-3FD8CE7C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449F-A7CF-402A-9B54-BC34F9FE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ED659-061F-49D4-A615-D1411853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CDCB-5DE9-4A33-A722-119AD714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30691-45CB-4D58-8B1C-F97F3E8B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59D17-A5F9-49A6-B000-FD7C027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5CB23-F65B-42DB-8A20-B787814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5BB55-61F1-42BD-8CE6-BEBAE221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3A16A-14E0-4F7E-B56D-7C8FB4E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17909-EA04-474E-9BDA-F1813FA7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89D1A-8654-4D33-B1BD-CD2D0FF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761-4CF7-4A9E-AAB6-AD7238B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1B161-72B6-4C53-864A-BEBEA3E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677D-4759-4ED6-A37E-577B95D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C0E5-EE55-4527-B545-82BCE17A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00138-31F0-46BC-93D6-EFEE9EAA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9545B-ACA1-492C-94C2-B300FC6A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1BE40-E7A7-4C90-A17B-92A7E937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1C0AF-1D2F-4E49-9105-FE9142E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2F9CF-C678-4056-83F0-8D3D6D0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D2F19-8D3B-4DF6-9CB7-5B44D439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EEAAF-58D7-4389-A5BE-0121DDD2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127-F601-4434-8FCE-2564393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678B9-D01B-493E-BB38-92FD708E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473A0-60C6-48A7-BC3E-D117E4D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B3023-33E8-4689-ABFC-C6028D3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3119D-3511-40D2-9609-91A1A011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F581B-EA02-425D-B91B-7474FB07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7FED7-80E0-47CB-BAEB-E7436CE3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F888B-4946-4752-8F6E-240101EA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1502-CED7-4020-A281-9CBDBF3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DD8B-7AFE-4966-AE91-8A038835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DE0-4D97-4F7E-8F63-7EAC39F1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AE9-41E4-4FCF-955D-954F648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F33-4628-4FF8-BB49-6ABACA4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482-ADCD-431A-BD82-563D2DE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B33-497C-436E-86CE-15FA125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16CE-5819-4CE2-8208-D976596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E748-3F32-4348-955D-14C5FC53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380D-96FA-4041-94D6-B7CAB4E2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99C3-4904-430E-B8AA-43D1C76F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4618-F807-43C1-9D74-7F0A9150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734F-BA11-46F0-B48B-735C1D0F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2422-0AA6-4B57-BA0C-7A09A74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BB96-AF1D-40E4-8C15-A136AE2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7B8-92F7-42F5-8234-D1475CB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67CA-BC64-4027-B4E6-7DC12EC8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346A-77C2-422B-975D-44A677C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7D04-E27B-450F-A258-FE2CE04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90D8-8C2A-4CDD-8A39-853B9F42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D77E-1967-4424-ADB2-AE09C97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BF2E-7962-4E38-A0E3-30BE343F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8CBF-382D-41DD-A474-F0C1BAEC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70C1-3B6F-491A-A747-A19D691B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B460-7430-4A96-B5B3-000E35F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B4ED-BECF-4DAE-B533-66BEC45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7C7-F20F-41AE-B079-1C079C04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D442-A363-4BD8-B306-7258E5EC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01D3-BEA0-47AB-A1DA-ADB9DEB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15F8-BA4D-4806-B698-C672283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BC41-F94B-44FA-9456-2AC248C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B8C1-E1CB-4F38-9847-2C1CC468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AACA-0BD8-4F45-B063-DD258A9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6D92-524D-4D68-A1C0-AA56BA31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F587-9229-4A7D-8AB7-38AAC979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C107-4544-4A89-9A26-5F181D9E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4B154-ADB4-4E40-94BE-E64C60B2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0CB-F487-433C-842C-202B9998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3E45-BD99-4A44-98E6-FF4D4D6F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A973-F46D-47DE-909D-4016EA7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185B-952D-4B7D-89F1-05794FDE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3F605-44E4-48B3-B194-20AE6D91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FCDC-A59D-48C4-B256-991F6D1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D12E-AE46-4302-876E-4B865ADB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65BA-42E6-42EA-905E-1A5DDE3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58AD-8FEF-49B5-A48E-528E8BD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5A64-CF7F-48A5-A04D-EF65072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DC53-B7CE-4D79-B494-F09AD28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D29-780D-4241-8578-EE9F9F7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0968-6B8F-4D63-BCAF-61A468D3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1BF3-C262-4972-8320-C1AF7786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5BE2-0080-426B-B1D8-C8D3CCB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0C32F-2FD3-422C-A0DD-5384CD41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63AF-8E9A-4621-B745-33866AB4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159E-04FF-4BAB-8F23-D05E23A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9C75-DC50-4255-9200-AE45496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7E9F-65A9-4F4E-8898-B393E6D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EB44-29F7-4881-BD77-42E0A51D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CC32-14AE-4100-A38C-A03B004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D11-3AE3-46B2-ACAC-71245A8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3ED2-72C7-44AF-B80F-AB74037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8321-08D2-41D6-AD06-D67421F1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BA5E-97E1-48E3-89DB-8E2422B2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D281-1DE2-4764-A8AA-00DF14CE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EA7C-CECB-41B3-AA46-44317405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B5FD-E720-47C9-816F-26F5B3FD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6BC3-7CA2-4B24-A53A-AE7E71DD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31D9-1B03-45EB-992A-6584625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A26EF-FA9A-4562-A850-D0B84CF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6E89-35DF-4125-BD94-4E50C93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6DA-3A9F-4FD7-B1B9-402B9B69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F9D9-3AAC-49F9-BDE3-8234EBE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D9BE-383A-47DE-B45C-C1384F13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0F70-DEE6-4DB5-B835-8EE392B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9309-61B3-4E64-AA63-AE529B5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5FB98-9EF5-4D39-BD37-7AA2B29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30A8-9EBD-4828-960D-EACD7263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3F1A6-9221-4DA0-82A6-316AB26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7041-FB33-4A73-8DBF-3E61E40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7813-DC46-489C-9444-090C15E9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D024-C3CA-4860-AD0D-D35CDEE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04D-82BA-4CD6-BC36-B05E821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5F8E-BF4B-41BA-B089-6C7D6386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F5394-9902-4946-9254-5B0E1B1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C6B00-3921-4A07-A35A-C2C8D85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02DA-F0DD-414A-BAFD-D86B02A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80A4C-5DC3-4034-9BD0-64D0FB41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FB6A-F1BA-4E8A-A494-2FF2CA4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87EFE-8F1B-438C-B154-AB8C77C2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E5670-5FF6-48BA-8232-98553FB0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A049D-1DE8-4969-98D9-A31BC39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56511-49FD-44BD-8F9D-4C8D3ED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573D-1428-440C-9B61-18CE57A9A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586-69BF-4AD6-878F-612C0E2459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B71-B766-4C35-9E9A-A079A9CC8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0E7-B8FB-44B6-842B-7157B1A58A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460-3F8B-4425-9CE4-9D61A3316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169-D44A-46B5-A973-3D7E0C97AB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540-DE47-46B2-BD8E-26ED46200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C29-5185-4A26-B349-8D6BE79C93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BCF-83BD-4603-9CAE-E59B11FD9D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C70-D32E-45EC-969F-07377821E7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B53-797B-4B4F-8D9B-9DCF6CBE0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5612-21A9-40BC-8B63-6E787C9D11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14D-6C92-496C-9553-0D3EDDCAE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992-A714-40FC-BEBA-5E99B8E1F6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B25-4F12-4386-988D-DED935825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A58-6011-41A3-8DF5-ED0C0F7682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44CF-FC1F-434C-A3CA-BD84B8E150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477-B26A-4483-86BB-1FA6996D38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3E3-5F90-455A-90DD-7C789605C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8AE1-3C70-4787-AA0A-DEDEC4BE19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396-2A81-4D52-AA17-5DEF5B415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DC2-A1C2-462A-B5E9-7103A758BC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7425-9A14-448F-B1AD-E8018CBD3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8BE-9217-4EBE-81C8-20A4E9642B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88F-8D9E-4C4B-9DFE-FC7805595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619280" y="4221000"/>
            <a:ext cx="609588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草船借箭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4" name="Picture 9" descr="1"/>
          <p:cNvPicPr/>
          <p:nvPr/>
        </p:nvPicPr>
        <p:blipFill>
          <a:blip r:embed="rId2"/>
          <a:stretch/>
        </p:blipFill>
        <p:spPr>
          <a:xfrm>
            <a:off x="3230640" y="471600"/>
            <a:ext cx="25923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54200" y="1268280"/>
            <a:ext cx="7705440" cy="581400"/>
          </a:xfrm>
          <a:prstGeom prst="rect">
            <a:avLst/>
          </a:prstGeom>
          <a:solidFill>
            <a:srgbClr val="0000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篇课文讲的是我国著名长篇历史小说《三国演义》中的一个故事。故事发生在东汉末年，当时曹操刚刚打败刘备，又派兵进攻孙权。于是刘备和孙权联合起来抵抗曹操。刘备派诸葛亮到孙权那里帮助作战。认真读读课文，看看草船借箭这件事的起因是什么，经过怎样，结果又如何。弄清“神机妙算”这个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1116000" y="1700280"/>
            <a:ext cx="6912000" cy="4483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北魏（曹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打败                                 攻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西蜀（刘备）              联合                  东吴（周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（诸葛亮）      派诸葛亮                      （鲁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H="1">
            <a:off x="1692000" y="2058840"/>
            <a:ext cx="187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4859280" y="213192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3132000" y="4290840"/>
            <a:ext cx="27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403280" y="1557360"/>
            <a:ext cx="69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中写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文中找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草船借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起因，经过和结果，各在哪几个自然段讲到的？除此还讲到了什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556000" y="4365720"/>
            <a:ext cx="658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起因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2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准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3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5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经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6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9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结果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0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 flipH="1" rot="21591000">
            <a:off x="1063440" y="4006440"/>
            <a:ext cx="11552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Sylfaen"/>
                <a:ea typeface="黑体"/>
              </a:rPr>
              <a:t>按事情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>
            <a:hlinkClick r:id="rId2" action="ppaction://hlinksldjump"/>
          </p:cNvPr>
          <p:cNvSpPr/>
          <p:nvPr/>
        </p:nvSpPr>
        <p:spPr>
          <a:xfrm>
            <a:off x="971640" y="5493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900000" y="162864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周瑜是怎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诸葛亮商议军事的？他的真正目的是什么，从哪儿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6"/>
          <p:cNvSpPr/>
          <p:nvPr/>
        </p:nvSpPr>
        <p:spPr>
          <a:xfrm>
            <a:off x="3924360" y="2133720"/>
            <a:ext cx="934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"/>
          <p:cNvSpPr/>
          <p:nvPr/>
        </p:nvSpPr>
        <p:spPr>
          <a:xfrm>
            <a:off x="3059280" y="3429000"/>
            <a:ext cx="14414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332000" y="7398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</a:rPr>
              <a:t>第一天，不见诸葛亮有什么动静；第二天，仍然不见诸葛亮有什么动静；直到第三天四更时候，诸葛亮秘密地把鲁肃请到船里。</a:t>
            </a: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044720" y="322092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借给我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二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条船，每条船上要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三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名军士。船用青布幔子遮起来，还要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一千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草把子，排在船的两边。我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自有妙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第三天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管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十万支箭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不过不能让都督知道。他要是知道了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我的计划就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5"/>
          <p:cNvSpPr/>
          <p:nvPr/>
        </p:nvSpPr>
        <p:spPr>
          <a:xfrm>
            <a:off x="3419640" y="1052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2625840" y="476280"/>
            <a:ext cx="4033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草船借箭.AVI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1"/>
          <p:cNvSpPr/>
          <p:nvPr/>
        </p:nvSpPr>
        <p:spPr>
          <a:xfrm>
            <a:off x="539640" y="34290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这时候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大雾漫天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江上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连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面对面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看不清。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诸葛亮下令把船头朝西，船尾朝东，一字儿摆开，又叫船上的军士一边擂鼓，一边大声呐喊。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一万多名弓努手一齐朝江中放箭，箭好像下雨一样。诸葛亮又下令把船掉过来，船头朝东，船尾朝西，仍旧擂鼓呐喊，逼近曹军水寨去受箭。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979640" y="90792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诸葛亮神机妙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真比不上他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719280" y="278136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诸葛亮上知天文，下晓地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己知彼，周密谋划。他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智多谋，具有非凡的才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5219640" y="162864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411280" y="1700280"/>
            <a:ext cx="79916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复述故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船借箭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搜集表现诸葛亮神机妙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5"/>
          <p:cNvSpPr txBox="1"/>
          <p:nvPr/>
        </p:nvSpPr>
        <p:spPr>
          <a:xfrm>
            <a:off x="2340000" y="1484280"/>
            <a:ext cx="1371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作业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p:transition>
    <p:wheel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1:43:4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56:30Z</dcterms:modified>
  <cp:revision>25</cp:revision>
  <dc:subject>第一PPT模板网-WWW.1PPT.COM</dc:subject>
  <dc:title>第一PPT模板网-WWW.1PPT.COM</dc:title>
</cp:coreProperties>
</file>