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CB06-F4AC-4B27-AE22-5FC9BEC9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FFAA-5A9D-420D-961E-03AF544A0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BA8BC-874D-4CA9-B00C-7FBF902D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2EEE9F-D057-41C8-928C-38FCFFE8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3172ED-4EE0-43F3-AAF4-9A850E89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02626-1975-40B8-8FA2-B6D98BF4F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A639D-7116-4CB4-931C-C24E74F2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A6005-3E11-4C25-82DE-9D3045AD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845C1-B46C-4C6C-AF41-A0A8A2D6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7B1C7-05E3-415E-B04E-3600036B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67CC1-554A-4CDB-A99B-BE0A41AB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1A74B-D46F-48B9-B013-44A687F8C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B376-0A9E-4925-AEF5-83AC98601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22AE9-4F0A-4F8C-9D1C-E441E66B9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8BAB4C-400A-424B-8892-C815DABC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16E91B-1AD5-4991-8C18-A10372D0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4300E-F614-4061-8B7B-2DCE15E2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391E5F-85D4-474B-B9E1-5D8FBC829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802C5-4610-47F4-AF98-1B0A08A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92AE6-2E70-4814-9D00-36AA5DE6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EE18B-1615-4B63-930E-092C6A0B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A0681C-1561-43A0-8544-5380A7560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A6535-D5A7-42BE-906A-9CD11601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5826-52F4-43C8-96A8-20BD19B0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AB401C-2792-46A5-8CFA-6226B44F0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BB5C0A-F3D4-449E-8B6E-2E3EF22BD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2E2A6D-96D8-4199-A1A5-9E062F1BF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B8D05E-52DB-4AE9-B93F-B17C2560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2BAF2-5855-4F3E-A93A-F14867B05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6B3F0-717B-41DA-9BBA-30BD147C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D1ADFA-4C9F-488D-9DD5-0AA8F4E8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69360-0A6A-488E-888B-B64654352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EEB2FB-C30D-40D4-B429-AD074E52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00B02-72D0-4359-9F5D-EE596A81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AC7F-B193-45EF-A669-8FF9EE45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172AF-21A0-45A1-A5BF-2489A638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09C151-E819-418B-9FAB-331969CF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5202F-AD81-4DE6-9ADA-9C2858D0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D4D0B-4527-4031-B983-30C435F69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321EE-A32A-4996-B6CE-C0D213EC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B3C665-18F0-459C-8603-8ACA30685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77AAB-58C2-4627-8B9B-7CA60141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D1266-92F4-45A7-A906-3CF674D37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F7887-0473-41ED-9E17-D4309150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5CB18-4986-4B2C-84B0-419A8A9C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B0626-F40F-4854-B96C-2057FBDE7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AA4FC-0CBB-4480-A160-FFDFD39D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0DFD82-9B0A-4283-A37D-F1B06A2D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672AF5-42D7-4A8B-8269-111491CF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45EA2-86D0-4530-A19A-A9721CAA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3A2BF-8CDD-4EFD-A2A1-FFFF43632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3CDF7-FC0B-4D27-84D8-5FC3E366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94D0F7-66F6-4FB8-A360-20138C3E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FF81D-BF83-4073-B0E7-14776C70F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FD2FA2-572B-4632-8E39-0825DCE5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98F0AC-78C8-4964-933C-343F8DC39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DF7B-6CD2-40BE-89E1-588BE190D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6C176-2C73-4121-B743-034BC6A7A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84969F-F7AC-4AB0-919F-8D3C20CF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FB8059-E133-4E18-B6A7-E363EE4F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1973C9-CD0B-4E55-B3AA-B195993B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756E80-92B7-419E-BAF4-C1F53B410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ABCD8D-BEBE-4DA9-9728-72A03B3DA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88421-96FE-4D91-AFF2-9CD642A1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0B2E-A65E-42B5-98C8-044E9B2D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B4D4-3D5D-498B-AF5E-7BEE3281F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5F6B7-0DD7-42C3-BAD6-1E00F46C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4A89-E497-427E-9B89-E1E3E858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B0C8-E8EA-4E7D-81FD-DB4A9843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4BA05-5856-4392-916D-7826FB09D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ED299-2288-42AD-B7ED-361A575C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3762-EB04-4156-A99F-60A54FAB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1374-839E-4B33-B37A-52B0DBED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75412-2735-4BA0-8A85-068E1AAA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981CC-ECE4-4476-989D-715ABFCD1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68FF1-53D2-4EBF-870D-D642D6239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09AC-A5E5-40CA-A238-2627EA00C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4D885-FED1-4854-BBAA-1AE5E5B6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3824-3E37-420F-B485-9D53F4207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1982-4244-4599-B052-96DA2207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E8F6F-A2D0-4ED5-B105-C70402F62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4FBD7-CDF0-432D-A0B1-7AC81DBDE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0E779-3976-4EB6-BC2A-FA5D55D2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0F35-4F05-45DF-936A-18A40EE1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5BC68-8791-48AA-979E-DCA387D8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B2388-2FE9-48E7-9DD1-D506A310B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04A6F-2DB0-4D91-BBAC-F7E5D420A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AE89-4024-4314-B23D-B1A5BF51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D556E-CB1E-438B-B8B1-36213CFC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8549E-1014-498E-90BC-D8B4C8D4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9F2B-CCB1-4519-AE82-2F1D3276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9FF960-9D52-4218-BA89-2DA1853A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1D08-675C-401E-867C-D5213241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0AC4-50CA-4DB2-BC04-91462A03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6F9F5-DC53-4CAE-A93D-43D31DE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C5F49-F3C9-4D61-ACDD-D68F03F9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4A74B-499A-446B-A73E-37614A94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C02E2-6761-462A-94F0-BDE4F5415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C0C40-C01D-457C-9DEF-3376B379D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B61A7E-4877-43C3-9701-C7EB9705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2D295-27D3-4ADC-BE97-39AF9ED1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1092-A92C-4D95-B510-49CFF58C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A9E60-4FDC-4496-B1DC-D88ED246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EACDDA-E133-47D0-A71B-A68BE22B1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67F3-E635-4782-8E5D-3E6D781B1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E6F61-5535-4DE7-A8F0-117C6D352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3E30C-6F38-4954-BBDD-28FA367E1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DD621-99EE-412C-BF3A-CF113B86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8A40D-1769-4819-A6BE-BEAB30A3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126C6-D4F0-4510-BE8C-1EB381E0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8E2EB-2E5B-4658-B50A-36790338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A609-6D9C-4587-BE1C-721204A3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56F-05B9-4F7A-B845-9E6C018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06CEC-A5E4-4FE7-9E58-1034C730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343075-35CB-42D0-8536-457ACC369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E74C-ED27-4A63-85B0-C55A7411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D2504-7CF9-44E3-968B-6CDD8F3BC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98DC7E-9E72-4879-B28F-15FDB685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3AB9BD-56D0-4ECD-822E-09B188E1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843AEA-EB13-47FF-9387-8D4ED8E7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36B4-0820-4096-979D-B4B76143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EFF68-D499-4545-8445-159CA54F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DA75E-5362-4837-A214-9F9AA6E8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E8CB-0B2D-4F8A-B0CC-09769D2C3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35DB4-AE43-439E-AFA6-2F190C5D4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09B15-273A-49B8-B5A1-2A67E1741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CF9BB-718E-4DB1-9A39-CA4E8A953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498778-4811-4BCF-B7B6-C1EB010E3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125E-75F1-4EA9-9E99-D46C5EE5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BC572B-85E8-458F-A2AB-51D866508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5BC6E-995F-4D8F-B8EE-AB8E88D56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16BF22-9899-4019-9870-83FDCCD55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825A5-A726-4043-8F29-BDA497A6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330277-EAAC-4C13-B7F1-CBB8C872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D1A4-A85F-4DF0-A69C-F771BDC2F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CA5ABC-6173-4491-A1A0-0E0C1F251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5C12A-92EC-4F3F-B881-41C9B1E6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CC575-81CC-4264-842F-E2322578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FAFEB-E5D3-42E3-AF28-A84DCDA7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6059E-AAA4-429F-948D-6944B7C7A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FB3A23-2AF1-4F21-8277-248D5C4C6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314682-755C-4F04-8BE4-C25C3F83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4F9CA-8798-4B2D-80B1-C483C519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61F80-5F02-491C-8660-9E471151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6F038C-BE23-4B87-AD51-82937800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B898-E184-4701-A65A-2B4933B4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EF2241-7CD6-4A91-89A1-63ABC3EC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0F473-7831-4F92-A794-FD2755CE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3571B-B6B2-463E-B530-24154349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388E9-CB7C-4AEB-B9C9-9B9017DB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A7EFDA-2D69-4B43-8A94-2279F847E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E9E960-B9BB-4829-A8B7-DEB34E77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15F1F5-D2E9-4066-BC7A-8A4E41458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A0C82-1561-4703-A12F-545E8ADE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750AF-9CEB-4C04-90AE-817A5021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2586F-8F52-4AA3-9BD4-15A51BCE6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01E2-9B52-465D-884F-5D739E10E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0A18-B540-49C5-82AF-0A799346992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1AC9-B0FC-4E63-A4F8-538655AC83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FF89-96B2-424E-8D6A-EF849A6B2FB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B7060-D73F-4A71-B111-3A43655B5E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37FC-B000-434C-ACE6-5736C925F1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272E-2E41-4590-8460-6009364D13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2AD7-3E40-42F5-AC54-7735FC289E6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373A-7C26-41DD-8B7D-4A68FA481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BD77-184C-4E7D-ABC4-51BF3B9E843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B1D71-DCB0-4FE2-9EE6-343137929D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D79D-6104-4AC7-A33C-29E43CAECCD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A4C4-8487-4190-8C03-1CA7F37320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7EE22-04C6-4D55-A610-1C85209E02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14CF-0403-497B-B729-C84846C874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5201-DD69-4DDB-B4B2-67D7A17BA98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A2FF-ACE3-4AC6-BCB8-60FF77BE9E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687C-D58A-4A53-8726-3C89924DE94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17B6A-7033-428F-BE34-5F2BD7EF49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9311-52FA-4B51-A699-98BB4F73E2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17033-9E73-4996-951B-3552514E1B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D38EB-8863-450A-8BB6-F16675759E1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674-6BE8-403F-893B-6084BB73DE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D9F0-2357-428B-AFC7-F30D5FB24E1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1B22-2A0D-44E2-9189-6F35DE5050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楷体_GB2312"/>
              </a:rPr>
              <a:t>村  居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0336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                    </a:t>
            </a:r>
            <a:r>
              <a:rPr b="0" lang="zh-CN" sz="4000" spc="-1" strike="noStrike">
                <a:solidFill>
                  <a:srgbClr val="000c0c"/>
                </a:solidFill>
                <a:latin typeface="Arial"/>
              </a:rPr>
              <a:t>高鼎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草长莺飞二月天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拂堤杨柳醉春烟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儿童散学归来早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忙趁东风放纸鸢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想想诗中两个多音字该读什么音？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草</a:t>
            </a:r>
            <a:r>
              <a:rPr b="0" lang="zh-CN" sz="54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长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莺飞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长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cháng  zhǎng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儿童</a:t>
            </a:r>
            <a:r>
              <a:rPr b="0" lang="zh-CN" sz="5400" spc="-1" strike="noStrike" u="sng">
                <a:solidFill>
                  <a:srgbClr val="007a77"/>
                </a:solidFill>
                <a:uFillTx/>
                <a:latin typeface="Arial"/>
                <a:ea typeface="楷体_GB2312"/>
              </a:rPr>
              <a:t>散</a:t>
            </a:r>
            <a:r>
              <a:rPr b="0" lang="zh-CN" sz="5400" spc="-1" strike="noStrike">
                <a:solidFill>
                  <a:srgbClr val="007a77"/>
                </a:solidFill>
                <a:latin typeface="Arial"/>
                <a:ea typeface="楷体_GB2312"/>
              </a:rPr>
              <a:t>学</a:t>
            </a:r>
            <a:endParaRPr b="0" lang="en-US" sz="54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dc5900"/>
                </a:solidFill>
                <a:latin typeface="Arial"/>
              </a:rPr>
              <a:t>散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sàn  sǎn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借助下面的解释，说说诗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187280" y="1844280"/>
            <a:ext cx="7632720" cy="419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长：生长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拂堤：抚摸着堤岸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醉：迷醉于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春烟：春天里水泽、草木间蒸发的雾气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散学：放学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纸鸢：纸做的形状像老鹰的风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宿新市徐公店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3360" y="1773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Arial"/>
              </a:rPr>
              <a:t>杨万里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篱落疏疏一径深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树头花落未成阴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儿童急走追黄蝶，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  <a:ea typeface="楷体_GB2312"/>
              </a:rPr>
              <a:t>飞入菜花无处寻。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1834920" y="1700280"/>
            <a:ext cx="592596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篱落：篱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疏疏：稀稀落落的样子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径深：一条小路很远很远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树头：树的枝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阴：树阴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急走：快跑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无处寻：找不到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借助下面的解释，说说诗意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后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4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解释带点的词语，再说说诗句的意思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草长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莺飞二月天，拂堤杨柳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醉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春烟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（</a:t>
            </a:r>
            <a:r>
              <a:rPr b="0" lang="en-US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）儿童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急走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追黄蝶，</a:t>
            </a:r>
            <a:r>
              <a:rPr b="0" lang="zh-CN" sz="3200" spc="-1" strike="noStrike" u="sng">
                <a:solidFill>
                  <a:srgbClr val="000c0c"/>
                </a:solidFill>
                <a:uFillTx/>
                <a:latin typeface="楷体_GB2312"/>
                <a:ea typeface="楷体_GB2312"/>
              </a:rPr>
              <a:t>飞入</a:t>
            </a:r>
            <a:r>
              <a:rPr b="0" lang="zh-CN" sz="3200" spc="-1" strike="noStrike">
                <a:solidFill>
                  <a:srgbClr val="000c0c"/>
                </a:solidFill>
                <a:latin typeface="楷体_GB2312"/>
                <a:ea typeface="楷体_GB2312"/>
              </a:rPr>
              <a:t>菜花无处寻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5" name="Text Box 4"/>
          <p:cNvSpPr/>
          <p:nvPr/>
        </p:nvSpPr>
        <p:spPr>
          <a:xfrm>
            <a:off x="1042920" y="3284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草长：春草在茂盛的生长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5076720" y="3284640"/>
            <a:ext cx="22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醉：迷醉于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1403280" y="5013360"/>
            <a:ext cx="23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急走：快跑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8" name="Text Box 7"/>
          <p:cNvSpPr/>
          <p:nvPr/>
        </p:nvSpPr>
        <p:spPr>
          <a:xfrm>
            <a:off x="4716360" y="5084640"/>
            <a:ext cx="23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飞入：飞进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课后练习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5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宿新市徐公店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这首诗描绘了怎样的情景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残荷轩出品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7a77"/>
                </a:solidFill>
                <a:latin typeface="Arial"/>
              </a:endParaRPr>
            </a:p>
          </p:txBody>
        </p:sp>
        <p:pic>
          <p:nvPicPr>
            <p:cNvPr id="55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0:05:18Z</dcterms:created>
  <dc:creator>wph</dc:creator>
  <dc:description/>
  <dc:language>en-US</dc:language>
  <cp:lastModifiedBy>a</cp:lastModifiedBy>
  <dcterms:modified xsi:type="dcterms:W3CDTF">2015-04-28T12:26:24Z</dcterms:modified>
  <cp:revision>13</cp:revision>
  <dc:subject/>
  <dc:title>4 古诗两首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4</vt:lpwstr>
  </property>
</Properties>
</file>