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gif" ContentType="image/gi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5AB7-96E1-4724-8035-0E145433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56FB-7887-49BE-9F19-16F6BDE6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0C1A8-02A0-4D6C-B810-0D748672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C3AAD-5087-4017-95E6-C0904146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0C098-F670-4A92-B7A6-55D83279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1C380-75BF-444D-9BF8-2F47D88A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4D918-7891-432E-84E5-36AD56DD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0CEBB-8572-47AE-9AA1-D97A06A7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76CD7-293A-4F08-B7DF-6404DB02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770AD-BB7B-4521-AB1D-444C21A2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6C26C-8386-4C93-AE68-D15946C3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F7B51-C05F-42B3-AD66-4D4612835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E8D0-6103-4303-8D65-0E72F43C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C9BAA-09B1-4741-9695-71E3B784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FD438-923B-4135-8351-329ED033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5AD56-621A-4626-ABB8-FFE72EB4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1CDD5-CC6C-4368-855B-114068AE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5D31F-FFA0-46EE-88D1-5F676A9E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5E5C7-093C-486D-B5CC-BA6442E9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D3F19-377A-4E72-97E7-70809B34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73633-890F-4E67-88F6-824F44B5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1BC21-FC53-452B-8612-AEB5EE62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5E6D9-D732-4CFB-A4AB-D6DBBEAA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10D6-9C7A-45FA-89DE-C0487B9E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1ABBE-8D59-4ACB-922D-2648684C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7BB19-9E98-4D33-ACAF-5ABB7FE0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C8164-2D6C-4ECC-A525-D211BE1F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B815C-B737-4B2E-89A0-4221EA61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ECC20-958E-4C0C-8A7C-4D120BC1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F5437-EC99-4598-99EC-5B0025B8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FC627-69A8-4D44-8D44-0BB84FB7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BCDA0-C69C-486C-BE47-DFEE20AC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67E8F-FD3E-422D-8B08-7C7C6876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57A3A-A407-4C73-8E15-BDB58DFE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B194-2EE2-4F26-9A18-4AFD2A86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41E92-A943-4605-85B8-466B63E8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A66F2-5FA0-4435-A43F-58B78718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BA124-C2CE-41D9-8238-0400A70D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21C75-DBFA-4985-94B9-45A5EDC2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C351A-99C0-45C5-92EB-4822C714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70099-FEED-42F1-957D-E839D9D9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63D1A-C341-4F4B-85B8-E1F64249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9CAE5-BA1E-4336-B81B-1C00B612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BCDA7-CA68-4256-9294-06B512CB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E4A3B-C2A2-4F57-98A3-99B60BC7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4A9F-A4F1-4950-B624-17724D84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CCB88-8A6E-4506-BB5A-1933D1D0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88E7C-2A89-4F21-A009-2E632BAD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79951-ED84-40A1-B566-B7538BF2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1462EA-7855-4CCC-9C89-D59859C3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4C2BE-1F2E-4F31-B3EE-BEC130D2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C9C71E-FD5C-452E-B57B-616EF662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B75695-58DF-4DEE-AF4F-0F373F36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242FB5-4718-4BD4-A69C-41353128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2E0B21-88E1-4C17-A690-8220DB8A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0FE2B4-A1D8-436E-AA49-163227BC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13F4-23DA-413F-A110-23DA1F3C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DA3CE-9B7D-44B3-8473-A3A2DD00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5C749A-1ED2-43F5-BBBE-56C3D5CD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32C83C-4D1E-46DB-BF40-F74551E8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BA0786-F18D-4169-AFFE-9645BBE2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8CC014-8D56-4734-932B-0B193E48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44653A-9915-4822-80BE-E38CDEBA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B4FEF5-F1D4-4164-B985-5A46062A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A4CE-75C9-4409-8AAB-E7085FF5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87B4-8C2F-4F73-83C8-3FE58C46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3543-9C00-4E83-B515-DF05A604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475B-BE68-4938-9D15-5EAE78EE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3411-8BE4-4F35-A700-EC484D6A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8295-5044-4F15-BD45-9D07B95B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E966-13C9-4945-9929-C914EA5D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FBE0-3094-4A32-BCBD-629AA926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813E-B47E-4F00-B999-C97ED691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7886-EEB6-4D45-91CF-8A508A13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B7576-8FF5-40F0-8F63-D7DE02EA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A70DE-E2FA-4389-B1AE-335909EA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704CE-A90E-422B-A3D9-D2D2552F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EE65A-94C1-427D-9101-6B8FD82F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E1851-1256-41B0-A758-85CFFF71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90F1-80C9-4CB1-92E9-696605B7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1C41D-C67F-41F4-9512-8B93F992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C4F23-33B1-4BD6-9460-84D7A8F2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12ACB-A81A-4EDC-8607-B8320AEF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E0BAF-2CBD-427A-B6E9-787BC42E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4C4A2-5CBC-4048-968B-0FB2D4B0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56C33-6249-4E72-9E92-06A1989D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F7F8A-C4E1-4D65-AE41-B4B08691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6155E-F809-4C9D-BE94-4421D6F1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65602-9842-4D5A-A164-3E80FD0B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A7EB4-3C83-4311-8238-6070A69F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F3B-B263-4EF7-9B33-54359816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AB7A6-028F-4244-B860-2DA6CC7B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9B001-400A-4233-8F25-2288B332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7440F-7025-4417-AC99-6FACB6FA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17D4C-C8F6-433E-B738-6D5B7D99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75F0B-830B-4551-8A70-E46CBD72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C24AD-7C07-4812-B364-C3EFBAC6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AD91C-A9ED-4C6F-9F72-810A1319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3AED0-924A-4DE4-AEE1-94E57542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6AA3D-1159-486D-BE33-2E36A7847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CD60C-A76C-47D5-A047-08AB977F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36E8-29A2-4C57-AD59-0D3C6D28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C4966-9622-4268-9CE6-383E6141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49375-E035-4B71-A047-AFD09DFA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A7479-53D4-4C74-BF22-8388C1C6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D660C-6580-4582-878C-31D7332E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5B4ED-4139-431A-9998-0C3B6E23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EF572-F8FE-4101-AB98-05B72B0E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D201B-2272-4096-9583-FDAE8A70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83D00-0EAD-45BC-8679-9EFB472E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8F842-DC52-448C-B5F0-ACF6229F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3BEB2-150A-452A-849D-762DD460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B40D-A33E-45F5-9997-22A742E0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4F1FE-4281-4EE4-ABDC-3971DD3F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53E3F-F737-44C0-AC24-36C4FC33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9E939-FA14-4501-BA0E-05637A5E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46FE6-E170-4C64-AC1B-D8816CFB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F5D16-FA82-43C0-98C3-132F2D55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312FA-CBDA-4C52-B60E-CE996E90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3CA3C-2784-48C8-9880-8E7600FD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5D7E8-F209-4E77-A0F1-F77446CA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FEF5B-C7DE-4271-8FA7-24E4FF94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4782C-2562-4109-9486-052741FF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9760-2986-4AD6-AE4F-9D77E643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93E53-43FE-481B-A3D6-17B74B8A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E0968-0CA4-4D67-93C9-1762077A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61B6F-6718-4FD0-9D3F-4D2BBC90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C4650-0FDF-49E7-A115-7AF8EBF8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90154-7935-408B-A1DB-44EE53B7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3A2AE-3F32-40BA-88B8-DDCBE707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0AA8C-8409-4F84-A4FB-D6981858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47B39-61FE-4C91-96D1-951235AB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8E4ED-FB31-4687-B712-FE0F6348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D2E98-294B-427B-9F9C-4602E293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9AE3-BCCC-4155-8A24-8D14AEC8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23EC3-5DAC-49E6-9000-F7C9C4DE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C83A1-E0C8-4C7A-92F9-08387404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73AAC-DE31-4369-AECD-4C83ADB4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E0488-5B6C-4E7F-8B44-C2725A22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824AE-62C8-4F37-BAF3-306C7DCD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B0892-1135-4984-AB98-104159BC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C3E94-753E-45E5-8F06-2C025C4A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3C45E-C854-40E8-9C7F-898946B3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62192-0192-4C84-A8B1-1ACA4165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DE222-73B3-4A95-847C-9DB3FBA9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502B-D3EF-4629-B84B-09F806E8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03B69-9F66-409E-9A86-80CCB52F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8A5F3-117D-4D58-ABBE-B0454B9D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73BC3-921D-46A6-A37F-368AE346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2D577-6811-4AD0-A2CF-99F79445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5895D-DF1F-4CDB-A5BA-A8906618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D10F0-0528-42D1-BB0A-DA351E45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4B395-64D8-4849-A441-12541C63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36CB7-BB26-400C-A56F-CC814B8E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159C8-D58F-4230-A04A-061CB778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9E8A6-05E8-4F4C-AF20-529D0157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B391-38D3-4FE9-9E90-687C6A14C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2433-D48E-42F3-BD8C-1D7FC99C91F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40E4-D661-4054-8E52-3788CEDF3A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F9FE-AB4C-41A3-BB35-1DE4828C870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2D4C-6214-4A4A-9879-1116690A43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2433-9692-47C4-9017-6C6B3A0AA38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CB13-BB0C-4BF4-9682-462D15CEDC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9F34-1273-45D7-AE9A-020B18F02C1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386A-91F0-47C9-A1BF-AE56001CD6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00DD-8164-4A89-8F40-A1AF61999BE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C8E8-F92B-4589-8A9B-E45321B2C0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62F0-6316-43AF-921B-6F15575A78E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1303-6AD0-45AF-A766-2FAA7B69D1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3514-8961-4CF0-A91F-19F935405E1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5793-4F2A-4A24-8001-1CECC8C6D4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22F6-7680-4979-836D-288C1AC8807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B297-7894-4604-B799-CC28E78BEE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F6D9-13F4-42FD-8CB8-003C0A0EAE2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C4DB-8071-4A7D-9A23-04F063DB60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ED69-DC6D-4DC3-914E-09DD12A90F3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FD0A-813C-401D-B247-6E6C81A966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D7DC-9299-438D-B7CD-0C3A3A4D2F2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0C2A-E1D3-4AFD-B85D-BBD2EC2F0D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0C1D-AFB1-4998-865F-6878CC11AB5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5C5F-CE5D-448D-AEBD-ADEAA0183B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1ppt.com/hangye/" TargetMode="Externa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3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4" name="Picture 3" descr="pic697_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5" name="Group 5"/>
            <p:cNvGrpSpPr/>
            <p:nvPr/>
          </p:nvGrpSpPr>
          <p:grpSpPr>
            <a:xfrm>
              <a:off x="538560" y="3223080"/>
              <a:ext cx="1003320" cy="886680"/>
              <a:chOff x="538560" y="3223080"/>
              <a:chExt cx="1003320" cy="886680"/>
            </a:xfrm>
          </p:grpSpPr>
          <p:sp>
            <p:nvSpPr>
              <p:cNvPr id="536" name="Freeform 6"/>
              <p:cNvSpPr/>
              <p:nvPr/>
            </p:nvSpPr>
            <p:spPr>
              <a:xfrm rot="982800">
                <a:off x="576000" y="3395160"/>
                <a:ext cx="874800" cy="391320"/>
              </a:xfrm>
              <a:custGeom>
                <a:avLst/>
                <a:gdLst/>
                <a:ahLst/>
                <a:rect l="l" t="t" r="r" b="b"/>
                <a:pathLst>
                  <a:path w="2040" h="785">
                    <a:moveTo>
                      <a:pt x="869" y="379"/>
                    </a:moveTo>
                    <a:cubicBezTo>
                      <a:pt x="926" y="294"/>
                      <a:pt x="983" y="258"/>
                      <a:pt x="1065" y="209"/>
                    </a:cubicBezTo>
                    <a:cubicBezTo>
                      <a:pt x="1122" y="175"/>
                      <a:pt x="1161" y="138"/>
                      <a:pt x="1222" y="118"/>
                    </a:cubicBezTo>
                    <a:cubicBezTo>
                      <a:pt x="1256" y="83"/>
                      <a:pt x="1296" y="74"/>
                      <a:pt x="1340" y="52"/>
                    </a:cubicBezTo>
                    <a:cubicBezTo>
                      <a:pt x="1344" y="39"/>
                      <a:pt x="1342" y="22"/>
                      <a:pt x="1353" y="13"/>
                    </a:cubicBezTo>
                    <a:cubicBezTo>
                      <a:pt x="1367" y="2"/>
                      <a:pt x="1387" y="0"/>
                      <a:pt x="1405" y="0"/>
                    </a:cubicBezTo>
                    <a:cubicBezTo>
                      <a:pt x="1505" y="0"/>
                      <a:pt x="1606" y="9"/>
                      <a:pt x="1706" y="13"/>
                    </a:cubicBezTo>
                    <a:cubicBezTo>
                      <a:pt x="1830" y="44"/>
                      <a:pt x="1793" y="26"/>
                      <a:pt x="1877" y="91"/>
                    </a:cubicBezTo>
                    <a:cubicBezTo>
                      <a:pt x="1907" y="114"/>
                      <a:pt x="1968" y="157"/>
                      <a:pt x="1968" y="157"/>
                    </a:cubicBezTo>
                    <a:cubicBezTo>
                      <a:pt x="1983" y="201"/>
                      <a:pt x="2002" y="229"/>
                      <a:pt x="2034" y="262"/>
                    </a:cubicBezTo>
                    <a:cubicBezTo>
                      <a:pt x="2030" y="284"/>
                      <a:pt x="2040" y="316"/>
                      <a:pt x="2021" y="327"/>
                    </a:cubicBezTo>
                    <a:cubicBezTo>
                      <a:pt x="1998" y="340"/>
                      <a:pt x="1968" y="319"/>
                      <a:pt x="1942" y="314"/>
                    </a:cubicBezTo>
                    <a:cubicBezTo>
                      <a:pt x="1876" y="301"/>
                      <a:pt x="1812" y="286"/>
                      <a:pt x="1746" y="275"/>
                    </a:cubicBezTo>
                    <a:cubicBezTo>
                      <a:pt x="1701" y="253"/>
                      <a:pt x="1663" y="225"/>
                      <a:pt x="1615" y="209"/>
                    </a:cubicBezTo>
                    <a:cubicBezTo>
                      <a:pt x="1602" y="213"/>
                      <a:pt x="1586" y="212"/>
                      <a:pt x="1576" y="222"/>
                    </a:cubicBezTo>
                    <a:cubicBezTo>
                      <a:pt x="1568" y="230"/>
                      <a:pt x="1551" y="310"/>
                      <a:pt x="1549" y="314"/>
                    </a:cubicBezTo>
                    <a:cubicBezTo>
                      <a:pt x="1543" y="328"/>
                      <a:pt x="1532" y="340"/>
                      <a:pt x="1523" y="353"/>
                    </a:cubicBezTo>
                    <a:cubicBezTo>
                      <a:pt x="1478" y="492"/>
                      <a:pt x="1548" y="287"/>
                      <a:pt x="1484" y="432"/>
                    </a:cubicBezTo>
                    <a:cubicBezTo>
                      <a:pt x="1466" y="472"/>
                      <a:pt x="1450" y="548"/>
                      <a:pt x="1405" y="576"/>
                    </a:cubicBezTo>
                    <a:cubicBezTo>
                      <a:pt x="1370" y="598"/>
                      <a:pt x="1301" y="606"/>
                      <a:pt x="1261" y="615"/>
                    </a:cubicBezTo>
                    <a:cubicBezTo>
                      <a:pt x="1163" y="637"/>
                      <a:pt x="1075" y="646"/>
                      <a:pt x="973" y="654"/>
                    </a:cubicBezTo>
                    <a:cubicBezTo>
                      <a:pt x="829" y="650"/>
                      <a:pt x="685" y="652"/>
                      <a:pt x="541" y="641"/>
                    </a:cubicBezTo>
                    <a:cubicBezTo>
                      <a:pt x="514" y="639"/>
                      <a:pt x="463" y="615"/>
                      <a:pt x="463" y="615"/>
                    </a:cubicBezTo>
                    <a:cubicBezTo>
                      <a:pt x="441" y="637"/>
                      <a:pt x="419" y="659"/>
                      <a:pt x="397" y="681"/>
                    </a:cubicBezTo>
                    <a:cubicBezTo>
                      <a:pt x="378" y="700"/>
                      <a:pt x="345" y="698"/>
                      <a:pt x="319" y="707"/>
                    </a:cubicBezTo>
                    <a:cubicBezTo>
                      <a:pt x="224" y="739"/>
                      <a:pt x="128" y="761"/>
                      <a:pt x="31" y="785"/>
                    </a:cubicBezTo>
                    <a:cubicBezTo>
                      <a:pt x="10" y="619"/>
                      <a:pt x="0" y="455"/>
                      <a:pt x="18" y="288"/>
                    </a:cubicBezTo>
                    <a:cubicBezTo>
                      <a:pt x="53" y="323"/>
                      <a:pt x="102" y="343"/>
                      <a:pt x="136" y="379"/>
                    </a:cubicBezTo>
                    <a:cubicBezTo>
                      <a:pt x="145" y="388"/>
                      <a:pt x="151" y="400"/>
                      <a:pt x="162" y="406"/>
                    </a:cubicBezTo>
                    <a:cubicBezTo>
                      <a:pt x="178" y="414"/>
                      <a:pt x="197" y="415"/>
                      <a:pt x="214" y="419"/>
                    </a:cubicBezTo>
                    <a:cubicBezTo>
                      <a:pt x="306" y="480"/>
                      <a:pt x="267" y="454"/>
                      <a:pt x="332" y="497"/>
                    </a:cubicBezTo>
                    <a:cubicBezTo>
                      <a:pt x="345" y="506"/>
                      <a:pt x="371" y="523"/>
                      <a:pt x="371" y="523"/>
                    </a:cubicBezTo>
                    <a:cubicBezTo>
                      <a:pt x="423" y="519"/>
                      <a:pt x="476" y="516"/>
                      <a:pt x="528" y="510"/>
                    </a:cubicBezTo>
                    <a:cubicBezTo>
                      <a:pt x="591" y="502"/>
                      <a:pt x="651" y="472"/>
                      <a:pt x="712" y="458"/>
                    </a:cubicBezTo>
                    <a:cubicBezTo>
                      <a:pt x="847" y="428"/>
                      <a:pt x="742" y="461"/>
                      <a:pt x="829" y="432"/>
                    </a:cubicBezTo>
                    <a:cubicBezTo>
                      <a:pt x="885" y="376"/>
                      <a:pt x="907" y="379"/>
                      <a:pt x="869" y="379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Freeform 7"/>
              <p:cNvSpPr/>
              <p:nvPr/>
            </p:nvSpPr>
            <p:spPr>
              <a:xfrm rot="982800">
                <a:off x="865080" y="3244320"/>
                <a:ext cx="201960" cy="352800"/>
              </a:xfrm>
              <a:custGeom>
                <a:avLst/>
                <a:gdLst/>
                <a:ahLst/>
                <a:rect l="l" t="t" r="r" b="b"/>
                <a:pathLst>
                  <a:path w="471" h="707">
                    <a:moveTo>
                      <a:pt x="91" y="0"/>
                    </a:moveTo>
                    <a:cubicBezTo>
                      <a:pt x="95" y="17"/>
                      <a:pt x="93" y="38"/>
                      <a:pt x="104" y="52"/>
                    </a:cubicBezTo>
                    <a:cubicBezTo>
                      <a:pt x="113" y="63"/>
                      <a:pt x="131" y="60"/>
                      <a:pt x="144" y="65"/>
                    </a:cubicBezTo>
                    <a:cubicBezTo>
                      <a:pt x="195" y="82"/>
                      <a:pt x="175" y="73"/>
                      <a:pt x="222" y="105"/>
                    </a:cubicBezTo>
                    <a:cubicBezTo>
                      <a:pt x="280" y="192"/>
                      <a:pt x="211" y="107"/>
                      <a:pt x="288" y="157"/>
                    </a:cubicBezTo>
                    <a:cubicBezTo>
                      <a:pt x="303" y="167"/>
                      <a:pt x="313" y="185"/>
                      <a:pt x="327" y="196"/>
                    </a:cubicBezTo>
                    <a:cubicBezTo>
                      <a:pt x="469" y="307"/>
                      <a:pt x="361" y="207"/>
                      <a:pt x="432" y="275"/>
                    </a:cubicBezTo>
                    <a:cubicBezTo>
                      <a:pt x="441" y="301"/>
                      <a:pt x="449" y="327"/>
                      <a:pt x="458" y="353"/>
                    </a:cubicBezTo>
                    <a:cubicBezTo>
                      <a:pt x="462" y="366"/>
                      <a:pt x="471" y="393"/>
                      <a:pt x="471" y="393"/>
                    </a:cubicBezTo>
                    <a:cubicBezTo>
                      <a:pt x="467" y="423"/>
                      <a:pt x="468" y="455"/>
                      <a:pt x="458" y="484"/>
                    </a:cubicBezTo>
                    <a:cubicBezTo>
                      <a:pt x="454" y="496"/>
                      <a:pt x="440" y="501"/>
                      <a:pt x="432" y="511"/>
                    </a:cubicBezTo>
                    <a:cubicBezTo>
                      <a:pt x="396" y="559"/>
                      <a:pt x="364" y="608"/>
                      <a:pt x="327" y="655"/>
                    </a:cubicBezTo>
                    <a:cubicBezTo>
                      <a:pt x="317" y="667"/>
                      <a:pt x="313" y="684"/>
                      <a:pt x="301" y="694"/>
                    </a:cubicBezTo>
                    <a:cubicBezTo>
                      <a:pt x="290" y="703"/>
                      <a:pt x="274" y="703"/>
                      <a:pt x="261" y="707"/>
                    </a:cubicBezTo>
                    <a:cubicBezTo>
                      <a:pt x="251" y="574"/>
                      <a:pt x="250" y="426"/>
                      <a:pt x="196" y="301"/>
                    </a:cubicBezTo>
                    <a:cubicBezTo>
                      <a:pt x="190" y="287"/>
                      <a:pt x="177" y="276"/>
                      <a:pt x="170" y="262"/>
                    </a:cubicBezTo>
                    <a:cubicBezTo>
                      <a:pt x="164" y="250"/>
                      <a:pt x="164" y="235"/>
                      <a:pt x="157" y="223"/>
                    </a:cubicBezTo>
                    <a:cubicBezTo>
                      <a:pt x="87" y="107"/>
                      <a:pt x="177" y="302"/>
                      <a:pt x="104" y="157"/>
                    </a:cubicBezTo>
                    <a:cubicBezTo>
                      <a:pt x="75" y="99"/>
                      <a:pt x="66" y="61"/>
                      <a:pt x="0" y="39"/>
                    </a:cubicBezTo>
                    <a:cubicBezTo>
                      <a:pt x="13" y="35"/>
                      <a:pt x="25" y="26"/>
                      <a:pt x="39" y="26"/>
                    </a:cubicBezTo>
                    <a:cubicBezTo>
                      <a:pt x="104" y="26"/>
                      <a:pt x="91" y="69"/>
                      <a:pt x="9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Freeform 8"/>
              <p:cNvSpPr/>
              <p:nvPr/>
            </p:nvSpPr>
            <p:spPr>
              <a:xfrm rot="982800">
                <a:off x="751320" y="3614040"/>
                <a:ext cx="645840" cy="249480"/>
              </a:xfrm>
              <a:custGeom>
                <a:avLst/>
                <a:gdLst/>
                <a:ahLst/>
                <a:rect l="l" t="t" r="r" b="b"/>
                <a:pathLst>
                  <a:path w="1506" h="500">
                    <a:moveTo>
                      <a:pt x="0" y="248"/>
                    </a:moveTo>
                    <a:cubicBezTo>
                      <a:pt x="68" y="271"/>
                      <a:pt x="45" y="300"/>
                      <a:pt x="105" y="327"/>
                    </a:cubicBezTo>
                    <a:cubicBezTo>
                      <a:pt x="154" y="349"/>
                      <a:pt x="211" y="362"/>
                      <a:pt x="262" y="379"/>
                    </a:cubicBezTo>
                    <a:cubicBezTo>
                      <a:pt x="263" y="379"/>
                      <a:pt x="334" y="416"/>
                      <a:pt x="340" y="418"/>
                    </a:cubicBezTo>
                    <a:cubicBezTo>
                      <a:pt x="353" y="427"/>
                      <a:pt x="365" y="438"/>
                      <a:pt x="380" y="445"/>
                    </a:cubicBezTo>
                    <a:cubicBezTo>
                      <a:pt x="405" y="456"/>
                      <a:pt x="458" y="471"/>
                      <a:pt x="458" y="471"/>
                    </a:cubicBezTo>
                    <a:cubicBezTo>
                      <a:pt x="1044" y="453"/>
                      <a:pt x="740" y="500"/>
                      <a:pt x="969" y="418"/>
                    </a:cubicBezTo>
                    <a:cubicBezTo>
                      <a:pt x="1027" y="360"/>
                      <a:pt x="1105" y="338"/>
                      <a:pt x="1178" y="301"/>
                    </a:cubicBezTo>
                    <a:cubicBezTo>
                      <a:pt x="1187" y="292"/>
                      <a:pt x="1193" y="280"/>
                      <a:pt x="1204" y="274"/>
                    </a:cubicBezTo>
                    <a:cubicBezTo>
                      <a:pt x="1229" y="262"/>
                      <a:pt x="1283" y="248"/>
                      <a:pt x="1283" y="248"/>
                    </a:cubicBezTo>
                    <a:cubicBezTo>
                      <a:pt x="1334" y="172"/>
                      <a:pt x="1279" y="237"/>
                      <a:pt x="1348" y="196"/>
                    </a:cubicBezTo>
                    <a:cubicBezTo>
                      <a:pt x="1406" y="162"/>
                      <a:pt x="1344" y="177"/>
                      <a:pt x="1401" y="130"/>
                    </a:cubicBezTo>
                    <a:cubicBezTo>
                      <a:pt x="1412" y="121"/>
                      <a:pt x="1427" y="121"/>
                      <a:pt x="1440" y="117"/>
                    </a:cubicBezTo>
                    <a:cubicBezTo>
                      <a:pt x="1444" y="104"/>
                      <a:pt x="1444" y="89"/>
                      <a:pt x="1453" y="78"/>
                    </a:cubicBezTo>
                    <a:cubicBezTo>
                      <a:pt x="1486" y="37"/>
                      <a:pt x="1506" y="70"/>
                      <a:pt x="1506" y="0"/>
                    </a:cubicBezTo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Freeform 9"/>
              <p:cNvSpPr/>
              <p:nvPr/>
            </p:nvSpPr>
            <p:spPr>
              <a:xfrm rot="982800">
                <a:off x="1380240" y="3669480"/>
                <a:ext cx="149760" cy="105480"/>
              </a:xfrm>
              <a:custGeom>
                <a:avLst/>
                <a:gdLst/>
                <a:ahLst/>
                <a:rect l="l" t="t" r="r" b="b"/>
                <a:pathLst>
                  <a:path w="349" h="212">
                    <a:moveTo>
                      <a:pt x="87" y="25"/>
                    </a:moveTo>
                    <a:cubicBezTo>
                      <a:pt x="214" y="67"/>
                      <a:pt x="0" y="0"/>
                      <a:pt x="335" y="51"/>
                    </a:cubicBezTo>
                    <a:cubicBezTo>
                      <a:pt x="349" y="53"/>
                      <a:pt x="308" y="58"/>
                      <a:pt x="296" y="64"/>
                    </a:cubicBezTo>
                    <a:cubicBezTo>
                      <a:pt x="282" y="71"/>
                      <a:pt x="271" y="84"/>
                      <a:pt x="257" y="90"/>
                    </a:cubicBezTo>
                    <a:cubicBezTo>
                      <a:pt x="208" y="111"/>
                      <a:pt x="151" y="113"/>
                      <a:pt x="100" y="130"/>
                    </a:cubicBezTo>
                    <a:cubicBezTo>
                      <a:pt x="126" y="139"/>
                      <a:pt x="160" y="146"/>
                      <a:pt x="178" y="169"/>
                    </a:cubicBezTo>
                    <a:cubicBezTo>
                      <a:pt x="187" y="180"/>
                      <a:pt x="202" y="200"/>
                      <a:pt x="191" y="208"/>
                    </a:cubicBezTo>
                    <a:cubicBezTo>
                      <a:pt x="186" y="212"/>
                      <a:pt x="110" y="185"/>
                      <a:pt x="100" y="182"/>
                    </a:cubicBezTo>
                    <a:cubicBezTo>
                      <a:pt x="64" y="147"/>
                      <a:pt x="82" y="165"/>
                      <a:pt x="47" y="130"/>
                    </a:cubicBezTo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Oval 10"/>
              <p:cNvSpPr/>
              <p:nvPr/>
            </p:nvSpPr>
            <p:spPr>
              <a:xfrm rot="982800">
                <a:off x="1271520" y="3636000"/>
                <a:ext cx="61920" cy="47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11"/>
              <p:cNvSpPr/>
              <p:nvPr/>
            </p:nvSpPr>
            <p:spPr>
              <a:xfrm rot="982800">
                <a:off x="1069920" y="3850560"/>
                <a:ext cx="280440" cy="224280"/>
              </a:xfrm>
              <a:custGeom>
                <a:avLst/>
                <a:gdLst/>
                <a:ahLst/>
                <a:rect l="l" t="t" r="r" b="b"/>
                <a:pathLst>
                  <a:path w="655" h="450">
                    <a:moveTo>
                      <a:pt x="197" y="2"/>
                    </a:moveTo>
                    <a:cubicBezTo>
                      <a:pt x="245" y="6"/>
                      <a:pt x="295" y="0"/>
                      <a:pt x="341" y="15"/>
                    </a:cubicBezTo>
                    <a:cubicBezTo>
                      <a:pt x="354" y="19"/>
                      <a:pt x="344" y="45"/>
                      <a:pt x="354" y="55"/>
                    </a:cubicBezTo>
                    <a:cubicBezTo>
                      <a:pt x="364" y="65"/>
                      <a:pt x="380" y="64"/>
                      <a:pt x="393" y="68"/>
                    </a:cubicBezTo>
                    <a:cubicBezTo>
                      <a:pt x="418" y="144"/>
                      <a:pt x="386" y="74"/>
                      <a:pt x="445" y="133"/>
                    </a:cubicBezTo>
                    <a:cubicBezTo>
                      <a:pt x="456" y="144"/>
                      <a:pt x="459" y="162"/>
                      <a:pt x="471" y="172"/>
                    </a:cubicBezTo>
                    <a:cubicBezTo>
                      <a:pt x="495" y="193"/>
                      <a:pt x="550" y="225"/>
                      <a:pt x="550" y="225"/>
                    </a:cubicBezTo>
                    <a:cubicBezTo>
                      <a:pt x="579" y="268"/>
                      <a:pt x="612" y="280"/>
                      <a:pt x="629" y="329"/>
                    </a:cubicBezTo>
                    <a:cubicBezTo>
                      <a:pt x="638" y="355"/>
                      <a:pt x="655" y="408"/>
                      <a:pt x="655" y="408"/>
                    </a:cubicBezTo>
                    <a:cubicBezTo>
                      <a:pt x="646" y="421"/>
                      <a:pt x="645" y="445"/>
                      <a:pt x="629" y="447"/>
                    </a:cubicBezTo>
                    <a:cubicBezTo>
                      <a:pt x="601" y="450"/>
                      <a:pt x="550" y="421"/>
                      <a:pt x="550" y="421"/>
                    </a:cubicBezTo>
                    <a:cubicBezTo>
                      <a:pt x="537" y="408"/>
                      <a:pt x="526" y="392"/>
                      <a:pt x="511" y="382"/>
                    </a:cubicBezTo>
                    <a:cubicBezTo>
                      <a:pt x="499" y="374"/>
                      <a:pt x="482" y="378"/>
                      <a:pt x="471" y="369"/>
                    </a:cubicBezTo>
                    <a:cubicBezTo>
                      <a:pt x="459" y="359"/>
                      <a:pt x="455" y="341"/>
                      <a:pt x="445" y="329"/>
                    </a:cubicBezTo>
                    <a:cubicBezTo>
                      <a:pt x="408" y="284"/>
                      <a:pt x="415" y="293"/>
                      <a:pt x="367" y="277"/>
                    </a:cubicBezTo>
                    <a:cubicBezTo>
                      <a:pt x="363" y="264"/>
                      <a:pt x="364" y="248"/>
                      <a:pt x="354" y="238"/>
                    </a:cubicBezTo>
                    <a:cubicBezTo>
                      <a:pt x="344" y="228"/>
                      <a:pt x="327" y="231"/>
                      <a:pt x="314" y="225"/>
                    </a:cubicBezTo>
                    <a:cubicBezTo>
                      <a:pt x="300" y="218"/>
                      <a:pt x="289" y="205"/>
                      <a:pt x="275" y="199"/>
                    </a:cubicBezTo>
                    <a:cubicBezTo>
                      <a:pt x="250" y="188"/>
                      <a:pt x="223" y="181"/>
                      <a:pt x="197" y="172"/>
                    </a:cubicBezTo>
                    <a:cubicBezTo>
                      <a:pt x="184" y="167"/>
                      <a:pt x="157" y="159"/>
                      <a:pt x="157" y="159"/>
                    </a:cubicBezTo>
                    <a:cubicBezTo>
                      <a:pt x="107" y="125"/>
                      <a:pt x="60" y="107"/>
                      <a:pt x="0" y="107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Group 12"/>
            <p:cNvGrpSpPr/>
            <p:nvPr/>
          </p:nvGrpSpPr>
          <p:grpSpPr>
            <a:xfrm>
              <a:off x="2217240" y="2602080"/>
              <a:ext cx="924120" cy="644760"/>
              <a:chOff x="2217240" y="2602080"/>
              <a:chExt cx="924120" cy="644760"/>
            </a:xfrm>
          </p:grpSpPr>
          <p:sp>
            <p:nvSpPr>
              <p:cNvPr id="543" name="Freeform 13"/>
              <p:cNvSpPr/>
              <p:nvPr/>
            </p:nvSpPr>
            <p:spPr>
              <a:xfrm rot="20233200">
                <a:off x="2261520" y="2733120"/>
                <a:ext cx="754920" cy="382320"/>
              </a:xfrm>
              <a:custGeom>
                <a:avLst/>
                <a:gdLst/>
                <a:ahLst/>
                <a:rect l="l" t="t" r="r" b="b"/>
                <a:pathLst>
                  <a:path w="2040" h="785">
                    <a:moveTo>
                      <a:pt x="869" y="379"/>
                    </a:moveTo>
                    <a:cubicBezTo>
                      <a:pt x="926" y="294"/>
                      <a:pt x="983" y="258"/>
                      <a:pt x="1065" y="209"/>
                    </a:cubicBezTo>
                    <a:cubicBezTo>
                      <a:pt x="1122" y="175"/>
                      <a:pt x="1161" y="138"/>
                      <a:pt x="1222" y="118"/>
                    </a:cubicBezTo>
                    <a:cubicBezTo>
                      <a:pt x="1256" y="83"/>
                      <a:pt x="1296" y="74"/>
                      <a:pt x="1340" y="52"/>
                    </a:cubicBezTo>
                    <a:cubicBezTo>
                      <a:pt x="1344" y="39"/>
                      <a:pt x="1342" y="22"/>
                      <a:pt x="1353" y="13"/>
                    </a:cubicBezTo>
                    <a:cubicBezTo>
                      <a:pt x="1367" y="2"/>
                      <a:pt x="1387" y="0"/>
                      <a:pt x="1405" y="0"/>
                    </a:cubicBezTo>
                    <a:cubicBezTo>
                      <a:pt x="1505" y="0"/>
                      <a:pt x="1606" y="9"/>
                      <a:pt x="1706" y="13"/>
                    </a:cubicBezTo>
                    <a:cubicBezTo>
                      <a:pt x="1830" y="44"/>
                      <a:pt x="1793" y="26"/>
                      <a:pt x="1877" y="91"/>
                    </a:cubicBezTo>
                    <a:cubicBezTo>
                      <a:pt x="1907" y="114"/>
                      <a:pt x="1968" y="157"/>
                      <a:pt x="1968" y="157"/>
                    </a:cubicBezTo>
                    <a:cubicBezTo>
                      <a:pt x="1983" y="201"/>
                      <a:pt x="2002" y="229"/>
                      <a:pt x="2034" y="262"/>
                    </a:cubicBezTo>
                    <a:cubicBezTo>
                      <a:pt x="2030" y="284"/>
                      <a:pt x="2040" y="316"/>
                      <a:pt x="2021" y="327"/>
                    </a:cubicBezTo>
                    <a:cubicBezTo>
                      <a:pt x="1998" y="340"/>
                      <a:pt x="1968" y="319"/>
                      <a:pt x="1942" y="314"/>
                    </a:cubicBezTo>
                    <a:cubicBezTo>
                      <a:pt x="1876" y="301"/>
                      <a:pt x="1812" y="286"/>
                      <a:pt x="1746" y="275"/>
                    </a:cubicBezTo>
                    <a:cubicBezTo>
                      <a:pt x="1701" y="253"/>
                      <a:pt x="1663" y="225"/>
                      <a:pt x="1615" y="209"/>
                    </a:cubicBezTo>
                    <a:cubicBezTo>
                      <a:pt x="1602" y="213"/>
                      <a:pt x="1586" y="212"/>
                      <a:pt x="1576" y="222"/>
                    </a:cubicBezTo>
                    <a:cubicBezTo>
                      <a:pt x="1568" y="230"/>
                      <a:pt x="1551" y="310"/>
                      <a:pt x="1549" y="314"/>
                    </a:cubicBezTo>
                    <a:cubicBezTo>
                      <a:pt x="1543" y="328"/>
                      <a:pt x="1532" y="340"/>
                      <a:pt x="1523" y="353"/>
                    </a:cubicBezTo>
                    <a:cubicBezTo>
                      <a:pt x="1478" y="492"/>
                      <a:pt x="1548" y="287"/>
                      <a:pt x="1484" y="432"/>
                    </a:cubicBezTo>
                    <a:cubicBezTo>
                      <a:pt x="1466" y="472"/>
                      <a:pt x="1450" y="548"/>
                      <a:pt x="1405" y="576"/>
                    </a:cubicBezTo>
                    <a:cubicBezTo>
                      <a:pt x="1370" y="598"/>
                      <a:pt x="1301" y="606"/>
                      <a:pt x="1261" y="615"/>
                    </a:cubicBezTo>
                    <a:cubicBezTo>
                      <a:pt x="1163" y="637"/>
                      <a:pt x="1075" y="646"/>
                      <a:pt x="973" y="654"/>
                    </a:cubicBezTo>
                    <a:cubicBezTo>
                      <a:pt x="829" y="650"/>
                      <a:pt x="685" y="652"/>
                      <a:pt x="541" y="641"/>
                    </a:cubicBezTo>
                    <a:cubicBezTo>
                      <a:pt x="514" y="639"/>
                      <a:pt x="463" y="615"/>
                      <a:pt x="463" y="615"/>
                    </a:cubicBezTo>
                    <a:cubicBezTo>
                      <a:pt x="441" y="637"/>
                      <a:pt x="419" y="659"/>
                      <a:pt x="397" y="681"/>
                    </a:cubicBezTo>
                    <a:cubicBezTo>
                      <a:pt x="378" y="700"/>
                      <a:pt x="345" y="698"/>
                      <a:pt x="319" y="707"/>
                    </a:cubicBezTo>
                    <a:cubicBezTo>
                      <a:pt x="224" y="739"/>
                      <a:pt x="128" y="761"/>
                      <a:pt x="31" y="785"/>
                    </a:cubicBezTo>
                    <a:cubicBezTo>
                      <a:pt x="10" y="619"/>
                      <a:pt x="0" y="455"/>
                      <a:pt x="18" y="288"/>
                    </a:cubicBezTo>
                    <a:cubicBezTo>
                      <a:pt x="53" y="323"/>
                      <a:pt x="102" y="343"/>
                      <a:pt x="136" y="379"/>
                    </a:cubicBezTo>
                    <a:cubicBezTo>
                      <a:pt x="145" y="388"/>
                      <a:pt x="151" y="400"/>
                      <a:pt x="162" y="406"/>
                    </a:cubicBezTo>
                    <a:cubicBezTo>
                      <a:pt x="178" y="414"/>
                      <a:pt x="197" y="415"/>
                      <a:pt x="214" y="419"/>
                    </a:cubicBezTo>
                    <a:cubicBezTo>
                      <a:pt x="306" y="480"/>
                      <a:pt x="267" y="454"/>
                      <a:pt x="332" y="497"/>
                    </a:cubicBezTo>
                    <a:cubicBezTo>
                      <a:pt x="345" y="506"/>
                      <a:pt x="371" y="523"/>
                      <a:pt x="371" y="523"/>
                    </a:cubicBezTo>
                    <a:cubicBezTo>
                      <a:pt x="423" y="519"/>
                      <a:pt x="476" y="516"/>
                      <a:pt x="528" y="510"/>
                    </a:cubicBezTo>
                    <a:cubicBezTo>
                      <a:pt x="591" y="502"/>
                      <a:pt x="651" y="472"/>
                      <a:pt x="712" y="458"/>
                    </a:cubicBezTo>
                    <a:cubicBezTo>
                      <a:pt x="847" y="428"/>
                      <a:pt x="742" y="461"/>
                      <a:pt x="829" y="432"/>
                    </a:cubicBezTo>
                    <a:cubicBezTo>
                      <a:pt x="885" y="376"/>
                      <a:pt x="907" y="379"/>
                      <a:pt x="869" y="379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Freeform 14"/>
              <p:cNvSpPr/>
              <p:nvPr/>
            </p:nvSpPr>
            <p:spPr>
              <a:xfrm rot="20233200">
                <a:off x="2421000" y="2647800"/>
                <a:ext cx="174240" cy="344520"/>
              </a:xfrm>
              <a:custGeom>
                <a:avLst/>
                <a:gdLst/>
                <a:ahLst/>
                <a:rect l="l" t="t" r="r" b="b"/>
                <a:pathLst>
                  <a:path w="471" h="707">
                    <a:moveTo>
                      <a:pt x="91" y="0"/>
                    </a:moveTo>
                    <a:cubicBezTo>
                      <a:pt x="95" y="17"/>
                      <a:pt x="93" y="38"/>
                      <a:pt x="104" y="52"/>
                    </a:cubicBezTo>
                    <a:cubicBezTo>
                      <a:pt x="113" y="63"/>
                      <a:pt x="131" y="60"/>
                      <a:pt x="144" y="65"/>
                    </a:cubicBezTo>
                    <a:cubicBezTo>
                      <a:pt x="195" y="82"/>
                      <a:pt x="175" y="73"/>
                      <a:pt x="222" y="105"/>
                    </a:cubicBezTo>
                    <a:cubicBezTo>
                      <a:pt x="280" y="192"/>
                      <a:pt x="211" y="107"/>
                      <a:pt x="288" y="157"/>
                    </a:cubicBezTo>
                    <a:cubicBezTo>
                      <a:pt x="303" y="167"/>
                      <a:pt x="313" y="185"/>
                      <a:pt x="327" y="196"/>
                    </a:cubicBezTo>
                    <a:cubicBezTo>
                      <a:pt x="469" y="307"/>
                      <a:pt x="361" y="207"/>
                      <a:pt x="432" y="275"/>
                    </a:cubicBezTo>
                    <a:cubicBezTo>
                      <a:pt x="441" y="301"/>
                      <a:pt x="449" y="327"/>
                      <a:pt x="458" y="353"/>
                    </a:cubicBezTo>
                    <a:cubicBezTo>
                      <a:pt x="462" y="366"/>
                      <a:pt x="471" y="393"/>
                      <a:pt x="471" y="393"/>
                    </a:cubicBezTo>
                    <a:cubicBezTo>
                      <a:pt x="467" y="423"/>
                      <a:pt x="468" y="455"/>
                      <a:pt x="458" y="484"/>
                    </a:cubicBezTo>
                    <a:cubicBezTo>
                      <a:pt x="454" y="496"/>
                      <a:pt x="440" y="501"/>
                      <a:pt x="432" y="511"/>
                    </a:cubicBezTo>
                    <a:cubicBezTo>
                      <a:pt x="396" y="559"/>
                      <a:pt x="364" y="608"/>
                      <a:pt x="327" y="655"/>
                    </a:cubicBezTo>
                    <a:cubicBezTo>
                      <a:pt x="317" y="667"/>
                      <a:pt x="313" y="684"/>
                      <a:pt x="301" y="694"/>
                    </a:cubicBezTo>
                    <a:cubicBezTo>
                      <a:pt x="290" y="703"/>
                      <a:pt x="274" y="703"/>
                      <a:pt x="261" y="707"/>
                    </a:cubicBezTo>
                    <a:cubicBezTo>
                      <a:pt x="251" y="574"/>
                      <a:pt x="250" y="426"/>
                      <a:pt x="196" y="301"/>
                    </a:cubicBezTo>
                    <a:cubicBezTo>
                      <a:pt x="190" y="287"/>
                      <a:pt x="177" y="276"/>
                      <a:pt x="170" y="262"/>
                    </a:cubicBezTo>
                    <a:cubicBezTo>
                      <a:pt x="164" y="250"/>
                      <a:pt x="164" y="235"/>
                      <a:pt x="157" y="223"/>
                    </a:cubicBezTo>
                    <a:cubicBezTo>
                      <a:pt x="87" y="107"/>
                      <a:pt x="177" y="302"/>
                      <a:pt x="104" y="157"/>
                    </a:cubicBezTo>
                    <a:cubicBezTo>
                      <a:pt x="75" y="99"/>
                      <a:pt x="66" y="61"/>
                      <a:pt x="0" y="39"/>
                    </a:cubicBezTo>
                    <a:cubicBezTo>
                      <a:pt x="13" y="35"/>
                      <a:pt x="25" y="26"/>
                      <a:pt x="39" y="26"/>
                    </a:cubicBezTo>
                    <a:cubicBezTo>
                      <a:pt x="104" y="26"/>
                      <a:pt x="91" y="69"/>
                      <a:pt x="9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15"/>
              <p:cNvSpPr/>
              <p:nvPr/>
            </p:nvSpPr>
            <p:spPr>
              <a:xfrm rot="20233200">
                <a:off x="2487240" y="2881080"/>
                <a:ext cx="557280" cy="243720"/>
              </a:xfrm>
              <a:custGeom>
                <a:avLst/>
                <a:gdLst/>
                <a:ahLst/>
                <a:rect l="l" t="t" r="r" b="b"/>
                <a:pathLst>
                  <a:path w="1506" h="500">
                    <a:moveTo>
                      <a:pt x="0" y="248"/>
                    </a:moveTo>
                    <a:cubicBezTo>
                      <a:pt x="68" y="271"/>
                      <a:pt x="45" y="300"/>
                      <a:pt x="105" y="327"/>
                    </a:cubicBezTo>
                    <a:cubicBezTo>
                      <a:pt x="154" y="349"/>
                      <a:pt x="211" y="362"/>
                      <a:pt x="262" y="379"/>
                    </a:cubicBezTo>
                    <a:cubicBezTo>
                      <a:pt x="263" y="379"/>
                      <a:pt x="334" y="416"/>
                      <a:pt x="340" y="418"/>
                    </a:cubicBezTo>
                    <a:cubicBezTo>
                      <a:pt x="353" y="427"/>
                      <a:pt x="365" y="438"/>
                      <a:pt x="380" y="445"/>
                    </a:cubicBezTo>
                    <a:cubicBezTo>
                      <a:pt x="405" y="456"/>
                      <a:pt x="458" y="471"/>
                      <a:pt x="458" y="471"/>
                    </a:cubicBezTo>
                    <a:cubicBezTo>
                      <a:pt x="1044" y="453"/>
                      <a:pt x="740" y="500"/>
                      <a:pt x="969" y="418"/>
                    </a:cubicBezTo>
                    <a:cubicBezTo>
                      <a:pt x="1027" y="360"/>
                      <a:pt x="1105" y="338"/>
                      <a:pt x="1178" y="301"/>
                    </a:cubicBezTo>
                    <a:cubicBezTo>
                      <a:pt x="1187" y="292"/>
                      <a:pt x="1193" y="280"/>
                      <a:pt x="1204" y="274"/>
                    </a:cubicBezTo>
                    <a:cubicBezTo>
                      <a:pt x="1229" y="262"/>
                      <a:pt x="1283" y="248"/>
                      <a:pt x="1283" y="248"/>
                    </a:cubicBezTo>
                    <a:cubicBezTo>
                      <a:pt x="1334" y="172"/>
                      <a:pt x="1279" y="237"/>
                      <a:pt x="1348" y="196"/>
                    </a:cubicBezTo>
                    <a:cubicBezTo>
                      <a:pt x="1406" y="162"/>
                      <a:pt x="1344" y="177"/>
                      <a:pt x="1401" y="130"/>
                    </a:cubicBezTo>
                    <a:cubicBezTo>
                      <a:pt x="1412" y="121"/>
                      <a:pt x="1427" y="121"/>
                      <a:pt x="1440" y="117"/>
                    </a:cubicBezTo>
                    <a:cubicBezTo>
                      <a:pt x="1444" y="104"/>
                      <a:pt x="1444" y="89"/>
                      <a:pt x="1453" y="78"/>
                    </a:cubicBezTo>
                    <a:cubicBezTo>
                      <a:pt x="1486" y="37"/>
                      <a:pt x="1506" y="70"/>
                      <a:pt x="1506" y="0"/>
                    </a:cubicBezTo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16"/>
              <p:cNvSpPr/>
              <p:nvPr/>
            </p:nvSpPr>
            <p:spPr>
              <a:xfrm rot="20233200">
                <a:off x="2941560" y="2719800"/>
                <a:ext cx="129240" cy="102960"/>
              </a:xfrm>
              <a:custGeom>
                <a:avLst/>
                <a:gdLst/>
                <a:ahLst/>
                <a:rect l="l" t="t" r="r" b="b"/>
                <a:pathLst>
                  <a:path w="349" h="212">
                    <a:moveTo>
                      <a:pt x="87" y="25"/>
                    </a:moveTo>
                    <a:cubicBezTo>
                      <a:pt x="214" y="67"/>
                      <a:pt x="0" y="0"/>
                      <a:pt x="335" y="51"/>
                    </a:cubicBezTo>
                    <a:cubicBezTo>
                      <a:pt x="349" y="53"/>
                      <a:pt x="308" y="58"/>
                      <a:pt x="296" y="64"/>
                    </a:cubicBezTo>
                    <a:cubicBezTo>
                      <a:pt x="282" y="71"/>
                      <a:pt x="271" y="84"/>
                      <a:pt x="257" y="90"/>
                    </a:cubicBezTo>
                    <a:cubicBezTo>
                      <a:pt x="208" y="111"/>
                      <a:pt x="151" y="113"/>
                      <a:pt x="100" y="130"/>
                    </a:cubicBezTo>
                    <a:cubicBezTo>
                      <a:pt x="126" y="139"/>
                      <a:pt x="160" y="146"/>
                      <a:pt x="178" y="169"/>
                    </a:cubicBezTo>
                    <a:cubicBezTo>
                      <a:pt x="187" y="180"/>
                      <a:pt x="202" y="200"/>
                      <a:pt x="191" y="208"/>
                    </a:cubicBezTo>
                    <a:cubicBezTo>
                      <a:pt x="186" y="212"/>
                      <a:pt x="110" y="185"/>
                      <a:pt x="100" y="182"/>
                    </a:cubicBezTo>
                    <a:cubicBezTo>
                      <a:pt x="64" y="147"/>
                      <a:pt x="82" y="165"/>
                      <a:pt x="47" y="130"/>
                    </a:cubicBezTo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Oval 17"/>
              <p:cNvSpPr/>
              <p:nvPr/>
            </p:nvSpPr>
            <p:spPr>
              <a:xfrm rot="20233200">
                <a:off x="2842920" y="2787840"/>
                <a:ext cx="53280" cy="46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Freeform 18"/>
              <p:cNvSpPr/>
              <p:nvPr/>
            </p:nvSpPr>
            <p:spPr>
              <a:xfrm rot="20233200">
                <a:off x="2865960" y="2987640"/>
                <a:ext cx="242280" cy="218880"/>
              </a:xfrm>
              <a:custGeom>
                <a:avLst/>
                <a:gdLst/>
                <a:ahLst/>
                <a:rect l="l" t="t" r="r" b="b"/>
                <a:pathLst>
                  <a:path w="655" h="450">
                    <a:moveTo>
                      <a:pt x="197" y="2"/>
                    </a:moveTo>
                    <a:cubicBezTo>
                      <a:pt x="245" y="6"/>
                      <a:pt x="295" y="0"/>
                      <a:pt x="341" y="15"/>
                    </a:cubicBezTo>
                    <a:cubicBezTo>
                      <a:pt x="354" y="19"/>
                      <a:pt x="344" y="45"/>
                      <a:pt x="354" y="55"/>
                    </a:cubicBezTo>
                    <a:cubicBezTo>
                      <a:pt x="364" y="65"/>
                      <a:pt x="380" y="64"/>
                      <a:pt x="393" y="68"/>
                    </a:cubicBezTo>
                    <a:cubicBezTo>
                      <a:pt x="418" y="144"/>
                      <a:pt x="386" y="74"/>
                      <a:pt x="445" y="133"/>
                    </a:cubicBezTo>
                    <a:cubicBezTo>
                      <a:pt x="456" y="144"/>
                      <a:pt x="459" y="162"/>
                      <a:pt x="471" y="172"/>
                    </a:cubicBezTo>
                    <a:cubicBezTo>
                      <a:pt x="495" y="193"/>
                      <a:pt x="550" y="225"/>
                      <a:pt x="550" y="225"/>
                    </a:cubicBezTo>
                    <a:cubicBezTo>
                      <a:pt x="579" y="268"/>
                      <a:pt x="612" y="280"/>
                      <a:pt x="629" y="329"/>
                    </a:cubicBezTo>
                    <a:cubicBezTo>
                      <a:pt x="638" y="355"/>
                      <a:pt x="655" y="408"/>
                      <a:pt x="655" y="408"/>
                    </a:cubicBezTo>
                    <a:cubicBezTo>
                      <a:pt x="646" y="421"/>
                      <a:pt x="645" y="445"/>
                      <a:pt x="629" y="447"/>
                    </a:cubicBezTo>
                    <a:cubicBezTo>
                      <a:pt x="601" y="450"/>
                      <a:pt x="550" y="421"/>
                      <a:pt x="550" y="421"/>
                    </a:cubicBezTo>
                    <a:cubicBezTo>
                      <a:pt x="537" y="408"/>
                      <a:pt x="526" y="392"/>
                      <a:pt x="511" y="382"/>
                    </a:cubicBezTo>
                    <a:cubicBezTo>
                      <a:pt x="499" y="374"/>
                      <a:pt x="482" y="378"/>
                      <a:pt x="471" y="369"/>
                    </a:cubicBezTo>
                    <a:cubicBezTo>
                      <a:pt x="459" y="359"/>
                      <a:pt x="455" y="341"/>
                      <a:pt x="445" y="329"/>
                    </a:cubicBezTo>
                    <a:cubicBezTo>
                      <a:pt x="408" y="284"/>
                      <a:pt x="415" y="293"/>
                      <a:pt x="367" y="277"/>
                    </a:cubicBezTo>
                    <a:cubicBezTo>
                      <a:pt x="363" y="264"/>
                      <a:pt x="364" y="248"/>
                      <a:pt x="354" y="238"/>
                    </a:cubicBezTo>
                    <a:cubicBezTo>
                      <a:pt x="344" y="228"/>
                      <a:pt x="327" y="231"/>
                      <a:pt x="314" y="225"/>
                    </a:cubicBezTo>
                    <a:cubicBezTo>
                      <a:pt x="300" y="218"/>
                      <a:pt x="289" y="205"/>
                      <a:pt x="275" y="199"/>
                    </a:cubicBezTo>
                    <a:cubicBezTo>
                      <a:pt x="250" y="188"/>
                      <a:pt x="223" y="181"/>
                      <a:pt x="197" y="172"/>
                    </a:cubicBezTo>
                    <a:cubicBezTo>
                      <a:pt x="184" y="167"/>
                      <a:pt x="157" y="159"/>
                      <a:pt x="157" y="159"/>
                    </a:cubicBezTo>
                    <a:cubicBezTo>
                      <a:pt x="107" y="125"/>
                      <a:pt x="60" y="107"/>
                      <a:pt x="0" y="107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Group 19"/>
            <p:cNvGrpSpPr/>
            <p:nvPr/>
          </p:nvGrpSpPr>
          <p:grpSpPr>
            <a:xfrm>
              <a:off x="6336000" y="30960"/>
              <a:ext cx="1148040" cy="781200"/>
              <a:chOff x="6336000" y="30960"/>
              <a:chExt cx="1148040" cy="781200"/>
            </a:xfrm>
          </p:grpSpPr>
          <p:sp>
            <p:nvSpPr>
              <p:cNvPr id="550" name="Freeform 20"/>
              <p:cNvSpPr/>
              <p:nvPr/>
            </p:nvSpPr>
            <p:spPr>
              <a:xfrm rot="20228400">
                <a:off x="6384240" y="199800"/>
                <a:ext cx="959040" cy="443520"/>
              </a:xfrm>
              <a:custGeom>
                <a:avLst/>
                <a:gdLst/>
                <a:ahLst/>
                <a:rect l="l" t="t" r="r" b="b"/>
                <a:pathLst>
                  <a:path w="2040" h="785">
                    <a:moveTo>
                      <a:pt x="869" y="379"/>
                    </a:moveTo>
                    <a:cubicBezTo>
                      <a:pt x="926" y="294"/>
                      <a:pt x="983" y="258"/>
                      <a:pt x="1065" y="209"/>
                    </a:cubicBezTo>
                    <a:cubicBezTo>
                      <a:pt x="1122" y="175"/>
                      <a:pt x="1161" y="138"/>
                      <a:pt x="1222" y="118"/>
                    </a:cubicBezTo>
                    <a:cubicBezTo>
                      <a:pt x="1256" y="83"/>
                      <a:pt x="1296" y="74"/>
                      <a:pt x="1340" y="52"/>
                    </a:cubicBezTo>
                    <a:cubicBezTo>
                      <a:pt x="1344" y="39"/>
                      <a:pt x="1342" y="22"/>
                      <a:pt x="1353" y="13"/>
                    </a:cubicBezTo>
                    <a:cubicBezTo>
                      <a:pt x="1367" y="2"/>
                      <a:pt x="1387" y="0"/>
                      <a:pt x="1405" y="0"/>
                    </a:cubicBezTo>
                    <a:cubicBezTo>
                      <a:pt x="1505" y="0"/>
                      <a:pt x="1606" y="9"/>
                      <a:pt x="1706" y="13"/>
                    </a:cubicBezTo>
                    <a:cubicBezTo>
                      <a:pt x="1830" y="44"/>
                      <a:pt x="1793" y="26"/>
                      <a:pt x="1877" y="91"/>
                    </a:cubicBezTo>
                    <a:cubicBezTo>
                      <a:pt x="1907" y="114"/>
                      <a:pt x="1968" y="157"/>
                      <a:pt x="1968" y="157"/>
                    </a:cubicBezTo>
                    <a:cubicBezTo>
                      <a:pt x="1983" y="201"/>
                      <a:pt x="2002" y="229"/>
                      <a:pt x="2034" y="262"/>
                    </a:cubicBezTo>
                    <a:cubicBezTo>
                      <a:pt x="2030" y="284"/>
                      <a:pt x="2040" y="316"/>
                      <a:pt x="2021" y="327"/>
                    </a:cubicBezTo>
                    <a:cubicBezTo>
                      <a:pt x="1998" y="340"/>
                      <a:pt x="1968" y="319"/>
                      <a:pt x="1942" y="314"/>
                    </a:cubicBezTo>
                    <a:cubicBezTo>
                      <a:pt x="1876" y="301"/>
                      <a:pt x="1812" y="286"/>
                      <a:pt x="1746" y="275"/>
                    </a:cubicBezTo>
                    <a:cubicBezTo>
                      <a:pt x="1701" y="253"/>
                      <a:pt x="1663" y="225"/>
                      <a:pt x="1615" y="209"/>
                    </a:cubicBezTo>
                    <a:cubicBezTo>
                      <a:pt x="1602" y="213"/>
                      <a:pt x="1586" y="212"/>
                      <a:pt x="1576" y="222"/>
                    </a:cubicBezTo>
                    <a:cubicBezTo>
                      <a:pt x="1568" y="230"/>
                      <a:pt x="1551" y="310"/>
                      <a:pt x="1549" y="314"/>
                    </a:cubicBezTo>
                    <a:cubicBezTo>
                      <a:pt x="1543" y="328"/>
                      <a:pt x="1532" y="340"/>
                      <a:pt x="1523" y="353"/>
                    </a:cubicBezTo>
                    <a:cubicBezTo>
                      <a:pt x="1478" y="492"/>
                      <a:pt x="1548" y="287"/>
                      <a:pt x="1484" y="432"/>
                    </a:cubicBezTo>
                    <a:cubicBezTo>
                      <a:pt x="1466" y="472"/>
                      <a:pt x="1450" y="548"/>
                      <a:pt x="1405" y="576"/>
                    </a:cubicBezTo>
                    <a:cubicBezTo>
                      <a:pt x="1370" y="598"/>
                      <a:pt x="1301" y="606"/>
                      <a:pt x="1261" y="615"/>
                    </a:cubicBezTo>
                    <a:cubicBezTo>
                      <a:pt x="1163" y="637"/>
                      <a:pt x="1075" y="646"/>
                      <a:pt x="973" y="654"/>
                    </a:cubicBezTo>
                    <a:cubicBezTo>
                      <a:pt x="829" y="650"/>
                      <a:pt x="685" y="652"/>
                      <a:pt x="541" y="641"/>
                    </a:cubicBezTo>
                    <a:cubicBezTo>
                      <a:pt x="514" y="639"/>
                      <a:pt x="463" y="615"/>
                      <a:pt x="463" y="615"/>
                    </a:cubicBezTo>
                    <a:cubicBezTo>
                      <a:pt x="441" y="637"/>
                      <a:pt x="419" y="659"/>
                      <a:pt x="397" y="681"/>
                    </a:cubicBezTo>
                    <a:cubicBezTo>
                      <a:pt x="378" y="700"/>
                      <a:pt x="345" y="698"/>
                      <a:pt x="319" y="707"/>
                    </a:cubicBezTo>
                    <a:cubicBezTo>
                      <a:pt x="224" y="739"/>
                      <a:pt x="128" y="761"/>
                      <a:pt x="31" y="785"/>
                    </a:cubicBezTo>
                    <a:cubicBezTo>
                      <a:pt x="10" y="619"/>
                      <a:pt x="0" y="455"/>
                      <a:pt x="18" y="288"/>
                    </a:cubicBezTo>
                    <a:cubicBezTo>
                      <a:pt x="53" y="323"/>
                      <a:pt x="102" y="343"/>
                      <a:pt x="136" y="379"/>
                    </a:cubicBezTo>
                    <a:cubicBezTo>
                      <a:pt x="145" y="388"/>
                      <a:pt x="151" y="400"/>
                      <a:pt x="162" y="406"/>
                    </a:cubicBezTo>
                    <a:cubicBezTo>
                      <a:pt x="178" y="414"/>
                      <a:pt x="197" y="415"/>
                      <a:pt x="214" y="419"/>
                    </a:cubicBezTo>
                    <a:cubicBezTo>
                      <a:pt x="306" y="480"/>
                      <a:pt x="267" y="454"/>
                      <a:pt x="332" y="497"/>
                    </a:cubicBezTo>
                    <a:cubicBezTo>
                      <a:pt x="345" y="506"/>
                      <a:pt x="371" y="523"/>
                      <a:pt x="371" y="523"/>
                    </a:cubicBezTo>
                    <a:cubicBezTo>
                      <a:pt x="423" y="519"/>
                      <a:pt x="476" y="516"/>
                      <a:pt x="528" y="510"/>
                    </a:cubicBezTo>
                    <a:cubicBezTo>
                      <a:pt x="591" y="502"/>
                      <a:pt x="651" y="472"/>
                      <a:pt x="712" y="458"/>
                    </a:cubicBezTo>
                    <a:cubicBezTo>
                      <a:pt x="847" y="428"/>
                      <a:pt x="742" y="461"/>
                      <a:pt x="829" y="432"/>
                    </a:cubicBezTo>
                    <a:cubicBezTo>
                      <a:pt x="885" y="376"/>
                      <a:pt x="907" y="379"/>
                      <a:pt x="869" y="379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Freeform 21"/>
              <p:cNvSpPr/>
              <p:nvPr/>
            </p:nvSpPr>
            <p:spPr>
              <a:xfrm rot="20228400">
                <a:off x="6592680" y="104400"/>
                <a:ext cx="221400" cy="399600"/>
              </a:xfrm>
              <a:custGeom>
                <a:avLst/>
                <a:gdLst/>
                <a:ahLst/>
                <a:rect l="l" t="t" r="r" b="b"/>
                <a:pathLst>
                  <a:path w="471" h="707">
                    <a:moveTo>
                      <a:pt x="91" y="0"/>
                    </a:moveTo>
                    <a:cubicBezTo>
                      <a:pt x="95" y="17"/>
                      <a:pt x="93" y="38"/>
                      <a:pt x="104" y="52"/>
                    </a:cubicBezTo>
                    <a:cubicBezTo>
                      <a:pt x="113" y="63"/>
                      <a:pt x="131" y="60"/>
                      <a:pt x="144" y="65"/>
                    </a:cubicBezTo>
                    <a:cubicBezTo>
                      <a:pt x="195" y="82"/>
                      <a:pt x="175" y="73"/>
                      <a:pt x="222" y="105"/>
                    </a:cubicBezTo>
                    <a:cubicBezTo>
                      <a:pt x="280" y="192"/>
                      <a:pt x="211" y="107"/>
                      <a:pt x="288" y="157"/>
                    </a:cubicBezTo>
                    <a:cubicBezTo>
                      <a:pt x="303" y="167"/>
                      <a:pt x="313" y="185"/>
                      <a:pt x="327" y="196"/>
                    </a:cubicBezTo>
                    <a:cubicBezTo>
                      <a:pt x="469" y="307"/>
                      <a:pt x="361" y="207"/>
                      <a:pt x="432" y="275"/>
                    </a:cubicBezTo>
                    <a:cubicBezTo>
                      <a:pt x="441" y="301"/>
                      <a:pt x="449" y="327"/>
                      <a:pt x="458" y="353"/>
                    </a:cubicBezTo>
                    <a:cubicBezTo>
                      <a:pt x="462" y="366"/>
                      <a:pt x="471" y="393"/>
                      <a:pt x="471" y="393"/>
                    </a:cubicBezTo>
                    <a:cubicBezTo>
                      <a:pt x="467" y="423"/>
                      <a:pt x="468" y="455"/>
                      <a:pt x="458" y="484"/>
                    </a:cubicBezTo>
                    <a:cubicBezTo>
                      <a:pt x="454" y="496"/>
                      <a:pt x="440" y="501"/>
                      <a:pt x="432" y="511"/>
                    </a:cubicBezTo>
                    <a:cubicBezTo>
                      <a:pt x="396" y="559"/>
                      <a:pt x="364" y="608"/>
                      <a:pt x="327" y="655"/>
                    </a:cubicBezTo>
                    <a:cubicBezTo>
                      <a:pt x="317" y="667"/>
                      <a:pt x="313" y="684"/>
                      <a:pt x="301" y="694"/>
                    </a:cubicBezTo>
                    <a:cubicBezTo>
                      <a:pt x="290" y="703"/>
                      <a:pt x="274" y="703"/>
                      <a:pt x="261" y="707"/>
                    </a:cubicBezTo>
                    <a:cubicBezTo>
                      <a:pt x="251" y="574"/>
                      <a:pt x="250" y="426"/>
                      <a:pt x="196" y="301"/>
                    </a:cubicBezTo>
                    <a:cubicBezTo>
                      <a:pt x="190" y="287"/>
                      <a:pt x="177" y="276"/>
                      <a:pt x="170" y="262"/>
                    </a:cubicBezTo>
                    <a:cubicBezTo>
                      <a:pt x="164" y="250"/>
                      <a:pt x="164" y="235"/>
                      <a:pt x="157" y="223"/>
                    </a:cubicBezTo>
                    <a:cubicBezTo>
                      <a:pt x="87" y="107"/>
                      <a:pt x="177" y="302"/>
                      <a:pt x="104" y="157"/>
                    </a:cubicBezTo>
                    <a:cubicBezTo>
                      <a:pt x="75" y="99"/>
                      <a:pt x="66" y="61"/>
                      <a:pt x="0" y="39"/>
                    </a:cubicBezTo>
                    <a:cubicBezTo>
                      <a:pt x="13" y="35"/>
                      <a:pt x="25" y="26"/>
                      <a:pt x="39" y="26"/>
                    </a:cubicBezTo>
                    <a:cubicBezTo>
                      <a:pt x="104" y="26"/>
                      <a:pt x="91" y="69"/>
                      <a:pt x="9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Freeform 22"/>
              <p:cNvSpPr/>
              <p:nvPr/>
            </p:nvSpPr>
            <p:spPr>
              <a:xfrm rot="20228400">
                <a:off x="6666120" y="367920"/>
                <a:ext cx="707760" cy="282960"/>
              </a:xfrm>
              <a:custGeom>
                <a:avLst/>
                <a:gdLst/>
                <a:ahLst/>
                <a:rect l="l" t="t" r="r" b="b"/>
                <a:pathLst>
                  <a:path w="1506" h="500">
                    <a:moveTo>
                      <a:pt x="0" y="248"/>
                    </a:moveTo>
                    <a:cubicBezTo>
                      <a:pt x="68" y="271"/>
                      <a:pt x="45" y="300"/>
                      <a:pt x="105" y="327"/>
                    </a:cubicBezTo>
                    <a:cubicBezTo>
                      <a:pt x="154" y="349"/>
                      <a:pt x="211" y="362"/>
                      <a:pt x="262" y="379"/>
                    </a:cubicBezTo>
                    <a:cubicBezTo>
                      <a:pt x="263" y="379"/>
                      <a:pt x="334" y="416"/>
                      <a:pt x="340" y="418"/>
                    </a:cubicBezTo>
                    <a:cubicBezTo>
                      <a:pt x="353" y="427"/>
                      <a:pt x="365" y="438"/>
                      <a:pt x="380" y="445"/>
                    </a:cubicBezTo>
                    <a:cubicBezTo>
                      <a:pt x="405" y="456"/>
                      <a:pt x="458" y="471"/>
                      <a:pt x="458" y="471"/>
                    </a:cubicBezTo>
                    <a:cubicBezTo>
                      <a:pt x="1044" y="453"/>
                      <a:pt x="740" y="500"/>
                      <a:pt x="969" y="418"/>
                    </a:cubicBezTo>
                    <a:cubicBezTo>
                      <a:pt x="1027" y="360"/>
                      <a:pt x="1105" y="338"/>
                      <a:pt x="1178" y="301"/>
                    </a:cubicBezTo>
                    <a:cubicBezTo>
                      <a:pt x="1187" y="292"/>
                      <a:pt x="1193" y="280"/>
                      <a:pt x="1204" y="274"/>
                    </a:cubicBezTo>
                    <a:cubicBezTo>
                      <a:pt x="1229" y="262"/>
                      <a:pt x="1283" y="248"/>
                      <a:pt x="1283" y="248"/>
                    </a:cubicBezTo>
                    <a:cubicBezTo>
                      <a:pt x="1334" y="172"/>
                      <a:pt x="1279" y="237"/>
                      <a:pt x="1348" y="196"/>
                    </a:cubicBezTo>
                    <a:cubicBezTo>
                      <a:pt x="1406" y="162"/>
                      <a:pt x="1344" y="177"/>
                      <a:pt x="1401" y="130"/>
                    </a:cubicBezTo>
                    <a:cubicBezTo>
                      <a:pt x="1412" y="121"/>
                      <a:pt x="1427" y="121"/>
                      <a:pt x="1440" y="117"/>
                    </a:cubicBezTo>
                    <a:cubicBezTo>
                      <a:pt x="1444" y="104"/>
                      <a:pt x="1444" y="89"/>
                      <a:pt x="1453" y="78"/>
                    </a:cubicBezTo>
                    <a:cubicBezTo>
                      <a:pt x="1486" y="37"/>
                      <a:pt x="1506" y="70"/>
                      <a:pt x="1506" y="0"/>
                    </a:cubicBezTo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Freeform 23"/>
              <p:cNvSpPr/>
              <p:nvPr/>
            </p:nvSpPr>
            <p:spPr>
              <a:xfrm rot="20228400">
                <a:off x="7247520" y="166680"/>
                <a:ext cx="164160" cy="119520"/>
              </a:xfrm>
              <a:custGeom>
                <a:avLst/>
                <a:gdLst/>
                <a:ahLst/>
                <a:rect l="l" t="t" r="r" b="b"/>
                <a:pathLst>
                  <a:path w="349" h="212">
                    <a:moveTo>
                      <a:pt x="87" y="25"/>
                    </a:moveTo>
                    <a:cubicBezTo>
                      <a:pt x="214" y="67"/>
                      <a:pt x="0" y="0"/>
                      <a:pt x="335" y="51"/>
                    </a:cubicBezTo>
                    <a:cubicBezTo>
                      <a:pt x="349" y="53"/>
                      <a:pt x="308" y="58"/>
                      <a:pt x="296" y="64"/>
                    </a:cubicBezTo>
                    <a:cubicBezTo>
                      <a:pt x="282" y="71"/>
                      <a:pt x="271" y="84"/>
                      <a:pt x="257" y="90"/>
                    </a:cubicBezTo>
                    <a:cubicBezTo>
                      <a:pt x="208" y="111"/>
                      <a:pt x="151" y="113"/>
                      <a:pt x="100" y="130"/>
                    </a:cubicBezTo>
                    <a:cubicBezTo>
                      <a:pt x="126" y="139"/>
                      <a:pt x="160" y="146"/>
                      <a:pt x="178" y="169"/>
                    </a:cubicBezTo>
                    <a:cubicBezTo>
                      <a:pt x="187" y="180"/>
                      <a:pt x="202" y="200"/>
                      <a:pt x="191" y="208"/>
                    </a:cubicBezTo>
                    <a:cubicBezTo>
                      <a:pt x="186" y="212"/>
                      <a:pt x="110" y="185"/>
                      <a:pt x="100" y="182"/>
                    </a:cubicBezTo>
                    <a:cubicBezTo>
                      <a:pt x="64" y="147"/>
                      <a:pt x="82" y="165"/>
                      <a:pt x="47" y="130"/>
                    </a:cubicBezTo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Oval 24"/>
              <p:cNvSpPr/>
              <p:nvPr/>
            </p:nvSpPr>
            <p:spPr>
              <a:xfrm rot="20228400">
                <a:off x="7122960" y="252000"/>
                <a:ext cx="6768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Freeform 25"/>
              <p:cNvSpPr/>
              <p:nvPr/>
            </p:nvSpPr>
            <p:spPr>
              <a:xfrm rot="20228400">
                <a:off x="7139160" y="483480"/>
                <a:ext cx="307440" cy="253800"/>
              </a:xfrm>
              <a:custGeom>
                <a:avLst/>
                <a:gdLst/>
                <a:ahLst/>
                <a:rect l="l" t="t" r="r" b="b"/>
                <a:pathLst>
                  <a:path w="655" h="450">
                    <a:moveTo>
                      <a:pt x="197" y="2"/>
                    </a:moveTo>
                    <a:cubicBezTo>
                      <a:pt x="245" y="6"/>
                      <a:pt x="295" y="0"/>
                      <a:pt x="341" y="15"/>
                    </a:cubicBezTo>
                    <a:cubicBezTo>
                      <a:pt x="354" y="19"/>
                      <a:pt x="344" y="45"/>
                      <a:pt x="354" y="55"/>
                    </a:cubicBezTo>
                    <a:cubicBezTo>
                      <a:pt x="364" y="65"/>
                      <a:pt x="380" y="64"/>
                      <a:pt x="393" y="68"/>
                    </a:cubicBezTo>
                    <a:cubicBezTo>
                      <a:pt x="418" y="144"/>
                      <a:pt x="386" y="74"/>
                      <a:pt x="445" y="133"/>
                    </a:cubicBezTo>
                    <a:cubicBezTo>
                      <a:pt x="456" y="144"/>
                      <a:pt x="459" y="162"/>
                      <a:pt x="471" y="172"/>
                    </a:cubicBezTo>
                    <a:cubicBezTo>
                      <a:pt x="495" y="193"/>
                      <a:pt x="550" y="225"/>
                      <a:pt x="550" y="225"/>
                    </a:cubicBezTo>
                    <a:cubicBezTo>
                      <a:pt x="579" y="268"/>
                      <a:pt x="612" y="280"/>
                      <a:pt x="629" y="329"/>
                    </a:cubicBezTo>
                    <a:cubicBezTo>
                      <a:pt x="638" y="355"/>
                      <a:pt x="655" y="408"/>
                      <a:pt x="655" y="408"/>
                    </a:cubicBezTo>
                    <a:cubicBezTo>
                      <a:pt x="646" y="421"/>
                      <a:pt x="645" y="445"/>
                      <a:pt x="629" y="447"/>
                    </a:cubicBezTo>
                    <a:cubicBezTo>
                      <a:pt x="601" y="450"/>
                      <a:pt x="550" y="421"/>
                      <a:pt x="550" y="421"/>
                    </a:cubicBezTo>
                    <a:cubicBezTo>
                      <a:pt x="537" y="408"/>
                      <a:pt x="526" y="392"/>
                      <a:pt x="511" y="382"/>
                    </a:cubicBezTo>
                    <a:cubicBezTo>
                      <a:pt x="499" y="374"/>
                      <a:pt x="482" y="378"/>
                      <a:pt x="471" y="369"/>
                    </a:cubicBezTo>
                    <a:cubicBezTo>
                      <a:pt x="459" y="359"/>
                      <a:pt x="455" y="341"/>
                      <a:pt x="445" y="329"/>
                    </a:cubicBezTo>
                    <a:cubicBezTo>
                      <a:pt x="408" y="284"/>
                      <a:pt x="415" y="293"/>
                      <a:pt x="367" y="277"/>
                    </a:cubicBezTo>
                    <a:cubicBezTo>
                      <a:pt x="363" y="264"/>
                      <a:pt x="364" y="248"/>
                      <a:pt x="354" y="238"/>
                    </a:cubicBezTo>
                    <a:cubicBezTo>
                      <a:pt x="344" y="228"/>
                      <a:pt x="327" y="231"/>
                      <a:pt x="314" y="225"/>
                    </a:cubicBezTo>
                    <a:cubicBezTo>
                      <a:pt x="300" y="218"/>
                      <a:pt x="289" y="205"/>
                      <a:pt x="275" y="199"/>
                    </a:cubicBezTo>
                    <a:cubicBezTo>
                      <a:pt x="250" y="188"/>
                      <a:pt x="223" y="181"/>
                      <a:pt x="197" y="172"/>
                    </a:cubicBezTo>
                    <a:cubicBezTo>
                      <a:pt x="184" y="167"/>
                      <a:pt x="157" y="159"/>
                      <a:pt x="157" y="159"/>
                    </a:cubicBezTo>
                    <a:cubicBezTo>
                      <a:pt x="107" y="125"/>
                      <a:pt x="60" y="107"/>
                      <a:pt x="0" y="107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Group 26"/>
            <p:cNvGrpSpPr/>
            <p:nvPr/>
          </p:nvGrpSpPr>
          <p:grpSpPr>
            <a:xfrm>
              <a:off x="8144640" y="773640"/>
              <a:ext cx="999360" cy="982800"/>
              <a:chOff x="8144640" y="773640"/>
              <a:chExt cx="999360" cy="982800"/>
            </a:xfrm>
          </p:grpSpPr>
          <p:sp>
            <p:nvSpPr>
              <p:cNvPr id="557" name="Freeform 27"/>
              <p:cNvSpPr/>
              <p:nvPr/>
            </p:nvSpPr>
            <p:spPr>
              <a:xfrm rot="1417800">
                <a:off x="8192160" y="962640"/>
                <a:ext cx="876240" cy="421560"/>
              </a:xfrm>
              <a:custGeom>
                <a:avLst/>
                <a:gdLst/>
                <a:ahLst/>
                <a:rect l="l" t="t" r="r" b="b"/>
                <a:pathLst>
                  <a:path w="2040" h="785">
                    <a:moveTo>
                      <a:pt x="869" y="379"/>
                    </a:moveTo>
                    <a:cubicBezTo>
                      <a:pt x="926" y="294"/>
                      <a:pt x="983" y="258"/>
                      <a:pt x="1065" y="209"/>
                    </a:cubicBezTo>
                    <a:cubicBezTo>
                      <a:pt x="1122" y="175"/>
                      <a:pt x="1161" y="138"/>
                      <a:pt x="1222" y="118"/>
                    </a:cubicBezTo>
                    <a:cubicBezTo>
                      <a:pt x="1256" y="83"/>
                      <a:pt x="1296" y="74"/>
                      <a:pt x="1340" y="52"/>
                    </a:cubicBezTo>
                    <a:cubicBezTo>
                      <a:pt x="1344" y="39"/>
                      <a:pt x="1342" y="22"/>
                      <a:pt x="1353" y="13"/>
                    </a:cubicBezTo>
                    <a:cubicBezTo>
                      <a:pt x="1367" y="2"/>
                      <a:pt x="1387" y="0"/>
                      <a:pt x="1405" y="0"/>
                    </a:cubicBezTo>
                    <a:cubicBezTo>
                      <a:pt x="1505" y="0"/>
                      <a:pt x="1606" y="9"/>
                      <a:pt x="1706" y="13"/>
                    </a:cubicBezTo>
                    <a:cubicBezTo>
                      <a:pt x="1830" y="44"/>
                      <a:pt x="1793" y="26"/>
                      <a:pt x="1877" y="91"/>
                    </a:cubicBezTo>
                    <a:cubicBezTo>
                      <a:pt x="1907" y="114"/>
                      <a:pt x="1968" y="157"/>
                      <a:pt x="1968" y="157"/>
                    </a:cubicBezTo>
                    <a:cubicBezTo>
                      <a:pt x="1983" y="201"/>
                      <a:pt x="2002" y="229"/>
                      <a:pt x="2034" y="262"/>
                    </a:cubicBezTo>
                    <a:cubicBezTo>
                      <a:pt x="2030" y="284"/>
                      <a:pt x="2040" y="316"/>
                      <a:pt x="2021" y="327"/>
                    </a:cubicBezTo>
                    <a:cubicBezTo>
                      <a:pt x="1998" y="340"/>
                      <a:pt x="1968" y="319"/>
                      <a:pt x="1942" y="314"/>
                    </a:cubicBezTo>
                    <a:cubicBezTo>
                      <a:pt x="1876" y="301"/>
                      <a:pt x="1812" y="286"/>
                      <a:pt x="1746" y="275"/>
                    </a:cubicBezTo>
                    <a:cubicBezTo>
                      <a:pt x="1701" y="253"/>
                      <a:pt x="1663" y="225"/>
                      <a:pt x="1615" y="209"/>
                    </a:cubicBezTo>
                    <a:cubicBezTo>
                      <a:pt x="1602" y="213"/>
                      <a:pt x="1586" y="212"/>
                      <a:pt x="1576" y="222"/>
                    </a:cubicBezTo>
                    <a:cubicBezTo>
                      <a:pt x="1568" y="230"/>
                      <a:pt x="1551" y="310"/>
                      <a:pt x="1549" y="314"/>
                    </a:cubicBezTo>
                    <a:cubicBezTo>
                      <a:pt x="1543" y="328"/>
                      <a:pt x="1532" y="340"/>
                      <a:pt x="1523" y="353"/>
                    </a:cubicBezTo>
                    <a:cubicBezTo>
                      <a:pt x="1478" y="492"/>
                      <a:pt x="1548" y="287"/>
                      <a:pt x="1484" y="432"/>
                    </a:cubicBezTo>
                    <a:cubicBezTo>
                      <a:pt x="1466" y="472"/>
                      <a:pt x="1450" y="548"/>
                      <a:pt x="1405" y="576"/>
                    </a:cubicBezTo>
                    <a:cubicBezTo>
                      <a:pt x="1370" y="598"/>
                      <a:pt x="1301" y="606"/>
                      <a:pt x="1261" y="615"/>
                    </a:cubicBezTo>
                    <a:cubicBezTo>
                      <a:pt x="1163" y="637"/>
                      <a:pt x="1075" y="646"/>
                      <a:pt x="973" y="654"/>
                    </a:cubicBezTo>
                    <a:cubicBezTo>
                      <a:pt x="829" y="650"/>
                      <a:pt x="685" y="652"/>
                      <a:pt x="541" y="641"/>
                    </a:cubicBezTo>
                    <a:cubicBezTo>
                      <a:pt x="514" y="639"/>
                      <a:pt x="463" y="615"/>
                      <a:pt x="463" y="615"/>
                    </a:cubicBezTo>
                    <a:cubicBezTo>
                      <a:pt x="441" y="637"/>
                      <a:pt x="419" y="659"/>
                      <a:pt x="397" y="681"/>
                    </a:cubicBezTo>
                    <a:cubicBezTo>
                      <a:pt x="378" y="700"/>
                      <a:pt x="345" y="698"/>
                      <a:pt x="319" y="707"/>
                    </a:cubicBezTo>
                    <a:cubicBezTo>
                      <a:pt x="224" y="739"/>
                      <a:pt x="128" y="761"/>
                      <a:pt x="31" y="785"/>
                    </a:cubicBezTo>
                    <a:cubicBezTo>
                      <a:pt x="10" y="619"/>
                      <a:pt x="0" y="455"/>
                      <a:pt x="18" y="288"/>
                    </a:cubicBezTo>
                    <a:cubicBezTo>
                      <a:pt x="53" y="323"/>
                      <a:pt x="102" y="343"/>
                      <a:pt x="136" y="379"/>
                    </a:cubicBezTo>
                    <a:cubicBezTo>
                      <a:pt x="145" y="388"/>
                      <a:pt x="151" y="400"/>
                      <a:pt x="162" y="406"/>
                    </a:cubicBezTo>
                    <a:cubicBezTo>
                      <a:pt x="178" y="414"/>
                      <a:pt x="197" y="415"/>
                      <a:pt x="214" y="419"/>
                    </a:cubicBezTo>
                    <a:cubicBezTo>
                      <a:pt x="306" y="480"/>
                      <a:pt x="267" y="454"/>
                      <a:pt x="332" y="497"/>
                    </a:cubicBezTo>
                    <a:cubicBezTo>
                      <a:pt x="345" y="506"/>
                      <a:pt x="371" y="523"/>
                      <a:pt x="371" y="523"/>
                    </a:cubicBezTo>
                    <a:cubicBezTo>
                      <a:pt x="423" y="519"/>
                      <a:pt x="476" y="516"/>
                      <a:pt x="528" y="510"/>
                    </a:cubicBezTo>
                    <a:cubicBezTo>
                      <a:pt x="591" y="502"/>
                      <a:pt x="651" y="472"/>
                      <a:pt x="712" y="458"/>
                    </a:cubicBezTo>
                    <a:cubicBezTo>
                      <a:pt x="847" y="428"/>
                      <a:pt x="742" y="461"/>
                      <a:pt x="829" y="432"/>
                    </a:cubicBezTo>
                    <a:cubicBezTo>
                      <a:pt x="885" y="376"/>
                      <a:pt x="907" y="379"/>
                      <a:pt x="869" y="379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Freeform 28"/>
              <p:cNvSpPr/>
              <p:nvPr/>
            </p:nvSpPr>
            <p:spPr>
              <a:xfrm rot="1417800">
                <a:off x="8507880" y="798120"/>
                <a:ext cx="202320" cy="380160"/>
              </a:xfrm>
              <a:custGeom>
                <a:avLst/>
                <a:gdLst/>
                <a:ahLst/>
                <a:rect l="l" t="t" r="r" b="b"/>
                <a:pathLst>
                  <a:path w="471" h="707">
                    <a:moveTo>
                      <a:pt x="91" y="0"/>
                    </a:moveTo>
                    <a:cubicBezTo>
                      <a:pt x="95" y="17"/>
                      <a:pt x="93" y="38"/>
                      <a:pt x="104" y="52"/>
                    </a:cubicBezTo>
                    <a:cubicBezTo>
                      <a:pt x="113" y="63"/>
                      <a:pt x="131" y="60"/>
                      <a:pt x="144" y="65"/>
                    </a:cubicBezTo>
                    <a:cubicBezTo>
                      <a:pt x="195" y="82"/>
                      <a:pt x="175" y="73"/>
                      <a:pt x="222" y="105"/>
                    </a:cubicBezTo>
                    <a:cubicBezTo>
                      <a:pt x="280" y="192"/>
                      <a:pt x="211" y="107"/>
                      <a:pt x="288" y="157"/>
                    </a:cubicBezTo>
                    <a:cubicBezTo>
                      <a:pt x="303" y="167"/>
                      <a:pt x="313" y="185"/>
                      <a:pt x="327" y="196"/>
                    </a:cubicBezTo>
                    <a:cubicBezTo>
                      <a:pt x="469" y="307"/>
                      <a:pt x="361" y="207"/>
                      <a:pt x="432" y="275"/>
                    </a:cubicBezTo>
                    <a:cubicBezTo>
                      <a:pt x="441" y="301"/>
                      <a:pt x="449" y="327"/>
                      <a:pt x="458" y="353"/>
                    </a:cubicBezTo>
                    <a:cubicBezTo>
                      <a:pt x="462" y="366"/>
                      <a:pt x="471" y="393"/>
                      <a:pt x="471" y="393"/>
                    </a:cubicBezTo>
                    <a:cubicBezTo>
                      <a:pt x="467" y="423"/>
                      <a:pt x="468" y="455"/>
                      <a:pt x="458" y="484"/>
                    </a:cubicBezTo>
                    <a:cubicBezTo>
                      <a:pt x="454" y="496"/>
                      <a:pt x="440" y="501"/>
                      <a:pt x="432" y="511"/>
                    </a:cubicBezTo>
                    <a:cubicBezTo>
                      <a:pt x="396" y="559"/>
                      <a:pt x="364" y="608"/>
                      <a:pt x="327" y="655"/>
                    </a:cubicBezTo>
                    <a:cubicBezTo>
                      <a:pt x="317" y="667"/>
                      <a:pt x="313" y="684"/>
                      <a:pt x="301" y="694"/>
                    </a:cubicBezTo>
                    <a:cubicBezTo>
                      <a:pt x="290" y="703"/>
                      <a:pt x="274" y="703"/>
                      <a:pt x="261" y="707"/>
                    </a:cubicBezTo>
                    <a:cubicBezTo>
                      <a:pt x="251" y="574"/>
                      <a:pt x="250" y="426"/>
                      <a:pt x="196" y="301"/>
                    </a:cubicBezTo>
                    <a:cubicBezTo>
                      <a:pt x="190" y="287"/>
                      <a:pt x="177" y="276"/>
                      <a:pt x="170" y="262"/>
                    </a:cubicBezTo>
                    <a:cubicBezTo>
                      <a:pt x="164" y="250"/>
                      <a:pt x="164" y="235"/>
                      <a:pt x="157" y="223"/>
                    </a:cubicBezTo>
                    <a:cubicBezTo>
                      <a:pt x="87" y="107"/>
                      <a:pt x="177" y="302"/>
                      <a:pt x="104" y="157"/>
                    </a:cubicBezTo>
                    <a:cubicBezTo>
                      <a:pt x="75" y="99"/>
                      <a:pt x="66" y="61"/>
                      <a:pt x="0" y="39"/>
                    </a:cubicBezTo>
                    <a:cubicBezTo>
                      <a:pt x="13" y="35"/>
                      <a:pt x="25" y="26"/>
                      <a:pt x="39" y="26"/>
                    </a:cubicBezTo>
                    <a:cubicBezTo>
                      <a:pt x="104" y="26"/>
                      <a:pt x="91" y="69"/>
                      <a:pt x="9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Freeform 29"/>
              <p:cNvSpPr/>
              <p:nvPr/>
            </p:nvSpPr>
            <p:spPr>
              <a:xfrm rot="1417800">
                <a:off x="8344440" y="1202760"/>
                <a:ext cx="646920" cy="268920"/>
              </a:xfrm>
              <a:custGeom>
                <a:avLst/>
                <a:gdLst/>
                <a:ahLst/>
                <a:rect l="l" t="t" r="r" b="b"/>
                <a:pathLst>
                  <a:path w="1506" h="500">
                    <a:moveTo>
                      <a:pt x="0" y="248"/>
                    </a:moveTo>
                    <a:cubicBezTo>
                      <a:pt x="68" y="271"/>
                      <a:pt x="45" y="300"/>
                      <a:pt x="105" y="327"/>
                    </a:cubicBezTo>
                    <a:cubicBezTo>
                      <a:pt x="154" y="349"/>
                      <a:pt x="211" y="362"/>
                      <a:pt x="262" y="379"/>
                    </a:cubicBezTo>
                    <a:cubicBezTo>
                      <a:pt x="263" y="379"/>
                      <a:pt x="334" y="416"/>
                      <a:pt x="340" y="418"/>
                    </a:cubicBezTo>
                    <a:cubicBezTo>
                      <a:pt x="353" y="427"/>
                      <a:pt x="365" y="438"/>
                      <a:pt x="380" y="445"/>
                    </a:cubicBezTo>
                    <a:cubicBezTo>
                      <a:pt x="405" y="456"/>
                      <a:pt x="458" y="471"/>
                      <a:pt x="458" y="471"/>
                    </a:cubicBezTo>
                    <a:cubicBezTo>
                      <a:pt x="1044" y="453"/>
                      <a:pt x="740" y="500"/>
                      <a:pt x="969" y="418"/>
                    </a:cubicBezTo>
                    <a:cubicBezTo>
                      <a:pt x="1027" y="360"/>
                      <a:pt x="1105" y="338"/>
                      <a:pt x="1178" y="301"/>
                    </a:cubicBezTo>
                    <a:cubicBezTo>
                      <a:pt x="1187" y="292"/>
                      <a:pt x="1193" y="280"/>
                      <a:pt x="1204" y="274"/>
                    </a:cubicBezTo>
                    <a:cubicBezTo>
                      <a:pt x="1229" y="262"/>
                      <a:pt x="1283" y="248"/>
                      <a:pt x="1283" y="248"/>
                    </a:cubicBezTo>
                    <a:cubicBezTo>
                      <a:pt x="1334" y="172"/>
                      <a:pt x="1279" y="237"/>
                      <a:pt x="1348" y="196"/>
                    </a:cubicBezTo>
                    <a:cubicBezTo>
                      <a:pt x="1406" y="162"/>
                      <a:pt x="1344" y="177"/>
                      <a:pt x="1401" y="130"/>
                    </a:cubicBezTo>
                    <a:cubicBezTo>
                      <a:pt x="1412" y="121"/>
                      <a:pt x="1427" y="121"/>
                      <a:pt x="1440" y="117"/>
                    </a:cubicBezTo>
                    <a:cubicBezTo>
                      <a:pt x="1444" y="104"/>
                      <a:pt x="1444" y="89"/>
                      <a:pt x="1453" y="78"/>
                    </a:cubicBezTo>
                    <a:cubicBezTo>
                      <a:pt x="1486" y="37"/>
                      <a:pt x="1506" y="70"/>
                      <a:pt x="1506" y="0"/>
                    </a:cubicBezTo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Freeform 30"/>
              <p:cNvSpPr/>
              <p:nvPr/>
            </p:nvSpPr>
            <p:spPr>
              <a:xfrm rot="1417800">
                <a:off x="8977320" y="1303200"/>
                <a:ext cx="150120" cy="113400"/>
              </a:xfrm>
              <a:custGeom>
                <a:avLst/>
                <a:gdLst/>
                <a:ahLst/>
                <a:rect l="l" t="t" r="r" b="b"/>
                <a:pathLst>
                  <a:path w="349" h="212">
                    <a:moveTo>
                      <a:pt x="87" y="25"/>
                    </a:moveTo>
                    <a:cubicBezTo>
                      <a:pt x="214" y="67"/>
                      <a:pt x="0" y="0"/>
                      <a:pt x="335" y="51"/>
                    </a:cubicBezTo>
                    <a:cubicBezTo>
                      <a:pt x="349" y="53"/>
                      <a:pt x="308" y="58"/>
                      <a:pt x="296" y="64"/>
                    </a:cubicBezTo>
                    <a:cubicBezTo>
                      <a:pt x="282" y="71"/>
                      <a:pt x="271" y="84"/>
                      <a:pt x="257" y="90"/>
                    </a:cubicBezTo>
                    <a:cubicBezTo>
                      <a:pt x="208" y="111"/>
                      <a:pt x="151" y="113"/>
                      <a:pt x="100" y="130"/>
                    </a:cubicBezTo>
                    <a:cubicBezTo>
                      <a:pt x="126" y="139"/>
                      <a:pt x="160" y="146"/>
                      <a:pt x="178" y="169"/>
                    </a:cubicBezTo>
                    <a:cubicBezTo>
                      <a:pt x="187" y="180"/>
                      <a:pt x="202" y="200"/>
                      <a:pt x="191" y="208"/>
                    </a:cubicBezTo>
                    <a:cubicBezTo>
                      <a:pt x="186" y="212"/>
                      <a:pt x="110" y="185"/>
                      <a:pt x="100" y="182"/>
                    </a:cubicBezTo>
                    <a:cubicBezTo>
                      <a:pt x="64" y="147"/>
                      <a:pt x="82" y="165"/>
                      <a:pt x="47" y="130"/>
                    </a:cubicBezTo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Oval 31"/>
              <p:cNvSpPr/>
              <p:nvPr/>
            </p:nvSpPr>
            <p:spPr>
              <a:xfrm rot="1417800">
                <a:off x="8877960" y="1252080"/>
                <a:ext cx="61920" cy="51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Freeform 32"/>
              <p:cNvSpPr/>
              <p:nvPr/>
            </p:nvSpPr>
            <p:spPr>
              <a:xfrm rot="1417800">
                <a:off x="8628840" y="1468440"/>
                <a:ext cx="281160" cy="241560"/>
              </a:xfrm>
              <a:custGeom>
                <a:avLst/>
                <a:gdLst/>
                <a:ahLst/>
                <a:rect l="l" t="t" r="r" b="b"/>
                <a:pathLst>
                  <a:path w="655" h="450">
                    <a:moveTo>
                      <a:pt x="197" y="2"/>
                    </a:moveTo>
                    <a:cubicBezTo>
                      <a:pt x="245" y="6"/>
                      <a:pt x="295" y="0"/>
                      <a:pt x="341" y="15"/>
                    </a:cubicBezTo>
                    <a:cubicBezTo>
                      <a:pt x="354" y="19"/>
                      <a:pt x="344" y="45"/>
                      <a:pt x="354" y="55"/>
                    </a:cubicBezTo>
                    <a:cubicBezTo>
                      <a:pt x="364" y="65"/>
                      <a:pt x="380" y="64"/>
                      <a:pt x="393" y="68"/>
                    </a:cubicBezTo>
                    <a:cubicBezTo>
                      <a:pt x="418" y="144"/>
                      <a:pt x="386" y="74"/>
                      <a:pt x="445" y="133"/>
                    </a:cubicBezTo>
                    <a:cubicBezTo>
                      <a:pt x="456" y="144"/>
                      <a:pt x="459" y="162"/>
                      <a:pt x="471" y="172"/>
                    </a:cubicBezTo>
                    <a:cubicBezTo>
                      <a:pt x="495" y="193"/>
                      <a:pt x="550" y="225"/>
                      <a:pt x="550" y="225"/>
                    </a:cubicBezTo>
                    <a:cubicBezTo>
                      <a:pt x="579" y="268"/>
                      <a:pt x="612" y="280"/>
                      <a:pt x="629" y="329"/>
                    </a:cubicBezTo>
                    <a:cubicBezTo>
                      <a:pt x="638" y="355"/>
                      <a:pt x="655" y="408"/>
                      <a:pt x="655" y="408"/>
                    </a:cubicBezTo>
                    <a:cubicBezTo>
                      <a:pt x="646" y="421"/>
                      <a:pt x="645" y="445"/>
                      <a:pt x="629" y="447"/>
                    </a:cubicBezTo>
                    <a:cubicBezTo>
                      <a:pt x="601" y="450"/>
                      <a:pt x="550" y="421"/>
                      <a:pt x="550" y="421"/>
                    </a:cubicBezTo>
                    <a:cubicBezTo>
                      <a:pt x="537" y="408"/>
                      <a:pt x="526" y="392"/>
                      <a:pt x="511" y="382"/>
                    </a:cubicBezTo>
                    <a:cubicBezTo>
                      <a:pt x="499" y="374"/>
                      <a:pt x="482" y="378"/>
                      <a:pt x="471" y="369"/>
                    </a:cubicBezTo>
                    <a:cubicBezTo>
                      <a:pt x="459" y="359"/>
                      <a:pt x="455" y="341"/>
                      <a:pt x="445" y="329"/>
                    </a:cubicBezTo>
                    <a:cubicBezTo>
                      <a:pt x="408" y="284"/>
                      <a:pt x="415" y="293"/>
                      <a:pt x="367" y="277"/>
                    </a:cubicBezTo>
                    <a:cubicBezTo>
                      <a:pt x="363" y="264"/>
                      <a:pt x="364" y="248"/>
                      <a:pt x="354" y="238"/>
                    </a:cubicBezTo>
                    <a:cubicBezTo>
                      <a:pt x="344" y="228"/>
                      <a:pt x="327" y="231"/>
                      <a:pt x="314" y="225"/>
                    </a:cubicBezTo>
                    <a:cubicBezTo>
                      <a:pt x="300" y="218"/>
                      <a:pt x="289" y="205"/>
                      <a:pt x="275" y="199"/>
                    </a:cubicBezTo>
                    <a:cubicBezTo>
                      <a:pt x="250" y="188"/>
                      <a:pt x="223" y="181"/>
                      <a:pt x="197" y="172"/>
                    </a:cubicBezTo>
                    <a:cubicBezTo>
                      <a:pt x="184" y="167"/>
                      <a:pt x="157" y="159"/>
                      <a:pt x="157" y="159"/>
                    </a:cubicBezTo>
                    <a:cubicBezTo>
                      <a:pt x="107" y="125"/>
                      <a:pt x="60" y="107"/>
                      <a:pt x="0" y="107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63" name="矩形 1" descr=""/>
          <p:cNvPicPr/>
          <p:nvPr/>
        </p:nvPicPr>
        <p:blipFill>
          <a:blip r:embed="rId2"/>
          <a:stretch/>
        </p:blipFill>
        <p:spPr>
          <a:xfrm>
            <a:off x="2090880" y="1085760"/>
            <a:ext cx="4822560" cy="2217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Group 2"/>
          <p:cNvGrpSpPr/>
          <p:nvPr/>
        </p:nvGrpSpPr>
        <p:grpSpPr>
          <a:xfrm>
            <a:off x="263520" y="1228680"/>
            <a:ext cx="8618400" cy="4400640"/>
            <a:chOff x="263520" y="1228680"/>
            <a:chExt cx="8618400" cy="4400640"/>
          </a:xfrm>
        </p:grpSpPr>
        <p:sp>
          <p:nvSpPr>
            <p:cNvPr id="610" name="Rectangle 3"/>
            <p:cNvSpPr/>
            <p:nvPr/>
          </p:nvSpPr>
          <p:spPr>
            <a:xfrm>
              <a:off x="263520" y="1228680"/>
              <a:ext cx="7464600" cy="44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1" name="Group 4"/>
            <p:cNvGrpSpPr/>
            <p:nvPr/>
          </p:nvGrpSpPr>
          <p:grpSpPr>
            <a:xfrm>
              <a:off x="263520" y="1228680"/>
              <a:ext cx="8618400" cy="4400280"/>
              <a:chOff x="263520" y="1228680"/>
              <a:chExt cx="8618400" cy="4400280"/>
            </a:xfrm>
          </p:grpSpPr>
          <p:sp>
            <p:nvSpPr>
              <p:cNvPr id="612" name="Rectangle 5"/>
              <p:cNvSpPr/>
              <p:nvPr/>
            </p:nvSpPr>
            <p:spPr>
              <a:xfrm>
                <a:off x="263520" y="1228680"/>
                <a:ext cx="8618400" cy="44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3" name="Group 6"/>
              <p:cNvGrpSpPr/>
              <p:nvPr/>
            </p:nvGrpSpPr>
            <p:grpSpPr>
              <a:xfrm>
                <a:off x="263520" y="1228680"/>
                <a:ext cx="7201080" cy="1006200"/>
                <a:chOff x="263520" y="1228680"/>
                <a:chExt cx="7201080" cy="1006200"/>
              </a:xfrm>
            </p:grpSpPr>
            <p:sp>
              <p:nvSpPr>
                <p:cNvPr id="614" name="Rectangle 7"/>
                <p:cNvSpPr/>
                <p:nvPr/>
              </p:nvSpPr>
              <p:spPr>
                <a:xfrm>
                  <a:off x="263520" y="1228680"/>
                  <a:ext cx="7201080" cy="100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Rectangle 8"/>
                <p:cNvSpPr/>
                <p:nvPr/>
              </p:nvSpPr>
              <p:spPr>
                <a:xfrm>
                  <a:off x="263520" y="1228680"/>
                  <a:ext cx="593640" cy="79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3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 u="sng">
                      <a:solidFill>
                        <a:srgbClr val="ccccff"/>
                      </a:solidFill>
                      <a:uFillTx/>
                      <a:latin typeface="Times New Roman"/>
                      <a:hlinkClick r:id="rId1"/>
                    </a:rPr>
                    <a:t>  </a:t>
                  </a:r>
                  <a:r>
                    <a:rPr b="0" lang="en-US" sz="37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16" name="Text Box 9"/>
          <p:cNvSpPr/>
          <p:nvPr/>
        </p:nvSpPr>
        <p:spPr>
          <a:xfrm>
            <a:off x="2514600" y="1676520"/>
            <a:ext cx="51055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ff3300"/>
                </a:solidFill>
                <a:latin typeface="Times New Roman"/>
                <a:ea typeface="隶书"/>
              </a:rPr>
              <a:t>再见</a:t>
            </a:r>
            <a:r>
              <a:rPr b="1" lang="zh-CN" sz="12900" spc="-1" strike="noStrike">
                <a:solidFill>
                  <a:srgbClr val="ff3300"/>
                </a:solidFill>
                <a:latin typeface="Times New Roman"/>
                <a:ea typeface="隶书"/>
              </a:rPr>
              <a:t>！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Picture 10" descr="1.gif (16657 字节)"/>
          <p:cNvPicPr/>
          <p:nvPr/>
        </p:nvPicPr>
        <p:blipFill>
          <a:blip r:embed="rId2"/>
          <a:stretch/>
        </p:blipFill>
        <p:spPr>
          <a:xfrm>
            <a:off x="7010280" y="4419720"/>
            <a:ext cx="2438640" cy="207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矩形 3"/>
          <p:cNvSpPr/>
          <p:nvPr/>
        </p:nvSpPr>
        <p:spPr>
          <a:xfrm>
            <a:off x="2340000" y="981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2" descr="p-42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Group 2"/>
          <p:cNvGrpSpPr/>
          <p:nvPr/>
        </p:nvGrpSpPr>
        <p:grpSpPr>
          <a:xfrm>
            <a:off x="0" y="5762520"/>
            <a:ext cx="9144000" cy="1095480"/>
            <a:chOff x="0" y="5762520"/>
            <a:chExt cx="9144000" cy="1095480"/>
          </a:xfrm>
        </p:grpSpPr>
        <p:pic>
          <p:nvPicPr>
            <p:cNvPr id="567" name="Picture 3" descr="3"/>
            <p:cNvPicPr/>
            <p:nvPr/>
          </p:nvPicPr>
          <p:blipFill>
            <a:blip r:embed="rId1"/>
            <a:stretch/>
          </p:blipFill>
          <p:spPr>
            <a:xfrm>
              <a:off x="0" y="5762520"/>
              <a:ext cx="476244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4" descr="3"/>
            <p:cNvPicPr/>
            <p:nvPr/>
          </p:nvPicPr>
          <p:blipFill>
            <a:blip r:embed="rId2"/>
            <a:stretch/>
          </p:blipFill>
          <p:spPr>
            <a:xfrm>
              <a:off x="4381560" y="5762520"/>
              <a:ext cx="4762440" cy="109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9" name="Text Box 5"/>
          <p:cNvSpPr/>
          <p:nvPr/>
        </p:nvSpPr>
        <p:spPr>
          <a:xfrm>
            <a:off x="1828800" y="1523880"/>
            <a:ext cx="5105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胜日寻芳泗水滨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无边光景一时新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等闲识得东风面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万紫千红总是春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2819520" y="304920"/>
            <a:ext cx="29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9900"/>
                </a:solidFill>
                <a:latin typeface="Times New Roman"/>
                <a:ea typeface="隶书"/>
              </a:rPr>
              <a:t>春   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495680" y="11430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南宋   朱熹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8"/>
          <p:cNvSpPr/>
          <p:nvPr/>
        </p:nvSpPr>
        <p:spPr>
          <a:xfrm>
            <a:off x="4495680" y="2362320"/>
            <a:ext cx="1676520" cy="0"/>
          </a:xfrm>
          <a:prstGeom prst="line">
            <a:avLst/>
          </a:prstGeom>
          <a:ln cap="rnd" w="76320">
            <a:solidFill>
              <a:srgbClr val="00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Group 23"/>
          <p:cNvGrpSpPr/>
          <p:nvPr/>
        </p:nvGrpSpPr>
        <p:grpSpPr>
          <a:xfrm>
            <a:off x="2133720" y="2286000"/>
            <a:ext cx="761760" cy="152280"/>
            <a:chOff x="2133720" y="2286000"/>
            <a:chExt cx="761760" cy="152280"/>
          </a:xfrm>
        </p:grpSpPr>
        <p:sp>
          <p:nvSpPr>
            <p:cNvPr id="574" name="AutoShape 21"/>
            <p:cNvSpPr/>
            <p:nvPr/>
          </p:nvSpPr>
          <p:spPr>
            <a:xfrm>
              <a:off x="2133720" y="228600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AutoShape 22"/>
            <p:cNvSpPr/>
            <p:nvPr/>
          </p:nvSpPr>
          <p:spPr>
            <a:xfrm>
              <a:off x="2743200" y="228600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Group 24"/>
          <p:cNvGrpSpPr/>
          <p:nvPr/>
        </p:nvGrpSpPr>
        <p:grpSpPr>
          <a:xfrm>
            <a:off x="3352680" y="2286000"/>
            <a:ext cx="761760" cy="152280"/>
            <a:chOff x="3352680" y="2286000"/>
            <a:chExt cx="761760" cy="152280"/>
          </a:xfrm>
        </p:grpSpPr>
        <p:sp>
          <p:nvSpPr>
            <p:cNvPr id="577" name="AutoShape 25"/>
            <p:cNvSpPr/>
            <p:nvPr/>
          </p:nvSpPr>
          <p:spPr>
            <a:xfrm>
              <a:off x="3352680" y="228600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AutoShape 26"/>
            <p:cNvSpPr/>
            <p:nvPr/>
          </p:nvSpPr>
          <p:spPr>
            <a:xfrm>
              <a:off x="3962160" y="228600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Group 27"/>
          <p:cNvGrpSpPr/>
          <p:nvPr/>
        </p:nvGrpSpPr>
        <p:grpSpPr>
          <a:xfrm>
            <a:off x="4572000" y="3352680"/>
            <a:ext cx="761760" cy="152280"/>
            <a:chOff x="4572000" y="3352680"/>
            <a:chExt cx="761760" cy="152280"/>
          </a:xfrm>
        </p:grpSpPr>
        <p:sp>
          <p:nvSpPr>
            <p:cNvPr id="580" name="AutoShape 28"/>
            <p:cNvSpPr/>
            <p:nvPr/>
          </p:nvSpPr>
          <p:spPr>
            <a:xfrm>
              <a:off x="4572000" y="335268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AutoShape 29"/>
            <p:cNvSpPr/>
            <p:nvPr/>
          </p:nvSpPr>
          <p:spPr>
            <a:xfrm>
              <a:off x="5181480" y="335268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30"/>
          <p:cNvGrpSpPr/>
          <p:nvPr/>
        </p:nvGrpSpPr>
        <p:grpSpPr>
          <a:xfrm>
            <a:off x="2133720" y="4495680"/>
            <a:ext cx="761760" cy="152280"/>
            <a:chOff x="2133720" y="4495680"/>
            <a:chExt cx="761760" cy="152280"/>
          </a:xfrm>
        </p:grpSpPr>
        <p:sp>
          <p:nvSpPr>
            <p:cNvPr id="583" name="AutoShape 31"/>
            <p:cNvSpPr/>
            <p:nvPr/>
          </p:nvSpPr>
          <p:spPr>
            <a:xfrm>
              <a:off x="2133720" y="449568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32"/>
            <p:cNvSpPr/>
            <p:nvPr/>
          </p:nvSpPr>
          <p:spPr>
            <a:xfrm>
              <a:off x="2743200" y="449568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75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75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3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Picture 11" descr="古诗两首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WordArt 23"/>
          <p:cNvSpPr txBox="1"/>
          <p:nvPr/>
        </p:nvSpPr>
        <p:spPr>
          <a:xfrm rot="5400000">
            <a:off x="-1028520" y="2171520"/>
            <a:ext cx="5334120" cy="1905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cc0099"/>
                </a:solidFill>
                <a:latin typeface="华文新魏"/>
              </a:rPr>
              <a:t>诗句欣赏</a:t>
            </a:r>
            <a:endParaRPr b="1" lang="en-US" sz="4400" spc="1" strike="noStrike">
              <a:ln w="9360">
                <a:solidFill>
                  <a:srgbClr val="cc0099"/>
                </a:solidFill>
                <a:miter/>
              </a:ln>
              <a:solidFill>
                <a:srgbClr val="cc0099"/>
              </a:solidFill>
              <a:latin typeface="华文新魏"/>
              <a:ea typeface="华文新魏"/>
            </a:endParaRPr>
          </a:p>
        </p:txBody>
      </p:sp>
    </p:spTree>
  </p:cSld>
  <p:transition>
    <p:split dir="out" orient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13"/>
          <p:cNvSpPr/>
          <p:nvPr/>
        </p:nvSpPr>
        <p:spPr>
          <a:xfrm>
            <a:off x="0" y="310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0"/>
          <p:cNvSpPr/>
          <p:nvPr/>
        </p:nvSpPr>
        <p:spPr>
          <a:xfrm>
            <a:off x="380880" y="380880"/>
            <a:ext cx="4046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吟春风的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1"/>
          <p:cNvSpPr/>
          <p:nvPr/>
        </p:nvSpPr>
        <p:spPr>
          <a:xfrm>
            <a:off x="304920" y="1905120"/>
            <a:ext cx="88390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春风杨柳万千条（宋  陆游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春风又绿江南岸（宋  王安石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不知细叶谁裁出，二月春风似剪刀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                             </a:t>
            </a:r>
            <a:r>
              <a:rPr b="1" lang="zh-CN" sz="44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（唐  贺知章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4"/>
          <p:cNvSpPr/>
          <p:nvPr/>
        </p:nvSpPr>
        <p:spPr>
          <a:xfrm>
            <a:off x="0" y="310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380880" y="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咏春雨的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7"/>
          <p:cNvSpPr/>
          <p:nvPr/>
        </p:nvSpPr>
        <p:spPr>
          <a:xfrm>
            <a:off x="0" y="1143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好雨知时节，当春乃发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随风潜入夜，润物细无声。（唐  杜甫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南朝四百八十寺，多少楼台烟雨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                              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（唐   杜牧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小楼一夜听春雨，深巷明朝卖杏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                              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（唐   陆游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4"/>
          <p:cNvSpPr/>
          <p:nvPr/>
        </p:nvSpPr>
        <p:spPr>
          <a:xfrm>
            <a:off x="0" y="310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6"/>
          <p:cNvSpPr/>
          <p:nvPr/>
        </p:nvSpPr>
        <p:spPr>
          <a:xfrm>
            <a:off x="0" y="0"/>
            <a:ext cx="44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赞春花的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7"/>
          <p:cNvSpPr/>
          <p:nvPr/>
        </p:nvSpPr>
        <p:spPr>
          <a:xfrm>
            <a:off x="1295280" y="228600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609480" y="1219320"/>
            <a:ext cx="815364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绿杨烟外晓寒轻，红杏枝头春意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                                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（宋  宋祁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桃花一簇开无主，可爱深红与浅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                               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（唐  杜甫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迎得春来非自足，百花千卉共芬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                               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（宋  韩琦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3"/>
          <p:cNvGrpSpPr/>
          <p:nvPr/>
        </p:nvGrpSpPr>
        <p:grpSpPr>
          <a:xfrm>
            <a:off x="0" y="6019920"/>
            <a:ext cx="9144000" cy="837720"/>
            <a:chOff x="0" y="6019920"/>
            <a:chExt cx="9144000" cy="837720"/>
          </a:xfrm>
        </p:grpSpPr>
        <p:pic>
          <p:nvPicPr>
            <p:cNvPr id="599" name="Picture 4" descr="2"/>
            <p:cNvPicPr/>
            <p:nvPr/>
          </p:nvPicPr>
          <p:blipFill>
            <a:blip r:embed="rId2"/>
            <a:stretch/>
          </p:blipFill>
          <p:spPr>
            <a:xfrm>
              <a:off x="0" y="6019920"/>
              <a:ext cx="457200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5" descr="2"/>
            <p:cNvPicPr/>
            <p:nvPr/>
          </p:nvPicPr>
          <p:blipFill>
            <a:blip r:embed="rId3"/>
            <a:stretch/>
          </p:blipFill>
          <p:spPr>
            <a:xfrm>
              <a:off x="4427640" y="6019920"/>
              <a:ext cx="4716360" cy="83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Text Box 6"/>
          <p:cNvSpPr/>
          <p:nvPr/>
        </p:nvSpPr>
        <p:spPr>
          <a:xfrm>
            <a:off x="3124080" y="38088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赏   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2286000" y="1523880"/>
            <a:ext cx="44956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春 风 抚 面 颊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桃 柳 赞 春 美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室 内 吟 春 诗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春 意 增 几 许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fl000411003"/>
          <p:cNvPicPr/>
          <p:nvPr/>
        </p:nvPicPr>
        <p:blipFill>
          <a:blip r:embed="rId1"/>
          <a:stretch/>
        </p:blipFill>
        <p:spPr>
          <a:xfrm>
            <a:off x="0" y="0"/>
            <a:ext cx="1905120" cy="1622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3" descr="fl000411003"/>
          <p:cNvPicPr/>
          <p:nvPr/>
        </p:nvPicPr>
        <p:blipFill>
          <a:blip r:embed="rId2"/>
          <a:stretch/>
        </p:blipFill>
        <p:spPr>
          <a:xfrm>
            <a:off x="7238880" y="5235480"/>
            <a:ext cx="1905120" cy="16225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" descr="fl000411003"/>
          <p:cNvPicPr/>
          <p:nvPr/>
        </p:nvPicPr>
        <p:blipFill>
          <a:blip r:embed="rId3"/>
          <a:stretch/>
        </p:blipFill>
        <p:spPr>
          <a:xfrm>
            <a:off x="0" y="5235480"/>
            <a:ext cx="1905120" cy="16225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5" descr="fl000411003"/>
          <p:cNvPicPr/>
          <p:nvPr/>
        </p:nvPicPr>
        <p:blipFill>
          <a:blip r:embed="rId4"/>
          <a:stretch/>
        </p:blipFill>
        <p:spPr>
          <a:xfrm>
            <a:off x="7238880" y="0"/>
            <a:ext cx="1905120" cy="162252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6"/>
          <p:cNvSpPr/>
          <p:nvPr/>
        </p:nvSpPr>
        <p:spPr>
          <a:xfrm>
            <a:off x="380880" y="160020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春光明媚   春色满园   春雨如丝          春雨绵绵   春风和煦   春风化雨       春意盎然   桃红柳绿   莺啼燕语     百花吐艳   草长莺飞   春暖花开     万紫千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2057400" y="457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词语参考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1:31:31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7T05:36:29Z</dcterms:modified>
  <cp:revision>23</cp:revision>
  <dc:subject>第一PPT模板网-WWW.1PPT.COM</dc:subject>
  <dc:title>第一PPT模板网-WWW.1PPT.COM</dc:title>
</cp:coreProperties>
</file>