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21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1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6B7-4E54-401E-8BDD-D6A5DFA6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EE8-5FB9-445F-B186-72764B96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83A55-7F61-46B5-92B8-AF5EDFB4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BB824-AB16-4FF9-A184-6F884A2C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3C5B8-C722-4422-AC6E-D6BAD6E4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EE9E0-D397-478A-B7EB-D251AC0E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36136-25EF-4AB8-BA1B-9C6AD61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D205B-E379-4E52-8CDF-63A90246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023BF-B88F-4A03-9BC2-98D99629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7D9FD-6071-4108-AECA-ABC67F07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C06E6-FE14-4D02-849E-DF62A37D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C8221-C1CB-4F46-8BC8-31DB374E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D9F-83D5-48B8-AD80-0AF95CAF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60D19-AF71-429E-ADDE-F126C27E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DF05B-6946-47FE-9D6A-F836CDD1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69994-AA60-4661-87EA-1ABBB90C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83580-165B-470D-B4C0-22EC7908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75EFC-3109-450E-A629-575441DC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ACE21-DD2E-41A5-9153-148EAF3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B91FE-577C-4374-9063-CD88FCF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F713B-9E2F-480D-B204-E3F7EA8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0D15F-E901-490E-8BFA-A33A640C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7D257-1EA0-4223-89B3-58CBCC12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AE7-A763-427D-ADCF-F258CD4B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8E4A8-0F6B-4E38-B5CB-B0E348AC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16F19-C42A-4DE2-98D8-B48B6C54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9C84B-2972-4EE0-A2A4-A5EA032D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461D6-3CAD-4FAF-93BC-13E3EFF2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24B78-7E45-487A-9D65-5CA123F1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5A442-F9BE-4E92-AFE5-46BB66F9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0C3A5-E02F-4D45-ABD1-4E2031C9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053FF-3C93-4A49-9713-8A40B4A3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EB660-CCCA-4F69-A91A-25CE3C3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87F62-CA4E-44D3-B4EA-3702CD8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BC40-E496-4CEC-A9A4-91A0CAF6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F790-B265-412D-86A6-C290D40E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23A3-22E5-4BD5-AFE4-DBD24D3C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DAAC7-E0B1-4D28-89C0-783427B7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3E256-0DA6-4E01-A5DB-75FB3422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0D79A-92D8-4F7A-A647-3D36FA1E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6B0A3-E1F3-4E8E-8DF2-9B8B90CC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DE5CF-4D66-47CF-AD90-2173BCAE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CDDBD-3657-4B8E-BFB5-C386969C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CBD83-03AB-4FD9-A230-596E6EA5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B38B3-1BA0-4601-9E5F-C363B5D8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5449-5EA6-4636-8E0C-8013BA0A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6D290-E53D-4D90-8DF0-072A6720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261D5-DB59-4AE2-AB73-C8D6732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9C8FB-6463-44E7-8FEF-C058EC90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EF617-A48F-4B26-ADE0-14A5271C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90975-AD10-4495-9E23-30633DCE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74769-DEAE-4F65-AC75-F2606E89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4093C-D434-4A01-AE05-AE0502F9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4126B-7445-409F-8CEE-9A171E72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C4CFE-666A-4A7A-BE13-63B0233F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726AC-ECE0-4739-9BE5-ED78BE32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3BB6-5A76-439F-AF09-A9728C65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0C8B8-95DA-4B14-A295-FD8F931D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46A45-8368-4767-9F58-D079CA43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1C3D0-90CE-4B89-AD5A-8C87AD9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663F6-0BD4-40E2-92B2-C8C91038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F80D1-A9F0-4798-B1BE-5C18394D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AC01E-7480-4B57-B856-B3B20187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B899B-EE06-44EB-BAD4-CDFA571C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57FD-3CBB-425D-964A-995980C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5D56-DFB3-4111-97A8-BDAA9647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5532-CFE3-4213-B6DB-4E269934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AAA2-647B-4862-A255-EDF886C4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E9F-54B7-494C-BBC0-F92F6B7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EC01-B505-4F25-8061-7E332784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87C9-0C79-4D61-8609-1E1332C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723F-C229-4C05-9B29-5017F6EA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8756-4C78-4064-8783-9DDB74AE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74DE-90E4-4F09-B425-7F4709E5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162C-F9E8-4A8F-862C-EA1460F9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CBCC-650D-41F0-8CFC-55CD3C71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E7DA-4C7B-4B4D-8184-BF108C35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452F-CD43-4C30-9DE3-8E113F47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3609-C378-4EAC-B6D5-D5100EB4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B22-4C3B-4E85-B497-F790B9A1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A3C4-64FF-446A-8889-760B0359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B3C1-9C15-4B2C-B8C3-4865C0CC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6E0D3-C645-4771-95AA-7285AE87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C824-8812-4187-B58F-5F65D111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906D-7E97-4BDD-97C7-0A1D9643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89FF-6882-4CC7-9106-66B8BFDF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9697-E800-4C37-8B88-EFF08520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E2E20-F4B3-41CC-BDD8-DD7D1402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27045-F414-4924-9DF0-16E71EAA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17CF-D4F6-4717-A435-BF08529A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A46-E82E-48E7-BBEB-C11B63AA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97A5-1E19-4462-BE32-CAAB3987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84FE-ED8A-4BE6-8947-DDD386FF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21D03-42E8-454E-8964-06A2B83C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95DFA-661C-40CC-A06B-4FC01F4B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2139-840F-464C-8A51-9C09C496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BC7D-ECF0-4FF8-BA59-049ED62D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4D99-B03B-44AE-9D8B-B0AD1FA3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58B3-5C36-47F3-877E-CF86F0E6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E021-EF7D-45F0-B260-3F26BAFE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08DD-074E-4789-BADB-2186294E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AC4-CF19-4A89-9B6A-8AE7437E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CF542-36B4-493C-8161-3D795886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9E8F-8C2C-4777-A582-08E17361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598BB-CDA9-4B33-9F34-DC2F8165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F7E00-E72A-4D97-8527-EA42ED9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B888-E10A-46C1-8E64-FB5C44FA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97E1-8857-44A4-B874-92EB79EB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B3CF-C796-4ED9-995A-FE3C2D13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1E66-AC10-41F2-AF66-9C9A187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03A6-E459-47B8-A7D5-52B5C9E0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1562-80E9-4D88-9A2D-5020BA11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320-E0A1-4ACB-8A15-3FFB3F1B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52199-7A60-49A2-8D98-647AFD31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93E5D-0D1D-4268-ADCB-C57327A2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52204-3AFE-41EA-B167-325E56B7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609BA-37CD-4FF4-AAB0-90B8BD4B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500ED-AB94-4BB1-803A-7FF7DA56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2DA02-D4CB-43FF-B9FD-DF3CA1DC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0049F-9EE4-4F3C-858A-4AF1C632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3C69-280C-4B6D-8C9D-CFA44014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63B65-C75E-4435-ACDA-DCCE165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A9F31-DF47-4B17-8AFA-E1221844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320-5403-4C06-A375-14ACEAF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37EF-90AE-4568-9B11-1A88D482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81FA5-097C-4EB7-A05E-415098BB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E0F18-04D4-4A3D-A4BC-937953C5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F3AD8-8535-47EC-A5C5-ACE08663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AFA6-D795-4647-8F1A-1ADCC1C4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3D144-DDD1-42B3-8B15-F41635DA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3F703-B584-4A97-A4A3-370AD9C3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17E1D-E335-4050-B0C5-0097CE7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4394A-DA9B-45A3-BE0E-C962FF7A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5A0E2-1353-435D-A0C9-BE2A2748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64D-805A-49F1-ACF7-B2D49221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F322-D345-4697-86AA-C534C0BE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C6E9F-B1DD-4D82-BE46-BD89D809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51969-D3F8-419D-8FFD-BD359081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6A46E-E405-4990-99B4-2A48802F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7A1D9-900E-4A69-9089-AF264B6C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0A4B9-A789-454D-914D-A8AA8867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C6E27-6AAC-4E48-B63F-204D537E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2B1AA-9A0D-4102-8546-827861E3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04CD-83E4-45C3-9CB9-59BA950D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D0C0F-1FF2-4065-9A2C-C74CDF01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06B-C410-4E15-B840-6986DC1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EAE33-5080-483B-B4A0-61ECFC36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328D8-B907-468C-AD82-C9A8709A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5138C-E20D-49B0-8CE7-DF355531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27531-9987-4C80-8E52-C2404FBF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A5956-8189-4DED-B010-81EB421A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F1FE7-B982-4B36-91CC-CD6FEF85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D164F-AA31-491B-9B64-BADF13A3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C8BD8-F841-48BE-802E-6D501E28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E3D51-1116-48F8-8E91-15FB16BC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3D336-AB51-41F2-9A26-B850894D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5309-A232-4587-9E12-D80A0E2AF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D36-402C-4058-A61F-81D872001B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3324-6364-490A-9488-524220FB6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C322-476C-479C-8DCA-405E057EB5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BF27-BC9E-4094-9AE2-25CF68EA37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80EF-AE56-4D3E-9225-6D1D87C3BF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351-0296-43F3-B8EE-87ABCFF5C0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A832-E91B-4110-A31C-8814F6F78D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ADA3-5BBC-47C8-9F02-7280C92B7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7335-C3AC-4FED-A78F-6BFA822CD8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403D-1779-4B13-9F63-C19945635B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D335-B6AF-47E6-8649-12BD701105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538B-7F11-491E-AF4C-7203CFD0F1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3C2C-4929-4592-AF12-E779304C90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8FC-8D1C-4A90-8892-4E804010E9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AA27-AACE-4671-853B-7605A987C7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CEB8-535E-42F7-88F8-495CFE43B5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A9BD-F79C-4443-A1F8-66790B08AF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1B8E-B41A-41E0-8719-73E88DF30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6C7F-55AB-4E0E-ADA6-1A42E9537B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0B49-D15D-4792-B834-54653DA789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6B49-3856-4AD6-9F8B-3967370882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F35B-FE5D-42FA-802B-23E8FF41AA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884D-CC82-4853-9490-AAB32B5DD6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E5A4-BD00-4AF8-A1C6-ADD6A1344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9" descr="128x16011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534" name="WordArt 14" descr=""/>
          <p:cNvPicPr/>
          <p:nvPr/>
        </p:nvPicPr>
        <p:blipFill>
          <a:blip r:embed="rId2"/>
          <a:stretch/>
        </p:blipFill>
        <p:spPr>
          <a:xfrm>
            <a:off x="1895400" y="2657520"/>
            <a:ext cx="50418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360" y="5105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课文为什么要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彩色的翅膀”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课题有两层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一是以彩色的翅膀借代蝴蝶等小昆虫，强调了这些小昆虫在改造海岛环境、丰富战士生活方面所起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二是以彩色的翅膀象征战士丰富多彩、富于革命理想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7086600" y="1371600"/>
            <a:ext cx="1676520" cy="3505320"/>
            <a:chOff x="7086600" y="1371600"/>
            <a:chExt cx="1676520" cy="3505320"/>
          </a:xfrm>
        </p:grpSpPr>
        <p:pic>
          <p:nvPicPr>
            <p:cNvPr id="577" name="Picture 4" descr="20063101751630056"/>
            <p:cNvPicPr/>
            <p:nvPr/>
          </p:nvPicPr>
          <p:blipFill>
            <a:blip r:embed="rId1"/>
            <a:stretch/>
          </p:blipFill>
          <p:spPr>
            <a:xfrm>
              <a:off x="7086600" y="137160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5" descr="200631011574610775"/>
            <p:cNvPicPr/>
            <p:nvPr/>
          </p:nvPicPr>
          <p:blipFill>
            <a:blip r:embed="rId2"/>
            <a:stretch/>
          </p:blipFill>
          <p:spPr>
            <a:xfrm>
              <a:off x="7086600" y="3200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7" descr="060530110838351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580" name="WordArt 5" descr=""/>
          <p:cNvPicPr/>
          <p:nvPr/>
        </p:nvPicPr>
        <p:blipFill>
          <a:blip r:embed="rId2"/>
          <a:stretch/>
        </p:blipFill>
        <p:spPr>
          <a:xfrm>
            <a:off x="762120" y="1670040"/>
            <a:ext cx="3279600" cy="7984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160020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军港之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军港之夜.wma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65599" fill="hold"/>
                                        <p:tgtEl>
                                          <p:spTgt spid="5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86200" y="2819160"/>
            <a:ext cx="4648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摘录精彩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给宝石岛的战士写一封信，可以刊登在黑板报上，也可以投稿给编辑部，有条件的可以把信发布在网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jstyj06041915"/>
          <p:cNvPicPr/>
          <p:nvPr/>
        </p:nvPicPr>
        <p:blipFill>
          <a:blip r:embed="rId1"/>
          <a:stretch/>
        </p:blipFill>
        <p:spPr>
          <a:xfrm>
            <a:off x="53352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7"/>
          <p:cNvSpPr txBox="1"/>
          <p:nvPr/>
        </p:nvSpPr>
        <p:spPr>
          <a:xfrm>
            <a:off x="2743200" y="30481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碧空如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矮墩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水落石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精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2819520" y="1447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词语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2666880" y="2362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青蓝色的天空像洗过一样明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26668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形容矮而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666880" y="3429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266688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机警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0" descr="1135060"/>
          <p:cNvPicPr/>
          <p:nvPr/>
        </p:nvPicPr>
        <p:blipFill>
          <a:blip r:embed="rId1"/>
          <a:stretch/>
        </p:blipFill>
        <p:spPr>
          <a:xfrm>
            <a:off x="6172200" y="44956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WordArt 4" descr=""/>
          <p:cNvPicPr/>
          <p:nvPr/>
        </p:nvPicPr>
        <p:blipFill>
          <a:blip r:embed="rId1"/>
          <a:stretch/>
        </p:blipFill>
        <p:spPr>
          <a:xfrm>
            <a:off x="2352600" y="2657520"/>
            <a:ext cx="4614840" cy="9396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1219320" y="403848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故事发生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课文主要讲述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7" descr="006af"/>
          <p:cNvPicPr/>
          <p:nvPr/>
        </p:nvPicPr>
        <p:blipFill>
          <a:blip r:embed="rId2"/>
          <a:stretch/>
        </p:blipFill>
        <p:spPr>
          <a:xfrm>
            <a:off x="1143000" y="266688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00006747"/>
          <p:cNvPicPr/>
          <p:nvPr/>
        </p:nvPicPr>
        <p:blipFill>
          <a:blip r:embed="rId1"/>
          <a:stretch/>
        </p:blipFill>
        <p:spPr>
          <a:xfrm>
            <a:off x="6172200" y="114300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8"/>
          <p:cNvSpPr/>
          <p:nvPr/>
        </p:nvSpPr>
        <p:spPr>
          <a:xfrm>
            <a:off x="7621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故事发生在去宝石岛的路上和宝石岛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11"/>
          <p:cNvSpPr txBox="1"/>
          <p:nvPr/>
        </p:nvSpPr>
        <p:spPr>
          <a:xfrm>
            <a:off x="1447920" y="1905120"/>
            <a:ext cx="3047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地点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Line 12"/>
          <p:cNvSpPr/>
          <p:nvPr/>
        </p:nvSpPr>
        <p:spPr>
          <a:xfrm flipV="1">
            <a:off x="5029200" y="2361960"/>
            <a:ext cx="990720" cy="1447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3"/>
          <p:cNvSpPr/>
          <p:nvPr/>
        </p:nvSpPr>
        <p:spPr>
          <a:xfrm>
            <a:off x="4800600" y="4648320"/>
            <a:ext cx="91440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4" descr="jstyj06041915"/>
          <p:cNvPicPr/>
          <p:nvPr/>
        </p:nvPicPr>
        <p:blipFill>
          <a:blip r:embed="rId2"/>
          <a:stretch/>
        </p:blipFill>
        <p:spPr>
          <a:xfrm>
            <a:off x="5791320" y="3809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WordArt 5"/>
          <p:cNvSpPr txBox="1"/>
          <p:nvPr/>
        </p:nvSpPr>
        <p:spPr>
          <a:xfrm>
            <a:off x="2971800" y="12193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主要事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552" name="Group 11"/>
          <p:cNvGrpSpPr/>
          <p:nvPr/>
        </p:nvGrpSpPr>
        <p:grpSpPr>
          <a:xfrm>
            <a:off x="685800" y="2743200"/>
            <a:ext cx="3657600" cy="3429000"/>
            <a:chOff x="685800" y="2743200"/>
            <a:chExt cx="3657600" cy="3429000"/>
          </a:xfrm>
        </p:grpSpPr>
        <p:sp>
          <p:nvSpPr>
            <p:cNvPr id="553" name="Text Box 6"/>
            <p:cNvSpPr/>
            <p:nvPr/>
          </p:nvSpPr>
          <p:spPr>
            <a:xfrm>
              <a:off x="685800" y="2743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一）战士小高探亲回来带小昆虫上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Picture 9" descr="IMG_0078"/>
            <p:cNvPicPr/>
            <p:nvPr/>
          </p:nvPicPr>
          <p:blipFill>
            <a:blip r:embed="rId3"/>
            <a:stretch/>
          </p:blipFill>
          <p:spPr>
            <a:xfrm>
              <a:off x="838080" y="3886200"/>
              <a:ext cx="32767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Group 12"/>
          <p:cNvGrpSpPr/>
          <p:nvPr/>
        </p:nvGrpSpPr>
        <p:grpSpPr>
          <a:xfrm>
            <a:off x="4800600" y="2743200"/>
            <a:ext cx="3505320" cy="3457440"/>
            <a:chOff x="4800600" y="2743200"/>
            <a:chExt cx="3505320" cy="3457440"/>
          </a:xfrm>
        </p:grpSpPr>
        <p:sp>
          <p:nvSpPr>
            <p:cNvPr id="556" name="Text Box 7"/>
            <p:cNvSpPr/>
            <p:nvPr/>
          </p:nvSpPr>
          <p:spPr>
            <a:xfrm>
              <a:off x="4800600" y="2743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二）岛上战士开尝瓜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10" descr="060205091534shenghuotp4810"/>
            <p:cNvPicPr/>
            <p:nvPr/>
          </p:nvPicPr>
          <p:blipFill>
            <a:blip r:embed="rId4"/>
            <a:stretch/>
          </p:blipFill>
          <p:spPr>
            <a:xfrm>
              <a:off x="5029200" y="3886200"/>
              <a:ext cx="327672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识战士“小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把他的大提包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在一边，怀里紧紧地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抱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着一只纸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990720" y="3429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海面上波涛起伏，船身前后晃荡，小高担心纸箱被损坏，纸箱里装着的小昆虫不能上岛，心中着急，所以把纸箱抱在怀里。这句话有力地说明了小昆虫在小高心中的重要地位，也为下文揭开小高的秘密作了铺垫。句中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扔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与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抱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形成了鲜明的对比，突出了小高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" descr="1135060"/>
          <p:cNvPicPr/>
          <p:nvPr/>
        </p:nvPicPr>
        <p:blipFill>
          <a:blip r:embed="rId1"/>
          <a:stretch/>
        </p:blipFill>
        <p:spPr>
          <a:xfrm>
            <a:off x="380880" y="1143000"/>
            <a:ext cx="13716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他笑嘻嘻地说：“我就不相信，这些小精灵会不爱我们祖国的海岛，会不愿在这里安居乐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99840" y="29718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小高相信，经过战士们的努力，岛上环境条件差、生活艰苦的面貌一定会改变；他也相信，小昆虫一定会在海岛上安居乐业。这句话表面上是赞扬小昆虫，实际上是小高内心的表白：自己热爱祖国海岛，决心用自己的双手把海岛建设成美丽的家园。这句话点明了文章的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6"/>
          <p:cNvGrpSpPr/>
          <p:nvPr/>
        </p:nvGrpSpPr>
        <p:grpSpPr>
          <a:xfrm>
            <a:off x="457200" y="2895480"/>
            <a:ext cx="1295280" cy="3048120"/>
            <a:chOff x="457200" y="2895480"/>
            <a:chExt cx="1295280" cy="3048120"/>
          </a:xfrm>
        </p:grpSpPr>
        <p:pic>
          <p:nvPicPr>
            <p:cNvPr id="565" name="Picture 4" descr="200646123263621"/>
            <p:cNvPicPr/>
            <p:nvPr/>
          </p:nvPicPr>
          <p:blipFill>
            <a:blip r:embed="rId1"/>
            <a:stretch/>
          </p:blipFill>
          <p:spPr>
            <a:xfrm>
              <a:off x="457200" y="28954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5" descr="20065911224307"/>
            <p:cNvPicPr/>
            <p:nvPr/>
          </p:nvPicPr>
          <p:blipFill>
            <a:blip r:embed="rId2"/>
            <a:stretch/>
          </p:blipFill>
          <p:spPr>
            <a:xfrm>
              <a:off x="457200" y="4419720"/>
              <a:ext cx="12952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819520" y="1447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海岛“尝瓜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2133720" y="2895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战士们都笑着，用两个指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捏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一小片来，细细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端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轻轻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慢慢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不住发出啧啧的赞叹声。好像有一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甘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，流进了每个战士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8" descr="060205091534shenghuotp4810"/>
          <p:cNvPicPr/>
          <p:nvPr/>
        </p:nvPicPr>
        <p:blipFill>
          <a:blip r:embed="rId1"/>
          <a:stretch/>
        </p:blipFill>
        <p:spPr>
          <a:xfrm>
            <a:off x="457200" y="1219320"/>
            <a:ext cx="1981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5"/>
          <p:cNvSpPr/>
          <p:nvPr/>
        </p:nvSpPr>
        <p:spPr>
          <a:xfrm>
            <a:off x="1371600" y="3429000"/>
            <a:ext cx="6781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这里写出了战士们收获西瓜后喜悦、激动、自豪的心情，表现了他们对自己劳动成果的珍爱。战士的感情用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捏起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端详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闻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咬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等一连串动词表现了出来。当中好像有一股甘泉，流进了他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"/>
          <p:cNvGrpSpPr/>
          <p:nvPr/>
        </p:nvGrpSpPr>
        <p:grpSpPr>
          <a:xfrm>
            <a:off x="914400" y="1752480"/>
            <a:ext cx="7086600" cy="1219320"/>
            <a:chOff x="914400" y="1752480"/>
            <a:chExt cx="7086600" cy="1219320"/>
          </a:xfrm>
        </p:grpSpPr>
        <p:sp>
          <p:nvSpPr>
            <p:cNvPr id="572" name="Rectangle 4"/>
            <p:cNvSpPr/>
            <p:nvPr/>
          </p:nvSpPr>
          <p:spPr>
            <a:xfrm>
              <a:off x="2209680" y="1752480"/>
              <a:ext cx="5791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901"/>
                </a:spcBef>
                <a:buClr>
                  <a:srgbClr val="333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作者为什么把战士们吃瓜的情景写得那么详细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6" descr="200310213131297577"/>
            <p:cNvPicPr/>
            <p:nvPr/>
          </p:nvPicPr>
          <p:blipFill>
            <a:blip r:embed="rId1"/>
            <a:stretch/>
          </p:blipFill>
          <p:spPr>
            <a:xfrm>
              <a:off x="9144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7T05:34:49Z</dcterms:modified>
  <cp:revision>2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