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png" ContentType="image/png"/>
  <Override PartName="/ppt/media/image9.png" ContentType="image/png"/>
  <Override PartName="/ppt/media/image7.jpeg" ContentType="image/jpeg"/>
  <Override PartName="/ppt/media/chimes.wav" ContentType="audio/x-wav"/>
  <Override PartName="/ppt/media/image16.jpeg" ContentType="image/jpeg"/>
  <Override PartName="/ppt/media/image11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21.jpeg" ContentType="image/jpeg"/>
  <Override PartName="/ppt/media/image19.png" ContentType="image/png"/>
  <Override PartName="/ppt/media/image1.png" ContentType="image/png"/>
  <Override PartName="/ppt/media/image20.gif" ContentType="image/gif"/>
  <Override PartName="/ppt/media/image18.gif" ContentType="image/gif"/>
  <Override PartName="/ppt/media/image15.jpeg" ContentType="image/jpeg"/>
  <Override PartName="/ppt/media/type.wav" ContentType="audio/x-wav"/>
  <Override PartName="/ppt/media/image14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laser.wav" ContentType="audio/x-wav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EE3-1B59-49D2-9E1D-B153C134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120-E792-44BA-B2CF-3D483C42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89B74-CD94-4A2E-90FD-0ECE327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4E40-C9E8-4D73-9138-BC6F0966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A63C1-6DD1-457F-A45C-396CCB4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B4F1E-E3FD-485C-8D91-B8B3816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03F98-12AD-409C-BBC9-3162184F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FA388-15D8-46A7-8770-EB6BC2F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0485F-03DB-4C7A-8B8A-79BF450F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AD38A-5059-4D2E-A6A1-7ADF9209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858CB-DD14-45F3-A620-BA5E3BAC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CD87E-CF3D-47F6-B7C9-01E8F424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DD5-6870-4BA8-9693-4B824D40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9EFD3-553B-4D46-8F4A-086F6744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1060B-627D-494E-98AC-43571E3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FA7DE-C098-4CDD-A220-FBDE999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F7D88-E984-489A-B3BB-E7AD467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4514D-EF32-4F9A-803D-A9F2196B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629FD-55AB-40D3-8DB5-03F9024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CE253-E081-4885-BAC2-BA4E6F1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55832-7E8E-4045-814B-AB0BA22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193F4-4DE1-4420-A652-0E393D3C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A48C6-C191-4FA5-A38C-892F0D34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4D8-9E00-4B0F-813A-7609FE25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01CAA-1171-4A02-B9EC-E089AEA6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C5B56-C3E8-43D4-9512-0D435A34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1BF3C-6DF1-42F5-AD6E-E9E2CAA4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64D67-B870-4E6A-9B02-BE2D4476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C6E6F-1B58-4BF7-B45F-61E6C744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1861F-DD13-45AC-850C-9A03DF7A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A7773-9B74-4EB3-83A3-D0241136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CD963-7911-443F-896E-34530C3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D4FE7-C564-471E-842F-1A32B65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F5DB-82BD-481C-A7BB-34165F7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D83A-554D-496D-8199-867549B0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C5E1F-75F1-46D0-9015-C88710E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F5409-938F-40EC-AD0B-E0335CEB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C986D-0573-417E-95BA-E3F3AF51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E8712-594E-4B22-A6B0-E4659551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B4F96-09D7-4BE1-B767-6E6097B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1B01A-89A3-42C1-8F2C-01C66322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FEEE6-2C18-4DF2-8101-61221778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FA161-9E82-4730-9BED-83E1D0E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FCBB5-3538-4F78-8583-F2D3B6EF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5930B-7C07-4261-A7C4-08BFD1D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3B64-54FF-4B70-8F92-30370720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735C3-7504-4F28-9D2C-D5ED9CF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08918-770B-46CD-B7BD-2BC7A385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69CE3-0359-4E00-A084-DA5E1C35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32A9B-639C-4F16-8F37-8E62F95B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1315D-2535-4226-8709-410BB1B7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69DD0-302F-4F13-8E28-671AF17D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F089D-EEDC-4A33-986B-0E9E40C2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6E719-CA8A-4B8E-A7A4-85788FAD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BAF3A-0EF1-41F1-80F3-67F05D91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80995-3D49-4FDC-B5EB-C96CD16A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C292-6CBE-4C86-8B8F-BC87626B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F1F75-AC05-40FC-A21A-A679F82F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6C8B6-D07F-4BEE-99ED-5FF95A3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7159E-315B-4500-B9E6-51FABB4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206C4-1DA2-43F3-97BB-E6C1ECB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4E7DA-CC62-4CAE-99A2-2BD23C39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A64B7-BDB9-4B39-A0E7-9A31E7C8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2981D-2FEF-47E4-8EC5-EC51A1CB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FEB50-D549-4A90-8994-AD79B536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6A66E-6E4A-410E-9386-813D94C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DBE7E-03D3-4069-9CAC-569A4BE3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826F-8DEC-4182-BBD0-C7EEB364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92A86-ED20-4D3C-AF53-32AD06F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F8FFE-4381-490E-B10A-5EEEE798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1F152-56D1-44AC-9326-8BC7592C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53EDA-AC28-4CD0-BF3D-2D7AAD5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5D463-E527-42DD-92A5-9FF8D7E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A3987-8FBA-404A-A8AC-C1F6A501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D5B2D-CADD-4A0D-864A-2964E1A9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58840-47C4-443E-9DE5-E94FF35B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0E328-86B6-4300-9437-D8FAB482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DD58-7847-4586-8F39-B995A005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5F95-52D4-4F08-86AE-357E10F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B220-C421-4120-9306-DAD36F15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E86-5234-402E-91E5-3E2FFC9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7524-529D-4120-B77D-E8C4D517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D07B-E6B3-4ED2-9433-FBA969C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06EA-1161-4330-8A8D-DCB6F58C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DD42-7F84-4F1C-9DD7-51A58973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09AF-3841-4FFB-979C-9153583F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28D4-1404-4CC9-86F8-5E3D55D0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AC2F-4509-40C2-8327-E0B9AAD2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B653-292D-4F65-9FA0-10295C1B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E78E-2CD7-48B9-AE9A-7ECC9610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006D-B09A-4E69-AB19-DBD3E05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D8B-D8B4-4A40-B322-44E3C366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C785-7C5C-464B-ACEE-54C2BA0E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860D-7759-42DF-88D9-9794FFC0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898C-C4B2-4B0E-8F98-0B3EFB6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FA1B-246A-4827-99B7-AE47D3F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53F0-2060-4AC0-A622-20411C3A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624E-A870-44BE-94D9-DD5AA2EE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CB88-308A-49F1-938F-79F895C5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F4C5-B9AA-42BA-B144-786503F1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73A1-2E94-41DE-9CA7-A1620211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4764-69EC-4DBF-A52F-714379E2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F31-02E3-4D77-A063-A1F5ECD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2391-95E3-4D1D-9C92-EDDFB82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A891-1DE7-497F-8031-FC5AF4AF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583B-35A0-4436-AEDB-0B98749E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C5711-6989-4E43-82D4-419EEDD8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74E6-EE6D-4546-8C7F-D225E48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E910-9332-4010-B14C-CA3E621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B6A5-E541-435C-A2D2-2542218C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36F54-7E57-4840-BCB1-C488E671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4909-EC98-48DA-85AD-D7035498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4D88-183C-4ADF-8AA2-ED5B3068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17D-27BC-4049-8AE6-67B362B5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7D7CE-1827-4F80-AD08-3237CBFA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61076-F79A-4F39-81B3-39FFEF37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84E5-DBC4-4E31-BD05-193C3C20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1BA1-CA7D-4985-8CBF-23434F24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1C308-C24D-4102-973B-041A6AA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E2D7-2D27-43A1-93E7-402AB58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6D61-3B16-4E84-81C8-8EACEB3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2F47-970D-44F8-AFBB-71D8166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1358-1402-43F8-978C-9DC95851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84592-0CD2-4FCF-AA56-0EC20B3F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EC1-B2B8-4870-B274-E9FE7EFD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8F24-A7AC-4EAC-90E5-DA0636EC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CE754-757C-40B5-97A0-93749CF5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D197E-B6BD-4D82-BBA5-B5E20F1C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8A07-F057-4857-99FB-5AEA591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CFA87-5FA3-4D13-8F30-38F90FEE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FCD0-CFD6-441A-9E12-63906DF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DBCCF-7FEF-4405-8AEF-C02B6AE5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A9A7-66BE-4577-9BA6-3BC4FD5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EB3F-23DE-42FF-9483-60D4390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EC9E-722A-47F4-92AE-09271BB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7B4-9DD6-42D9-9458-0BFC2D2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83E8-A21E-4333-B5DD-AEDD469F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EC34-A3E6-4664-B7E6-2EFA2031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0B312-47D4-47F9-B32B-C8849E6E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5554-7B50-49C9-BEDC-C8D59E56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2E51-1C10-4530-92AB-BA709014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D625E-8F63-4EDE-B22D-CFBE2AA4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50CCC-AA16-4F5B-8FD2-1F54F21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A7FFA-864C-4445-B60E-9D12B4EE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C7B27-FB66-41C4-8F3F-1AA49665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E12D-9887-4F70-8736-1BA25862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490-050C-4EC2-8B46-F5E7704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C865C-9423-4859-97E5-A400BF3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0FB10-2F07-4B81-92C7-680C073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943BE-924E-47EE-A96F-284A23A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5013-BC26-4ED5-A8F3-359803E2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E0E83-8C46-498D-8026-4FB392A2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36863-409F-4C1B-942F-53ED1E0F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F7FE-63E0-487F-9F32-C51C8FA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9F68C-EFC6-47D7-8D4D-DB1FB86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033D3-5380-48F3-A636-E3EFA30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A36C2-FC1C-42C5-9B4D-1A6E8C76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DE1-2F10-4BF3-B3AD-3240859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DE779-2F33-4B6D-B5F1-CD04A1E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D779D-1659-43F3-B979-C0AE718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67F7B-CFCD-47F5-B035-77132EC6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9D6AC-8ED5-47B1-97C7-8D487391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538E-229D-46D9-A258-AD916443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5152-FC13-44DD-B4E1-9C89C071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8A99-59A9-4A5A-BE28-A5262B12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C4FDA-32A7-4714-9348-9D27B342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85967-AF56-4BD5-92FC-94D9FA6C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416C3-F7A4-426C-954E-F6C7FE03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5DF2-DBD3-45B9-9497-FAAC90F9940E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C50B-F408-4A10-AC74-09FB4D3B4F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D264-4E75-437D-B7EB-622D0CC3C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CB2A-1A5A-4603-BC70-768C9E49F7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FE93-250A-48D0-BEA8-8CEC9A8696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942B-6DE9-4CC4-9CAD-E13F17F504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D799-A150-44FF-8A67-5B1C363D9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D9A9-6F47-49CD-9D8D-321499430A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A45B-5DDB-40F0-9C0F-97F073009A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50BE-CB6D-4D8D-B43F-3CC323F0E8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2005-1075-4476-9AD2-56BF8E592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6800-21D5-4A93-B58C-B154AEE840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4016-BD42-4985-BB48-5249E6F4B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86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DA37-7154-4E2D-A2B5-84BAA48B523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F096-C27D-4FCD-9AE1-2192D9EE7E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346A-7893-4DE8-AFEB-B1616F5355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0F8D-9717-4049-A07C-DF37238A51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ADA1-21AB-4CA0-8B4D-1C6A27B67C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3DB9-83C9-4419-BD31-D3F8115D34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B5D2-E6E0-4F07-BAE6-F969B9CFA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3DFC-3BF7-4B1D-9375-110B605517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F43-714E-4F9C-BB9C-5FC8D90D19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0B4-4CF9-4B4D-A1E5-3A0314FD03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C89-89D2-4163-9523-C08F4BFA9A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4DB7-E7C2-4B86-BB41-844EBA0D47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830-BC64-4E2B-ADEA-2A6CC52418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.xml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gif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gi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gif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D:\张萍\课件\陈太丘与友期\古书画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2"/>
          <p:cNvSpPr/>
          <p:nvPr/>
        </p:nvSpPr>
        <p:spPr>
          <a:xfrm>
            <a:off x="3780000" y="809640"/>
            <a:ext cx="5516280" cy="76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2" action="ppaction://hlinksldjump"/>
              </a:rPr>
              <a:t>片头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3" action="ppaction://hlinksldjump"/>
              </a:rPr>
              <a:t>课题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感知课文内容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4" action="ppaction://hlinksldjump"/>
              </a:rPr>
              <a:t>自读要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5" action="ppaction://hlinksldjump"/>
              </a:rPr>
              <a:t>朗读课文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6" action="ppaction://hlinksldjump"/>
              </a:rPr>
              <a:t>感知文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理解课文内容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7" action="ppaction://hlinksldjump"/>
              </a:rPr>
              <a:t>断句练习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8" action="ppaction://hlinksldjump"/>
              </a:rPr>
              <a:t>复述故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9" action="ppaction://hlinksldjump"/>
              </a:rPr>
              <a:t>讨论问题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拓展练习：</a:t>
            </a: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10" action="ppaction://hlinksldjump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11" action="ppaction://hlinksldjump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ff"/>
                </a:solidFill>
                <a:uFillTx/>
                <a:latin typeface="隶书"/>
                <a:ea typeface="隶书"/>
                <a:hlinkClick r:id="rId12" action="ppaction://hlinksldjump"/>
              </a:rPr>
              <a:t>课后作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2" name="Picture 15" descr="D:\张萍\课件\陈太丘与友期\陈太丘与友期1 .jpg"/>
          <p:cNvPicPr/>
          <p:nvPr/>
        </p:nvPicPr>
        <p:blipFill>
          <a:blip r:embed="rId13"/>
          <a:stretch/>
        </p:blipFill>
        <p:spPr>
          <a:xfrm>
            <a:off x="1066680" y="380880"/>
            <a:ext cx="2133720" cy="61722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3"/>
          <p:cNvSpPr/>
          <p:nvPr/>
        </p:nvSpPr>
        <p:spPr>
          <a:xfrm>
            <a:off x="842400" y="1152360"/>
            <a:ext cx="170388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陈太丘与友期</a:t>
            </a:r>
            <a:endParaRPr b="0" lang="en-US" sz="5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7" descr="D:\张萍\课件\陈太丘与友期\图1 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686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D:\张萍\课件\陈太丘与友期\图2.jpg"/>
          <p:cNvPicPr/>
          <p:nvPr/>
        </p:nvPicPr>
        <p:blipFill>
          <a:blip r:embed="rId2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640" name="WordArt 10"/>
          <p:cNvSpPr txBox="1"/>
          <p:nvPr/>
        </p:nvSpPr>
        <p:spPr>
          <a:xfrm>
            <a:off x="228600" y="838080"/>
            <a:ext cx="4114800" cy="723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华文彩云"/>
              </a:rPr>
              <a:t>陈太丘与友期</a:t>
            </a:r>
            <a:endParaRPr b="1" lang="en-US" sz="5400" spc="1" strike="noStrike">
              <a:ln cap="sq"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华文彩云"/>
              <a:ea typeface="华文彩云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1447920" y="1981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刘义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2" name="Picture 9" descr="D:\张萍\课件\陈太丘与友期\图3 .jpg"/>
          <p:cNvPicPr/>
          <p:nvPr/>
        </p:nvPicPr>
        <p:blipFill>
          <a:blip r:embed="rId3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5"/>
          <p:cNvSpPr/>
          <p:nvPr/>
        </p:nvSpPr>
        <p:spPr>
          <a:xfrm>
            <a:off x="4878360" y="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30040" y="33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7"/>
          <p:cNvSpPr/>
          <p:nvPr/>
        </p:nvSpPr>
        <p:spPr>
          <a:xfrm>
            <a:off x="480204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Line 18"/>
          <p:cNvSpPr/>
          <p:nvPr/>
        </p:nvSpPr>
        <p:spPr>
          <a:xfrm>
            <a:off x="4572000" y="3352680"/>
            <a:ext cx="0" cy="6098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7" name="Picture 19" descr="D:\张萍\课件\课件集锦\《陈太丘与友期》\蓝蝴蝶.gif"/>
          <p:cNvPicPr/>
          <p:nvPr/>
        </p:nvPicPr>
        <p:blipFill>
          <a:blip r:embed="rId4"/>
          <a:stretch/>
        </p:blipFill>
        <p:spPr>
          <a:xfrm>
            <a:off x="3733920" y="26668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D:\张萍\课件\陈太丘与友期\古书画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3"/>
          <p:cNvSpPr/>
          <p:nvPr/>
        </p:nvSpPr>
        <p:spPr>
          <a:xfrm>
            <a:off x="1234800" y="2438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友人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6949800" y="2514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元方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992160" y="4768920"/>
            <a:ext cx="200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无信 无礼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勇于自责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7147800" y="484488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聪颖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机智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Oval 7"/>
          <p:cNvSpPr/>
          <p:nvPr/>
        </p:nvSpPr>
        <p:spPr>
          <a:xfrm>
            <a:off x="2666880" y="2895480"/>
            <a:ext cx="4114800" cy="236232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诚信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礼貌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304920" y="16524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讨论以下问题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课文主要描写了哪两个人？各有什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么性格特点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609480" y="1905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友人惭，元方仍不顾，是否过份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7" descr="D:\张萍\课件\陈太丘与友期\古书画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2"/>
          <p:cNvSpPr/>
          <p:nvPr/>
        </p:nvSpPr>
        <p:spPr>
          <a:xfrm>
            <a:off x="33368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AutoShape 10"/>
          <p:cNvSpPr/>
          <p:nvPr/>
        </p:nvSpPr>
        <p:spPr>
          <a:xfrm>
            <a:off x="609480" y="0"/>
            <a:ext cx="1828800" cy="1219320"/>
          </a:xfrm>
          <a:prstGeom prst="horizontalScroll">
            <a:avLst>
              <a:gd name="adj" fmla="val 12500"/>
            </a:avLst>
          </a:prstGeom>
          <a:solidFill>
            <a:srgbClr val="e2b95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名 言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609480" y="1143000"/>
            <a:ext cx="77724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只有首先做到言出必行，你的话才有信用。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波斯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昂苏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玛阿里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人生在世，如失去信用，就如同行尸走肉。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赫伯特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履行诺言是名誉的标志。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谚语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礼貌无需花费一文，却能赢得一切。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玛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沃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蒙塔古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0" name="Picture 9" descr="D:\张萍\课件\课件集锦\《陈太丘与友期》\蓝蝴蝶.gif"/>
          <p:cNvPicPr/>
          <p:nvPr/>
        </p:nvPicPr>
        <p:blipFill>
          <a:blip r:embed="rId2"/>
          <a:stretch/>
        </p:blipFill>
        <p:spPr>
          <a:xfrm>
            <a:off x="79246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9" descr="D:\张萍\课件\陈太丘与友期\古书画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2"/>
          <p:cNvSpPr/>
          <p:nvPr/>
        </p:nvSpPr>
        <p:spPr>
          <a:xfrm>
            <a:off x="304920" y="112716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去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信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顾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762120" y="1143000"/>
            <a:ext cx="8381880" cy="81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期而遇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未经约定而意外遇见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锲而不舍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刻一件东西一直刻下去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放弃，喻有恒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舍身取义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放弃生命，选择正义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为了正义事业而牺牲生命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舍近求远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放弃近的，追求远的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去危就安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离开危险，达到平安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言而无信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说话没有信用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言而有信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说话有信用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吭高歌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拉开嗓子，大声歌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瞻前顾后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看看前面再看看后面，形容考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周密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548640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1676520" y="2971800"/>
            <a:ext cx="56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90518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1676520" y="4343400"/>
            <a:ext cx="56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Text Box 26"/>
          <p:cNvSpPr/>
          <p:nvPr/>
        </p:nvSpPr>
        <p:spPr>
          <a:xfrm>
            <a:off x="3962520" y="3443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AutoShape 34"/>
          <p:cNvSpPr/>
          <p:nvPr/>
        </p:nvSpPr>
        <p:spPr>
          <a:xfrm>
            <a:off x="304920" y="76320"/>
            <a:ext cx="6553080" cy="990360"/>
          </a:xfrm>
          <a:prstGeom prst="horizontalScroll">
            <a:avLst>
              <a:gd name="adj" fmla="val 12500"/>
            </a:avLst>
          </a:prstGeom>
          <a:solidFill>
            <a:srgbClr val="e2b95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Text Box 30"/>
          <p:cNvSpPr/>
          <p:nvPr/>
        </p:nvSpPr>
        <p:spPr>
          <a:xfrm>
            <a:off x="1617840" y="304920"/>
            <a:ext cx="38383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你能说出包含有以下字的成语吗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1" name="Picture 32" descr="D:\张萍\课件\课件集锦\《陈太丘与友期》\蓝蝴蝶.gif"/>
          <p:cNvPicPr/>
          <p:nvPr/>
        </p:nvPicPr>
        <p:blipFill>
          <a:blip r:embed="rId2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8" descr="D:\张萍\课件\陈太丘与友期\古书画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"/>
          <p:cNvSpPr/>
          <p:nvPr/>
        </p:nvSpPr>
        <p:spPr>
          <a:xfrm>
            <a:off x="914400" y="1812960"/>
            <a:ext cx="7442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你能阅读并理解下面的小故事后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将它讲给同学们听吗？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1" i="1" lang="zh-CN" sz="3400" spc="-1" strike="noStrike">
                <a:solidFill>
                  <a:srgbClr val="000000"/>
                </a:solidFill>
                <a:latin typeface="Times New Roman"/>
              </a:rPr>
              <a:t>王戎七岁，尝与诸小儿游，看道边李树多子折枝，诸小儿竞走取之，唯戎不动。人问之，答曰：“树在道边而多子，此必苦李。”取之信然。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4" name="Picture 13" descr="D:\张萍\课件\课件集锦\《陈太丘与友期》\蓝蝴蝶.gif"/>
          <p:cNvPicPr/>
          <p:nvPr/>
        </p:nvPicPr>
        <p:blipFill>
          <a:blip r:embed="rId2"/>
          <a:stretch/>
        </p:blipFill>
        <p:spPr>
          <a:xfrm>
            <a:off x="82296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D:\张萍\课件\课件集锦\《陈太丘与友期》\line22.gif"/>
          <p:cNvPicPr/>
          <p:nvPr/>
        </p:nvPicPr>
        <p:blipFill>
          <a:blip r:embed="rId3"/>
          <a:stretch/>
        </p:blipFill>
        <p:spPr>
          <a:xfrm>
            <a:off x="838080" y="5867280"/>
            <a:ext cx="7620120" cy="457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31"/>
          <p:cNvSpPr/>
          <p:nvPr/>
        </p:nvSpPr>
        <p:spPr>
          <a:xfrm rot="27600">
            <a:off x="-1440" y="-75960"/>
            <a:ext cx="5792760" cy="1982880"/>
          </a:xfrm>
          <a:prstGeom prst="irregularSeal2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WordArt 35"/>
          <p:cNvSpPr txBox="1"/>
          <p:nvPr/>
        </p:nvSpPr>
        <p:spPr>
          <a:xfrm rot="20825400">
            <a:off x="838080" y="228240"/>
            <a:ext cx="3733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3333ff"/>
                    </a:gs>
                    <a:gs pos="100000">
                      <a:srgbClr val="00ccff"/>
                    </a:gs>
                  </a:gsLst>
                  <a:lin ang="4194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讲故事比赛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50000">
                    <a:srgbClr val="3333ff"/>
                  </a:gs>
                  <a:gs pos="100000">
                    <a:srgbClr val="00ccff"/>
                  </a:gs>
                </a:gsLst>
                <a:lin ang="4194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D:\张萍\课件\陈太丘与友期\挂画.jpg"/>
          <p:cNvPicPr/>
          <p:nvPr/>
        </p:nvPicPr>
        <p:blipFill>
          <a:blip r:embed="rId1"/>
          <a:stretch/>
        </p:blipFill>
        <p:spPr>
          <a:xfrm>
            <a:off x="0" y="0"/>
            <a:ext cx="9829800" cy="68594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2"/>
          <p:cNvSpPr/>
          <p:nvPr/>
        </p:nvSpPr>
        <p:spPr>
          <a:xfrm>
            <a:off x="609480" y="1143000"/>
            <a:ext cx="726444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课后作业：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查找有关资料，写一篇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50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字左右的描写“聪颖机智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少年的文章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请你收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条关于“诚信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礼貌”的名言，抄在剪贴本上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80" name="Picture 8" descr="D:\张萍\课件\陈太丘与友期\book9.gif"/>
          <p:cNvPicPr/>
          <p:nvPr/>
        </p:nvPicPr>
        <p:blipFill>
          <a:blip r:embed="rId2"/>
          <a:stretch/>
        </p:blipFill>
        <p:spPr>
          <a:xfrm>
            <a:off x="5562720" y="1066680"/>
            <a:ext cx="1199880" cy="9939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9" descr="D:\张萍\课件\课件集锦\《陈太丘与友期》\蓝蝴蝶.gif"/>
          <p:cNvPicPr/>
          <p:nvPr/>
        </p:nvPicPr>
        <p:blipFill>
          <a:blip r:embed="rId3"/>
          <a:stretch/>
        </p:blipFill>
        <p:spPr>
          <a:xfrm>
            <a:off x="76960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8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95627"/>
            </a:gs>
            <a:gs pos="100000">
              <a:srgbClr val="e2b9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8" descr="D:\张萍\课件\课件集锦\《陈太丘与友期》\古书画2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9" descr="D:\张萍\课件\陈太丘与友期\封面.jpg"/>
          <p:cNvPicPr/>
          <p:nvPr/>
        </p:nvPicPr>
        <p:blipFill>
          <a:blip r:embed="rId2"/>
          <a:stretch/>
        </p:blipFill>
        <p:spPr>
          <a:xfrm>
            <a:off x="2390760" y="228600"/>
            <a:ext cx="4390920" cy="5715000"/>
          </a:xfrm>
          <a:prstGeom prst="rect">
            <a:avLst/>
          </a:prstGeom>
          <a:ln w="0">
            <a:noFill/>
          </a:ln>
        </p:spPr>
      </p:pic>
      <p:pic>
        <p:nvPicPr>
          <p:cNvPr id="586" name="4分钟.mp3" descr=""/>
          <p:cNvPicPr/>
          <p:nvPr/>
        </p:nvPicPr>
        <p:blipFill>
          <a:blip r:embed="rId3"/>
          <a:stretch/>
        </p:blipFill>
        <p:spPr>
          <a:xfrm>
            <a:off x="9601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9" descr="D:\张萍\课件\课件集锦\《陈太丘与友期》\蓝蝴蝶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960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95" descr="D:\张萍\课件\陈太丘与友期\挂画.jpg"/>
          <p:cNvPicPr/>
          <p:nvPr/>
        </p:nvPicPr>
        <p:blipFill>
          <a:blip r:embed="rId1"/>
          <a:stretch/>
        </p:blipFill>
        <p:spPr>
          <a:xfrm>
            <a:off x="0" y="0"/>
            <a:ext cx="9982080" cy="6859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2"/>
          <p:cNvSpPr/>
          <p:nvPr/>
        </p:nvSpPr>
        <p:spPr>
          <a:xfrm>
            <a:off x="746280" y="2092320"/>
            <a:ext cx="679752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陈太丘与友期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 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  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刘义庆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Text Box 90"/>
          <p:cNvSpPr/>
          <p:nvPr/>
        </p:nvSpPr>
        <p:spPr>
          <a:xfrm>
            <a:off x="914400" y="2589120"/>
            <a:ext cx="635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—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丘：县名  陈太丘：汉末的名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世说新语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士底（的）教科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鲁迅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Text Box 99"/>
          <p:cNvSpPr/>
          <p:nvPr/>
        </p:nvSpPr>
        <p:spPr>
          <a:xfrm>
            <a:off x="5089680" y="512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2" name="Picture 100" descr="D:\张萍\课件\课件集锦\《陈太丘与友期》\蓝蝴蝶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1920" y="6188040"/>
            <a:ext cx="44136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D:\张萍\课件\陈太丘与友期\古书画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"/>
          <p:cNvSpPr/>
          <p:nvPr/>
        </p:nvSpPr>
        <p:spPr>
          <a:xfrm>
            <a:off x="303228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AutoShape 10"/>
          <p:cNvSpPr/>
          <p:nvPr/>
        </p:nvSpPr>
        <p:spPr>
          <a:xfrm>
            <a:off x="457200" y="228600"/>
            <a:ext cx="3962520" cy="1219320"/>
          </a:xfrm>
          <a:prstGeom prst="horizontalScroll">
            <a:avLst>
              <a:gd name="adj" fmla="val 12500"/>
            </a:avLst>
          </a:prstGeom>
          <a:solidFill>
            <a:srgbClr val="e2b95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304920" y="685800"/>
            <a:ext cx="86868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利用字典、注释，读准字音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以下面句子为例，划出句中的停顿处，把握课文的节奏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陈太丘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与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行，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日中，过中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不至，太丘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舍去，去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乃至。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除注解上已注明的字之外，你认为还有哪几个字的读音或含义要特别留意的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7" name="Picture 9" descr="D:\张萍\课件\课件集锦\《陈太丘与友期》\蓝蝴蝶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61117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2"/>
          <p:cNvSpPr/>
          <p:nvPr/>
        </p:nvSpPr>
        <p:spPr>
          <a:xfrm>
            <a:off x="1217160" y="415800"/>
            <a:ext cx="2401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自 读</a:t>
            </a:r>
            <a:r>
              <a:rPr b="0" lang="zh-CN" sz="55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r>
              <a:rPr b="0" lang="zh-CN" sz="55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要 求</a:t>
            </a:r>
            <a:endParaRPr b="0" lang="en-US" sz="5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47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3" descr="D:\张萍\课件\课件集锦\《陈太丘与友期》\古书画2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D:\张萍\课件\陈太丘与友期\翻书.gif"/>
          <p:cNvPicPr/>
          <p:nvPr/>
        </p:nvPicPr>
        <p:blipFill>
          <a:blip r:embed="rId2"/>
          <a:stretch/>
        </p:blipFill>
        <p:spPr>
          <a:xfrm>
            <a:off x="2065320" y="304920"/>
            <a:ext cx="4759200" cy="57909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D:\张萍\课件\课件集锦\《陈太丘与友期》\音乐1.gif"/>
          <p:cNvPicPr/>
          <p:nvPr/>
        </p:nvPicPr>
        <p:blipFill>
          <a:blip r:embed="rId3"/>
          <a:stretch/>
        </p:blipFill>
        <p:spPr>
          <a:xfrm>
            <a:off x="7848720" y="5334120"/>
            <a:ext cx="1218960" cy="796680"/>
          </a:xfrm>
          <a:prstGeom prst="rect">
            <a:avLst/>
          </a:prstGeom>
          <a:ln w="0">
            <a:noFill/>
          </a:ln>
        </p:spPr>
      </p:pic>
      <p:pic>
        <p:nvPicPr>
          <p:cNvPr id="602" name="1分钟.mp3" descr=""/>
          <p:cNvPicPr/>
          <p:nvPr/>
        </p:nvPicPr>
        <p:blipFill>
          <a:blip r:embed="rId4"/>
          <a:stretch/>
        </p:blipFill>
        <p:spPr>
          <a:xfrm>
            <a:off x="8001000" y="57913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7" descr="D:\张萍\课件\陈太丘与友期\古书画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1600200" y="685800"/>
            <a:ext cx="75438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陈太丘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行，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中，过中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至，太丘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舍去，去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乃至。 元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七岁，门外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戏。客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元方：“尊君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不？”答曰：“待君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久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至，已去。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友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便怒：“非人哉！与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行，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委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去。”元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君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家君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。日中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至，则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信；对子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，则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礼。”友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惭，下车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之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顾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05" name="Picture 15" descr="D:\张萍\课件\课件集锦\《陈太丘与友期》\音乐1.gif"/>
          <p:cNvPicPr/>
          <p:nvPr/>
        </p:nvPicPr>
        <p:blipFill>
          <a:blip r:embed="rId2"/>
          <a:stretch/>
        </p:blipFill>
        <p:spPr>
          <a:xfrm>
            <a:off x="7620120" y="6019920"/>
            <a:ext cx="1143000" cy="774720"/>
          </a:xfrm>
          <a:prstGeom prst="rect">
            <a:avLst/>
          </a:prstGeom>
          <a:ln w="0">
            <a:noFill/>
          </a:ln>
        </p:spPr>
      </p:pic>
      <p:pic>
        <p:nvPicPr>
          <p:cNvPr id="606" name="1分钟.mp3" descr=""/>
          <p:cNvPicPr/>
          <p:nvPr/>
        </p:nvPicPr>
        <p:blipFill>
          <a:blip r:embed="rId3"/>
          <a:stretch/>
        </p:blipFill>
        <p:spPr>
          <a:xfrm>
            <a:off x="777240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3"/>
          <p:cNvSpPr/>
          <p:nvPr/>
        </p:nvSpPr>
        <p:spPr>
          <a:xfrm>
            <a:off x="838080" y="695160"/>
            <a:ext cx="895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08" name="Picture 14" descr="D:\张萍\课件\课件集锦\《陈太丘与友期》\蓝蝴蝶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588312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6" descr="D:\张萍\课件\陈太丘与友期\陈太丘与友期1 .jpg"/>
          <p:cNvPicPr/>
          <p:nvPr/>
        </p:nvPicPr>
        <p:blipFill>
          <a:blip r:embed="rId6"/>
          <a:stretch/>
        </p:blipFill>
        <p:spPr>
          <a:xfrm>
            <a:off x="228600" y="838080"/>
            <a:ext cx="1295280" cy="56390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7"/>
          <p:cNvSpPr/>
          <p:nvPr/>
        </p:nvSpPr>
        <p:spPr>
          <a:xfrm>
            <a:off x="580680" y="1355760"/>
            <a:ext cx="5464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陈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太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丘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友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0" descr="D:\张萍\课件\陈太丘与友期\古书画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"/>
          <p:cNvSpPr/>
          <p:nvPr/>
        </p:nvSpPr>
        <p:spPr>
          <a:xfrm>
            <a:off x="1695960" y="1617840"/>
            <a:ext cx="367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注意下列字的读音及意思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陈太友与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太丘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舍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后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：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尊君在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人期行，相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去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中不至，则是无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车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方入门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2057400" y="451656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118400" y="2087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约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3873600" y="25909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舍，放弃。去，离开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3208680" y="3078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518544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丢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4019040" y="3611520"/>
            <a:ext cx="35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通“否”，文中意思为“不在”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5414040" y="4525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守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3224520" y="502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424980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回头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754920" y="533520"/>
            <a:ext cx="21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感知文意 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D:\张萍\课件\陈太丘与友期\古书画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4"/>
          <p:cNvSpPr/>
          <p:nvPr/>
        </p:nvSpPr>
        <p:spPr>
          <a:xfrm>
            <a:off x="2057400" y="451656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2896920" y="1844640"/>
            <a:ext cx="255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你能说出这三种称谓有什么不同吗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尊君  ：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君：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君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1981080" y="231624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别人父亲的一种尊称。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575240" y="284940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别人一种有礼貌的称呼，相当于“您”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Text Box 17"/>
          <p:cNvSpPr/>
          <p:nvPr/>
        </p:nvSpPr>
        <p:spPr>
          <a:xfrm>
            <a:off x="4095360" y="3306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谦词，对人称自己父亲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654120" y="6732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感知文意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3738960" y="4419720"/>
            <a:ext cx="102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你能解释以下的句子吗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过中不至，太丘舍去，去后乃至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非人哉！与人期行，相委而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31" name="Picture 22" descr="D:\张萍\课件\课件集锦\《陈太丘与友期》\蓝蝴蝶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035760"/>
            <a:ext cx="44136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7" descr="D:\张萍\课件\陈太丘与友期\古书画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2"/>
          <p:cNvSpPr/>
          <p:nvPr/>
        </p:nvSpPr>
        <p:spPr>
          <a:xfrm>
            <a:off x="775080" y="71424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断 句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165320" y="1558800"/>
            <a:ext cx="797868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陈太丘与友期行期日中过中不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太丘舍去去后乃至元方时年七岁门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戏客问元方尊君在不答曰待君久不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去友人便怒非人哉与人期行相委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元方曰君与家君期日中日中不至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无信对子骂父则是无礼友人惭下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之元方入门不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35" name="Picture 13" descr="D:\张萍\课件\课件集锦\《陈太丘与友期》\音乐1.gif"/>
          <p:cNvPicPr/>
          <p:nvPr/>
        </p:nvPicPr>
        <p:blipFill>
          <a:blip r:embed="rId2"/>
          <a:stretch/>
        </p:blipFill>
        <p:spPr>
          <a:xfrm>
            <a:off x="6705720" y="5943600"/>
            <a:ext cx="1143000" cy="747720"/>
          </a:xfrm>
          <a:prstGeom prst="rect">
            <a:avLst/>
          </a:prstGeom>
          <a:ln w="0">
            <a:noFill/>
          </a:ln>
        </p:spPr>
      </p:pic>
      <p:pic>
        <p:nvPicPr>
          <p:cNvPr id="636" name="1分钟.mp3" descr=""/>
          <p:cNvPicPr/>
          <p:nvPr/>
        </p:nvPicPr>
        <p:blipFill>
          <a:blip r:embed="rId3"/>
          <a:stretch/>
        </p:blipFill>
        <p:spPr>
          <a:xfrm>
            <a:off x="6858000" y="63244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D:\张萍\课件\课件集锦\《陈太丘与友期》\蓝蝴蝶.gif"/>
          <p:cNvPicPr/>
          <p:nvPr/>
        </p:nvPicPr>
        <p:blipFill>
          <a:blip r:embed="rId4"/>
          <a:stretch/>
        </p:blipFill>
        <p:spPr>
          <a:xfrm>
            <a:off x="6705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8T05:36:59Z</dcterms:modified>
  <cp:revision>32</cp:revision>
  <dc:subject/>
  <dc:title>PowerPoint Presentation</dc:title>
</cp:coreProperties>
</file>