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C01-EC97-4A80-BF6B-4A289A09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348-C433-4E88-964C-7878B91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1BA4-88A7-4552-8373-87C167A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6E60-F99E-4442-A249-52851F29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5BF0-4A02-4D84-9867-4E370233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59BD-B21E-4297-9800-9DCD8EB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9A0D8-F7B7-41E3-9C5B-70CD9B4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FB5A-9BC8-4836-8D49-64ADB38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239A7-1EB8-426C-9AEC-24D32A0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EA08-9387-43FE-AEED-4FCC19C1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833BC-71EB-48A9-8EE8-05424ECD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B5EDA-2B6A-4DAE-8F35-D99E49CC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1D4-2B15-4713-B32E-8BD581A7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B47B2-6C92-4BFA-ACEE-71C341F3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92AD7-5B44-4E16-A86B-55E5A0B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FD1E9-81BE-4430-9329-39543FAC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103AA-B2F1-47F2-B980-F06E8D0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3E67-6771-4EE8-BBFC-DE1B366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7C539-D4D7-4C42-A8E7-CA42D14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613EE-B6BA-41F7-A5C4-DA99E7B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38386-3C24-4C3B-A527-8C63E46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2A44F-0CB4-4B60-BE2E-67D0113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736C8-BE73-4878-8CC0-D682D0C2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012-BF8F-4704-8B05-6A67166F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B3469-311D-4E62-87B7-02969670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11B95-3C1F-4979-96AB-4383CDE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2A17B-C3DE-449E-8020-A34AA8B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E68D-76AC-4013-B26B-C46524AB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58E3-77D4-47D2-9ACA-9C507F1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308C-1DCD-4548-944E-97ED0F24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8ABB2-8AE0-4A2A-8104-5B3AB60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45170-AD2A-4983-BE98-7FEF6D2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4548-F454-438A-A760-338AD49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97580-B4B4-43FF-B4EC-BFBC22F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246F-E91D-4520-9C37-5F01E111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B7432-5FB3-4F50-8834-4D003E0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C9B46-2702-4EBB-9872-4C134EB4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CE61B-08F4-4D96-838D-E4DCEE3D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135CB-8F63-475D-AF1E-0A8544BB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EB4D8-C7D4-401F-998C-2006F6D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FA290-F423-4100-8BEF-319357C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965F6-1A1C-4A0B-AEC1-E67DCE8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5C488-61AD-4DCA-BF5D-832BEFC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FBB2E-58E8-482C-B609-52EC5731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D9C82-FA7E-4A3C-81E9-FDF64A2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D5E9-A321-446A-97C5-8107C45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3B63B-C8CC-424F-9402-6B1B38F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7F1B6-009F-44B8-B55A-48E8FD5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1544-9A95-4D82-9D8A-4544ED00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DE464-689C-4524-9BB0-69A17205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53EDD-64C1-4D2C-B938-6E5460C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B5269-ED36-47A3-A727-FACD7396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C45D7-55E8-44E8-B242-EBD70CF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9852A-6F1D-4E66-8DBC-DC8192D0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43FEE-6215-4A12-BACD-3575156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8173F-F73E-448C-AB7F-C3C03A51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DCC-E8D1-41B1-9EC9-269017B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E3B1A-8B65-4B87-A3F2-7316DE56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308E5-EDA5-434E-B632-15C77C4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AD76E-A47D-4B49-873F-A5C6822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180C9-3885-4FEE-8A64-4934CD0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60281-C4C8-48C4-94FD-55437FB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42613-D3AF-41A9-A51D-186B4B33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169D1-81F4-4325-90FC-1B7655D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C0B-6C58-4F17-A08D-2F57A26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343-999D-487D-908B-606172E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A78-D11E-4C49-AEDE-A39B255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1D77-3C2D-43CC-AFD7-4C4BBCE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EA3-93A5-4E28-9456-69688071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C3D-3D84-405A-9313-88DFDC4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5F38-5F7C-49F9-94F4-45DF16A8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105-2BF8-45A9-B7F4-6C3E4723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01D-E3E8-452C-AB7A-F4745D6C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028-26FA-4664-A60A-90C693EE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43E2-9FF7-4686-BB32-BEA029E3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E8B1-486D-4C3F-9177-D7C1FB1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0271-D17C-4C1D-ADD1-7FF7B4C5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13C3-E5D6-42CA-8DC4-9B62BB1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49C6-1954-40C1-86DE-990A7CC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242-5AE7-4E11-AB31-E0E21927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1153-60FC-4630-8C2F-2E1CD6D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855E-22D8-4376-BDDA-F9F06B1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EE43-E196-4ED2-A42F-76FF0A4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B0F3-6F84-4CAD-AF9C-2F652A6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25B1-BC88-4B64-B2F9-67F49B6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D158-CBC8-4DA5-862C-97A56E24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A6CC-9BFD-439D-979C-0DCB7B2E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CF3B-C3B1-4E3E-A032-137B62B3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67DC-D7F9-4B7C-B1B9-A7012320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79A9-4026-4487-B685-8D0556A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DAA-0600-41D0-BD34-A352C4BE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6688-A6EF-43E4-B028-9A90FD1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2C95-2660-4DD2-956B-96FA24DB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164F2-B372-4988-9C20-6D62179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3674-962F-483A-BE26-EBF6C92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F4AD-89D2-48A6-87F2-B018EA5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046E-A721-4991-9B9C-8231E09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4D91-5CB7-4363-BF6A-2411E1C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6026-EC9D-4CBC-BBB6-9728D774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C1F3-21D1-414B-ABA4-382331D9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BAABB-20B4-4336-B143-2FA4B3B9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640-22B5-45F9-B28C-318108C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8DDD-B5DB-4B3B-96B2-31EADBF0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52E3-9A25-482E-9F83-FB0EB3C2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CC69-DCE5-47F4-B4A0-5508383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ABDDA-1246-40C4-B50B-5138339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7307-21FC-4B39-888A-308415A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D020-058C-4619-A133-5C845ED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754E-635A-4484-9416-BC70498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9507-E28A-4D88-8BAA-C7D73CE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4A95D-2003-4B29-89C9-BABA5311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C1C15-92DF-4440-A290-C20588C6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3E7-C96C-47BE-8D80-DC1DF53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EB4BB-5E19-4EAA-B734-553454A1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5382-EEFB-4074-A099-D65043D6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DFDD-0C45-4D19-9857-A874BE34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6F5D-AD29-4315-9CF1-BB79A56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F00A-F7DD-4941-A5FB-A252006B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90FA-6C8D-46A7-AFF9-E609FF7C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B48C-21DF-4284-8EDF-80E18AF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49941-4A31-4E59-91B3-A8E6C35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082C-8A73-46D8-810E-E8AC1A9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BE5E-6A72-4CD6-A796-6DF7F87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20E-8971-46E7-A769-629033F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5E02-19B4-49F1-A280-270123CC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10B9-9CF9-498A-860F-5413F242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3E48-8027-4C4A-B900-DC70FAA4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2219-251B-49C2-ACD0-E4215763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47BC-FA36-4CAC-833A-821832D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73895-8103-4289-BB82-645FC63A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6C2C-CFD2-4A21-8DC4-5BA7C2D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2D04-98EB-4F22-931E-64215A7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9D26-BD43-4D21-BCB4-C1447BFE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018A-7F01-48AD-969C-64CFBF3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0C2-2891-4749-90CD-0172634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0E2F-D323-40EA-B7DC-3630B08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44BA-D31D-449A-9DA1-FA0AE34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4D94-56ED-4216-860C-EB1CA0D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D308-CBB0-4751-B3BE-60C7ACC3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8762-F23F-453C-9EDB-DC4782D4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60C42-0EB9-4E43-9F19-62F349A5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A8D5-C055-4555-B8A0-A77FBD8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CB43-8C12-4A51-976D-9548D97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655C-E9D7-4C0F-B2E7-E3F56EB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EAA6-3A7E-43A1-A636-BEECA94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7FB-B8C2-459D-8543-98A5CB5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22B7-BB89-4800-992B-AA154BAF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5FC1-D8E0-490E-9C11-01833E6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044EA-3676-41AA-9C0C-43ED736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BABC-7CD5-42C4-8B22-B328627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04CE-6693-46B6-A4D2-736706F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8E5E7-EF5D-4A63-A03A-D07E2CF4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8D42-6207-4F4F-B82F-5C5C9A3B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DA46D-11CA-4737-BA81-4B24F25D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1BD7-86EF-44BC-94F1-96996FF0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7573-D9D1-4710-B57D-5F6F00F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58F-768B-4692-BF84-FEB0B7EDE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14C-0565-46BC-868B-15B1C07C5C9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8E3-1BFA-4742-83AB-B01B0DEED6E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1B9-A775-479F-83FA-362F5A1F388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127-DBDA-44C2-BDBD-FC74877A657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B22-3E49-4D6B-A946-16BE60996B7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3C9-BF98-4342-A833-C512C1B573B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71E-A042-4997-B88D-E60C7010457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289-B13E-4F2A-8B4C-75DD6F44311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8D5C-9A88-46BC-9E4E-CD9E65DC46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2EDE-B5F0-44C8-B633-47B67564A1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E1A-425C-4010-A533-F13CF349DA0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B946-FADE-41C6-A4C9-D23B22880C1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4BC-135D-4149-A5A9-74B8C68D5F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6D5-3B4D-4E7A-A182-314EC3450A5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ED1-63F9-42EE-9693-BB06E8CDA99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6616-920F-4A22-BBCC-F59D985CC7A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8B6-4A2B-446C-95B4-26BC888B7C6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DF40-865A-47C0-B9BF-284F69995DC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A00-5535-4207-BA31-6D9BD957A58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287-BD00-4CA5-8721-C759AEB43B5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1429-5614-4524-A0EB-A2382669F4F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3C2-4A95-456A-ACCF-A130769FAA3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BFE5-3267-4F12-80E6-075701E0B32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16C-25A3-46DB-A9AE-7F4E9EAA5B5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0"/>
          <p:cNvSpPr/>
          <p:nvPr/>
        </p:nvSpPr>
        <p:spPr>
          <a:xfrm>
            <a:off x="7308720" y="551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4" name="Picture 2" descr="D:\下学期资源库文件\第六册\29\曹刿论战\媒体素材\下视其辙.jpg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128880" y="457200"/>
            <a:ext cx="3106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曹刿论战</a:t>
            </a:r>
            <a:endParaRPr b="1" lang="en-US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83360" y="3532320"/>
            <a:ext cx="789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《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左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》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7" name="钱塘湖春行.WAV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143000" y="838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鼓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1143000" y="3048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驰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0481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未可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562720" y="2133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可矣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0481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公将鼓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304812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公将驰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5562720" y="1295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齐人三鼓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5562720" y="3124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视其辙  登轼而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2133720" y="1600200"/>
            <a:ext cx="83808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Line 11"/>
          <p:cNvSpPr/>
          <p:nvPr/>
        </p:nvSpPr>
        <p:spPr>
          <a:xfrm flipV="1">
            <a:off x="2057400" y="2742840"/>
            <a:ext cx="914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4267080" y="2514600"/>
            <a:ext cx="1219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9" name="Picture 13" descr="C:\WINDOWS\Desktop\马鸿燕\gif图片\guqi_s4.gif"/>
          <p:cNvPicPr/>
          <p:nvPr/>
        </p:nvPicPr>
        <p:blipFill>
          <a:blip r:embed="rId1"/>
          <a:stretch/>
        </p:blipFill>
        <p:spPr>
          <a:xfrm>
            <a:off x="1066680" y="5105520"/>
            <a:ext cx="1981440" cy="1079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4" descr="D:\网页设计素材\1\箭头\0004.GIF"/>
          <p:cNvPicPr/>
          <p:nvPr/>
        </p:nvPicPr>
        <p:blipFill>
          <a:blip r:embed="rId2"/>
          <a:stretch/>
        </p:blipFill>
        <p:spPr>
          <a:xfrm>
            <a:off x="7391520" y="5791320"/>
            <a:ext cx="609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7"/>
          <p:cNvSpPr/>
          <p:nvPr/>
        </p:nvSpPr>
        <p:spPr>
          <a:xfrm>
            <a:off x="685800" y="1384200"/>
            <a:ext cx="782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在“齐人三鼓”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才曰“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矣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“下视其辙，登轼而望之。”？他看到了什么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2" name="Picture 19" descr="C:\WINDOWS\Desktop\nat\67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0"/>
          <p:cNvSpPr/>
          <p:nvPr/>
        </p:nvSpPr>
        <p:spPr>
          <a:xfrm>
            <a:off x="2269080" y="1981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齐人三鼓正是“彼竭我盈”之时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1694880" y="388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惧有伏焉” 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5" name="Rectangle 22"/>
          <p:cNvSpPr/>
          <p:nvPr/>
        </p:nvSpPr>
        <p:spPr>
          <a:xfrm>
            <a:off x="38862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辙乱旗靡”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6" name="Picture 23" descr="D:\网页设计素材\1\箭头\0004.GIF"/>
          <p:cNvPicPr/>
          <p:nvPr/>
        </p:nvPicPr>
        <p:blipFill>
          <a:blip r:embed="rId2"/>
          <a:stretch/>
        </p:blipFill>
        <p:spPr>
          <a:xfrm>
            <a:off x="7391520" y="5791320"/>
            <a:ext cx="609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1058040" y="5810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远谋：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295280" y="160020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知“民心向背”，有为国分忧的精神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知“士气盈竭”，有当机立断的才干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知“战场虚实”，有务实求真的才智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533520" y="1035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鲁庄公的“鄙”表现在哪些方面？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1066680" y="2133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战争寄托在近臣和神灵身上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2217600" y="289548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兵轻举妄动，急功近利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1892520" y="3657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取胜而不知胜因；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7621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古人记叙这场战争，用“齐鲁长勺之战”为题，而后人却改用“曹刿论战”为题，为什么要作这样的改动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76212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记事哪些详写，哪些略写？为什么这样处理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83808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全篇以曹刿的言行为主组织记事材料，而记事的中心又处落在曹刿的“谋”字和“论”字上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36" name="Picture 5" descr="0"/>
          <p:cNvPicPr/>
          <p:nvPr/>
        </p:nvPicPr>
        <p:blipFill>
          <a:blip r:embed="rId1"/>
          <a:stretch/>
        </p:blipFill>
        <p:spPr>
          <a:xfrm>
            <a:off x="304920" y="228600"/>
            <a:ext cx="1447560" cy="111924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838080" y="4495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本文重点是写“论战”，故战前对话写得详；战争过程写得略；曹刿用谋写得详；庄公问计写得略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6858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内容小结：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914400" y="11430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中指出了战前的政治准备－－                 ，叙述了利于转入反攻的阵地－－             ，叙述了利于反攻的时机－－                 之时，叙述了追击开始的时机－－                 之时。这次战役，采取了“敌疲我打”的方针，成为中国战史中弱军战胜强军的有名战例。长勺之战表现了曹刿政治上的               和军事上  的               ，说明必须              ，运用正确的                 ，并掌握          ，才能取得战争胜利的道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5638680" y="152388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4876920" y="1905120"/>
            <a:ext cx="99036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2" name="Line 7"/>
          <p:cNvSpPr/>
          <p:nvPr/>
        </p:nvSpPr>
        <p:spPr>
          <a:xfrm>
            <a:off x="2895480" y="228600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5105520" y="3352680"/>
            <a:ext cx="152388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>
            <a:off x="1371600" y="4114800"/>
            <a:ext cx="12193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5029200" y="3733920"/>
            <a:ext cx="12193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1371600" y="3733920"/>
            <a:ext cx="16765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3886200" y="4114800"/>
            <a:ext cx="7621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1905120" y="266688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5638680" y="106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取信于民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4800600" y="1676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49528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勺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289548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彼竭我盈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190512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辙乱旗靡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5181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远见卓识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00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杰出才能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50292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取信于民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129528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略战术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38098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战机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D:\下学期资源库文件\第六册\29\曹刿论战\媒体素材\下视其辙.jpg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5334120" y="1295280"/>
            <a:ext cx="30477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口头作业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理解背诵课文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面练习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作文题目：我心目中的曹刿形象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要求：①围绕课文，发挥想像；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字以上。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知识迁移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想想我国历史上还有哪些以少胜多的战例，并互相交流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1" name="Picture 6" descr="C:\WINDOWS\Desktop\马鸿燕\gif图片\shu5.gif"/>
          <p:cNvPicPr/>
          <p:nvPr/>
        </p:nvPicPr>
        <p:blipFill>
          <a:blip r:embed="rId5"/>
          <a:stretch/>
        </p:blipFill>
        <p:spPr>
          <a:xfrm>
            <a:off x="7696080" y="22860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662" name="钱塘湖春行.WAV" descr=""/>
          <p:cNvPicPr/>
          <p:nvPr/>
        </p:nvPicPr>
        <p:blipFill>
          <a:blip r:embed="rId6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04920" y="533520"/>
            <a:ext cx="8534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的字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肉食者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未能远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惠未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民弗从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弗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，必以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信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信未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神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公将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公问其故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吾视其辙乱，望其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靡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2670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鄙陋，这里指目光短浅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4267080" y="1828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同“遍”，遍及、普遍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495680" y="2666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12208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虚夸，这里指以少报多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4267080" y="3048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诚实，意思是对神说实话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357080" y="37558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为人所信服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7336800" y="3733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赐福、保佑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4842720" y="441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动词，击鼓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4343400" y="502920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 战胜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462960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（倒下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066680" y="304920"/>
            <a:ext cx="70106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下列各句中红色词语古今的不同意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牺牲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玉帛，弗敢加也，必以信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      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忠之属也。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战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肉食者谋之，又何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焉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今义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大之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狱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虽不能察，必以情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义：                        今义：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66688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祭祀用的猪、牛、羊等祭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666880" y="2286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为正义事业舍生，引申为丢弃某种利益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74320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可以凭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579132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示可能，许可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28195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参与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586728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隔开，不连接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2819520" y="6019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案件，官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5943600" y="6019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监牢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304920" y="685800"/>
            <a:ext cx="739116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辨析下列各组句子中红色词语的不同意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吾视其辙乱，望其旗靡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之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既克，公问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故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民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战则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从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既克，公问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故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吾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辙乱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乡人曰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838080" y="13716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914400" y="30481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914400" y="457200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79132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所以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3886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缘故，原因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388620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听从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跟随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3962520" y="4419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这样，如此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396252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们的，指齐军的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9625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他的，指曹刿的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914400" y="609480"/>
            <a:ext cx="59436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下列句子译成现代汉语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何以战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必以分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战于长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而衰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句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Line 3"/>
          <p:cNvSpPr/>
          <p:nvPr/>
        </p:nvSpPr>
        <p:spPr>
          <a:xfrm>
            <a:off x="1295280" y="22096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1295280" y="33526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129528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1295280" y="548640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49876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20968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凭什么去作战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209680" y="2895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定要把它们分给别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2209680" y="3886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长勺作战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209680" y="5029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第二次击鼓时，士气就衰落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>
            <a:off x="1143000" y="2362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论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1" name="WordArt 3"/>
          <p:cNvSpPr txBox="1"/>
          <p:nvPr/>
        </p:nvSpPr>
        <p:spPr>
          <a:xfrm>
            <a:off x="4267080" y="12952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前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2" name="WordArt 4"/>
          <p:cNvSpPr txBox="1"/>
          <p:nvPr/>
        </p:nvSpPr>
        <p:spPr>
          <a:xfrm>
            <a:off x="4267080" y="251460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中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WordArt 5"/>
          <p:cNvSpPr txBox="1"/>
          <p:nvPr/>
        </p:nvSpPr>
        <p:spPr>
          <a:xfrm>
            <a:off x="4343400" y="39625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战后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Line 9"/>
          <p:cNvSpPr/>
          <p:nvPr/>
        </p:nvSpPr>
        <p:spPr>
          <a:xfrm flipV="1">
            <a:off x="2666880" y="1752120"/>
            <a:ext cx="129564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7432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2666880" y="335268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914400" y="1752480"/>
            <a:ext cx="70866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中哪两个字最能概括曹刿这一人物的特点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025640" y="1981080"/>
            <a:ext cx="1003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远 谋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3216240" y="10508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前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3200400" y="2438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中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200400" y="3733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战后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V="1">
            <a:off x="2225520" y="1599840"/>
            <a:ext cx="838440" cy="68580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3" name="Line 13"/>
          <p:cNvSpPr/>
          <p:nvPr/>
        </p:nvSpPr>
        <p:spPr>
          <a:xfrm>
            <a:off x="2301840" y="2819520"/>
            <a:ext cx="76212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2209680" y="3276720"/>
            <a:ext cx="838440" cy="83808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6161760" y="111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取信于民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Line 17"/>
          <p:cNvSpPr/>
          <p:nvPr/>
        </p:nvSpPr>
        <p:spPr>
          <a:xfrm>
            <a:off x="4572000" y="1447920"/>
            <a:ext cx="114300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Line 18"/>
          <p:cNvSpPr/>
          <p:nvPr/>
        </p:nvSpPr>
        <p:spPr>
          <a:xfrm>
            <a:off x="4648320" y="2895480"/>
            <a:ext cx="114300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6275880" y="2514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捕捉时机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4648320" y="4114800"/>
            <a:ext cx="1218960" cy="0"/>
          </a:xfrm>
          <a:prstGeom prst="line">
            <a:avLst/>
          </a:prstGeom>
          <a:ln w="22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275880" y="377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分析胜因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01" name="Picture 23" descr="D:\网页设计素材\4\GIF动画图标大全\PEOPLE\0021.GIF"/>
          <p:cNvPicPr/>
          <p:nvPr/>
        </p:nvPicPr>
        <p:blipFill>
          <a:blip r:embed="rId1"/>
          <a:stretch/>
        </p:blipFill>
        <p:spPr>
          <a:xfrm>
            <a:off x="6934320" y="5105520"/>
            <a:ext cx="1577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838080" y="2286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讨论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57200" y="129528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是在怎样的背景下请见的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为什么要“请见”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“何以战？”一问，鲁庄公提出哪三个条件？分别是对谁而言的？曹刿的态度怎样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762120" y="1752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十年春，齐师伐我。公将战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762120" y="2590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“肉食者鄙，未能远谋。”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768240" y="396252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官僚贵族；天地神灵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否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〉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大人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肯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1744200" y="464832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曹刿为什么要肯定</a:t>
            </a:r>
            <a:r>
              <a:rPr b="0" lang="zh-CN" sz="3200" spc="-1" strike="noStrike">
                <a:solidFill>
                  <a:srgbClr val="dd2562"/>
                </a:solidFill>
                <a:latin typeface="Times New Roman"/>
                <a:ea typeface="宋体"/>
              </a:rPr>
              <a:t>第三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9:03:2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16:57Z</dcterms:modified>
  <cp:revision>30</cp:revision>
  <dc:subject>第一PPT模板网-WWW.1PPT.COM</dc:subject>
  <dc:title>第一PPT模板网-WWW.1PPT.COM</dc:title>
</cp:coreProperties>
</file>