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CCF6-E9DD-4914-8E4B-769516BAE40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60061-DE95-4663-8A1C-8381729EE24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日期占位符 2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24EE-4984-447B-B823-84361685178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灯片编号占位符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8A40-0CAE-43F7-A1CB-513FC1DE798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77F4E-A2D6-44AD-B6C6-8113595B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00B223-BFD5-4719-9CF8-12E07137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F1F2-0FEF-4F66-A171-305DA94F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4402C-AEC7-4AD8-8998-58741EE8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9F4334-93D3-4D8E-8DFD-2ACCC2CDB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09D926-11C9-408B-96CF-60C60AD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85324-0C1A-48F0-A009-BC9A98F2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FF5D8-6F6B-4EEB-8A6E-A1EBC44A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98F5C-9784-4BF8-882D-C3EF0DE5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9E51-3E52-4839-A39C-1ACF3525D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AB894-1F70-4D13-B567-2767CAB7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41D22-9F85-4BCF-B1ED-BC5533ACE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F0BF3-2353-4BB2-A67A-D6EE67CB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816BD-D082-4DCA-8B0E-E5C06799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058D0-F9BB-4F97-BD9A-1000C4C8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ED8593-DAB2-4BE7-93DD-E2F0B2A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B5020-E71B-4117-93A5-E58846CF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A90E3-6748-40B9-92D4-A4CDE6D7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1F55D-D7F7-48B1-BBBC-A8C7007F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EF79D-DA6E-4609-8C4B-3E8B43AE7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BC98A-4989-4094-919A-B106CB84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CC562-1976-4B85-8DA9-08DF5BB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E65D5C-4221-4BEB-8676-FA026483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101EB-0692-4FE7-B800-38ACA3FB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B80C1-E860-43F9-B363-DA2DE21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0544D-D1C6-4747-8EC4-40AB3E91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4D2FF-723B-4C3E-89DA-5725769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CE6BC-6AE3-4D3A-89E3-439BD554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375B7-66F8-4E4B-8635-9DB6232B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C77EC9-C117-4FBC-AD19-19FF631C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9E74-B7E4-4839-97F7-8D8519CC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5860D6-B739-4A51-8C3F-D4A0B040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269B12-08E6-4758-9157-45C3F2FC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64149-9D9D-4BD1-AC42-6FF40436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B3359-3E6D-4FFE-8A5D-85A6D325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3884F-4F6E-4447-8B7A-5C7683B4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34718-DBCC-4269-9D9D-B7DEE21FD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E9960-154B-405F-8C97-4C5F103B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5D359-91F2-4166-AA6F-2DD1F74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852A6A-ED24-4439-8BDB-5F1A1934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4D3A1D-D14E-4BEE-8FA0-F324D194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1FA-A010-45D0-8813-F024FA7E1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418E4-31A3-437A-8350-31ABF534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28884C-D423-405A-98E1-61BCF89B4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84EBD-1666-456D-B9C3-B8122006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DAD4A2-83B7-4412-B3AC-CC66A1B7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EC2821-9CE9-43EE-8821-E45D41F88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2EBFA9-48A0-4D7D-ABA9-EF9A75818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BF967-EFC4-48A7-933D-7FBF6E4A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84830A-0F5D-411F-9DEF-CDE04D19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B70ABD-BEE3-4992-91FF-D60DF363C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CFF0FC-9723-4641-9818-7EEEA6F40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6DB3-F22E-459F-89CF-3E1B40C6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2A28D-3529-454E-8CF7-4020BCE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151BB-A052-47B0-BC4D-F21596B5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83FB1-016E-4DEB-9C76-90B0C0F8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07C98-6503-4588-9E75-A51C726C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A0F7B-6548-4895-B25A-EB709DAE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81A41-0EBA-4D66-8DD1-DF5D4ED1A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DF7FE-A7D3-4B19-A86B-13AFED62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377-C309-49EE-BF4F-595466A6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2E26-9F3E-4684-BA35-8BE7CF184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3171-8C34-419E-8EF2-F70AB49E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0DE-6B10-49AC-8495-90DE497B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0C5-8989-45E7-8003-44CBE9D3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11D7-3648-4ABC-887D-B470965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B9F6-A881-4E0D-9FC4-97D09C0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F8B8-8958-4CB2-8EB1-9F8575367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A227-4B11-406B-8AB7-CB6B401C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97FFD-37C3-422A-8E9E-EFBF2AA4E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5B126-2905-47F1-9069-3C91A60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4B205-37E2-4C31-B1C1-E57379F6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97199-F315-4D25-8E77-93C3EAF6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2C6E-8C05-49AC-8CB4-70A83A13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D9E7-CE11-471A-AA30-C68E76C12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21BD-BF9C-46B8-B377-5C698D2A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751B-ACB7-482A-A1BE-D55DDA4F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E25D-A567-4EB2-878E-0286F2C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03D3-FE97-4768-AE21-B21F39E3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318E2-08A2-4172-A090-2E197A0F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DA746-47C2-47BF-B44E-A6193AFB8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D7C11-A7F2-4D55-BEFC-029FC6B9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C799-240D-4A11-A825-57A88DD5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1674E-40CB-41A4-A678-3330B0C7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5B46E-4FE9-480F-BE22-4B7E913D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634CC-472D-409E-BF2A-AD64773F0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F9B5C-B12C-4B92-BFB4-E383C5BE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26F06-DF2A-4859-85C8-8FE43492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DA15A-0838-495F-B9BB-0B36D04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A7D0F-A9A7-4E26-BA0C-3DD0C654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0565C-CAD6-43FB-B449-8A9BCF90F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AF8F-B911-443D-BC83-FF0DEED65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6E470-AF65-4FCB-90F6-69E4CDCD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44194-6CE0-4943-8F0A-E48687369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4794-5984-4138-9C4E-3844528B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942E0-8631-48AD-B0BC-D004A0B72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C8EC8D-BCFF-44CE-A137-8DCF1EDF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C2782-AB46-4BDB-A103-73B3168D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503B-C26C-44BD-87C2-14D7A28E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1DF7-DB30-47D5-A3B0-5930A9E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F9092-255D-4358-8872-4DF4C2E9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EAC27-5793-40D8-B0ED-B45D3BEC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C260A-8B64-44D7-84D9-BD57F0FE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382D7-6BE8-4A4B-82A8-D058AAE28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A625E-254D-47E3-833A-48E83377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53FA53-0E26-4ECE-A780-50E09DFBC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1358-6512-4736-AC3A-95C30716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EF03F-6044-42FA-B62D-6772A391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A58B3-A01F-427C-BE9C-48D176F3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665AF-A7D5-4B48-9086-F995D439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1CCE3-36CC-4BDE-951D-EDEB563D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504F5-2F75-4C18-A323-EE66D1116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08375-3779-4651-A69C-7D021ABE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3CC44-E835-4299-8226-CC038F0B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F5BF4-D0A3-4C83-BB0C-E365AEE17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B52C0-922C-452C-B9A3-E6C3B5B8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6FEBB-25CD-49BE-B907-C88020167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C6DA1-BE10-44B6-81BD-A490BECE7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516C-D9C6-4991-A67F-2D4898A8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70D6E-0BBB-44D8-B491-A82E2475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E15E2-496D-46CA-A65F-B955BE48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2CA43-498E-4AAD-8686-D5F15CFE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1CFAC-F89B-4C6E-984B-AAC29A6F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805A0-CCA8-422E-B872-0A3BF77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37D41-8E10-48AB-9CF4-4078C949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F6D2-1F8F-4F1A-A448-B5273C79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4E8EE-6EBE-4D17-8FBC-9B244038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2255B3-F5E8-4C3D-9637-F1A4D0BAE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BBE40-F3F4-4AF4-BA36-EDC85300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BFC45-CB85-4718-924B-22512559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0B943-E0B9-4C54-842F-49FA9C8EC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05B56-B363-4C1C-AA90-527A5C2F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2BF8-AAE5-41C9-AABA-A973F64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F336-715C-4372-B478-6EE8AD68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6F220C-93CA-4D0C-B308-D9E7A64EF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9CD11-2CD8-46F9-BE07-AAD90A61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AA43F-4F98-4E5C-815D-2E3452EE6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EEA59-462C-44C7-AA6B-A4A53BB5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3A074D-E703-4535-AB18-B738E73F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F2CB50-266A-4222-86A3-631CA7AB2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57990-BDC5-4A8F-A42C-F26490DA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B8C66-766B-457E-B6DD-CAF9F7DE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D0F51-568F-4E6C-8222-006681CB2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C3182-8683-4B54-86C3-B472E10E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D982-81E3-4496-9473-1A229A606D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4111-1782-4140-AABA-1283772734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0030-82C8-4D3A-BB8C-35AEBA4D127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6EA0C-F689-460A-8C11-FD0A9000CE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FB85-C6D5-43AE-9A72-4476BAC0F6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FCEF-9717-4A6B-ADE5-63DBFDF2B9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3FD9-2D37-450C-BC13-824FFC01D6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9987-B655-4AD2-884F-7919DEB52C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7212-4D3D-4262-AEB5-C44F8DAFCE0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21302-4623-42C0-A95D-83D9DD1F9A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C995-CCF0-40F3-AC54-C077431750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8ED8-D8B5-433E-A4D8-8F3537ECF1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B8FD-7457-4886-BC0A-ADAEBE2234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F958-5945-48AB-8C2C-419DC097DD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A7E-3846-4604-8BD8-CAC1C074E0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8778-CDB5-4960-BB77-AEA2A17896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A4DBD-6BEF-4F05-86A6-257C9F7B0B5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B6DD-4190-449D-9583-748DA4A660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5552-2CF3-4A23-9A4C-A2D2A4F515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389F-CC23-4F12-B713-E62832B489E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75D3-0D68-4993-AC82-4E109FFD33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4B43D-77EA-4896-BCE8-D14EB03FAA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F09D-3691-4145-AC69-993B63EBD9D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0204-46B7-4E81-B446-F4226F00A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6" name=""/>
          <p:cNvGraphicFramePr/>
          <p:nvPr/>
        </p:nvGraphicFramePr>
        <p:xfrm>
          <a:off x="3143160" y="2714760"/>
          <a:ext cx="5572080" cy="4144680"/>
        </p:xfrm>
        <a:graphic>
          <a:graphicData uri="http://schemas.openxmlformats.org/drawingml/2006/table">
            <a:tbl>
              <a:tblPr/>
              <a:tblGrid>
                <a:gridCol w="1114560"/>
                <a:gridCol w="1114560"/>
                <a:gridCol w="1114200"/>
                <a:gridCol w="1114560"/>
                <a:gridCol w="11142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7" name="图片占位符 8" descr=""/>
          <p:cNvPicPr/>
          <p:nvPr/>
        </p:nvPicPr>
        <p:blipFill>
          <a:blip r:embed="rId1"/>
          <a:srcRect l="12435" t="0" r="12435" b="0"/>
          <a:stretch/>
        </p:blipFill>
        <p:spPr>
          <a:xfrm>
            <a:off x="428760" y="428760"/>
            <a:ext cx="2500200" cy="2214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538" name=""/>
          <p:cNvSpPr txBox="1"/>
          <p:nvPr/>
        </p:nvSpPr>
        <p:spPr>
          <a:xfrm>
            <a:off x="3143160" y="1428480"/>
            <a:ext cx="5572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How do I incorporate my logo to a slide that will apply to all the other slides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3142800" y="499680"/>
            <a:ext cx="37148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2"/>
          <p:cNvGrpSpPr/>
          <p:nvPr/>
        </p:nvGrpSpPr>
        <p:grpSpPr>
          <a:xfrm>
            <a:off x="3497400" y="1214280"/>
            <a:ext cx="5239080" cy="4071960"/>
            <a:chOff x="3497400" y="1214280"/>
            <a:chExt cx="5239080" cy="4071960"/>
          </a:xfrm>
        </p:grpSpPr>
        <p:sp>
          <p:nvSpPr>
            <p:cNvPr id="541" name="AutoShape 3"/>
            <p:cNvSpPr/>
            <p:nvPr/>
          </p:nvSpPr>
          <p:spPr>
            <a:xfrm>
              <a:off x="355716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4"/>
            <p:cNvSpPr/>
            <p:nvPr/>
          </p:nvSpPr>
          <p:spPr>
            <a:xfrm>
              <a:off x="355716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AutoShape 5"/>
            <p:cNvSpPr/>
            <p:nvPr/>
          </p:nvSpPr>
          <p:spPr>
            <a:xfrm>
              <a:off x="6486840" y="1214280"/>
              <a:ext cx="2027880" cy="814320"/>
            </a:xfrm>
            <a:prstGeom prst="roundRect">
              <a:avLst>
                <a:gd name="adj" fmla="val 1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"/>
            <p:cNvSpPr/>
            <p:nvPr/>
          </p:nvSpPr>
          <p:spPr>
            <a:xfrm>
              <a:off x="6486840" y="1214280"/>
              <a:ext cx="2027880" cy="8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5640" rIns="125640" tIns="125640" bIns="125640" anchor="ctr">
              <a:noAutofit/>
            </a:bodyPr>
            <a:p>
              <a:pPr algn="ctr">
                <a:lnSpc>
                  <a:spcPct val="90000"/>
                </a:lnSpc>
                <a:spcAft>
                  <a:spcPts val="1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AutoShape 7"/>
            <p:cNvSpPr/>
            <p:nvPr/>
          </p:nvSpPr>
          <p:spPr>
            <a:xfrm>
              <a:off x="5613480" y="4675680"/>
              <a:ext cx="844920" cy="610560"/>
            </a:xfrm>
            <a:prstGeom prst="triangle">
              <a:avLst>
                <a:gd name="adj" fmla="val 50000"/>
              </a:avLst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8"/>
            <p:cNvSpPr/>
            <p:nvPr/>
          </p:nvSpPr>
          <p:spPr>
            <a:xfrm rot="240000">
              <a:off x="3500280" y="4413960"/>
              <a:ext cx="5071680" cy="256320"/>
            </a:xfrm>
            <a:prstGeom prst="rect">
              <a:avLst/>
            </a:prstGeom>
            <a:solidFill>
              <a:srgbClr val="e8cecf">
                <a:alpha val="89000"/>
              </a:srgbClr>
            </a:solidFill>
            <a:ln w="25560">
              <a:solidFill>
                <a:srgbClr val="e8cecf">
                  <a:alpha val="8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9"/>
            <p:cNvSpPr/>
            <p:nvPr/>
          </p:nvSpPr>
          <p:spPr>
            <a:xfrm rot="240000">
              <a:off x="6545160" y="377244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"/>
            <p:cNvSpPr/>
            <p:nvPr/>
          </p:nvSpPr>
          <p:spPr>
            <a:xfrm rot="240000">
              <a:off x="6545160" y="377244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AutoShape 11"/>
            <p:cNvSpPr/>
            <p:nvPr/>
          </p:nvSpPr>
          <p:spPr>
            <a:xfrm rot="240000">
              <a:off x="6618600" y="303948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2"/>
            <p:cNvSpPr/>
            <p:nvPr/>
          </p:nvSpPr>
          <p:spPr>
            <a:xfrm rot="240000">
              <a:off x="6618600" y="303948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AutoShape 13"/>
            <p:cNvSpPr/>
            <p:nvPr/>
          </p:nvSpPr>
          <p:spPr>
            <a:xfrm rot="240000">
              <a:off x="6691680" y="23227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4"/>
            <p:cNvSpPr/>
            <p:nvPr/>
          </p:nvSpPr>
          <p:spPr>
            <a:xfrm rot="240000">
              <a:off x="6691680" y="23227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AutoShape 15"/>
            <p:cNvSpPr/>
            <p:nvPr/>
          </p:nvSpPr>
          <p:spPr>
            <a:xfrm rot="240000">
              <a:off x="3643920" y="362592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6"/>
            <p:cNvSpPr/>
            <p:nvPr/>
          </p:nvSpPr>
          <p:spPr>
            <a:xfrm rot="240000">
              <a:off x="3643920" y="362592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AutoShape 17"/>
            <p:cNvSpPr/>
            <p:nvPr/>
          </p:nvSpPr>
          <p:spPr>
            <a:xfrm rot="240000">
              <a:off x="3717360" y="2892960"/>
              <a:ext cx="2023560" cy="681480"/>
            </a:xfrm>
            <a:prstGeom prst="roundRect">
              <a:avLst>
                <a:gd name="adj" fmla="val 16667"/>
              </a:avLst>
            </a:prstGeom>
            <a:solidFill>
              <a:srgbClr val="c0504c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 rot="240000">
              <a:off x="3717360" y="2892960"/>
              <a:ext cx="2023560" cy="6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11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 txBox="1"/>
          <p:nvPr/>
        </p:nvSpPr>
        <p:spPr>
          <a:xfrm>
            <a:off x="857160" y="1428840"/>
            <a:ext cx="2500560" cy="26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 the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View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nu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int to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Master]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n click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Slide Master]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 </a:t>
            </a:r>
            <a:r>
              <a:rPr b="0" lang="en-US" sz="1800" spc="-1" strike="noStrike">
                <a:solidFill>
                  <a:srgbClr val="953734"/>
                </a:solidFill>
                <a:latin typeface="Calibri"/>
              </a:rPr>
              <a:t>[Notes Master]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images to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you like, then i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apply to all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61800" indent="-361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ther slid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4"/>
          <p:cNvSpPr/>
          <p:nvPr/>
        </p:nvSpPr>
        <p:spPr>
          <a:xfrm>
            <a:off x="771840" y="714240"/>
            <a:ext cx="13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53734"/>
                </a:solidFill>
                <a:latin typeface="Calibri"/>
              </a:rPr>
              <a:t>Tr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图表占位符 5"/>
          <p:cNvSpPr/>
          <p:nvPr/>
        </p:nvSpPr>
        <p:spPr>
          <a:xfrm>
            <a:off x="1785960" y="714240"/>
            <a:ext cx="5572080" cy="4143600"/>
          </a:xfrm>
          <a:custGeom>
            <a:avLst/>
            <a:gdLst>
              <a:gd name="textAreaLeft" fmla="*/ 815760 w 5572080"/>
              <a:gd name="textAreaRight" fmla="*/ 4756320 w 5572080"/>
              <a:gd name="textAreaTop" fmla="*/ 606600 h 4143600"/>
              <a:gd name="textAreaBottom" fmla="*/ 3537000 h 41436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5071680" y="500040"/>
            <a:ext cx="378612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0067"/>
                </a:solidFill>
                <a:latin typeface="Arial"/>
              </a:rPr>
              <a:t>Thank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2:56:00Z</dcterms:created>
  <dc:creator>User</dc:creator>
  <dc:description/>
  <cp:keywords/>
  <dc:language>en-US</dc:language>
  <cp:lastModifiedBy>a</cp:lastModifiedBy>
  <cp:lastPrinted>1899-12-30T00:00:00Z</cp:lastPrinted>
  <dcterms:modified xsi:type="dcterms:W3CDTF">2015-03-17T05:37:18Z</dcterms:modified>
  <cp:revision>2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