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20DAE-94C4-458F-BEFF-5D7FE740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4A7E2-3ADE-4A0C-9B9A-3941A386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16E8B-0B18-4EB4-8520-FB30F8A1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BC332-90D9-47B9-AFDE-8E0AC3CA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D6D4E-7B6F-4833-BBD8-FCFA7E12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A027A-23D5-45ED-B700-E8BFBEEF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98215-2F9C-4970-B25E-5C5EC55B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E722B-0A32-4420-8BCB-99235748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A2E81-CF39-43F9-8152-806B64A3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F2241-AEE4-4F0A-B721-690AA9E4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C60F5-DDC6-44CF-B97C-B8BE30B7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F0B8F-CCC7-4E96-A13C-3632ACBF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19DF4-34F4-4616-B50F-8FF0CCDD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72816-DD40-4F47-A457-0E2147F2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70F86-749E-47F9-9C0B-23E4CEE2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B4D85-867F-4F52-BB8B-932E5B31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FDA08-47CB-48E6-82B6-CCBB3556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2E21A-0FB1-4F79-9CD7-7FC5D3DD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0B5F6-ABB4-4874-BE04-EAFF5AEB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4E16B-C27C-47F1-A12E-A352DDA6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CCB1E-3ED8-4586-A08E-6E3E82AC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94E91-EB3D-4E54-A0CF-C67A1D82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FD347-E9ED-4479-AE6C-09C5F267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A2AAB-2C16-47EB-A44B-E800AE4A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1EAC6-EC41-42B7-A278-9A290DC0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BC50C-1AD8-4F5C-A930-077755F3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1D26E-87EF-477C-BAC7-2EE97D6A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A9FF4-1806-4BCF-BF69-4C1FCA19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7DD98-F572-4608-ADF7-5B43338A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A7095-9C1C-4D85-B06D-54D37026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BF596-2C25-4D99-BC6F-926B14A0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47D2D-D2CF-4332-8741-4B485DEE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8C461-397F-4934-AD1B-ED9213CB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2B3D1-386C-431D-8364-5C16D516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FBCAB-3019-4C8A-A2B8-563B9E85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DDC18-D7A9-4C57-9A3B-53D6C3B8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F9C24-4C28-4DA6-A01E-459D1F12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213F8-336D-4F94-8332-88B0ADB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5ABD9-7767-4065-B2FE-27C895A7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2EBA3-79C1-4C84-9251-7B42749D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CD4B3-8F50-40F4-B4C8-58D511A8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65996-F672-4164-B400-2FDA3F9D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34601-49C0-499E-A15F-6AF83DAE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A826E-4BA8-46A8-B2C0-2AB29513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0A1B1-2373-410F-ADCF-23C4D5B8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543F2-B59F-4987-B1F3-4F1D4145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B7CB3-486E-4613-A9AF-3359666D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1A42A-EBEC-4069-A4D0-F97D1BC3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1CCFC-F187-4955-AE00-CBF281A3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EA89A-DE66-4DB3-AF7D-9DB43957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79AE2-2422-4C13-9108-EF59354F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74329-27B0-4821-8B3C-C3321B2E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B1293-DF3B-461C-95EF-9BA5EC0C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C3182-881B-4E5E-AFEF-81DE0F01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15806-5C39-40D0-B6B5-7F7DCD97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EA766-5BC4-4E12-8334-EEA56C62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4A3C3-9EAC-4F9E-96A0-C7A64616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0CDC4-30E8-45E1-A9CA-6CEC49E5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7D292-CAA9-45FD-8D5C-05F304DB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96952-4447-401A-B02E-57A10BEC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0F88F-BBC8-427A-9068-F02C3BE7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BAAA7-40BD-43AA-8232-4D20347E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BDDB3-293E-40CD-8F7D-7D5C1591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45B62-CB56-47D2-871D-B0D316C3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A206E-4538-4DD0-B08D-E67C1FD1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B18C1-43AB-4904-BE31-F136DCD2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723AF-D844-48BF-89F5-0266C6C6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9C18F-1AB9-4551-8CDE-E6E11345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F7999-0842-4B76-8E21-A3F9E59A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41C73-8576-4516-BC99-61AE9AA4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37627-C822-4E9A-9796-ECA1C893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664F3-0F55-4D7F-9F8E-4231409F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C8A12-A7B3-4369-A0B0-E8823444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F8498-2211-484D-BC7A-655CEF47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7D555-B975-439B-9930-7D9B60DF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3E68E-D8C2-4F1E-BB34-05AFD753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2E065-ADEF-49A8-8159-79AA3C00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C2C65-7CC3-4A97-B586-61299550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11614-5AEC-4CFE-9C84-CFF12ED3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606AB-F260-4EE0-93C9-8858CC91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3F2F6-9120-4CCD-A1CC-F9A81B8B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8BB8-D244-4C68-B52B-444C7784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33CB-F37A-47BB-8F8B-109472D6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35E0-537C-46CC-8130-AD5EC18B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693F-3394-49F9-AAEA-EC3D6984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8EF45-AAE8-4040-89FE-03026B5F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8BF1-7607-499B-A10E-3213BE80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6D2C-8B23-498B-B61D-41AF4BCD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E8C3-A6D5-4ECE-8B35-8B034ECB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AC4A-16E3-4C1F-B2D9-1B5B4B73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24C3-A338-4590-AE17-43351D95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F33C1-A972-4AAE-9FEF-B990B44D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0A378-6D28-4593-8372-8C4486C6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37FE2-B6D0-485D-BB05-4CE8DA8A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D32BB-6792-4205-B301-FBFE0883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336B8-FE54-4114-ABE8-72B51D87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C993E-BE32-4B5A-B18E-85F5C9D5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295F4-23F0-4E58-995B-2E2D4736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04E23-21EC-4B80-97BB-B92D7AA6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20AA2-8091-4FFE-ABB3-9DD25642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8E1D-0938-440F-8EED-BF74556E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7948A-31B3-47BC-A08E-C0EFB94C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DF314-4AFC-4B2F-BC33-B649FBF2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F8255-BE3B-4975-A1D7-FC0C1425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62005-EA1E-4FFA-A100-80335796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C248-76E6-4FA3-8F99-9FB466A7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1AEF-6160-4CC4-949F-AA947F0A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34DBB-C7B0-47B6-A519-280C8416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7F4E-EEEA-4D52-B79A-C53CC82C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DBFAC-53E6-4D3C-BDD0-6CE5E4B4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ACB28-6B32-484B-AE57-7E60DED8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69B1B-FC96-4903-83CA-955F2060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4B131-000C-47CC-8139-BE9E0FE5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96F34-4513-46BA-8A42-66BF26AB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E187E-2620-4C19-A8BD-C9C1ECAB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424C3-DE26-4098-9EE5-D4C86C5B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1560E-EC72-49A6-89E7-0620E368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49D44-B1B7-441A-9652-B87D77B5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1CD93-422C-450E-84E1-8092E962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C7D03-8C04-4D1E-BB49-66DE34FE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97380-1A9E-407A-B0D8-1CA9E8ED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E6612-92E2-4B7B-8934-FE693AEA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76576-F9D8-41D5-942F-5851D186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83A0B-3FD6-4FC8-8C3D-3D6281EB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E61B4-D33A-412A-9F7E-CCC4F2D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F1F74-E918-4010-8B89-765B0D37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9F9F6-6697-499D-A365-A5EC602E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09D1E-7A82-4C13-9B46-EEEFF59B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F96D3-E93B-4946-BF9F-C454455C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1E683-2066-4651-9F1D-95E8F384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6F250-2FCD-451B-8A80-458462C4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DCF2D-5686-434D-8FC5-E17688D4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ADFA4-D65F-4F78-99C9-B4A07BDC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F7B16-7ECA-4F96-B863-CEA42CB5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01BFE-135D-4D76-B903-C29A809C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B8351-8989-4B88-A9F0-FD30042C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913E2-BA20-4CC5-8EA4-A58A6D62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5EB39-5AF5-42C0-B297-AE1089DF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07A4B-DACD-4771-B20D-77611D19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14F7E-CE11-4BA7-8DB6-02206433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7E5DC-B201-4D6C-ACC2-6FB6F57C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7D4DA-8630-4709-97C9-26ED6C84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457E7-0E97-4AFD-B2E8-40CEB18B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1BB41-272E-4AAC-8E24-F0C52EDB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25CA-FD31-41B8-AB82-0088B1F62CE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A890-854B-4672-8E87-5E8E2C0E213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CA9F-CB8F-4615-AD63-829FA4771D0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FCD9-DE85-4D79-85E9-69961F6EFBC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F426-7AD3-4852-94F0-78F33B79188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F8AC-23C9-4EE1-83E5-A3D28E9A5E3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16AA-41E9-4EE1-A6D1-6B82CB90118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CD36-3563-4CBE-BD17-694E3EC7226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DAB1-01E7-48CD-8C35-1C03ACE915F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7E9A-D214-487A-B2CA-7B69C33BCFA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C03C-C316-42BF-B7B5-2B49060F00C1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7738-1DE9-4948-914D-A47B39FCE2B6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9"/>
          <p:cNvSpPr/>
          <p:nvPr/>
        </p:nvSpPr>
        <p:spPr>
          <a:xfrm>
            <a:off x="7516080" y="6121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BF3F-F077-40B2-ABBF-D39B71E0AF4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A2E6-7C8A-4B4A-BADE-34D7C2887AE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C40D-CA56-4496-9977-294B67CE6B0E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6A48-A5E7-4A4D-823F-4530DE18658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012A-91DC-4F5A-985A-AA9E48BB684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E4CF-3265-472A-A600-F0CD4F92748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C3FD-B415-4741-BB55-EEC909F14E7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3A9A-6D8F-498B-9824-A45C9C7211E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98D5-A73D-4AF1-A1A8-0B65AF7087BB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A262-5FD4-46D4-93F2-A1D01DE4B4F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3528-B38F-4BB6-AEE1-5A9818F2C5B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6341-5F03-4F53-A286-7AFEB650C78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80"/>
          <p:cNvSpPr/>
          <p:nvPr/>
        </p:nvSpPr>
        <p:spPr>
          <a:xfrm>
            <a:off x="3630600" y="3095640"/>
            <a:ext cx="421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Gulim"/>
              </a:rPr>
              <a:t>指导教师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66800" y="2282760"/>
            <a:ext cx="662472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3b41"/>
                </a:solidFill>
                <a:latin typeface="Verdana"/>
                <a:ea typeface="Gulim"/>
              </a:rPr>
              <a:t>论文题目</a:t>
            </a:r>
            <a:endParaRPr b="1" lang="en-US" sz="36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3530520" y="4762440"/>
            <a:ext cx="49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班级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生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号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椭圆形标注 7"/>
          <p:cNvSpPr/>
          <p:nvPr/>
        </p:nvSpPr>
        <p:spPr>
          <a:xfrm>
            <a:off x="1676520" y="3200400"/>
            <a:ext cx="1066680" cy="11430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057320" y="492120"/>
            <a:ext cx="615456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背景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意义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的背景及意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  <a:ea typeface="黑体"/>
              </a:rPr>
              <a:t>论文题目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答辩人</a:t>
            </a:r>
            <a:r>
              <a:rPr b="1" lang="en-US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XXX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专业</a:t>
            </a:r>
            <a:r>
              <a:rPr b="1" lang="en-US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</a:t>
            </a: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教育技术学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指导老师</a:t>
            </a:r>
            <a:r>
              <a:rPr b="1" lang="en-US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</a:t>
            </a: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王佑镁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195880" y="0"/>
            <a:ext cx="3948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温州大学</a:t>
            </a:r>
            <a:r>
              <a:rPr b="1" lang="en-US" sz="2000" spc="-1" strike="noStrike">
                <a:solidFill>
                  <a:srgbClr val="efefff"/>
                </a:solidFill>
                <a:latin typeface="宋体"/>
                <a:ea typeface="宋体"/>
              </a:rPr>
              <a:t>2006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届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本科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学位论文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答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3769200" y="5791320"/>
            <a:ext cx="1713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日期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XXXX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概述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：一张幻灯片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简明扼要（一两句话）说明：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背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意义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目标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问题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框架（</a:t>
            </a:r>
            <a:r>
              <a:rPr b="1" lang="en-US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的展开思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和论文结构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右边是一个例子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400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dc:language>en-US</dc:language>
  <cp:lastModifiedBy>a</cp:lastModifiedBy>
  <dcterms:modified xsi:type="dcterms:W3CDTF">2015-02-09T02:34:19Z</dcterms:modified>
  <cp:revision>82</cp:revision>
  <dc:subject/>
  <dc:title>PowerPoint Template</dc:title>
</cp:coreProperties>
</file>