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4DFE-50CF-48CF-A865-3186E01986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DB97-942B-48C0-A3ED-37AECF39D3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292-12DE-4A07-B58C-D52194A4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78B-CE0A-4BFA-8CE3-6BB279E4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CF4B5-EF00-40E4-B2AF-D820FFC7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8D569-6DD3-4870-BCAB-15BF8496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56841-1867-44EF-99FE-C486BD83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87E2C-7331-4A6E-9FFE-3FDA421C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EB1BE-2C7E-4C9E-B880-F3CA30F1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D3B98-CA84-4C96-97D9-934866F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24C0C-3AC1-473A-A9DF-8194272D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17C7A-67F2-4C27-829B-D9E0B2C7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67ECD-9D06-498F-8E0D-0619FC55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8EEE3-F4FB-417B-9413-8AA52F03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901-2CAB-4148-9B4D-7165331E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7C8EF-46EB-4445-807C-F504D51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CE148-D4E5-42CF-961E-E9FCE973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A9B8A-625B-4F99-AE3B-92ACF244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D89DA-EFC0-4C01-B829-2C3A6352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62EF6-A372-49A8-8821-EB7BCA24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E5CF6-509B-493B-A881-34A7B3D0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98D9E-A89E-4B67-BD60-DA506C5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36FBD-131A-4B75-9EDF-FC4AD539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38687-23FF-4F93-8924-8F41288A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8719E-B092-4714-9662-FBB1674E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A63-6760-4D09-95EC-CACEB67A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006A6-3504-46B2-B168-4EDF9639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05D41A-755F-499C-AC20-FF32DC79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71FC94-845B-44E4-845C-AA093904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8D5C4F-4CE1-4B0E-9F8A-12B89A0F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130F38-4A56-4D9F-87E6-8FF12124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CED14E-B31D-42D0-A645-71D8C746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18EF85-C8CC-498F-B2B4-943015D7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E5DE48-F8B6-4876-A72E-4CEBB2A5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11C90D-0FAF-4ACF-8272-C0375E6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1729C7-1F9A-4EB8-BEB7-4660423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015E-8613-4F64-B37D-23245B02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441CEC-4419-480D-9CFC-A5B2D03C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CC4683-6EF2-4B6B-9827-BEB53558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C83FD7-FBE4-446B-81FE-5A50760F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0B394-71F5-4FAA-A00C-4EF9D0D5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74B25-1B4E-477E-AD33-48D01526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C7899-1313-4423-9991-D2C70241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5057F-310D-4C6E-8C9B-5760B18E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CE0A7-72ED-42C7-B158-1A3A4AB8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2B033-1350-4DBC-AAED-2DE586B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27053-E4E1-46FA-A31C-CC7385B9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A7E-F8F2-4BE2-AC7A-95B5C9A9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1209D-4D1B-4E23-9EB9-60F2F223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ED5FC-E928-4C4F-B54E-97FCF32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02B85-E3E4-4EC9-BE04-199BB336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4C45B-D5D7-49FC-830C-863F0A5B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BC43C-20EC-434C-AF34-8F98FB3A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BD04B5-C79D-46D2-9CC7-4EEB37B5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135E62-909E-4699-9FD6-C37E552D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495F0B-FB8A-4680-AD03-B14D82C9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A138D9-257E-4498-8BFD-0173FA83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E8CD53-9B61-4080-A35E-27DE5D4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EFD2-54F8-4EF3-B260-DF384E09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CC1D6C-2BED-47BD-988E-46D46544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5A243E-DDB1-4A6D-A347-50647C3F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56D81F-0918-4A44-841B-EFD36514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6C6F3B-02E7-430F-A593-85CBE0D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16E3C5-C38A-4997-A6B3-D7349455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7A7CDC-96C8-4E52-B5E2-27C64A5B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2A057C-FE3B-4C08-AE9A-C0212195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A2B356-9902-4779-9911-BAB0C3C5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E2D148-F4C2-4464-98C0-7FACF0D0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09725F-48AD-44DC-B41A-0051BF2E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CDC6-9D2D-4E2C-89E8-6495D6D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900ACB-F641-4B28-AA0D-48665C03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B243F5-B443-4310-9804-F88763EE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4FE531-98AA-4298-95B1-F6510FB9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D0C8B8-06FD-4EB6-9943-6C634759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D18D69-CBD9-4393-8EAE-4C588010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4F790E-3141-4B24-8579-123B7A3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C02869-5F24-4297-B583-C3A9048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0855FB-E36B-4B3A-B3AC-997787C1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0231BB-D8AA-43D6-BF87-C673D6E1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EED37D-13FF-4F4E-B64A-EBC5CE84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77CE-7A66-49DD-B4FA-308424CC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7438DC-5A53-4BAC-A4B0-6FE94675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F348DF-8304-4A23-9A37-7D327B8C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BFFC18-1728-460C-BF1C-0473A795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72FC72-606E-4551-83C4-5DF388BE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51B74E-296A-4FDA-9A8A-624A313C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E24CE9-54EC-426C-880A-BA44092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7D3F2B-8E85-4794-B6F1-4DF88BEF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CA7CAF-B5AC-4F76-9E6F-954469AF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E09326-1E66-4765-84B7-F789A0CA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96BA46-E322-447C-9100-A8B51F96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B7F0-A3D0-4D50-8676-DB1ECCA9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D8D27D-6762-419A-8420-F4319F71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E3E4-E7FA-4D8A-9DA6-AABD4424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14C-C6B3-4E93-AB26-E037C188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A259-9CC1-4A90-896D-868CF4C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105E-B01A-4DBB-A847-1CBC8E90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14DC-AE9C-4809-8706-96F0DD9A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28F0-B5E9-42EE-8404-56C4B904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D2A7-C5E3-4EE7-8034-1E70245E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E00D4-7F76-4B90-A6AE-A651D9C156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92E89-C783-4E73-8737-DAE5A107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EA81C-4B19-415E-AC9B-113176EB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B20E1-DBEE-426E-B578-C0926D3B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FF9C8-0C48-4BAF-B5DA-C4894EF2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DAE-CBC0-425B-BE48-0EEA960F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5210A-3F6C-4DB6-8AE5-5340B9A2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95F37-6EF0-4846-9D5F-4C605E8B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1BF42-C3DB-46E2-A7C6-056FF53A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E5C3E-B193-4342-95B2-24A1D6D4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3B4D6-CEC7-4320-A085-744A6D98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E8C5B-34CA-4151-BEB0-CA7829D9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F7678-E70A-43D5-A8CD-815DC6627E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34F7C-F390-426B-852B-625CCAB44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B2A61-9AFD-42E8-9600-FC8C06AB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F7392-3551-4D72-9471-83225FF2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C0F-06BC-4E5E-8423-075B88BB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B35AE-CC5F-4D21-BF67-A2230F7E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C02F9-AD51-48F2-A64A-DF7A9B76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78BE9-9957-4E96-922E-08CD7C42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1E0E5B-148E-4A7B-8605-D826CAAF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F96BE-1BDF-41B2-B245-B1598CE9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86FB9-4AA0-4D7D-A2D1-6AACB7AE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02A31-A5DD-492F-B596-32D27465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478D6-7194-4344-96DA-A9E9F03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E06CF-61AF-4F64-BFDD-DF58EF6116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D4878-EEBE-4514-9BED-AC368D8E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D2C-4EC7-4E91-B563-2B0A67FA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20BF13-A45F-49B5-BC6F-203461A2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4E73D3-AE0F-4F7C-B1EA-E2999B45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2FBEE0-A6A1-43F4-9F83-EB4E7CAD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CAD06-FF2F-45DD-A3EA-0B0697FA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F8803-7CBB-4503-ACE8-B0E44630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B3024-C1FA-436A-9785-67BF8BB4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AC1B68-B8B2-429D-999D-58AEBE5D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3AB879-A319-4F9C-9814-9F14B917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90D7AE-A5D4-4E9D-8A1A-D6E8C79D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14B698-28A8-4357-9D42-BE37ABF4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8BC-558B-4F82-AB05-B7FF9C26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1323A4-F7D5-4938-84F5-E79F1A3D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E1F7F4-87CD-4283-A380-6F1EC7F4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C81111-151B-4C80-89CA-D08D2769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8168E-8F93-488C-9E19-9F941631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7DABA-10A9-4B4B-AF0F-0D0BFBE3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F48F9E-4D1C-4174-A097-C1A3DF33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F4395C-6F55-4555-826C-99006EB3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28B937-A207-4206-9B5A-E31A747A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983D40-F462-4B4A-AD15-FBFE0DE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A52B63-5825-4568-A444-5D2320F3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7BE-F948-46E3-A730-31A3AE87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7A6CF0-A48F-4974-88C1-4E8AB5A4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53CF49-D22C-40F1-9317-65657F68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C66AC8-A790-42D2-89EB-6BDA002E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C275E9-0B94-4306-8523-DC02BB01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970D77-4F0A-495E-9CC5-67CD69C0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DCA67B-6F32-4407-BAB3-7810F732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96AE0-70EA-4ABE-965F-FDF18BE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BDA108-3164-4BEA-B2D7-7B7BC150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BD283-80C2-4F7A-98B5-47CDA75C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88063B-6BE9-4813-BB78-B97F184D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6C2-7B86-4AC3-8CDA-AFF18E7D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C60ED5-EA96-4C14-B81C-FAE15189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572737-1A4F-4B4A-BFA0-047119BB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CFA2C2-C316-41EA-9637-7620EF9B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FBC229-165E-434C-B5B4-72F21CB3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54E3F4-20B1-40E3-B5A1-C2C30E0A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34C765-8AF8-4D3A-B6EB-D92C0A0A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DCF8E7-BCA9-4BE1-809F-EF85CDCE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3747C4-2613-470C-B4D1-8DA235BA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40D593-2CEC-4E78-A5C8-117224C8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20FAD7-17D9-472A-A239-4F9FB678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F3B-C774-41A6-B34E-25AAC0D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E3D8B0-9A19-43C2-A025-E82460CD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1CC741-2A28-4E11-A622-5135E67C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FB585E-3A02-48D3-8788-637C7AD1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7D1CDF-9560-4E37-BD5D-FEAF9A12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44DE58-CED4-406F-BAF4-D87C808F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C3CBA7-B5C4-4C97-897B-FD6DD7CA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E8E8DC-9DAF-41AA-A170-21B53B69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C70F1-0D55-4804-B454-C0D69857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C1F14-3023-4D78-B9A5-5ABBD6BB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C69FA-688E-4387-8AC5-2DE43449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9FBE-D2CC-41E9-BCCE-9ED139767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31C9-3DE8-4160-8C5A-31F50C913C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DF4C-A351-43CC-8F0A-9AF74E632E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251B-233D-4C49-9ED2-9CF42DB8CF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7F52-95F6-4201-A636-A7A1386AB5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A957-4125-4D06-9241-ED90B836F3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88EB-F582-4FD5-BA51-C47972BB86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7BCA-4D31-4B1F-9096-C4443710C9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E948-7267-4D64-9B2E-AF490390E9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CBF7-5E72-42DD-9F76-B0BE3600E5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D1B0-0728-435A-9FDE-62F7E76E08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4330-68B3-4AF5-8676-5D6D978C97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4E73-5853-4EBB-A1D1-B83A6C9136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8D37-FF29-4F92-A662-C2A5AE5134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C35B-D808-4BEF-873B-AA8C943497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A3C1-46FE-4BC6-977B-094942334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0685-1F14-498D-A69E-9857A81FA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5A18-9C7B-495B-937E-40B0C2E2B8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B15-15B3-454B-95F1-C769CD1759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5AAB-8FD8-4689-9E09-A72B49365E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AE6B-5BA6-4818-9F47-72EA91498B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23A0-1501-4FA7-8C5A-F03D20A499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34DB-DF27-49AA-839E-C4B2F43266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2E57-EC5A-494C-BB08-4E2F18256F2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1061-AF2D-4279-A2E1-2CA9A7AE3C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82CD-2BBC-448D-806B-B585DE4D38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DE5D-BD09-4961-9052-648576691F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2700360" y="2492280"/>
            <a:ext cx="59040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1436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上凸带形 9"/>
          <p:cNvSpPr/>
          <p:nvPr/>
        </p:nvSpPr>
        <p:spPr>
          <a:xfrm>
            <a:off x="7358040" y="571680"/>
            <a:ext cx="642960" cy="214200"/>
          </a:xfrm>
          <a:custGeom>
            <a:avLst/>
            <a:gdLst>
              <a:gd name="textAreaLeft" fmla="*/ 160560 w 642960"/>
              <a:gd name="textAreaRight" fmla="*/ 482400 w 642960"/>
              <a:gd name="textAreaTop" fmla="*/ 0 h 214200"/>
              <a:gd name="textAreaBottom" fmla="*/ 178560 h 2142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9cde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XX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上凸带形 4"/>
          <p:cNvSpPr/>
          <p:nvPr/>
        </p:nvSpPr>
        <p:spPr>
          <a:xfrm>
            <a:off x="7429680" y="571680"/>
            <a:ext cx="500040" cy="214200"/>
          </a:xfrm>
          <a:custGeom>
            <a:avLst/>
            <a:gdLst>
              <a:gd name="textAreaLeft" fmla="*/ 124920 w 500040"/>
              <a:gd name="textAreaRight" fmla="*/ 375120 w 500040"/>
              <a:gd name="textAreaTop" fmla="*/ 0 h 214200"/>
              <a:gd name="textAreaBottom" fmla="*/ 178560 h 2142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9cde5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BABY</dc:creator>
  <dc:description/>
  <dc:language>en-US</dc:language>
  <cp:lastModifiedBy>a</cp:lastModifiedBy>
  <dcterms:modified xsi:type="dcterms:W3CDTF">2015-02-09T02:34:33Z</dcterms:modified>
  <cp:revision>48</cp:revision>
  <dc:subject/>
  <dc:title>幻灯片 1</dc:title>
</cp:coreProperties>
</file>