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png" ContentType="image/png"/>
  <Override PartName="/ppt/media/image3.jpeg" ContentType="image/jpeg"/>
  <Override PartName="/ppt/media/camera.wav" ContentType="audio/x-wav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F5113-6A74-4B6A-B7FD-7B9D195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7529-A680-46AF-99F2-3CE150B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007C-373B-42F4-9D7B-73C2BE12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7D4E-70FB-4333-B52E-388077E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F4E6D-D34A-459D-A034-B2D89D1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115A-40A3-496F-98FA-05058D4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687D7-A876-446E-8DD4-1D3A92D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03595-0A7A-4EC1-8400-2EF06119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8376-9DEF-44C1-AF3F-BB0EA5DD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B9643-B0F1-4B66-8A00-9FC9361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8DEBE-BD30-4C54-A771-47E19162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180D-57B5-47BF-BAEA-08EC35A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DDA95-E0C1-4ADB-9304-54F036E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C0E8-C7B5-49FB-B4ED-04B61D0F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0D168-3A23-42A8-8651-0552954E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05D4B-5132-4186-987D-28D0A8C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B312-C6E2-4DED-BA74-73F441F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C69CF-DC52-4546-8095-6E0017E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48199-08EA-4D7E-9990-9EE2B30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26FA-283D-49CA-8285-1E649B97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8D1BF-558C-4AF2-A4C1-D2446CFD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69E4-22DD-47E7-9152-9C18508F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3109-CCD3-48D8-BFEB-32C98B65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30E88-25BF-4156-A136-B38368A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DA709-C250-4D4B-BB62-6720A0DF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A164F-5A11-42D3-BE68-3DE7BD9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7B86E-E085-48CF-A9C8-70490A8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34061-4667-4863-B521-6031567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845E-BDA3-4FDD-80B7-BAB14AE4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7B3C7-3F62-4E4C-A615-844F6C5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2CA-723A-49F1-BE46-A5EC1B8E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7C810-3F3E-4354-8052-F3AB46D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D621-28A3-4297-8095-94E813D3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EF7C7-18C3-4FA5-A9A3-FD1A6CD3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4B13-5A75-415F-988C-4AE6C29C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2011-D6AC-42D1-88A5-5ABADF9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8979-4EEA-466C-8B53-234A836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ECEC-E0DA-4D88-B811-EBB7634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9DD6-4C09-4133-87B9-E633FB8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6737-BD00-449F-AABA-7691875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EEBD-49EB-44F0-8543-6FFF3F5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FF8-8F5D-4BAD-9ADD-6598071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ED72-F4AE-4EDC-814F-F942207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E132-058D-41C8-BBB6-CDD55E4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017A6-D74F-40A8-9A04-A93F6C0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BC34-FC28-41F1-8107-63D5254E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A4C4-B458-476A-A7E6-F6556FA1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627D-9F20-4E77-8814-5997538D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13168-A8D3-4609-9302-3B14F3C0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78BF-E796-4942-A458-5B29852F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ED1C-AA82-48C3-814B-C7C3590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47AA7-3939-426B-9006-E038308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1E4-1DF2-43FE-A076-581E82E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89870-8634-492D-A23D-7EA8BA67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DF98B-A3C0-48B9-93EC-DD2DA3F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5596A-300D-4ECE-910B-F0CE1D9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B40F-2CB1-4093-B1BC-90FACE7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43E5B-27CE-4E4F-B9F8-AD388DC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E4C3C-E687-487B-81B2-4537B92E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C8E15-C021-4650-82A3-7E12729B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AF4-4F79-4B2A-A06B-51089EE8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659-EE25-444A-A32C-06977EEF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2AB-CC86-4E85-A724-96FA24D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F1D-6D10-4F1C-9A32-5899079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9F4-6D27-4C0D-8F02-C6D52DF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2ED-8AF8-4214-9F78-26658EB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CF9-90D2-4200-A7C0-9C9895E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351-976E-4B7B-A630-DACD4800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815-4035-4774-87B7-14F8008A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71C-4F44-457A-AC87-366CEF20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854-2356-4EE4-9678-B7883C60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DB2-BB29-454D-9654-83B3871C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3621-539E-4C99-81D7-38549E4B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5A1A-FBD9-4139-954B-21F6CD4D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561A-9A26-4EC7-BEB7-3D74CFE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A5B-7D7B-4879-903B-9D3FE52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0078-D516-480A-8850-AB3B1C6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66D-0EB1-4F10-A33D-6828F86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81E9-AEF5-40D3-AA37-26857C2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57D8-F527-48D8-9513-01B8B7B0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4560-6DBB-45C5-96AA-513A96A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68D3-0437-4B2C-9785-7B8BCA62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17E5-CE50-4BF1-B938-966953EE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5930-59AF-402A-927B-76A538D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624B-2F70-4C49-9E6D-A4885D0C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5309-DBDD-4F05-801D-C417778A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15CF-8408-4A46-95E2-AEEAFA3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021A-A095-4CDC-BF54-8D8ACB5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92A1-F1E0-4D77-9E4E-01D48C7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412E-F34D-453B-B236-9CB649B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CBE5-FD02-4637-9F72-91F0643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6739-EB45-4D99-8B02-F40D1A83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2C85-6BF3-4CB3-8A0C-F42B2106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F0C1-92D4-4C01-ADD0-D088B029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5C82-2E3E-4434-AA9D-452E6BAA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DD3E-0353-44D3-90A8-5BEF892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90A7-ED65-4229-AF6D-60F2014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6EE7-BFC8-4EA7-B53F-3F5ACEC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BDED-59DA-4D53-8AA7-8DDA9E8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2753-E953-4004-89CA-F805C1F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CC92-062A-46ED-B25A-296BD0B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3A29-55E0-4E74-94AC-B6FD1510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5834-E896-4DE3-BCB8-F1F292E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E034-68DB-4C62-AC5C-FDF60418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1906-88FA-4E84-BCCD-EE29EE0C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1D91-E044-40B8-B06D-4E5C53C2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F0B5-59DA-43AB-B7E5-0EB441F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2A6E-8053-4622-A824-F56DF11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F4120-A32F-490F-B924-07A39CF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E046-7B20-481D-A916-34B9019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7A81-624F-47F6-9DD7-E4F18221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24A4-704C-4504-B190-BDF6A2E7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9ABB-D88E-488E-968A-C9FDE48F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988F-8C7F-4056-86FB-1212B7E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8B01-312A-4A17-B345-21FF2BC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1501-A7C4-4B8C-B312-24605B3D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1B573-64F3-488D-BCDD-CFC03868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EE6F-2563-42FA-BEE1-B70C3C84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8349-C552-48B8-B64D-283B89A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D54C-E8FF-42B3-B96D-04444C4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6F73-16E9-44D3-9D02-D5BE9E3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AEF22-0BED-415F-8FB3-6D9CCD9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DF24-E07B-4B08-BD4E-DDC4EB5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E4B17-2668-4D93-B975-F70138B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44E4-0B1D-4C14-9E7F-213F2B2B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98EB-8A99-4702-A5C8-5A1370E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613C-6E64-44C3-92B5-BF6D616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D958-145B-43F6-8A16-2328BC89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2CA2-C2CB-476B-82BE-12A8B522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6EEE-1275-459C-AB3A-C3BD79E3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6F2D-4FD5-42E6-A1F3-B0940F67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4D905-78C8-4827-8F24-2553E630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CE9C-B7AD-4AB1-B7B1-5D325423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5A1A-68E7-4A6A-8366-1EED9AEF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0CC3-2CC8-4D11-9E0B-4F2E473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3BB8-B238-42B2-82AB-87E68FD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5A9D-AF1E-4F43-82DE-9321022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1385-BB38-42D0-BAA4-4898EC3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D16D-6E98-4EE5-92F2-352752DE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ED5F-3B46-4B4C-BFAE-95DCD4B8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4DBCE-59AA-4E05-8020-8F16A8CD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92EC-30A4-4F35-BE62-D7072EEC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9789C-FCD8-48EE-A4D4-2220A18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8D3B-67A5-455E-9F7B-6BE1A53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A3E-032E-486B-93A0-FA116F6ACF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206-B031-4DB2-BC90-8DF238898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65D-F26C-4796-BE5B-A75331CEF0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BE1-FC49-4A12-8046-7B490FFD3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0A9-2E9B-4935-9237-C62676B482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75C8-1BFC-4D5A-80B8-D1C5CEE914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8F5C-D97F-4BC2-B28B-63D4EF91A9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5593-0856-4EB8-B53A-F2CA85DB2B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B100-DDB6-459D-8F65-939A8CD766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806-390F-4547-9D01-E30C4F01F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9FF-4EAA-4197-8335-D828EC38FF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094-82BC-40A8-9E41-EE5D681E2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0CC3-C382-44CD-B654-302220911C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918-F986-4FF8-ACA7-B50CB5A90B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709-3F2E-4F23-8DB6-0FFB5944B0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08D-BCE6-4C8C-8256-FBCDF4D37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742-E5AD-4CB0-A388-407C62BD89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165-2CC5-4CA7-82BF-E822102BC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312-D13C-4508-A477-FF7630659C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08AC-0C9B-422B-B580-9C33B6D19C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B99-E6CC-48B9-AFCC-951098A762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AE4E-D338-4CD0-AAB8-C07BC75CE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883-B4D4-4C80-9297-8A5FD3C654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5C3-657E-4990-98DF-8A55D50841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835280" y="2276640"/>
            <a:ext cx="604836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5b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登    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颌联写了萧萧而下的“无边落木（落叶）”、滚滚东流的“不尽长江”两种景物。这样的景物，对于当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（逝世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）、飘零流落同时又是一个现实主义诗人，一个有阔大的胸襟的知识分子的杜甫来说，会产生怎样的感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95280" y="2781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826920" y="342900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既感到人生短暂而渺小，历史悠远而不可逆转，因壮志未酬而产生惆怅；也会感到豁达、坦荡、胸襟开阔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如果说前两联是写景，后两联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826920" y="155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抒情。直接倾诉内心的重重愁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24000" y="2421000"/>
            <a:ext cx="8424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、从“万里”、“作客”、“百年（老年）、“多病”、“独”这些字眼中，你能领悟出诗人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84360" y="393372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逢战乱、时值悲秋、离乡万里、漂泊他乡、人到老年、体弱多病、孤独无依，再加上国家多难，诗人身受八重愁苦。倍感老病孤独，身世凄凉，十分眷念家乡和亲人，也为国家多难忧心忡忡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569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尾联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艰难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潦倒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词形容的是国家还是个人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苦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字如何理解？这一联表现了作者怎样的思想境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5280" y="2205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既是国家，也是个人。客观上，“国破”与“家亡”是因果关系；主观上，诗人一直忧国忧民，为国家破亡忧心如焚。从联句的对仗关系看，“苦恨”与“新停”相对，应是副词加动词，“苦”是副词“很”，“恨”是动词“遗憾”，诗人很遗憾过早的白了双鬓，不能多为国家出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古代知识分子大多以“达则兼济天下，穷则独善其身”自勉，而杜甫无论穷达，都心忧天下，其思想境界之高，不愧被称为“诗圣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581280" y="663480"/>
            <a:ext cx="4876920" cy="5031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万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地之远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时之凄惨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羁旅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常作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久旅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齿暮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衰疾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高迥处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独登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无亲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十四字之间含八意，而对偶又极精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09480" y="669960"/>
            <a:ext cx="2835360" cy="192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宋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罗大经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曾说颈联的十四个字中含有八层意思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077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079"/>
          <p:cNvSpPr/>
          <p:nvPr/>
        </p:nvSpPr>
        <p:spPr>
          <a:xfrm>
            <a:off x="358920" y="363528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意象分析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080"/>
          <p:cNvSpPr/>
          <p:nvPr/>
        </p:nvSpPr>
        <p:spPr>
          <a:xfrm>
            <a:off x="3057480" y="4915080"/>
            <a:ext cx="5791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能尽可能了解诗人生活的时代特征和其自身境况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081"/>
          <p:cNvSpPr/>
          <p:nvPr/>
        </p:nvSpPr>
        <p:spPr>
          <a:xfrm>
            <a:off x="3057480" y="1231920"/>
            <a:ext cx="57913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展开想象与诗人形成共鸣，甚至让自己化身为诗人，体味诗人所思所想所感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082"/>
          <p:cNvSpPr/>
          <p:nvPr/>
        </p:nvSpPr>
        <p:spPr>
          <a:xfrm>
            <a:off x="3057480" y="3352680"/>
            <a:ext cx="5791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抓住诗中的形象，紧扣表现形象特征的词语，体味情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083"/>
          <p:cNvSpPr/>
          <p:nvPr/>
        </p:nvSpPr>
        <p:spPr>
          <a:xfrm>
            <a:off x="358920" y="515952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知人论世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084"/>
          <p:cNvSpPr/>
          <p:nvPr/>
        </p:nvSpPr>
        <p:spPr>
          <a:xfrm>
            <a:off x="358920" y="1658880"/>
            <a:ext cx="2612880" cy="642600"/>
          </a:xfrm>
          <a:prstGeom prst="rect">
            <a:avLst/>
          </a:prstGeom>
          <a:solidFill>
            <a:srgbClr val="d5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移情入境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457200" y="990720"/>
            <a:ext cx="84740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鉴赏杜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蜀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思想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52280" y="2133720"/>
            <a:ext cx="8763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蜀相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描写了武侯祠的位置和景色。诗人感物思英雄，情溢言表，以深沉之笔歌颂了诸葛亮的才智和功业，叹惋他的壮志未酬，寄托了诗人自己对时局的忧虑和不能实现自己的抱负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5256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自主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54"/>
          <p:cNvSpPr/>
          <p:nvPr/>
        </p:nvSpPr>
        <p:spPr>
          <a:xfrm>
            <a:off x="441360" y="762120"/>
            <a:ext cx="8474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人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蜀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在写人（蜀相），而颔联两句却写了武侯祠之景，走题了，是一处败笔。你是怎么理解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50"/>
          <p:cNvSpPr/>
          <p:nvPr/>
        </p:nvSpPr>
        <p:spPr>
          <a:xfrm>
            <a:off x="4123440" y="2168640"/>
            <a:ext cx="1039680" cy="642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映阶碧草自春色，隔叶黄鹂空好音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51"/>
          <p:cNvSpPr/>
          <p:nvPr/>
        </p:nvSpPr>
        <p:spPr>
          <a:xfrm>
            <a:off x="228600" y="2971800"/>
            <a:ext cx="87631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同意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蜀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旨在歌颂诸葛亮的才智和功业，叹惋他的壮志未酬，从而借古来抒发自己的怀抱。而颔联两句：阶前碧草一到春天便是一片碧绿，年复一年，可为谁而绿？隔叶的黄鹂叫声动听，可有谁听呢？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和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，写出了祠的凄凉、冷落，蕴含了作者无尽的感叹。两句情景交融，为后面的咏叹营造了氛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553"/>
          <p:cNvSpPr/>
          <p:nvPr/>
        </p:nvSpPr>
        <p:spPr>
          <a:xfrm>
            <a:off x="3655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迁移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55"/>
          <p:cNvSpPr/>
          <p:nvPr/>
        </p:nvSpPr>
        <p:spPr>
          <a:xfrm>
            <a:off x="2658960" y="2168640"/>
            <a:ext cx="6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56"/>
          <p:cNvSpPr/>
          <p:nvPr/>
        </p:nvSpPr>
        <p:spPr>
          <a:xfrm>
            <a:off x="6418440" y="21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15"/>
          <p:cNvSpPr txBox="1"/>
          <p:nvPr/>
        </p:nvSpPr>
        <p:spPr>
          <a:xfrm>
            <a:off x="3124080" y="198108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谢谢！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27" descr=""/>
          <p:cNvPicPr/>
          <p:nvPr/>
        </p:nvPicPr>
        <p:blipFill>
          <a:blip r:embed="rId2"/>
          <a:stretch/>
        </p:blipFill>
        <p:spPr>
          <a:xfrm>
            <a:off x="7238880" y="2743200"/>
            <a:ext cx="1905120" cy="3276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028"/>
          <p:cNvSpPr/>
          <p:nvPr/>
        </p:nvSpPr>
        <p:spPr>
          <a:xfrm>
            <a:off x="533520" y="213372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风急天高猿啸哀，渚清沙白鸟飞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无边落木萧萧下，不尽长江滚滚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万里悲秋常作客，百年多病独登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 Unicode MS"/>
                <a:ea typeface="华文隶书"/>
              </a:rPr>
              <a:t>艰难苦恨繁霜鬓，潦倒新停浊酒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杜甫小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04920" y="914400"/>
            <a:ext cx="8534160" cy="15562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杜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12—7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字子美，曾居长安城南少陵以西，自称少陵野老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杜少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原籍襄阳，迁居巩县。杜审言之孙。开元后期，举进士不第，漫游各地，寓居长安近十年。及安禄山兵陷长安，乃逃至凤翔，谒见肃宗，官至左拾遗。后弃官移家成都，筑草堂于浣花溪畔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浣花草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一度任剑南节度参军，检校工部员外郎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杜工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其诗显示了唐由盛转衰的历史过程，被称为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诗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。以古体、律诗见长，风格多样，而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郁顿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主。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杜工部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背景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04920" y="685800"/>
            <a:ext cx="8610480" cy="10688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首诗是杜甫大历二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秋在夔州所作。夔州位于长江之滨、矍塘峡口，以水急、风大、多猿著称。诗中抒发的不只是诗人个人的不幸。当时，安史之乱已经结束四年了，但地方军阀们又乘隙而起，相互争夺地盘，造成社会动乱，民不聊生。在这种形势下，诗人只得继续“飘泊西南天地间”。他的郁闷是多种因素造成的，这里有时代的苦难，也有家道的艰辛，个人多病和壮志未酬，再加上好友李白、高适、严武的相继辞世。为了排遣浓云一样时时压在心头的郁闷，他抱病登台，但悲凉萧瑟的江峡秋景反倒使他增添了新的悲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5f00"/>
                </a:solidFill>
                <a:latin typeface="Times New Roman"/>
              </a:rPr>
              <a:t>诵读提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6360" y="728640"/>
            <a:ext cx="9144000" cy="52131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拍要清晰，体现诗的韵律。语气要缓慢，沉重，读出“悲”的基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首联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奏感要强，注意表现整个画面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颔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要读得气势开阔，有包容宇宙之意。“无边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木”“不尽长江”二语要一气读出，“木”“江”二字可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、适当延长、有余韵；“萧萧”“滚滚”要拉长声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现木叶和江水的形象，表现诗人不尽的愁绪哀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颈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是全诗的高潮，要提高声调，读得悲愤。重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悲”“常”，描绘长年飘泊之苦；重读“病”“独”，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老病孤愁，以加重悲苦情绪。基调沉重，宜缓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尾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含无限凄凉于言外，应读得更加缓慢、沉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听者仔细体味诗人此刻百感交集的心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938160" y="91440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481120" y="99072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2378160" y="1905120"/>
            <a:ext cx="6858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2584440" y="289548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啸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481120" y="380988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2481120" y="478476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2584440" y="57913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飞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7448760" y="2514600"/>
            <a:ext cx="790200" cy="131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意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凄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4816440" y="2514600"/>
            <a:ext cx="1400040" cy="1312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独无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漂泊痛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938160" y="190512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938160" y="289548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938160" y="380988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938160" y="480060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938160" y="5791320"/>
            <a:ext cx="76212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1438200" y="1079640"/>
            <a:ext cx="1305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落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663200" y="2819520"/>
            <a:ext cx="8514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417840" y="1079640"/>
            <a:ext cx="129528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622680" y="28195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037120" y="1066680"/>
            <a:ext cx="12193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萧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5241960" y="2819520"/>
            <a:ext cx="7902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滚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825720" y="1905120"/>
            <a:ext cx="140004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命之短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825720" y="3762360"/>
            <a:ext cx="140004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之永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674600" y="4800600"/>
            <a:ext cx="598320" cy="6426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境：苍凉、雄浑、沉郁而悲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7696800" y="1920960"/>
            <a:ext cx="66852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沉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7696800" y="3762360"/>
            <a:ext cx="668520" cy="581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4598280" y="5562720"/>
            <a:ext cx="598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豁达、坦荡、开阔的胸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6759720" y="106668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6759720" y="2819520"/>
            <a:ext cx="4856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7"/>
          <p:cNvSpPr/>
          <p:nvPr/>
        </p:nvSpPr>
        <p:spPr>
          <a:xfrm>
            <a:off x="1905120" y="822240"/>
            <a:ext cx="69339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诗三、四两联是抒情，有哪些字眼充分表现了作者的情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979800" y="136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1676520" y="2336760"/>
            <a:ext cx="723888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：表明了离国别家，漂泊路途之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：表明了离家万里，流浪他乡的时间之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客：客居他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：感叹年老多病，精神疲惫不堪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：感叹独自登台，形单影只，万分凄凉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恨：感叹过分的愁苦和愤恨，以致两鬓过早地斑白了停：感叹因穷困潦倒没酒可喝，只好停下酒杯，郁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胸中的愁闷得不到渲泄的情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苦：是极度；极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痛恨两鬓染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研讨思想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首联写登高俯仰所见所闻，一连出现哪六个特写镜头？渲染了秋江景物的什么特点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24000" y="3068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疾的秋风、高远的天空、哀鸣的猿啼、孤零冷落的小岛、水落而出的白沙、低飞盘旋的水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些都是具有夔州三峡秋季特征的典型景物，捕捉入诗，不但形象鲜明，使人读了如临其境，而且所展示的境界，既雄浑高远，又肃杀凄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3:24:30Z</dcterms:created>
  <dc:creator>兰萍</dc:creator>
  <dc:description/>
  <dc:language>en-US</dc:language>
  <cp:lastModifiedBy>a</cp:lastModifiedBy>
  <dcterms:modified xsi:type="dcterms:W3CDTF">2015-03-17T07:10:07Z</dcterms:modified>
  <cp:revision>329</cp:revision>
  <dc:subject/>
  <dc:title>PowerPoint 演示文稿</dc:title>
</cp:coreProperties>
</file>