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BFF-D810-4379-88F4-C0DFF611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4AA-E5FE-4B75-9D10-4B206E73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A7603-5F93-4E2C-B684-D597BA53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E80C6-CE3C-4886-A098-94158B03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27FEF-01B4-4396-981A-8CB19951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6D563-AFE7-412D-B9D5-CF92CF13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4172B-6468-4277-A2AC-84A68066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01BF0-194C-47D7-A1F6-BB9AECE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A095F-C864-4C27-BB6D-E1FD64D2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71E01-6B8B-4C6F-BCF3-17C11A22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54F37-192A-4E75-AACD-BE70DB52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02AB4-3608-4CEF-86BE-4623AD59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05B-4709-48B5-81F8-8AFF27DE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C1B4E-1D28-4886-85EF-5116994D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DAC14-B663-45DB-A86F-30C23F6D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333EC-48ED-4855-B913-DE53B479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04081-47BE-4FDE-9784-BE46F787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B17D2-2BC2-42AA-9980-8A72F086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20C3E-49A8-48E7-9D43-B6A67675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1D76F-6A1F-4540-B18A-D49D2CFA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6DC0A-1E4C-47B4-823C-DA633802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864C4-1C39-4CE6-BD07-01C2DB42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F87CF-FC22-427E-8FDD-4549B1D9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204-1F2B-4840-B1E9-7FF824F3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1AECC-D1A9-4098-80EC-053FD710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26783-25FB-4B9B-A9AB-24842435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253A1-1FEA-4723-9BEC-DC320165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19C48-37F3-4935-B7CB-32BE552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CF2DD-C8CE-47AE-86D3-F3A3C5A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83967-BC18-4DA2-B988-354AF292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01C99-90DB-493A-8139-D383124C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183E9-4BDE-40CC-B4BF-6ABE35F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76428-6D8B-4C4C-B1B1-4FF065A0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4F5BD-0478-4F41-B050-8919A4AF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DF8C-6F4B-4600-BFF5-C3B214CD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D2F89-9BCF-4AC8-A92F-5CDBFDE6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9D25F-B4A8-429F-9F5C-C81D87CC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5C6F4-C1A4-491A-806D-FCC12BEB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BBDF3-FA7A-49FA-B4A4-A3F2B689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C7C5A-7184-4C26-8C49-BCAE40EC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C03C1-EC74-40F1-8957-4595A35C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957B8-C204-4BC9-93DD-3D40C089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A8AB0-D325-45BA-A4E9-CB52D6D3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276BE-763A-4D0F-9DCB-11326CA7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463A3-B73F-461B-917D-327F35E5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87C9-DB1B-4E95-9E6A-0CDCBAC8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10ED6-89A8-4456-BA9F-22C282D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DB5AC-0BFF-49E5-B454-B9BC7194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3097E-2629-48E0-997B-DE206B83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CE20A-A4AF-485D-A221-86BB30AF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3B932-B4C6-4682-AEF8-DD0D52B5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849BE-BE7F-430D-A966-B90798F6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14716-7A2C-4C1E-BCAB-D7D3484B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3C07E-C9D9-43F1-A66A-9EBF1819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4752E-28F8-4B9D-9AF0-F9770748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367F0-F318-472E-AD25-68496329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A6A8-9147-431D-A140-23E5556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EB171-1FBC-4FAC-8541-1CED84A5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35BD3-77A3-4CAC-B480-27871892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58506-9A41-440B-8EEA-F29ECB55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6927F-3206-40C6-ADF0-E7DF15BB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050C1-76FC-4263-9296-328F9FB9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C4331-A0B6-4326-96D3-AEAC11AA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40130-6F09-4B96-B11A-270F6126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EE37-94D6-4DF1-80F4-0C76FC17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4B1B-9C97-4A9A-82C8-60B0D821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9228-C7E6-466C-99F6-DE760EA0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6BC9-2CAE-4FD1-9D5E-15636A9E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031-C18D-4645-A3B5-FBF2D33A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652D-E129-44A2-8F0E-941838FF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92C8-24A3-452B-91FA-41E295B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7780-335D-4142-898B-8E4701FB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747E-965D-4619-8B4F-D0AE84BB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F62B-4263-4660-8BF2-26AFA1EE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9786-07F4-4115-9238-F1477FCA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5E1E-BAC3-4A86-B646-2B6D3C71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F237-90C6-418E-8FF3-6056CE7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F56F-DED8-4158-87F2-F80156B6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F16A-52E1-44B9-8BA1-33674452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5D2-1941-470A-B531-F1453555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4D1A-7AC0-4FE4-9B16-CE64CF0B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84B0-4AE5-4215-B9A8-A5B31013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B1ED-57FB-4903-91F3-2B8D009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44F7-FDA9-4251-9DB8-ED5DBF5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813C-632D-4FF2-974B-96B782F1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97A8-1CC3-4C52-96ED-B562D8A4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A35A-0FEF-4EBF-A232-BF0272CB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9DA0-9513-4A96-BBE8-67F6487F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1FEE-B851-4FA7-AFF7-74576D3A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304B0-0687-4DAE-B9DD-84F0C0A3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1C2-8209-4897-9918-13233B10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8746-1D15-4B0F-AE64-EFE49AF4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98E40-D9E1-4F3C-BB60-96E4550E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5A70-A58E-45E5-8F6D-7929261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01AC-91C2-428C-8E92-3BFA2C80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FB39-FD51-448D-B32B-34B4FFA5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30C6-614F-4F23-B688-76855232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BBFA6-0D04-414E-B594-9FB6D7BA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38463-799C-4601-8DA4-11834FC6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94864-8928-4F6D-A99B-F6516148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5CDA9-94FA-4430-B7CC-A90ABD40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825-3081-4B51-B3CD-1463B1A0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6EEBC-487A-48EC-80DA-7A54B117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6728-6950-4A87-809F-DF0F10E9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EC65D-A658-447E-BFA6-33A62B3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F4F4D-5489-428D-8139-D12EB490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97712-AA42-4B66-831F-C05DEE94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83364-C605-4282-BD5B-2D7A3D7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67823-128F-402E-B07A-33F6DD0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4785-720D-497C-893D-ACCA9A9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0E8E-5E9C-4656-8A46-B211674C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60FFB-A54A-495B-AD04-F0AEFEF9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D78-AEBF-4D1D-9F3C-B1EA1D2A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D9BB9-9A69-476D-B4FA-B7CF036E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F1463-323C-4BC7-B2E4-FA6BA2F3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EC5D-6AA8-4A41-9A7A-D6B4342F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66D66-3D68-4E95-8A5C-457D61A1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DBEEA-163E-438A-B714-8E15DD21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B58E-EF27-4FC8-B9AC-979334DF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B6037-F080-4351-B936-CF19F9DF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CE1EF-CA99-4CEC-8C22-BD4DF77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946A3-DEC9-4908-8636-80A0A3B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9B7B3-435E-4C81-807F-58551A1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58C-F28F-429C-BFAF-082DDBCA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8DCA3-2357-4AC2-AD3C-57132670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7BA6-BC75-4EEB-AB39-067C6D57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FE7FA-99AB-4FFD-B343-08873F46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0BACF-1A28-4F15-BEF6-47BF0017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3FC0E-A995-4A97-87E1-E1D13626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DA2C1-D6EE-4280-9337-07C045EC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84110-38FD-460F-B392-B6F3B1AE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A9E08-3E39-4499-B4EA-DEAF6BEF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8F2FF-F976-4613-A587-043408D5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03D9B-A0D5-4D57-A236-A1DFD57C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994-32CC-4F64-8033-A492114B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24733-37C4-43A2-BDA4-04F376B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29D90-0E40-4EE0-A7E0-CD80BA1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F5230-F420-4FF2-A306-BCB8A6F0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4B2C6-AC46-4577-896B-3F5785C1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E6AE5-7214-4329-A660-F48A397A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045B0-89CD-4097-815E-89151BE8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D93F9-BC9E-47A2-816E-1653F3A6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181E5-AA6A-457E-8821-18D10995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2BAEA-B465-40C2-851F-A02BDA12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61F4B-BDB3-477D-8545-07BACF11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9D8-27C8-4593-A984-B42879D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61888-6457-4AF6-BF5B-2085FA79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2811-89BE-4334-B669-D6CC84C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7A0BD-7DEE-4EBE-8516-AA22FA62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20AC2-5ACB-4ECB-87A4-CD84D542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57DF7-20AF-4FD2-A81C-9567C7CA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7B8F2-2C61-4055-994E-5CAA09D8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80280-0A42-4E35-BEAF-814BB401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93AB6-7F0E-4B47-BF4E-FB6C9FE1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AE354-A463-4FF6-9386-B39B3008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949AF-23EC-4449-A23F-E39139D7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E6EB-F45F-423B-AB6B-FDD5A23DA3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0324-A404-4DB7-A950-2D1A96F263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89E0-2643-4C1E-AB0D-4853286C4D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092E-5455-43CB-B919-2D111CEAEB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9725-7CBE-4234-BCA8-0D59B77547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0F43-1B9A-46C8-8CB7-400B06E21B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ED5C-D7E7-4809-BAC3-16FDBC89F0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C872-2FFA-41CF-952C-1C24CFC132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BEE6-6478-46EF-83DA-062143268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11F2-E5CD-440F-9DD7-0852EA68EF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70AA-7C6F-4B3D-9731-3C3CEE627C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4170-55EE-4AB3-AE30-D5EB76610D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5103-E18C-4BB8-B834-EB5E8F457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0E7A-6B81-4560-ABB5-A3512DF933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5A8E-0866-4AA7-9367-894D5B8302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CD4E-402E-40ED-B303-993CBBAFB2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96A3-FE53-46A8-9AEA-DA7952C68A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B4F0-2395-4488-A20C-55C54CBE6C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8E6-4956-44AC-9210-E214E194EA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0BE6-447E-45E7-BD53-46AA94441B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A9F9-F9D7-4F3C-82EC-71C1517B34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A186-EF73-4ED7-BF35-EC48DC6CC5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ACFB-AC54-4016-9D13-56C57C732A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FDBE-6698-4AD2-AA69-454D34E884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B6C0-B55C-4152-AB4D-1EABEFD284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b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bg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1835280" y="40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476360" y="33336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6372360" y="1125360"/>
            <a:ext cx="237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6443640" y="1916280"/>
            <a:ext cx="24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河汉清且浅，相去复几许。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盈盈</a:t>
            </a: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一水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脉脉</a:t>
            </a: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不得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6516720" y="386064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揭示根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348000" y="479736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3276720" y="595008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1" descr="无标题"/>
          <p:cNvPicPr/>
          <p:nvPr/>
        </p:nvPicPr>
        <p:blipFill>
          <a:blip r:embed="rId3"/>
          <a:srcRect l="52500" t="37240" r="9735" b="0"/>
          <a:stretch/>
        </p:blipFill>
        <p:spPr>
          <a:xfrm>
            <a:off x="5580000" y="0"/>
            <a:ext cx="35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无标题"/>
          <p:cNvPicPr/>
          <p:nvPr/>
        </p:nvPicPr>
        <p:blipFill>
          <a:blip r:embed="rId4"/>
          <a:srcRect l="29872" t="39802" r="47481" b="280"/>
          <a:stretch/>
        </p:blipFill>
        <p:spPr>
          <a:xfrm>
            <a:off x="3132000" y="260280"/>
            <a:ext cx="2449800" cy="6597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无标题"/>
          <p:cNvPicPr/>
          <p:nvPr/>
        </p:nvPicPr>
        <p:blipFill>
          <a:blip r:embed="rId5"/>
          <a:srcRect l="29872" t="40465" r="47481" b="58247"/>
          <a:stretch/>
        </p:blipFill>
        <p:spPr>
          <a:xfrm>
            <a:off x="3132000" y="33480"/>
            <a:ext cx="2449800" cy="3823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14"/>
          <p:cNvSpPr/>
          <p:nvPr/>
        </p:nvSpPr>
        <p:spPr>
          <a:xfrm>
            <a:off x="-1207800" y="765000"/>
            <a:ext cx="31064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短 歌 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943920" y="4221000"/>
            <a:ext cx="18262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曹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sq"/>
          <p:cNvPicPr/>
          <p:nvPr/>
        </p:nvPicPr>
        <p:blipFill>
          <a:blip r:embed="rId1"/>
          <a:srcRect l="0" t="0" r="62188" b="873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sq"/>
          <p:cNvPicPr/>
          <p:nvPr/>
        </p:nvPicPr>
        <p:blipFill>
          <a:blip r:embed="rId2"/>
          <a:stretch/>
        </p:blipFill>
        <p:spPr>
          <a:xfrm>
            <a:off x="468360" y="2205000"/>
            <a:ext cx="2158920" cy="33847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250920" y="549360"/>
            <a:ext cx="302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曹公古直，甚有悲凉之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钟嵘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诗品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395280" y="57340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曹操（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55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2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851280" y="260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平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851280" y="1916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军事功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851280" y="620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三国时政治家、军事家、诗人。字孟德，小 名阿瞒，沛国谯县人。封魏王。子曹丕称帝，追尊为武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708360" y="242100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初举孝廉，任洛阳北部尉，迁顿丘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708360" y="2924280"/>
            <a:ext cx="54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镇压黄巾起义和讨伐董卓的战争中，逐步扩充军事力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708360" y="3789360"/>
            <a:ext cx="51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建安元年（ １９６年），迎献帝都许。从此用其名义发号施令，先后削平吕布 等割据势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635280" y="5084640"/>
            <a:ext cx="55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官渡之战大破河北割据势力袁绍后，逐渐统一了中国北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635280" y="602136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建安十三 年，进位为丞相，率军南下，被孙权和刘备的联军击败于赤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sq"/>
          <p:cNvPicPr/>
          <p:nvPr/>
        </p:nvPicPr>
        <p:blipFill>
          <a:blip r:embed="rId1"/>
          <a:srcRect l="0" t="0" r="62188" b="873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sq"/>
          <p:cNvPicPr/>
          <p:nvPr/>
        </p:nvPicPr>
        <p:blipFill>
          <a:blip r:embed="rId2"/>
          <a:stretch/>
        </p:blipFill>
        <p:spPr>
          <a:xfrm>
            <a:off x="684360" y="2205000"/>
            <a:ext cx="2158920" cy="33847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4"/>
          <p:cNvSpPr/>
          <p:nvPr/>
        </p:nvSpPr>
        <p:spPr>
          <a:xfrm>
            <a:off x="3814920" y="836640"/>
            <a:ext cx="50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他在北方屯田，兴修水利，解决了军粮缺乏的问题，对农业生产 的恢复有一定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95280" y="333360"/>
            <a:ext cx="30243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曹公古直，甚有悲凉之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钟嵘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诗品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95280" y="573408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曹操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5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2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51280" y="2205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用人唯才，罗致地主阶级中下层人物，抑制豪强，加强集权。 所统治的地区社会经济得到恢复和发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851280" y="26028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政治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3780000" y="38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文学成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51280" y="4508640"/>
            <a:ext cx="504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建安文学的代表人物之一，与其子曹植、曹丕合称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三曹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善诗歌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抒发政治抱负，反映汉末人民的苦难生活，气魄雄伟，慷慨悲凉。散文清峻整洁，著有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魏武帝集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zzt0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zzt01"/>
          <p:cNvPicPr/>
          <p:nvPr/>
        </p:nvPicPr>
        <p:blipFill>
          <a:blip r:embed="rId2"/>
          <a:srcRect l="0" t="0" r="77166" b="0"/>
          <a:stretch/>
        </p:blipFill>
        <p:spPr>
          <a:xfrm>
            <a:off x="2268360" y="0"/>
            <a:ext cx="223236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zzt01"/>
          <p:cNvPicPr/>
          <p:nvPr/>
        </p:nvPicPr>
        <p:blipFill>
          <a:blip r:embed="rId3"/>
          <a:srcRect l="0" t="0" r="77166" b="0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539640" y="260280"/>
            <a:ext cx="54356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观沧海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东临碣石，以观沧海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水何澹澹，山岛竦峙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树木丛生，百草丰茂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秋风萧瑟，洪波涌起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月之行，若出其中；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汉灿烂，若出其里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幸甚至哉！歌以咏志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作于建安十二年秋）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200489185011285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star_kabe_03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star_kabe_03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4"/>
          <p:cNvSpPr/>
          <p:nvPr/>
        </p:nvSpPr>
        <p:spPr>
          <a:xfrm>
            <a:off x="2411280" y="692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468360" y="476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短歌行思想主题鉴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324000" y="126828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一：知人论世，紧扣作品时代背景、作者个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324000" y="242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二：准确筛选作品中显性传情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10"/>
          <p:cNvSpPr/>
          <p:nvPr/>
        </p:nvSpPr>
        <p:spPr>
          <a:xfrm>
            <a:off x="6948360" y="1844640"/>
            <a:ext cx="649440" cy="1297080"/>
          </a:xfrm>
          <a:prstGeom prst="downArrow">
            <a:avLst>
              <a:gd name="adj1" fmla="val 50000"/>
              <a:gd name="adj2" fmla="val 499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1"/>
          <p:cNvSpPr/>
          <p:nvPr/>
        </p:nvSpPr>
        <p:spPr>
          <a:xfrm>
            <a:off x="5435640" y="3284640"/>
            <a:ext cx="3457440" cy="3240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5580000" y="342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曹操在其政治活动中，为了扩大他在庶族地主中的统治基础，打击反动的世袭豪强势力，曾大力强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才是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为此先后发布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贤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举士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逸才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13"/>
          <p:cNvSpPr/>
          <p:nvPr/>
        </p:nvSpPr>
        <p:spPr>
          <a:xfrm>
            <a:off x="684360" y="3429000"/>
            <a:ext cx="1296720" cy="100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826920" y="3645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忧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5"/>
          <p:cNvSpPr/>
          <p:nvPr/>
        </p:nvSpPr>
        <p:spPr>
          <a:xfrm>
            <a:off x="1979640" y="3789360"/>
            <a:ext cx="649440" cy="360360"/>
          </a:xfrm>
          <a:prstGeom prst="leftArrow">
            <a:avLst>
              <a:gd name="adj1" fmla="val 50000"/>
              <a:gd name="adj2" fmla="val 450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6"/>
          <p:cNvSpPr/>
          <p:nvPr/>
        </p:nvSpPr>
        <p:spPr>
          <a:xfrm>
            <a:off x="2700360" y="3068640"/>
            <a:ext cx="1871640" cy="208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3855600" y="3284640"/>
            <a:ext cx="6069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华年已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2854080" y="3284640"/>
            <a:ext cx="10335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功业未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2349360" y="3284640"/>
            <a:ext cx="10335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才难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324000" y="544500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旨：感叹人生短暂，抒发求才若渴，希望在有生之年广纳贤才以建功立业的思想情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罗良</dc:creator>
  <dc:description/>
  <dc:language>en-US</dc:language>
  <cp:lastModifiedBy>a</cp:lastModifiedBy>
  <dcterms:modified xsi:type="dcterms:W3CDTF">2015-02-10T11:25:52Z</dcterms:modified>
  <cp:revision>6</cp:revision>
  <dc:subject/>
  <dc:title>PowerPoint Presentation</dc:title>
</cp:coreProperties>
</file>