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1-08-09T11:05:59.162000000" idx="1">
    <p:pos x="2099" y="173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B4FF-F834-4EAF-9E07-E1E0EE8A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940-9EA0-4DEB-A597-1426121F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9B5EF-1F1C-4CA6-B58B-96E4146E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870CA-3CEF-4FB7-8FBC-6B5448D1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0FFA8-FBD0-4EB6-B94E-DB794CFE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F7417-A421-42AF-93EE-4FC1BE94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CC8BA-6CA0-4DD4-AD88-FFED8DC7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6D5B5-7DFE-41AA-BD44-916C0989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0EB57-00FC-4D0B-AAE0-9D2933CB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865B0-2E2E-47E9-8DAC-1EA26573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5E472-02B4-4A8C-922D-8774EB81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B1C2D-2CD9-419F-9A38-6846A37B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DA9-4497-495B-90B1-188D3048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8245A-A256-45FC-82D1-254486E0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E9F45-0F42-44FC-AF4B-4A1FDC57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F43A1-E79E-4E49-944C-21242B7E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0BBCD-525C-4FCB-89B4-83C4D1C3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07762-1642-4936-A893-14D4E13F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E6E96-7AF1-4F21-9511-FDE90303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E923C-E074-430D-8252-A6CA8EF7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6A285-C3D3-4A5A-872D-57D95326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52158-B288-4F97-A51D-5F605FEA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24125-8809-4EC0-9816-85A2CC7F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2AB4-93B8-41F1-9341-4AFF3AC4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9002C-DFA4-4D87-AEB8-EE154976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23D88-7A36-4209-848A-C61C88C5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D8AA9-F70B-4AB0-A4C0-60BCDC74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06840-9FB8-4A20-B145-F7D897F0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75944-5577-4B69-B4A0-BA9A7882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17112-7334-4E86-90A4-34F51101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B3903-AE98-452E-A584-7254DF2C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35914-0918-41A9-9503-7ED28EE7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3B2E0-F3E1-47FF-8E73-9A29857A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7D3F6-C37A-4F00-B80E-BB33F3C6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91FC-4358-4B10-B3CC-E299689B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60AC3-D4E4-4B37-9456-8C76A851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828F7-F327-4ACD-924C-72699F97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D9121-F6ED-4662-800D-A7B6D8D3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DE69C-6934-48EB-84C1-143BC7BD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85C03-5A7A-4BC2-961D-27180DD6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C9195-FC71-44AB-8E19-6E26146B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DC4A2-C723-4142-B00E-4A0A5B30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DA7ED-7232-4068-AFBA-26E7C57A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B773D-819E-4BD1-BF0D-D8F5B5E8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F3DFB-1E05-4B7D-A6B3-7D951020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A5EC-46D4-4DE5-B003-A944EA6F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75258-CE15-4C9C-B2DA-47FF3C56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CC4A9-9A7C-4503-B55D-23FE73DA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C2AC2-119E-4502-B66F-4748946F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F9E7F-68E3-42E2-A677-8AE40BE2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E9A03-62FB-4E9C-93BA-6907E412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64959-2CEE-4762-BEFB-FB35BC1E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D8A73-0E13-48E5-8B31-63750BA9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6F78E-3830-42B3-BF35-FC930C71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347B1-73C4-4962-A317-A2CC8691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D2C8D-1C79-4309-A58A-1A280285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8599-F189-4ED6-B7EF-471D02C6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6FF5C-586B-4567-9BB9-8D94C8C6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AEEBF-CB49-4159-9556-75E86207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7C3BE-2149-4013-87BD-8BCC3BD3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5DCDA-A60F-47C2-91E7-8C200FB5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ADC2D-7890-4A60-9FCF-5A0CFF72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67DDE-63EF-4F7B-A625-872B2BA0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CE3A5-BB08-451D-A264-9D7F46BF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B0D1-350C-4235-AF6D-5625D36B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2C37-567A-4886-AD1D-9C142928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53A6-AE7B-4712-868F-C25BB619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7268-2214-4F55-B8A8-6EB4734C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5C9-603A-402B-A7BB-9B7B4921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1286-9F9A-4A87-8B7A-3A0CA6BB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2A1A-D3EF-4DD8-A68B-35B050FC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8469-8487-4A4F-A67A-3900C80F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C47D-4CDF-4E36-AD91-889984CD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482E-4898-4021-B2B5-B96BF06E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D18F5-0A04-46F6-B9FA-6E9891C7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09907-852D-4C34-8E43-DE445B04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D1FDF-9A2D-4B6F-9A3B-01115DFB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389F1-CAB8-424D-A6B5-7535A797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67BDA-E0C8-4C58-ACAC-7AB5611D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1D7-0EC5-4021-A70D-6C15E784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6D33-323A-42D5-A41E-6D3CFDC3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84DE-C14F-436C-8BDD-3CB6696E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E48F0-8FC9-4CE6-BEBF-62516FEB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0D2F4-F6D9-4D90-A5F7-E5011931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9191F-6C7D-4AA7-8C66-DB5CA564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5EFB-9B3C-440F-9897-96A5A4BC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36E78-2797-43AD-9683-3DA3BEE1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3B1C8-2DB6-4E5E-B6A0-F2A6A8B4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8B956-F7BE-4F01-98D4-3E371F57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C642-576D-4312-9B5E-8E5F5D70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5BC-5F0C-430A-82D2-0B625462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72A79-1B63-4551-9110-4568B453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2232C-63BD-4D46-BCA3-BB03EE5F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A0763-766F-40EA-8BE0-12ED15B9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F5470-0ECC-430C-8944-8BBE44D5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B462D-3F08-49C7-8267-79F21287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D2AB2-159A-4009-9E4F-BBDA5F63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4E1D2-9BF0-4B75-9412-FA4492BD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36074-78BF-4BFA-8A7B-65B6BFC4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FC1BD-248C-4D79-8AB9-20752EC1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DE5DC-FB39-4CCA-8CC9-544C3601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8BF-0FD1-46A6-A856-53479566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88C54-9169-4E37-B0DF-A2B0A716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09BD9-04F1-4AF2-8901-6A66327F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5835A-6F3E-4294-B041-01091537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771B5-E653-4738-83FE-C31BF64C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529D6-04F5-4994-9B72-C72D0B10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92C8B-8DDD-47D0-94B5-6068C043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6C2A7-9164-4B3A-808B-A8FF625B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500C3-FE49-4916-9835-4F6D3BA1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AB482-AFC1-4350-AA1E-5D363A60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57E9E-3879-44A3-A3A0-C5710320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025-3148-4895-8881-21FBA507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3FD81-BE93-48D0-91D1-C7085C18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2207E-A30B-423E-86E7-99F978B8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CD5E9-90DF-4AE0-895D-B64F80A2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2630A-0988-4DD5-8F60-2EC061FD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F32F6-67CA-4654-924A-29B2CC72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F2578-F7FA-4B11-A789-7AC92EF0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27590-2F67-4F32-BFD9-4E6F633C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2880F-5FA8-40DD-8E34-EB8FEA89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E19DC-0957-49C2-AD02-37BF175A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EC2F5-C3B1-49FE-9BC7-D9C1834D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00E-3500-429E-B062-6D53E72A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5E192-2EE4-4D56-9E24-D408BF37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66327-E249-478F-BA4F-1D286993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89A3F-6D12-4771-A313-2087D212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90758-531F-454F-A6F3-250FBCD7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9F5A2-2329-4DA4-BF36-03B6B07C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61214-A06B-4163-9C38-67FE320F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41886-DAEC-422D-A5B5-2C06F61B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8F6AD-09E2-4D7C-AD42-16325562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CCAF8-1F31-4906-9112-1EE35F6B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5F85A-C203-4923-8557-C909280D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EE0-7DA2-47F8-B9ED-3C388655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67BA9-10CB-427B-842D-4A2B5087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6208E-247C-4058-8268-D6A12A7A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FECCD-7FD8-4D02-9423-3F85788A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0DFB9-9B21-444A-9F99-333D4F42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3590C-60F1-43AF-A787-BF95D3C4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A482B-9198-4039-A651-24910B6A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B763D-4990-4759-8058-825EBF30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0A21F-8A6C-44CE-AAED-BA993D77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A3AB8-8FA7-4DA3-B37E-A20E4651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25BFC-D094-4BC5-B210-901CE789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90A-37F2-459F-80CA-FEE75EE4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D83FE-C8F3-4183-A143-9C3F8935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2EA1D-2AF3-449E-8693-346D0E6A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2186A-EF55-4738-9458-2EBF54B5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8D876-594C-4496-8E7C-A42600E8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35729-0DAE-4C2D-B35C-A70023A6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0ADB3-34FD-4F9D-AE69-E4C25992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4BFCA-1810-4EB4-B531-B9A4E379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C14FA-97AC-4E38-B4BE-7BCBF9BD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DCF99-5B89-4B06-A555-8ED5DD94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326F5-3400-4250-9B0E-F159E4C7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3D58-33B9-4109-8CCC-02ACFDED2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B59B-9D6D-4D74-8B7F-F5F3C2A8D5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6EA5-87F3-4178-9A23-31A6588A1F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5FB7-C0B7-49C1-B268-1645D49A3A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9937-0BA0-4928-989C-793A486F05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7EC5-1A87-404A-8178-63BF7438B2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66EC-21E7-481D-BEB1-46804BA1A6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7FD9-B3D8-4742-A7E6-7120D3F238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9705-AB1B-4023-86A6-FC9AC1FD86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365E-4891-452F-8381-3AA515CC37E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D354-7A31-407F-9BDA-CA624041D8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232B-8545-4183-822E-F6A32410E8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2F70-89D5-4F51-9B97-33D321C8D9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870D-6616-435A-AC69-B0FD8783F8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28EF-0D5D-4BB5-BECF-DE6F4B9472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E40D-05E4-4F37-83F3-CE7880B720B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2B1C-DEE6-4B2F-A327-DF5CD8C226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4FBE-1599-4DDE-89F9-86D1D25FBA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CD54-FCF8-4700-9E6E-6069D0B654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A6AB-FFC1-4A19-847B-038D2E9C47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8FB7-24AE-4FF4-BB29-C8899B3496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871E-EF80-47E3-9829-417AB52FC8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5D25-5CA7-4F68-A4D8-FC85366D8A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5712-F649-4476-859A-6EF3287CA1D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22A6-CD5C-4B43-AAB8-2EA34762F3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黑体"/>
                <a:ea typeface="黑体"/>
              </a:rPr>
              <a:t>1.1 </a:t>
            </a: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电荷及其守恒定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1116000" y="47628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新课标高中物理选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2050920" y="16286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华文行楷"/>
              </a:rPr>
              <a:t>第一章  </a:t>
            </a:r>
            <a:r>
              <a:rPr b="1" lang="zh-CN" sz="5400" spc="-1" strike="noStrike">
                <a:solidFill>
                  <a:srgbClr val="ff6600"/>
                </a:solidFill>
                <a:latin typeface="Arial"/>
                <a:ea typeface="华文行楷"/>
              </a:rPr>
              <a:t>静电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4" descr="t023"/>
          <p:cNvPicPr/>
          <p:nvPr/>
        </p:nvPicPr>
        <p:blipFill>
          <a:blip r:embed="rId1"/>
          <a:stretch/>
        </p:blipFill>
        <p:spPr>
          <a:xfrm>
            <a:off x="324000" y="549360"/>
            <a:ext cx="5079960" cy="50799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20051011113736300"/>
          <p:cNvPicPr/>
          <p:nvPr/>
        </p:nvPicPr>
        <p:blipFill>
          <a:blip r:embed="rId2"/>
          <a:stretch/>
        </p:blipFill>
        <p:spPr>
          <a:xfrm>
            <a:off x="5724360" y="476280"/>
            <a:ext cx="3113280" cy="26985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11475293945541091"/>
          <p:cNvPicPr/>
          <p:nvPr/>
        </p:nvPicPr>
        <p:blipFill>
          <a:blip r:embed="rId3"/>
          <a:stretch/>
        </p:blipFill>
        <p:spPr>
          <a:xfrm>
            <a:off x="5940360" y="3284640"/>
            <a:ext cx="2879640" cy="25923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7"/>
          <p:cNvSpPr/>
          <p:nvPr/>
        </p:nvSpPr>
        <p:spPr>
          <a:xfrm>
            <a:off x="1339920" y="5877000"/>
            <a:ext cx="2942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静电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针式验电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7191720" y="5805360"/>
            <a:ext cx="916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验电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4"/>
          <p:cNvSpPr/>
          <p:nvPr/>
        </p:nvSpPr>
        <p:spPr>
          <a:xfrm>
            <a:off x="179280" y="1341360"/>
            <a:ext cx="87138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静电计中金属杆下部的水平轴上装有金属指针，指针可以绕水平轴灵活转动，外面圆筒的底部有接线柱。而在验电器中金属杆的下部悬挂着两片金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静电计的外壳一定是金属的，金属外壳与内部的金属杆及金属指针构成了一个特殊的电容器，它在静电计工作时起着重要的作用。而验电器外壳的主要作用是为了避免气流的影响，它一般是用玻璃制作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1258920" y="44280"/>
            <a:ext cx="6480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验电器与静电计在结构上的不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35"/>
          <p:cNvGrpSpPr/>
          <p:nvPr/>
        </p:nvGrpSpPr>
        <p:grpSpPr>
          <a:xfrm>
            <a:off x="4356000" y="2492280"/>
            <a:ext cx="2448000" cy="2376000"/>
            <a:chOff x="4356000" y="2492280"/>
            <a:chExt cx="2448000" cy="2376000"/>
          </a:xfrm>
        </p:grpSpPr>
        <p:sp>
          <p:nvSpPr>
            <p:cNvPr id="629" name="AutoShape 36"/>
            <p:cNvSpPr/>
            <p:nvPr/>
          </p:nvSpPr>
          <p:spPr>
            <a:xfrm flipV="1">
              <a:off x="4356000" y="4434840"/>
              <a:ext cx="2448000" cy="433080"/>
            </a:xfrm>
            <a:custGeom>
              <a:avLst/>
              <a:gdLst>
                <a:gd name="textAreaLeft" fmla="*/ 509400 w 2448000"/>
                <a:gd name="textAreaRight" fmla="*/ 1938600 w 2448000"/>
                <a:gd name="textAreaTop" fmla="*/ 90360 h 433080"/>
                <a:gd name="textAreaBottom" fmla="*/ 34272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37"/>
            <p:cNvSpPr/>
            <p:nvPr/>
          </p:nvSpPr>
          <p:spPr>
            <a:xfrm>
              <a:off x="4498920" y="2492280"/>
              <a:ext cx="2160360" cy="2160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11"/>
          <p:cNvGrpSpPr/>
          <p:nvPr/>
        </p:nvGrpSpPr>
        <p:grpSpPr>
          <a:xfrm>
            <a:off x="1189080" y="2565360"/>
            <a:ext cx="2448000" cy="2376000"/>
            <a:chOff x="1189080" y="2565360"/>
            <a:chExt cx="2448000" cy="2376000"/>
          </a:xfrm>
        </p:grpSpPr>
        <p:sp>
          <p:nvSpPr>
            <p:cNvPr id="632" name="AutoShape 10"/>
            <p:cNvSpPr/>
            <p:nvPr/>
          </p:nvSpPr>
          <p:spPr>
            <a:xfrm flipV="1">
              <a:off x="1189080" y="4507920"/>
              <a:ext cx="2448000" cy="433080"/>
            </a:xfrm>
            <a:custGeom>
              <a:avLst/>
              <a:gdLst>
                <a:gd name="textAreaLeft" fmla="*/ 509400 w 2448000"/>
                <a:gd name="textAreaRight" fmla="*/ 1938600 w 2448000"/>
                <a:gd name="textAreaTop" fmla="*/ 90360 h 433080"/>
                <a:gd name="textAreaBottom" fmla="*/ 34272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4"/>
            <p:cNvSpPr/>
            <p:nvPr/>
          </p:nvSpPr>
          <p:spPr>
            <a:xfrm>
              <a:off x="1332000" y="2565360"/>
              <a:ext cx="2160360" cy="2160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Line 6"/>
          <p:cNvSpPr/>
          <p:nvPr/>
        </p:nvSpPr>
        <p:spPr>
          <a:xfrm flipH="1">
            <a:off x="2340000" y="3429000"/>
            <a:ext cx="69840" cy="647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"/>
          <p:cNvSpPr/>
          <p:nvPr/>
        </p:nvSpPr>
        <p:spPr>
          <a:xfrm>
            <a:off x="2411280" y="3429000"/>
            <a:ext cx="0" cy="647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2"/>
          <p:cNvGrpSpPr/>
          <p:nvPr/>
        </p:nvGrpSpPr>
        <p:grpSpPr>
          <a:xfrm>
            <a:off x="2266920" y="1628640"/>
            <a:ext cx="287280" cy="1800360"/>
            <a:chOff x="2266920" y="1628640"/>
            <a:chExt cx="287280" cy="1800360"/>
          </a:xfrm>
        </p:grpSpPr>
        <p:sp>
          <p:nvSpPr>
            <p:cNvPr id="637" name="Line 5"/>
            <p:cNvSpPr/>
            <p:nvPr/>
          </p:nvSpPr>
          <p:spPr>
            <a:xfrm flipH="1">
              <a:off x="2410920" y="1916280"/>
              <a:ext cx="1800" cy="1512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8"/>
            <p:cNvSpPr/>
            <p:nvPr/>
          </p:nvSpPr>
          <p:spPr>
            <a:xfrm>
              <a:off x="2266920" y="1628640"/>
              <a:ext cx="287280" cy="287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Line 13"/>
          <p:cNvSpPr/>
          <p:nvPr/>
        </p:nvSpPr>
        <p:spPr>
          <a:xfrm flipH="1">
            <a:off x="5433480" y="3357720"/>
            <a:ext cx="142920" cy="647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4"/>
          <p:cNvSpPr/>
          <p:nvPr/>
        </p:nvSpPr>
        <p:spPr>
          <a:xfrm>
            <a:off x="5578560" y="3357720"/>
            <a:ext cx="144360" cy="647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22"/>
          <p:cNvGrpSpPr/>
          <p:nvPr/>
        </p:nvGrpSpPr>
        <p:grpSpPr>
          <a:xfrm>
            <a:off x="6045840" y="421200"/>
            <a:ext cx="2508480" cy="1215360"/>
            <a:chOff x="6045840" y="421200"/>
            <a:chExt cx="2508480" cy="1215360"/>
          </a:xfrm>
        </p:grpSpPr>
        <p:sp>
          <p:nvSpPr>
            <p:cNvPr id="642" name="AutoShape 15"/>
            <p:cNvSpPr/>
            <p:nvPr/>
          </p:nvSpPr>
          <p:spPr>
            <a:xfrm rot="20532000">
              <a:off x="6262200" y="766440"/>
              <a:ext cx="2303280" cy="287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17"/>
            <p:cNvSpPr/>
            <p:nvPr/>
          </p:nvSpPr>
          <p:spPr>
            <a:xfrm>
              <a:off x="6261480" y="693720"/>
              <a:ext cx="31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8"/>
            <p:cNvSpPr/>
            <p:nvPr/>
          </p:nvSpPr>
          <p:spPr>
            <a:xfrm>
              <a:off x="6620400" y="549360"/>
              <a:ext cx="31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19"/>
            <p:cNvSpPr/>
            <p:nvPr/>
          </p:nvSpPr>
          <p:spPr>
            <a:xfrm>
              <a:off x="6548760" y="1269720"/>
              <a:ext cx="31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20"/>
            <p:cNvSpPr/>
            <p:nvPr/>
          </p:nvSpPr>
          <p:spPr>
            <a:xfrm>
              <a:off x="6909120" y="1198440"/>
              <a:ext cx="31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21"/>
            <p:cNvSpPr/>
            <p:nvPr/>
          </p:nvSpPr>
          <p:spPr>
            <a:xfrm>
              <a:off x="6045840" y="1125360"/>
              <a:ext cx="31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40"/>
          <p:cNvGrpSpPr/>
          <p:nvPr/>
        </p:nvGrpSpPr>
        <p:grpSpPr>
          <a:xfrm>
            <a:off x="5433840" y="1555920"/>
            <a:ext cx="287280" cy="1799640"/>
            <a:chOff x="5433840" y="1555920"/>
            <a:chExt cx="287280" cy="1799640"/>
          </a:xfrm>
        </p:grpSpPr>
        <p:sp>
          <p:nvSpPr>
            <p:cNvPr id="649" name="Line 41"/>
            <p:cNvSpPr/>
            <p:nvPr/>
          </p:nvSpPr>
          <p:spPr>
            <a:xfrm flipH="1">
              <a:off x="5577840" y="1843200"/>
              <a:ext cx="1800" cy="151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42"/>
            <p:cNvSpPr/>
            <p:nvPr/>
          </p:nvSpPr>
          <p:spPr>
            <a:xfrm>
              <a:off x="5433840" y="1555920"/>
              <a:ext cx="287280" cy="2872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43"/>
          <p:cNvSpPr/>
          <p:nvPr/>
        </p:nvSpPr>
        <p:spPr>
          <a:xfrm>
            <a:off x="5577840" y="3355920"/>
            <a:ext cx="3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4"/>
          <p:cNvSpPr/>
          <p:nvPr/>
        </p:nvSpPr>
        <p:spPr>
          <a:xfrm>
            <a:off x="5145840" y="3355920"/>
            <a:ext cx="3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5"/>
          <p:cNvSpPr/>
          <p:nvPr/>
        </p:nvSpPr>
        <p:spPr>
          <a:xfrm>
            <a:off x="5074920" y="1484280"/>
            <a:ext cx="26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5793840" y="1484280"/>
            <a:ext cx="26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7"/>
          <p:cNvSpPr/>
          <p:nvPr/>
        </p:nvSpPr>
        <p:spPr>
          <a:xfrm>
            <a:off x="5290920" y="1268280"/>
            <a:ext cx="26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8"/>
          <p:cNvSpPr/>
          <p:nvPr/>
        </p:nvSpPr>
        <p:spPr>
          <a:xfrm>
            <a:off x="5651280" y="1268280"/>
            <a:ext cx="26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49"/>
          <p:cNvSpPr/>
          <p:nvPr/>
        </p:nvSpPr>
        <p:spPr>
          <a:xfrm>
            <a:off x="5691960" y="3716280"/>
            <a:ext cx="3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0"/>
          <p:cNvSpPr/>
          <p:nvPr/>
        </p:nvSpPr>
        <p:spPr>
          <a:xfrm>
            <a:off x="5145840" y="3789360"/>
            <a:ext cx="3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1"/>
          <p:cNvSpPr/>
          <p:nvPr/>
        </p:nvSpPr>
        <p:spPr>
          <a:xfrm>
            <a:off x="680400" y="122400"/>
            <a:ext cx="1099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验电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2"/>
          <p:cNvSpPr/>
          <p:nvPr/>
        </p:nvSpPr>
        <p:spPr>
          <a:xfrm>
            <a:off x="395280" y="530064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思考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是否只有当带电体与导体棒的上端直接接触时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金属箔片才开始张开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解释看到的现象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108000" y="938160"/>
            <a:ext cx="8964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验电器的主要作用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检验导体是否带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检验导体所带电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1258920" y="44280"/>
            <a:ext cx="6480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验电器与静电计在作用上的不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0" y="2565360"/>
            <a:ext cx="89647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静电计也称作指针式验电器，这说明它完全具备验电器的各种作用。由于静电计的特殊结构，使得它又具备验电器不能替代的某些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定量测量两导体间的电势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定量测量某导体的电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小  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8785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自然界存在两者电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正电荷：丝绸摩擦过的玻璃棒所带的电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负电荷：毛皮摩擦过的橡胶棒所带的电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使物体带电的方式带电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摩擦起电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应起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近异远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起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电荷守恒定律：一个与外界没有电荷交换的系统，电荷的代数和总是保持不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6"/>
              <p:cNvSpPr txBox="1"/>
              <p:nvPr/>
            </p:nvSpPr>
            <p:spPr>
              <a:xfrm>
                <a:off x="34920" y="4392720"/>
                <a:ext cx="7921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、元电荷：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电荷量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称为元电荷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8"/>
              <p:cNvSpPr txBox="1"/>
              <p:nvPr/>
            </p:nvSpPr>
            <p:spPr>
              <a:xfrm>
                <a:off x="71280" y="5164200"/>
                <a:ext cx="8748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、电子和质子的电荷量均为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，所有带电体的电荷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或者等于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，或者是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的整数倍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使一个物体带电的方式有三种，它们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在这三种方式中，电荷既没有被创造，也没有被消灭，只是从一个物体转移到另一个物体，或者从物体的一部分移到另一部分，而且电荷的总量不变，这个结论也被称之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将不带电的导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带有负电荷的导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接触后，在导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的质子数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增加     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减少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不变     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先增加后减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在原子物理中，常用元电荷作为电量的单位，元电荷的电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一个电子的电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一个质子的电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任何带电粒子，所带电量或者等于电子或质子的电量，或者是它们电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最早测出元电荷的数值的是美国物理学家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这位科学家还测出了电子电量和质量的比值，叫做电子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79280" y="2708280"/>
            <a:ext cx="8642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科学家在研究原子、原子核及基本粒子时，为了方便，常常用元电荷作为电量的单位，关于元电荷，下列论述正确的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把质子或电子叫元电荷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6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-19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电量叫元电荷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电子带有最小的负电荷，其电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绝对值叫元电荷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质子带有最小的正电荷，其电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绝对值叫元电荷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179280" y="429264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  <a:ea typeface="华文行楷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179280" y="472428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  <a:ea typeface="华文行楷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179280" y="558972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  <a:ea typeface="华文行楷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把两个完全相同的金属球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接触一下，再分开一段距离，发现两球之间相互排斥，则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球原来的带电情况可能是 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带有等量异种电荷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带有等量同种电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带有不等量异种电荷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一个带电，另一个不带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-252360" y="223992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  <a:ea typeface="华文行楷"/>
              </a:rPr>
              <a:t> 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-252360" y="278136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  <a:ea typeface="华文行楷"/>
              </a:rPr>
              <a:t> 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-252360" y="3284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  <a:ea typeface="华文行楷"/>
              </a:rPr>
              <a:t> 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501480" y="1268280"/>
            <a:ext cx="864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有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个塑料小球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间都是相互吸引的，如果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带正电，则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球均带负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球带负电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球带正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球中必有一个带负电，而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不带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球都不带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324000" y="378936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  <a:ea typeface="华文行楷"/>
              </a:rPr>
              <a:t> 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4"/>
          <p:cNvSpPr/>
          <p:nvPr/>
        </p:nvSpPr>
        <p:spPr>
          <a:xfrm>
            <a:off x="395280" y="682560"/>
            <a:ext cx="82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新魏"/>
              </a:rPr>
              <a:t>初中学过自然界有几种电荷，它们间的相互作用如何？电荷的多少用什么表示？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95280" y="255600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新魏"/>
              </a:rPr>
              <a:t>一般情况下物体不带电，不带电的物体内是否存在电荷？如何使物体带电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539640" y="5291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新魏"/>
              </a:rPr>
              <a:t>摩擦起电的实质是什么？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395280" y="16192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自然界只存在两种电荷，同种电荷互相排斥，异种电荷相互吸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电荷的多少是用电荷量来表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468360" y="341964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不带电的物体内存在电荷，且存在等量正、负电荷，在物体内中和，对外不显电性。用摩擦的方法可以使物体带电，用丝绸摩擦过的玻璃棒带正电，用毛皮摩擦过的硬橡胶棒带负电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468360" y="579600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一个物体失去一些电子而带正电，另一个物体得到这些电子而带负电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6"/>
          <p:cNvSpPr/>
          <p:nvPr/>
        </p:nvSpPr>
        <p:spPr>
          <a:xfrm>
            <a:off x="324000" y="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一、电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1042920" y="90792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电荷是一种物质属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324000" y="1700280"/>
            <a:ext cx="8497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、自然界中有两种电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）正电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丝绸摩擦过的玻璃棒所带的电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）负电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毛皮摩擦过的橡胶棒所带的电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395280" y="551664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同种电荷相互排斥，异种电荷相互吸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16"/>
          <p:cNvGrpSpPr/>
          <p:nvPr/>
        </p:nvGrpSpPr>
        <p:grpSpPr>
          <a:xfrm>
            <a:off x="6804000" y="2276640"/>
            <a:ext cx="792000" cy="825120"/>
            <a:chOff x="6804000" y="2276640"/>
            <a:chExt cx="792000" cy="825120"/>
          </a:xfrm>
        </p:grpSpPr>
        <p:sp>
          <p:nvSpPr>
            <p:cNvPr id="547" name="Oval 11"/>
            <p:cNvSpPr/>
            <p:nvPr/>
          </p:nvSpPr>
          <p:spPr>
            <a:xfrm>
              <a:off x="6804000" y="2276640"/>
              <a:ext cx="792000" cy="79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4"/>
            <p:cNvSpPr/>
            <p:nvPr/>
          </p:nvSpPr>
          <p:spPr>
            <a:xfrm>
              <a:off x="6948360" y="2276640"/>
              <a:ext cx="576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ff"/>
                  </a:solidFill>
                  <a:latin typeface="Arial"/>
                  <a:ea typeface="华文行楷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17"/>
          <p:cNvGrpSpPr/>
          <p:nvPr/>
        </p:nvGrpSpPr>
        <p:grpSpPr>
          <a:xfrm>
            <a:off x="6877080" y="3716280"/>
            <a:ext cx="792000" cy="1081080"/>
            <a:chOff x="6877080" y="3716280"/>
            <a:chExt cx="792000" cy="1081080"/>
          </a:xfrm>
        </p:grpSpPr>
        <p:sp>
          <p:nvSpPr>
            <p:cNvPr id="550" name="Oval 13"/>
            <p:cNvSpPr/>
            <p:nvPr/>
          </p:nvSpPr>
          <p:spPr>
            <a:xfrm>
              <a:off x="6877080" y="4005000"/>
              <a:ext cx="792000" cy="792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15"/>
            <p:cNvSpPr/>
            <p:nvPr/>
          </p:nvSpPr>
          <p:spPr>
            <a:xfrm>
              <a:off x="7021440" y="3716280"/>
              <a:ext cx="502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ff"/>
                  </a:solidFill>
                  <a:latin typeface="Arial"/>
                  <a:ea typeface="华文行楷"/>
                </a:rPr>
                <a:t>_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50920" y="1125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原子的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611280" y="184464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348000" y="1557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原子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348000" y="2349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核外电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5867280" y="1197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质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5938920" y="1989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8"/>
          <p:cNvSpPr/>
          <p:nvPr/>
        </p:nvSpPr>
        <p:spPr>
          <a:xfrm flipV="1">
            <a:off x="2268360" y="1844280"/>
            <a:ext cx="107964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9"/>
          <p:cNvSpPr/>
          <p:nvPr/>
        </p:nvSpPr>
        <p:spPr>
          <a:xfrm>
            <a:off x="2268360" y="2133720"/>
            <a:ext cx="100836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0"/>
          <p:cNvSpPr/>
          <p:nvPr/>
        </p:nvSpPr>
        <p:spPr>
          <a:xfrm flipV="1">
            <a:off x="4788000" y="1557000"/>
            <a:ext cx="115236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>
            <a:off x="4788000" y="1916280"/>
            <a:ext cx="1152360" cy="43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6588000" y="1197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华文新魏"/>
              </a:rPr>
              <a:t>正电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658800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华文新魏"/>
              </a:rPr>
              <a:t>（不带电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395280" y="2997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核外电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396720" y="357336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离原子核较远的电子容易受到外界的作用而脱离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0" y="0"/>
            <a:ext cx="8893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质的微观结构是怎样的？摩擦起电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250920" y="4941720"/>
            <a:ext cx="8604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摩擦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电子从一个物体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转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到另一个物体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得到电子：带负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失去电子：带正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755640" y="2276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华文新魏"/>
              </a:rPr>
              <a:t>（中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3"/>
          <p:cNvSpPr/>
          <p:nvPr/>
        </p:nvSpPr>
        <p:spPr>
          <a:xfrm>
            <a:off x="3419640" y="285264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华文新魏"/>
              </a:rPr>
              <a:t>负电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4"/>
          <p:cNvSpPr/>
          <p:nvPr/>
        </p:nvSpPr>
        <p:spPr>
          <a:xfrm>
            <a:off x="3348000" y="1052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华文新魏"/>
              </a:rPr>
              <a:t>正电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7"/>
          <p:cNvSpPr/>
          <p:nvPr/>
        </p:nvSpPr>
        <p:spPr>
          <a:xfrm>
            <a:off x="285840" y="16430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感应起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99680" y="5143680"/>
            <a:ext cx="828036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感应起电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利用静电感应使物体带电，叫做感应起电．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928800" y="3500280"/>
            <a:ext cx="7057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规律：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近端感应异种电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远端感应同种电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428760" y="2286000"/>
            <a:ext cx="844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静电感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把电荷移近不带电的导体，可以使导体带电的现象，叫做静电感应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6"/>
          <p:cNvSpPr/>
          <p:nvPr/>
        </p:nvSpPr>
        <p:spPr>
          <a:xfrm>
            <a:off x="0" y="0"/>
            <a:ext cx="3960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接触带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57"/>
          <p:cNvGrpSpPr/>
          <p:nvPr/>
        </p:nvGrpSpPr>
        <p:grpSpPr>
          <a:xfrm>
            <a:off x="1258920" y="2060640"/>
            <a:ext cx="4794120" cy="1452960"/>
            <a:chOff x="1258920" y="2060640"/>
            <a:chExt cx="4794120" cy="1452960"/>
          </a:xfrm>
        </p:grpSpPr>
        <p:sp>
          <p:nvSpPr>
            <p:cNvPr id="577" name="Line 8"/>
            <p:cNvSpPr/>
            <p:nvPr/>
          </p:nvSpPr>
          <p:spPr>
            <a:xfrm>
              <a:off x="3408480" y="2849400"/>
              <a:ext cx="264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9"/>
            <p:cNvSpPr/>
            <p:nvPr/>
          </p:nvSpPr>
          <p:spPr>
            <a:xfrm>
              <a:off x="3840120" y="2060640"/>
              <a:ext cx="178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接触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0"/>
            <p:cNvSpPr/>
            <p:nvPr/>
          </p:nvSpPr>
          <p:spPr>
            <a:xfrm>
              <a:off x="3902040" y="2932200"/>
              <a:ext cx="178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再分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1"/>
            <p:cNvSpPr/>
            <p:nvPr/>
          </p:nvSpPr>
          <p:spPr>
            <a:xfrm>
              <a:off x="1258920" y="2522520"/>
              <a:ext cx="94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+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7"/>
            <p:cNvSpPr/>
            <p:nvPr/>
          </p:nvSpPr>
          <p:spPr>
            <a:xfrm>
              <a:off x="2333520" y="2324160"/>
              <a:ext cx="1013040" cy="9874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29"/>
            <p:cNvSpPr/>
            <p:nvPr/>
          </p:nvSpPr>
          <p:spPr>
            <a:xfrm>
              <a:off x="1258920" y="2324160"/>
              <a:ext cx="1012680" cy="9874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+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61"/>
          <p:cNvGrpSpPr/>
          <p:nvPr/>
        </p:nvGrpSpPr>
        <p:grpSpPr>
          <a:xfrm>
            <a:off x="1258920" y="3736800"/>
            <a:ext cx="5340240" cy="1567440"/>
            <a:chOff x="1258920" y="3736800"/>
            <a:chExt cx="5340240" cy="1567440"/>
          </a:xfrm>
        </p:grpSpPr>
        <p:sp>
          <p:nvSpPr>
            <p:cNvPr id="584" name="Line 31"/>
            <p:cNvSpPr/>
            <p:nvPr/>
          </p:nvSpPr>
          <p:spPr>
            <a:xfrm>
              <a:off x="3697200" y="4635360"/>
              <a:ext cx="2347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32"/>
            <p:cNvSpPr/>
            <p:nvPr/>
          </p:nvSpPr>
          <p:spPr>
            <a:xfrm>
              <a:off x="3922560" y="3736800"/>
              <a:ext cx="265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接触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33"/>
            <p:cNvSpPr/>
            <p:nvPr/>
          </p:nvSpPr>
          <p:spPr>
            <a:xfrm>
              <a:off x="3948120" y="4722840"/>
              <a:ext cx="265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再分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34"/>
            <p:cNvSpPr/>
            <p:nvPr/>
          </p:nvSpPr>
          <p:spPr>
            <a:xfrm>
              <a:off x="1258920" y="4013280"/>
              <a:ext cx="1001520" cy="1035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+</a:t>
              </a:r>
              <a:r>
                <a:rPr b="1" lang="en-US" sz="32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5"/>
            <p:cNvSpPr/>
            <p:nvPr/>
          </p:nvSpPr>
          <p:spPr>
            <a:xfrm>
              <a:off x="2446200" y="4013280"/>
              <a:ext cx="1000440" cy="1035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-3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62"/>
          <p:cNvGrpSpPr/>
          <p:nvPr/>
        </p:nvGrpSpPr>
        <p:grpSpPr>
          <a:xfrm>
            <a:off x="6137280" y="4013280"/>
            <a:ext cx="2251080" cy="1036440"/>
            <a:chOff x="6137280" y="4013280"/>
            <a:chExt cx="2251080" cy="1036440"/>
          </a:xfrm>
        </p:grpSpPr>
        <p:sp>
          <p:nvSpPr>
            <p:cNvPr id="590" name="Oval 43"/>
            <p:cNvSpPr/>
            <p:nvPr/>
          </p:nvSpPr>
          <p:spPr>
            <a:xfrm>
              <a:off x="6137280" y="4013280"/>
              <a:ext cx="1000080" cy="1035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-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44"/>
            <p:cNvSpPr/>
            <p:nvPr/>
          </p:nvSpPr>
          <p:spPr>
            <a:xfrm>
              <a:off x="7388280" y="4014720"/>
              <a:ext cx="1000080" cy="1035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-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Text Box 52"/>
          <p:cNvSpPr/>
          <p:nvPr/>
        </p:nvSpPr>
        <p:spPr>
          <a:xfrm>
            <a:off x="395280" y="5445000"/>
            <a:ext cx="7920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电荷从一个物体转移到另一个物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6"/>
          <p:cNvSpPr/>
          <p:nvPr/>
        </p:nvSpPr>
        <p:spPr>
          <a:xfrm>
            <a:off x="395280" y="620640"/>
            <a:ext cx="835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两个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Arial"/>
                <a:ea typeface="华文新魏"/>
              </a:rPr>
              <a:t>完全相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的带电导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接触后再分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二者将原来所带电量的总和平均分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60"/>
          <p:cNvGrpSpPr/>
          <p:nvPr/>
        </p:nvGrpSpPr>
        <p:grpSpPr>
          <a:xfrm>
            <a:off x="6191280" y="2257560"/>
            <a:ext cx="2197080" cy="1050840"/>
            <a:chOff x="6191280" y="2257560"/>
            <a:chExt cx="2197080" cy="1050840"/>
          </a:xfrm>
        </p:grpSpPr>
        <p:sp>
          <p:nvSpPr>
            <p:cNvPr id="595" name="Oval 13"/>
            <p:cNvSpPr/>
            <p:nvPr/>
          </p:nvSpPr>
          <p:spPr>
            <a:xfrm>
              <a:off x="6191280" y="2257560"/>
              <a:ext cx="1044720" cy="9871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　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15"/>
                <p:cNvSpPr txBox="1"/>
                <p:nvPr/>
              </p:nvSpPr>
              <p:spPr>
                <a:xfrm>
                  <a:off x="6372360" y="2276640"/>
                  <a:ext cx="4824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7" name="Oval 58"/>
            <p:cNvSpPr/>
            <p:nvPr/>
          </p:nvSpPr>
          <p:spPr>
            <a:xfrm>
              <a:off x="7343640" y="2276640"/>
              <a:ext cx="1044720" cy="9871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　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Object 59"/>
                <p:cNvSpPr txBox="1"/>
                <p:nvPr/>
              </p:nvSpPr>
              <p:spPr>
                <a:xfrm>
                  <a:off x="7524720" y="2295360"/>
                  <a:ext cx="48276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539640" y="1052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种起电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0" y="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二、电荷守恒定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95280" y="270828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２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起电的本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539640" y="1773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摩擦起电、感应起电、接触起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395280" y="3429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论是哪种起电方式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本质都是将正、负电荷分开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电荷发生转移，并不是创造电荷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4"/>
          <p:cNvSpPr/>
          <p:nvPr/>
        </p:nvSpPr>
        <p:spPr>
          <a:xfrm>
            <a:off x="324000" y="692280"/>
            <a:ext cx="82072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述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荷既不能创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不能消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只能从一个物体转移到另一个物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从物体的一部分转移到另一部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转移的过程中，系统的电荷总数保持不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250920" y="3530520"/>
            <a:ext cx="820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述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与外界没有电荷交换的系统，电荷的代数和总是保持不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0" y="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二、电荷守恒定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4"/>
          <p:cNvSpPr/>
          <p:nvPr/>
        </p:nvSpPr>
        <p:spPr>
          <a:xfrm>
            <a:off x="34920" y="74520"/>
            <a:ext cx="90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）电荷的多少如何表示？它的单位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0" y="356004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）元电荷的数值是多少？它的数值最早是由哪位物理学家测定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0" y="206064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）什么是元电荷？一个电子就是一个元电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34920" y="4710240"/>
            <a:ext cx="871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）什么是比荷？电子的比荷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395280" y="62064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荷量：电荷的多少，简称电量。单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库仑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20"/>
          <p:cNvGrpSpPr/>
          <p:nvPr/>
        </p:nvGrpSpPr>
        <p:grpSpPr>
          <a:xfrm>
            <a:off x="395280" y="4176720"/>
            <a:ext cx="5256360" cy="547920"/>
            <a:chOff x="395280" y="4176720"/>
            <a:chExt cx="5256360" cy="547920"/>
          </a:xfrm>
        </p:grpSpPr>
        <mc:AlternateContent>
          <mc:Choice xmlns:a14="http://schemas.microsoft.com/office/drawing/2010/main" Requires="a14">
            <p:sp>
              <p:nvSpPr>
                <p:cNvPr id="613" name="Object 10"/>
                <p:cNvSpPr txBox="1"/>
                <p:nvPr/>
              </p:nvSpPr>
              <p:spPr>
                <a:xfrm>
                  <a:off x="2870280" y="4176720"/>
                  <a:ext cx="278136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sup>
                      </m:sSup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4" name="Rectangle 11"/>
            <p:cNvSpPr/>
            <p:nvPr/>
          </p:nvSpPr>
          <p:spPr>
            <a:xfrm>
              <a:off x="395280" y="4205520"/>
              <a:ext cx="3635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元电荷的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Rectangle 13"/>
          <p:cNvSpPr/>
          <p:nvPr/>
        </p:nvSpPr>
        <p:spPr>
          <a:xfrm>
            <a:off x="755640" y="2478240"/>
            <a:ext cx="626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电子所带电量为元电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16"/>
              <p:cNvSpPr txBox="1"/>
              <p:nvPr/>
            </p:nvSpPr>
            <p:spPr>
              <a:xfrm>
                <a:off x="324000" y="5661000"/>
                <a:ext cx="848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电子的比荷为：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7" name="Rectangle 17"/>
          <p:cNvSpPr/>
          <p:nvPr/>
        </p:nvSpPr>
        <p:spPr>
          <a:xfrm>
            <a:off x="1222200" y="5114880"/>
            <a:ext cx="792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带电体的电荷量与质量的比值叫做比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8"/>
          <p:cNvSpPr/>
          <p:nvPr/>
        </p:nvSpPr>
        <p:spPr>
          <a:xfrm>
            <a:off x="5435640" y="4205160"/>
            <a:ext cx="385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科学家密立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360360" y="1125360"/>
            <a:ext cx="8820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电荷带电的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比较的是其电荷量的绝对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荷量的正负不表示电荷量的大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代表电荷的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1"/>
          <p:cNvSpPr/>
          <p:nvPr/>
        </p:nvSpPr>
        <p:spPr>
          <a:xfrm>
            <a:off x="682560" y="2909880"/>
            <a:ext cx="763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有带电体所带电荷量只能是元电荷的整数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3:00:45Z</dcterms:created>
  <dc:creator>新课标第一网xkb1.com; lyd</dc:creator>
  <dc:description>新课标第一网xkb1.com不用注册，免费下载！</dc:description>
  <cp:keywords>新课标第一网xkb1.com</cp:keywords>
  <dc:language>en-US</dc:language>
  <cp:lastModifiedBy>a</cp:lastModifiedBy>
  <dcterms:modified xsi:type="dcterms:W3CDTF">2015-03-17T05:53:53Z</dcterms:modified>
  <cp:revision>119</cp:revision>
  <dc:subject>新课标第一网xkb1.com</dc:subject>
  <dc:title>新课标第一网xkb1.com</dc:title>
</cp:coreProperties>
</file>